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781C-DF2A-4C16-A08C-DBB3A08D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5D84-A6B0-4E22-AE57-2A729DC3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8BE2-3D6A-4799-B6D7-47BEB9C4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E233-1045-4FAD-84A8-641E41B9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92C86-3874-4225-8E5B-B1D70800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1E58D-5749-4CD7-8B31-E1D42F05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988D4-D40A-477F-ADD0-69C9EDD7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D999C-3143-4744-BE9C-11E6ACFE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7BC22-3703-42D2-8876-2CBFD51B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44D45-12EC-4529-8782-C17FFC59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11A0F-0BF4-461F-8B5B-F81A1EDC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42F6-3496-4CB8-8E11-CFCE2F9F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F2820-35EF-4E3D-8E0B-566972A0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D4505-FFB2-4919-8E38-D3847582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2C215-F514-47D3-8673-F43F2093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A41D8-205E-4661-93FF-4B03ABE4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8C917-CE96-44FE-B4DE-8971433D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0279-3222-4EB0-9438-2735442E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FF1E-FAF8-4DD6-A99E-1587B139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4FAC-4887-4174-8FBE-D296FDEA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5C22-664D-4E1B-93F1-E276470F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96E5-1CE2-4312-A057-B6DBD251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D551-7D4D-4481-AE38-AE5DEC15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BC9B-AB2A-4B83-9C58-2A8AE711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9078-984E-4865-8198-DF44C7AF8C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FB4F-9291-486A-A001-4DF96F871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Абсолютизм в Европе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, читать, вопросы 1,5,6, переск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Квадратный двор Лувра пр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899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Версаль ллл"/>
          <p:cNvPicPr/>
          <p:nvPr/>
        </p:nvPicPr>
        <p:blipFill>
          <a:blip r:embed="rId2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Версаль Вопр"/>
          <p:cNvPicPr/>
          <p:nvPr/>
        </p:nvPicPr>
        <p:blipFill>
          <a:blip r:embed="rId3"/>
          <a:stretch/>
        </p:blipFill>
        <p:spPr>
          <a:xfrm>
            <a:off x="-36360" y="-27000"/>
            <a:ext cx="9216720" cy="693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Изменение размера Империя Карла Великого"/>
          <p:cNvPicPr/>
          <p:nvPr/>
        </p:nvPicPr>
        <p:blipFill>
          <a:blip r:embed="rId4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2879640" cy="579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РСАЛЬ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851280" y="476280"/>
            <a:ext cx="5111640" cy="8254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иденция короля Франции под Париж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3132000" y="2997360"/>
            <a:ext cx="216000" cy="222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273480" y="2708280"/>
            <a:ext cx="999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 flipH="1" rot="19358400">
            <a:off x="2626920" y="2349360"/>
            <a:ext cx="373320" cy="793440"/>
          </a:xfrm>
          <a:prstGeom prst="downArrow">
            <a:avLst>
              <a:gd name="adj1" fmla="val 50000"/>
              <a:gd name="adj2" fmla="val 53134"/>
            </a:avLst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3162000"/>
          </a:gradFill>
          <a:ln w="0">
            <a:noFill/>
          </a:ln>
          <a:effectLst>
            <a:outerShdw dist="381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рокомментируйте выражение: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«Воля Бога заключается в том, чтобы всякий рожденный подданным повиновался без рассужде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ловарь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Абсолютизм – неограниченная королевская власть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g00029_"/>
          <p:cNvPicPr/>
          <p:nvPr/>
        </p:nvPicPr>
        <p:blipFill>
          <a:blip r:embed="rId1"/>
          <a:stretch/>
        </p:blipFill>
        <p:spPr>
          <a:xfrm>
            <a:off x="395280" y="152280"/>
            <a:ext cx="2043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Прокомментируйте фраз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«Феодальная раздробленность – это время, когда «каждый воевал против каждого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сновные черты абсолютизма: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государственный аппарат управления из чинов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профессиональная ар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ая налоговая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ое законодательство и административное устрой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церк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ая государственная экономи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g00029_"/>
          <p:cNvPicPr/>
          <p:nvPr/>
        </p:nvPicPr>
        <p:blipFill>
          <a:blip r:embed="rId1"/>
          <a:stretch/>
        </p:blipFill>
        <p:spPr>
          <a:xfrm>
            <a:off x="179280" y="189000"/>
            <a:ext cx="17272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ловарь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антилизм – экономическая политика, в основе которой лежит идея преобладания вывоза товаров над ввозом с целью накопления зол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ag00029_"/>
          <p:cNvPicPr/>
          <p:nvPr/>
        </p:nvPicPr>
        <p:blipFill>
          <a:blip r:embed="rId1"/>
          <a:stretch/>
        </p:blipFill>
        <p:spPr>
          <a:xfrm>
            <a:off x="179280" y="98280"/>
            <a:ext cx="20163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чинение феодальной знати коро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ы представительства теряют свое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я божественного происхождения королевской вл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ние национальных государс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g00029_"/>
          <p:cNvPicPr/>
          <p:nvPr/>
        </p:nvPicPr>
        <p:blipFill>
          <a:blip r:embed="rId1"/>
          <a:stretch/>
        </p:blipFill>
        <p:spPr>
          <a:xfrm>
            <a:off x="7451640" y="5396040"/>
            <a:ext cx="16923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Елизавета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24360" y="1790280"/>
            <a:ext cx="4991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нглийская королева, враг испанского короля Филиппа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Е 1"/>
          <p:cNvPicPr/>
          <p:nvPr/>
        </p:nvPicPr>
        <p:blipFill>
          <a:blip r:embed="rId1"/>
          <a:stretch/>
        </p:blipFill>
        <p:spPr>
          <a:xfrm>
            <a:off x="250920" y="1773360"/>
            <a:ext cx="33433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Людовик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XI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11640" y="1790280"/>
            <a:ext cx="470376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анцузский            «король-солнце», построивший Верса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Людовик 14 Вопр"/>
          <p:cNvPicPr/>
          <p:nvPr/>
        </p:nvPicPr>
        <p:blipFill>
          <a:blip r:embed="rId1"/>
          <a:stretch/>
        </p:blipFill>
        <p:spPr>
          <a:xfrm>
            <a:off x="539640" y="1700280"/>
            <a:ext cx="28558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55:00Z</dcterms:created>
  <dc:creator>***</dc:creator>
  <dc:description/>
  <dc:language>en-US</dc:language>
  <cp:lastModifiedBy>Алик</cp:lastModifiedBy>
  <dcterms:modified xsi:type="dcterms:W3CDTF">2011-09-11T05:56:45Z</dcterms:modified>
  <cp:revision>23</cp:revision>
  <dc:subject/>
  <dc:title>Абсолютизм в Европе</dc:title>
</cp:coreProperties>
</file>