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84EBF-04CA-466B-8158-70FAEF1C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F087-5F01-40A5-A407-4103AD5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1125-1E2F-4591-979A-E6B79F96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EBBA-139C-4682-9F19-13B565D1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A1C45-BFB2-429D-9085-B257F836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4D02-518A-4938-A29F-47262312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5858A-7354-47A9-8A8F-F23F4AEB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349AB-DA88-4A61-9755-0136DED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03128-4E5A-4EA2-8434-3507ED09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B5742-17AA-4366-B005-D7889E50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163FB-248B-4221-8715-D519E6F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1F590-5432-4935-B35A-A8FE8161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31E6-A664-4756-8732-04DEB6C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EB396-2C61-4048-8457-7761433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19B3-D1F7-40A2-A2CD-F3514223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66D5E-C3B2-46AC-B882-F3231D8C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D1612-DB4E-4742-829F-4F92B418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925A-DA50-4791-A386-3A032A9B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C89E-ECEC-45FA-B5EE-9FA2FF79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3966-A7F7-497D-865F-E019B8C3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506E-8A84-4A75-89AC-2C9D70C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80EF-E1CA-41FD-88DA-F52BD12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E2FA-4205-4023-BD0F-6A41F06B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B953-7849-4A56-B76E-8CF760B5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3051-E739-4979-8FAC-9E367390FB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89F6-1C33-47E8-83B8-04CB3566FA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Абсолютизм в Европе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3, читать, вопросы 1,5,6, переск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Квадратный двор Лувра пр"/>
          <p:cNvPicPr/>
          <p:nvPr/>
        </p:nvPicPr>
        <p:blipFill>
          <a:blip r:embed="rId1"/>
          <a:stretch/>
        </p:blipFill>
        <p:spPr>
          <a:xfrm>
            <a:off x="-36360" y="-27000"/>
            <a:ext cx="9216720" cy="6899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Версаль ллл"/>
          <p:cNvPicPr/>
          <p:nvPr/>
        </p:nvPicPr>
        <p:blipFill>
          <a:blip r:embed="rId2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Версаль Вопр"/>
          <p:cNvPicPr/>
          <p:nvPr/>
        </p:nvPicPr>
        <p:blipFill>
          <a:blip r:embed="rId3"/>
          <a:stretch/>
        </p:blipFill>
        <p:spPr>
          <a:xfrm>
            <a:off x="-36360" y="-27000"/>
            <a:ext cx="9216720" cy="6934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Изменение размера Империя Карла Великого"/>
          <p:cNvPicPr/>
          <p:nvPr/>
        </p:nvPicPr>
        <p:blipFill>
          <a:blip r:embed="rId4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2879640" cy="579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РСАЛЬ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851280" y="476280"/>
            <a:ext cx="5111640" cy="825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иденция короля Франции под Париж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3132000" y="2997360"/>
            <a:ext cx="216000" cy="222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3273480" y="2708280"/>
            <a:ext cx="999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 flipH="1" rot="19358400">
            <a:off x="2626920" y="2349360"/>
            <a:ext cx="373320" cy="793440"/>
          </a:xfrm>
          <a:prstGeom prst="downArrow">
            <a:avLst>
              <a:gd name="adj1" fmla="val 50000"/>
              <a:gd name="adj2" fmla="val 53134"/>
            </a:avLst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3162000"/>
          </a:gradFill>
          <a:ln w="0">
            <a:noFill/>
          </a:ln>
          <a:effectLst>
            <a:outerShdw dist="381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Прокомментируйте выражение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«Воля Бога заключается в том, чтобы всякий рожденный подданным повиновался без рассужден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Абсолютизм – неограниченная королевская власт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ag00029_"/>
          <p:cNvPicPr/>
          <p:nvPr/>
        </p:nvPicPr>
        <p:blipFill>
          <a:blip r:embed="rId1"/>
          <a:stretch/>
        </p:blipFill>
        <p:spPr>
          <a:xfrm>
            <a:off x="395280" y="152280"/>
            <a:ext cx="2043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рокомментируйте фраз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«Феодальная раздробленность – это время, когда «каждый воевал против каждого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сновные черты абсолютизма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государственный аппарат управления из чинов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профессиональная арм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ая налоговая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ое законодательство и административное устро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ая це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ая государственная экономи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g00029_"/>
          <p:cNvPicPr/>
          <p:nvPr/>
        </p:nvPicPr>
        <p:blipFill>
          <a:blip r:embed="rId1"/>
          <a:stretch/>
        </p:blipFill>
        <p:spPr>
          <a:xfrm>
            <a:off x="179280" y="189000"/>
            <a:ext cx="17272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антилизм – экономическая политика, в основе которой лежит идея преобладания вывоза товаров над ввозом с целью накопления зол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g00029_"/>
          <p:cNvPicPr/>
          <p:nvPr/>
        </p:nvPicPr>
        <p:blipFill>
          <a:blip r:embed="rId1"/>
          <a:stretch/>
        </p:blipFill>
        <p:spPr>
          <a:xfrm>
            <a:off x="179280" y="98280"/>
            <a:ext cx="20163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чинение феодальной знати коро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ы представительства теряют свое знач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я божественного происхождения королевской вл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национальных государ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g00029_"/>
          <p:cNvPicPr/>
          <p:nvPr/>
        </p:nvPicPr>
        <p:blipFill>
          <a:blip r:embed="rId1"/>
          <a:stretch/>
        </p:blipFill>
        <p:spPr>
          <a:xfrm>
            <a:off x="7451640" y="5396040"/>
            <a:ext cx="16923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Елизавета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24360" y="1790280"/>
            <a:ext cx="4991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нглийская королева, враг испанского короля Филиппа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Е 1"/>
          <p:cNvPicPr/>
          <p:nvPr/>
        </p:nvPicPr>
        <p:blipFill>
          <a:blip r:embed="rId1"/>
          <a:stretch/>
        </p:blipFill>
        <p:spPr>
          <a:xfrm>
            <a:off x="250920" y="1773360"/>
            <a:ext cx="334332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Людовик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XI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11640" y="1790280"/>
            <a:ext cx="470376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ранцузский            «король-солнце», построивший Верса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Людовик 14 Вопр"/>
          <p:cNvPicPr/>
          <p:nvPr/>
        </p:nvPicPr>
        <p:blipFill>
          <a:blip r:embed="rId1"/>
          <a:stretch/>
        </p:blipFill>
        <p:spPr>
          <a:xfrm>
            <a:off x="539640" y="1700280"/>
            <a:ext cx="28558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55:00Z</dcterms:created>
  <dc:creator>***</dc:creator>
  <dc:description/>
  <dc:language>en-US</dc:language>
  <cp:lastModifiedBy>Алик</cp:lastModifiedBy>
  <dcterms:modified xsi:type="dcterms:W3CDTF">2011-09-11T05:56:45Z</dcterms:modified>
  <cp:revision>23</cp:revision>
  <dc:subject/>
  <dc:title>Абсолютизм в Европе</dc:title>
</cp:coreProperties>
</file>