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C72-E242-4283-B2EE-E663BA26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3F7-3D3C-4FBB-9396-AA89767F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B3C-10F4-4133-AA37-5DF77FBE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4F0-6796-4AA3-A004-8CA1E02B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E3E1-172A-4529-AF2E-0222A00C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A198-0E58-479C-92C3-C8A491E2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78D8-EC6B-4B27-A20A-7C4648F3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3A30-73A2-4458-9AAD-E76790E4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E0FA-A048-4159-A0D5-D043E1D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A768-0F73-4A2B-AD6A-09608BE3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0CFF-728D-45BB-A107-5F62D68D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794-96D3-4748-A1FB-DCBECDE9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AECA-0699-42BB-8EC6-2F986177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8BB1-67F1-4B6D-98C4-5E7B2548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1392-1999-4568-9087-CF214546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E0EF-623B-492E-B51D-BEC6EAD9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5796-198F-486C-A743-F1D2A287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BC1-D507-4A04-BFA2-1B5B8980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100-01E2-4A54-AB9D-9AEF3A89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887-8EFD-4024-A650-545284EE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66C-A91F-4312-BF8E-6F08792F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B1B-89F1-4A44-8E84-DA366F55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F56-5EFD-4A24-A6C6-B0CDDEFC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0DF-B471-442E-8BF7-2B5DE1DB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92F1-2454-461E-B16C-6628F4EC5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ABC4-A9E1-468B-9A7E-C6AF5380835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 Black"/>
              </a:rPr>
              <a:t>«Я памятник себе воздвиг нерукотворный…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5660640"/>
            <a:ext cx="678168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59636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138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Памятн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4" descr="инф7"/>
          <p:cNvPicPr/>
          <p:nvPr/>
        </p:nvPicPr>
        <p:blipFill>
          <a:blip r:embed="rId1"/>
          <a:stretch/>
        </p:blipFill>
        <p:spPr>
          <a:xfrm>
            <a:off x="2503440" y="1143000"/>
            <a:ext cx="466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Александр Сергеевич Пушк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ликий русский  и всемирно известный поэт, его произведения переведены на многие языки мира. Дети и взрослые с удовольствием читают произведения А.С.Пушк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8" descr="инф6"/>
          <p:cNvPicPr/>
          <p:nvPr/>
        </p:nvPicPr>
        <p:blipFill>
          <a:blip r:embed="rId1">
            <a:alphaModFix amt="58000"/>
          </a:blip>
          <a:stretch/>
        </p:blipFill>
        <p:spPr>
          <a:xfrm>
            <a:off x="5429160" y="1928880"/>
            <a:ext cx="3071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Детские г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С.Пушкин родился в Москве 6 июня 1799 года. Он был сыном небогатого помещика Сергея Львовича Пушкина. Пушкин рано научился читать и по-русски, и по-французски. Любил слушать сказки и песни, которые рассказывали ему бабушка и нян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инф1"/>
          <p:cNvPicPr/>
          <p:nvPr/>
        </p:nvPicPr>
        <p:blipFill>
          <a:blip r:embed="rId1"/>
          <a:stretch/>
        </p:blipFill>
        <p:spPr>
          <a:xfrm>
            <a:off x="4788000" y="1844640"/>
            <a:ext cx="39672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Мать Пушкина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Picture 11" descr="инф2"/>
          <p:cNvPicPr/>
          <p:nvPr/>
        </p:nvPicPr>
        <p:blipFill>
          <a:blip r:embed="rId1"/>
          <a:stretch/>
        </p:blipFill>
        <p:spPr>
          <a:xfrm>
            <a:off x="353880" y="1071720"/>
            <a:ext cx="3929040" cy="446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428720" y="1500120"/>
            <a:ext cx="471492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ь Пушкина, Надежда Осиповна, была внучкой знаменитого Ибрагима Ганнибала. Она была красива, любила светские вечеринки. Характер имела самый неровный, с резкими сменами настроений: то гневалась, то становилась кроткой и ласко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Отец Александра Сергеевич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3280" y="1714320"/>
            <a:ext cx="421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ец поэта, Сергей Львович Пушкин, отставной военный, был старинного рода, но не богат и не слишком удачлив в службе и в чинах. Он был «светский человек», острослов, страстный любитель поэз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F:\Мои документы\Олины фотки\маленькая\20090429\отец Пушкина.TIF"/>
          <p:cNvPicPr/>
          <p:nvPr/>
        </p:nvPicPr>
        <p:blipFill>
          <a:blip r:embed="rId1"/>
          <a:stretch/>
        </p:blipFill>
        <p:spPr>
          <a:xfrm>
            <a:off x="1049400" y="1928880"/>
            <a:ext cx="35226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Няня Пушк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00720" y="1714680"/>
            <a:ext cx="464328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ина Родионовна очень любила маленького упрямого Сашу и дала так недостававшие ему материнскую любовь и ласку . Она всю свою жизнь посвятила  этой семье. Пушкин с любовью вспоминал нян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F:\Мои документы\Олины фотки\маленькая\20090429\Арина Родионовна.TIF"/>
          <p:cNvPicPr/>
          <p:nvPr/>
        </p:nvPicPr>
        <p:blipFill>
          <a:blip r:embed="rId1"/>
          <a:stretch/>
        </p:blipFill>
        <p:spPr>
          <a:xfrm>
            <a:off x="428760" y="1785960"/>
            <a:ext cx="378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Царскосельский лицей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2 лет родители отвезли Пушкина в Царскосельский лицей в пригороде С.-Петербур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7" descr="инф3"/>
          <p:cNvPicPr/>
          <p:nvPr/>
        </p:nvPicPr>
        <p:blipFill>
          <a:blip r:embed="rId1"/>
          <a:stretch/>
        </p:blipFill>
        <p:spPr>
          <a:xfrm>
            <a:off x="4716360" y="1557360"/>
            <a:ext cx="4038840" cy="2817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инф4"/>
          <p:cNvPicPr/>
          <p:nvPr/>
        </p:nvPicPr>
        <p:blipFill>
          <a:blip r:embed="rId2"/>
          <a:stretch/>
        </p:blipFill>
        <p:spPr>
          <a:xfrm>
            <a:off x="395280" y="3213000"/>
            <a:ext cx="3965760" cy="33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5500800" y="435996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Так выглядит сейчас Царскосельский лиц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6858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Лицейские друз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10" descr="инф5"/>
          <p:cNvPicPr/>
          <p:nvPr/>
        </p:nvPicPr>
        <p:blipFill>
          <a:blip r:embed="rId1"/>
          <a:stretch/>
        </p:blipFill>
        <p:spPr>
          <a:xfrm>
            <a:off x="785880" y="1009800"/>
            <a:ext cx="2300400" cy="3633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инф5"/>
          <p:cNvPicPr/>
          <p:nvPr/>
        </p:nvPicPr>
        <p:blipFill>
          <a:blip r:embed="rId2"/>
          <a:stretch/>
        </p:blipFill>
        <p:spPr>
          <a:xfrm>
            <a:off x="6199200" y="1214280"/>
            <a:ext cx="2357280" cy="335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инф5"/>
          <p:cNvPicPr/>
          <p:nvPr/>
        </p:nvPicPr>
        <p:blipFill>
          <a:blip r:embed="rId3"/>
          <a:stretch/>
        </p:blipFill>
        <p:spPr>
          <a:xfrm>
            <a:off x="3500280" y="1285920"/>
            <a:ext cx="2364120" cy="37861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571680" y="4857840"/>
            <a:ext cx="257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Иван Пущин «№13» - сосед по «келье», спокойно-веселый юнош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214800" y="5077800"/>
            <a:ext cx="300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Вильгельм Кюхельбекер 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нелепый и трогательный 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  <a:ea typeface="Calibri"/>
              </a:rPr>
              <a:t>«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Кюхля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  <a:ea typeface="Calibri"/>
              </a:rPr>
              <a:t>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929200" y="4791960"/>
            <a:ext cx="32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Антон Дельвиг </a:t>
            </a:r>
            <a:r>
              <a:rPr b="0" lang="ru-RU" sz="2200" spc="-1" strike="noStrike">
                <a:solidFill>
                  <a:srgbClr val="ffff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 добродушный, медлительный,  фантазер и поэ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1280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 Black"/>
              </a:rPr>
              <a:t>Место  дуэ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4" descr="инф8"/>
          <p:cNvPicPr/>
          <p:nvPr/>
        </p:nvPicPr>
        <p:blipFill>
          <a:blip r:embed="rId1"/>
          <a:stretch/>
        </p:blipFill>
        <p:spPr>
          <a:xfrm>
            <a:off x="928800" y="1000080"/>
            <a:ext cx="7427880" cy="4214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28760" y="5505120"/>
            <a:ext cx="850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Calibri"/>
              </a:rPr>
              <a:t>27 января 1837 года на Черной речке была назначена дуэль. Дантес выстрелил первым. Пушкин упал. Он прожил еще два дня, но рана была смертельн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1:24:09Z</dcterms:created>
  <dc:creator>Администратор</dc:creator>
  <dc:description/>
  <dc:language>en-US</dc:language>
  <cp:lastModifiedBy>мама</cp:lastModifiedBy>
  <dcterms:modified xsi:type="dcterms:W3CDTF">2009-04-30T09:08:23Z</dcterms:modified>
  <cp:revision>14</cp:revision>
  <dc:subject/>
  <dc:title>Александр Сергеевич Пушкин</dc:title>
</cp:coreProperties>
</file>