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BFD7-CB7C-43D0-98BA-0BA35B886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AF0C-D809-4E38-A91B-20871569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96F7-2727-4400-98E1-E9AF6F587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DBDD-07CF-41B9-9DDD-B4BE672AF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29A3-4DFA-4E4C-ABB0-771B18631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06123-6690-456F-86A4-C87510E4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2367-DDA7-4299-8640-E35F111C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D664-3685-4C91-94CE-E5BC70E5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1136-8C87-4091-816F-BBD873C1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3914-97BF-4435-B127-19300B31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E2BC-7F49-43FF-B58F-68F92B67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82A9-98A4-41F5-AE38-4F628D1A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DC025-F9AF-48FC-95A6-EA46F6AB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7EA2-5820-4EC0-B450-BAC58D29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6E86-BC10-4804-81F0-5219724E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998B2-86E1-4488-B4AE-4F771A23E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C69B-5AFB-46B0-B184-6647BD466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18CF-4646-449D-BBF8-D354E088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51F3-8176-46EF-8E35-B94F6E17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1C3C-8713-47E3-AD1C-D33DFBD4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C94C-0331-40EE-836E-EAA4F7AB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4E5A-202B-4CA0-89B5-69190F99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4D89-3F38-44D8-84F5-00554A60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F546-4B79-4393-BA94-EDD58493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E4D3-28A5-4B63-BE6B-63E5A8D2DB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0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9A4D-A8D5-4487-8820-20E28F238F4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ff"/>
                </a:solidFill>
                <a:latin typeface="Arial Black"/>
              </a:rPr>
              <a:t>«Я памятник себе воздвиг нерукотворный…»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32000" y="5660640"/>
            <a:ext cx="678168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759636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31384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Arial Black"/>
              </a:rPr>
              <a:t>Памятни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1" name="Picture 4" descr="инф7"/>
          <p:cNvPicPr/>
          <p:nvPr/>
        </p:nvPicPr>
        <p:blipFill>
          <a:blip r:embed="rId1"/>
          <a:stretch/>
        </p:blipFill>
        <p:spPr>
          <a:xfrm>
            <a:off x="2503440" y="1143000"/>
            <a:ext cx="4660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Arial Black"/>
              </a:rPr>
              <a:t>Александр Сергеевич Пушки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ликий русский  и всемирно известный поэт, его произведения переведены на многие языки мира. Дети и взрослые с удовольствием читают произведения А.С.Пушк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8" descr="инф6"/>
          <p:cNvPicPr/>
          <p:nvPr/>
        </p:nvPicPr>
        <p:blipFill>
          <a:blip r:embed="rId1">
            <a:alphaModFix amt="58000"/>
          </a:blip>
          <a:stretch/>
        </p:blipFill>
        <p:spPr>
          <a:xfrm>
            <a:off x="5429160" y="1928880"/>
            <a:ext cx="30718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77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77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Arial Black"/>
              </a:rPr>
              <a:t>Детские год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.С.Пушкин родился в Москве 6 июня 1799 года. Он был сыном небогатого помещика Сергея Львовича Пушкина. Пушкин рано научился читать и по-русски, и по-французски. Любил слушать сказки и песни, которые рассказывали ему бабушка и нян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7" descr="инф1"/>
          <p:cNvPicPr/>
          <p:nvPr/>
        </p:nvPicPr>
        <p:blipFill>
          <a:blip r:embed="rId1"/>
          <a:stretch/>
        </p:blipFill>
        <p:spPr>
          <a:xfrm>
            <a:off x="4788000" y="1844640"/>
            <a:ext cx="39672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77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77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Arial Black"/>
              </a:rPr>
              <a:t>Мать Пушкина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7" name="Picture 11" descr="инф2"/>
          <p:cNvPicPr/>
          <p:nvPr/>
        </p:nvPicPr>
        <p:blipFill>
          <a:blip r:embed="rId1"/>
          <a:stretch/>
        </p:blipFill>
        <p:spPr>
          <a:xfrm>
            <a:off x="353880" y="1071720"/>
            <a:ext cx="3929040" cy="4460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428720" y="1500120"/>
            <a:ext cx="471492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ть Пушкина, Надежда Осиповна, была внучкой знаменитого Ибрагима Ганнибала. Она была красива, любила светские вечеринки. Характер имела самый неровный, с резкими сменами настроений: то гневалась, то становилась кроткой и ласков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Arial Black"/>
              </a:rPr>
              <a:t>Отец Александра Сергеевич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43280" y="1714320"/>
            <a:ext cx="4213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ец поэта, Сергей Львович Пушкин, отставной военный, был старинного рода, но не богат и не слишком удачлив в службе и в чинах. Он был «светский человек», острослов, страстный любитель поэз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2" descr="F:\Мои документы\Олины фотки\маленькая\20090429\отец Пушкина.TIF"/>
          <p:cNvPicPr/>
          <p:nvPr/>
        </p:nvPicPr>
        <p:blipFill>
          <a:blip r:embed="rId1"/>
          <a:stretch/>
        </p:blipFill>
        <p:spPr>
          <a:xfrm>
            <a:off x="1049400" y="1928880"/>
            <a:ext cx="352260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Arial Black"/>
              </a:rPr>
              <a:t>Няня Пушки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00720" y="1714680"/>
            <a:ext cx="4643280" cy="43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рина Родионовна очень любила маленького упрямого Сашу и дала так недостававшие ему материнскую любовь и ласку . Она всю свою жизнь посвятила  этой семье. Пушкин с любовью вспоминал нян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F:\Мои документы\Олины фотки\маленькая\20090429\Арина Родионовна.TIF"/>
          <p:cNvPicPr/>
          <p:nvPr/>
        </p:nvPicPr>
        <p:blipFill>
          <a:blip r:embed="rId1"/>
          <a:stretch/>
        </p:blipFill>
        <p:spPr>
          <a:xfrm>
            <a:off x="428760" y="1785960"/>
            <a:ext cx="378612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Arial Black"/>
              </a:rPr>
              <a:t>Царскосельский лицей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42447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2 лет родители отвезли Пушкина в Царскосельский лицей в пригороде С.-Петербур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7" descr="инф3"/>
          <p:cNvPicPr/>
          <p:nvPr/>
        </p:nvPicPr>
        <p:blipFill>
          <a:blip r:embed="rId1"/>
          <a:stretch/>
        </p:blipFill>
        <p:spPr>
          <a:xfrm>
            <a:off x="4716360" y="1557360"/>
            <a:ext cx="4038840" cy="2817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инф4"/>
          <p:cNvPicPr/>
          <p:nvPr/>
        </p:nvPicPr>
        <p:blipFill>
          <a:blip r:embed="rId2"/>
          <a:stretch/>
        </p:blipFill>
        <p:spPr>
          <a:xfrm>
            <a:off x="395280" y="3213000"/>
            <a:ext cx="3965760" cy="33130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6"/>
          <p:cNvSpPr/>
          <p:nvPr/>
        </p:nvSpPr>
        <p:spPr>
          <a:xfrm>
            <a:off x="5500800" y="4359960"/>
            <a:ext cx="32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Calibri"/>
              </a:rPr>
              <a:t>Так выглядит сейчас Царскосельский лиц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57200" y="-360"/>
            <a:ext cx="685800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Arial Black"/>
              </a:rPr>
              <a:t>Лицейские друзь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1" name="Picture 10" descr="инф5"/>
          <p:cNvPicPr/>
          <p:nvPr/>
        </p:nvPicPr>
        <p:blipFill>
          <a:blip r:embed="rId1"/>
          <a:stretch/>
        </p:blipFill>
        <p:spPr>
          <a:xfrm>
            <a:off x="785880" y="1009800"/>
            <a:ext cx="2300400" cy="3633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инф5"/>
          <p:cNvPicPr/>
          <p:nvPr/>
        </p:nvPicPr>
        <p:blipFill>
          <a:blip r:embed="rId2"/>
          <a:stretch/>
        </p:blipFill>
        <p:spPr>
          <a:xfrm>
            <a:off x="6199200" y="1214280"/>
            <a:ext cx="2357280" cy="3357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инф5"/>
          <p:cNvPicPr/>
          <p:nvPr/>
        </p:nvPicPr>
        <p:blipFill>
          <a:blip r:embed="rId3"/>
          <a:stretch/>
        </p:blipFill>
        <p:spPr>
          <a:xfrm>
            <a:off x="3500280" y="1285920"/>
            <a:ext cx="2364120" cy="378612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6"/>
          <p:cNvSpPr/>
          <p:nvPr/>
        </p:nvSpPr>
        <p:spPr>
          <a:xfrm>
            <a:off x="571680" y="4857840"/>
            <a:ext cx="257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Calibri"/>
              </a:rPr>
              <a:t>Иван Пущин «№13» - сосед по «келье», спокойно-веселый юнош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3214800" y="5077800"/>
            <a:ext cx="3000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Calibri"/>
              </a:rPr>
              <a:t>Вильгельм Кюхельбекер </a:t>
            </a:r>
            <a:r>
              <a:rPr b="0" lang="ru-RU" sz="2200" spc="-1" strike="noStrike">
                <a:solidFill>
                  <a:srgbClr val="ffff00"/>
                </a:solidFill>
                <a:latin typeface="Calibri"/>
                <a:ea typeface="Calibri"/>
              </a:rPr>
              <a:t>–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Calibri"/>
              </a:rPr>
              <a:t> нелепый и трогательный </a:t>
            </a:r>
            <a:r>
              <a:rPr b="0" lang="ru-RU" sz="2200" spc="-1" strike="noStrike">
                <a:solidFill>
                  <a:srgbClr val="ffff00"/>
                </a:solidFill>
                <a:latin typeface="Calibri"/>
                <a:ea typeface="Calibri"/>
              </a:rPr>
              <a:t>«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Calibri"/>
              </a:rPr>
              <a:t>Кюхля</a:t>
            </a:r>
            <a:r>
              <a:rPr b="0" lang="ru-RU" sz="2200" spc="-1" strike="noStrike">
                <a:solidFill>
                  <a:srgbClr val="ffff00"/>
                </a:solidFill>
                <a:latin typeface="Calibri"/>
                <a:ea typeface="Calibri"/>
              </a:rPr>
              <a:t>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5929200" y="4791960"/>
            <a:ext cx="321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Calibri"/>
              </a:rPr>
              <a:t>Антон Дельвиг </a:t>
            </a:r>
            <a:r>
              <a:rPr b="0" lang="ru-RU" sz="2200" spc="-1" strike="noStrike">
                <a:solidFill>
                  <a:srgbClr val="ffff00"/>
                </a:solidFill>
                <a:latin typeface="Calibri"/>
                <a:ea typeface="Calibri"/>
              </a:rPr>
              <a:t>–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Calibri"/>
              </a:rPr>
              <a:t> добродушный, медлительный,  фантазер и поэ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12808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Arial Black"/>
              </a:rPr>
              <a:t>Место  дуэл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8" name="Picture 4" descr="инф8"/>
          <p:cNvPicPr/>
          <p:nvPr/>
        </p:nvPicPr>
        <p:blipFill>
          <a:blip r:embed="rId1"/>
          <a:stretch/>
        </p:blipFill>
        <p:spPr>
          <a:xfrm>
            <a:off x="928800" y="1000080"/>
            <a:ext cx="7427880" cy="42148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428760" y="5505120"/>
            <a:ext cx="8501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Calibri"/>
              </a:rPr>
              <a:t>27 января 1837 года на Черной речке была назначена дуэль. Дантес выстрелил первым. Пушкин упал. Он прожил еще два дня, но рана была смертельно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11:24:09Z</dcterms:created>
  <dc:creator>Администратор</dc:creator>
  <dc:description/>
  <dc:language>en-US</dc:language>
  <cp:lastModifiedBy>мама</cp:lastModifiedBy>
  <dcterms:modified xsi:type="dcterms:W3CDTF">2009-04-30T09:08:23Z</dcterms:modified>
  <cp:revision>14</cp:revision>
  <dc:subject/>
  <dc:title>Александр Сергеевич Пушкин</dc:title>
</cp:coreProperties>
</file>