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4E2-97DC-44A5-AD06-496383E1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518-4631-4D6D-B819-6E12BB6F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DDA-13E0-4D87-AB2B-5AF7C58C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9B9-C8AA-48FE-80FF-07D38B7A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02C8-A279-4D94-BE50-6B6961D3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DF7F-5866-42B4-BFDD-4D0529EE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D5FF-2ADB-4961-9038-8D8D5770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F98E-2A73-4C7D-AFF7-6A80E03E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31A0-480E-4091-A52D-7DF6B91E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15DD-FC30-42DD-A60F-7E21BABC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7B54-F5B0-42D9-839B-375C1F2C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C49-01A3-435D-99EE-0095541B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E380-EFD2-42B2-B45C-06C65A55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4C02-B179-4D5E-A3B0-EEE4A21C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3966-465F-4B84-80DB-C1C7E1AF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5A0D-9179-4346-8301-B75A1AD3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CD9E-B626-4A30-A967-96C7D70C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9F4-D0FD-4754-BB4B-D9EB7A4E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41A-CDF5-4298-849C-8B9D4EDB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0EA-C3F7-4E23-BE8F-20077454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3F3-3B34-43DA-8D9A-FA25DD57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B4A-0F27-4391-9F89-C80C6F5D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28C-378A-4274-9728-5B0DE0FC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FBC-D138-45C6-9A03-9B18D0B0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8219-F185-4160-8CE0-492E152F5FE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C062-0370-401E-9E52-F0D93E9C60E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2050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Ancient people in Russia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Ancient Slav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rding to one version, humans are called Slavs because Slavs – people, who speaks clearly and intelligently. Slavs - again its reasonably speaking, understandable to each other, as opposed to strang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0193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Where the Slavs live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106800" cy="3997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cient Slaves lived in the vast territory of Eastern Europe, from the lake Ilmen to Black Sea steppes, and from the Eastern Carpathians to the Volga about 13 centuries a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Appearance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of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the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lav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avs’ heads looked just like modern humans’, and their faces are not much different from ours. They were as tall as we and weight as w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2997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Way of lif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3280" y="1341360"/>
            <a:ext cx="3683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s were good hunters, farmers and gather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 Slavs extracted in various ways: set the trap, and beat him with harpoons, etc. Fish was an important part of the diet of the Eastern Slav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s preying on a wide variety of animals, some of whom did not live up to XX century (eg, buoy tour "- a wild horse, etc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red cattle and ho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s grew wheat, millet, buckwheat, barl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te porridge, bread, honey, beer, kvass, wine, meat, vegetables and fr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2190600"/>
            <a:ext cx="440208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cient Slavs toda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cient Slavs were not died out, because they lived on favorable terrain and there was few enemies which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aten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Astonishing discovery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seau stone was found in the first quarter of the 20 century in the United States. This stone was about five centimeters in diameter with a miniature depicting a human face and tape label. However, in that time no one can translate it. But when stone was translated, scientists make an astonishing discovery – all languages have evolved from the Russian languag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8:00:12Z</dcterms:created>
  <dc:creator>Admin</dc:creator>
  <dc:description/>
  <dc:language>en-US</dc:language>
  <cp:lastModifiedBy>1</cp:lastModifiedBy>
  <dcterms:modified xsi:type="dcterms:W3CDTF">2012-06-05T10:34:49Z</dcterms:modified>
  <cp:revision>17</cp:revision>
  <dc:subject/>
  <dc:title>Ancient people in Russia</dc:title>
</cp:coreProperties>
</file>