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35E1-3CDF-44D9-B5BC-DA9777306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96B3-A666-493B-B690-90B1D5C3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1741-60A1-404D-9DBB-9BBE764E4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2BA2-9843-405F-B7FA-7A92B396B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9B93-C7A0-492B-9F38-97FCD15A0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7A42-E66D-423C-A016-FC686493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53EA-AF46-4509-B40D-F680EBE9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869B-A9C3-41AB-A911-16C5DA7D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EE3D-A32F-433C-B83C-A8FB8A8F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DB44-B76C-44CE-943B-18A7659D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CEA6-1486-4EB5-B9BE-E9139B26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1650-A34C-40BD-9C07-170555CA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393F-1A95-46B4-8AF9-CF53D3F2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C655-9236-4553-9BC0-2F4C293E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D486-7E97-4691-B497-4EC3B009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B6CD-FB8E-4A9E-8200-7F9B11397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0706-4E6F-4D27-B4E5-B56D46D03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0D21-7CBC-4335-BD41-2AD20355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F06C-CB2E-464B-B54B-794767EC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BA21-550E-4B34-8775-EB8FF075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2027-0E7B-4DD0-8FE5-45BFE0C0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155F-DA74-4428-A1A0-49FA5F0E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8393-D659-4BBF-AEF3-06745627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00F4-6EC3-4021-9BB6-EADDA29A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F58C-9AFE-473B-B51F-2952033E988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B128-AA6E-455B-B182-86D6598C214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20500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Ancient people in Russia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Ancient Slavs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ording to one version, humans are called Slavs because Slavs – people, who speaks clearly and intelligently. Slavs - again its reasonably speaking, understandable to each other, as opposed to strang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219640" y="1773360"/>
            <a:ext cx="301932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Where the Slavs lived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3106800" cy="39974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cient Slaves lived in the vast territory of Eastern Europe, from the lake Ilmen to Black Sea steppes, and from the Eastern Carpathians to the Volga about 13 centuries ag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Appearance</a:t>
            </a: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of</a:t>
            </a: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the</a:t>
            </a: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Slavs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avs’ heads looked just like modern humans’, and their faces are not much different from ours. They were as tall as we and weight as w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2997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Way of life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03280" y="1341360"/>
            <a:ext cx="3683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s were good hunters, farmers and gather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sh Slavs extracted in various ways: set the trap, and beat him with harpoons, etc. Fish was an important part of the diet of the Eastern Slav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s preying on a wide variety of animals, some of whom did not live up to XX century (eg, buoy tour "- a wild horse, etc.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bred cattle and ho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s grew wheat, millet, buckwheat, barl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ate porridge, bread, honey, beer, kvass, wine, meat, vegetables and fru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2190600"/>
            <a:ext cx="4402080" cy="30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ncient Slavs toda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cient Slavs were not died out, because they lived on favorable terrain and there was few enemies which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uld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aten th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Astonishing discovery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seau stone was found in the first quarter of the 20 century in the United States. This stone was about five centimeters in diameter with a miniature depicting a human face and tape label. However, in that time no one can translate it. But when stone was translated, scientists make an astonishing discovery – all languages have evolved from the Russian languag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648320" y="1600200"/>
            <a:ext cx="4038480" cy="4530600"/>
            <a:chOff x="4648320" y="1600200"/>
            <a:chExt cx="4038480" cy="453060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4648320" y="1600200"/>
              <a:ext cx="4038480" cy="45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 txBox="1"/>
            <p:nvPr/>
          </p:nvSpPr>
          <p:spPr>
            <a:xfrm>
              <a:off x="4648320" y="1600200"/>
              <a:ext cx="4038480" cy="453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550"/>
                </a:spcBef>
                <a:buClr>
                  <a:srgbClr val="cc9900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18:00:12Z</dcterms:created>
  <dc:creator>Admin</dc:creator>
  <dc:description/>
  <dc:language>en-US</dc:language>
  <cp:lastModifiedBy>1</cp:lastModifiedBy>
  <dcterms:modified xsi:type="dcterms:W3CDTF">2012-06-05T10:34:49Z</dcterms:modified>
  <cp:revision>17</cp:revision>
  <dc:subject/>
  <dc:title>Ancient people in Russia</dc:title>
</cp:coreProperties>
</file>