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099-65B8-4966-BC19-F28AC71E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2E1-A924-469A-9FBA-F781C7E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9E36-F620-49EF-930F-821BF458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C69-FADD-411E-B53C-5B2B0AF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48F-6505-4516-9B5E-DAEAC0F4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6125-CE3D-428A-A753-BA1EEAF1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0AE1-0DB7-4B33-8544-B71005A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9411-80B8-4E54-B19F-E8AB228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FDF6-7D17-4FE4-AE02-E5D2A02A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5592-AF5C-4148-9FCF-127AEEF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3C88-5945-462D-885A-5015A876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38BB-E5E7-451D-81FE-12EBE861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1158-A1E5-4331-9077-F9C01A8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293-CC2F-41DD-BE64-F5CC1991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552A-32CE-4C9E-A843-C6E2B111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4908-D5BD-44B9-8936-89984EAA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F7AE-5FA4-4CE6-843D-8A255223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D83-B96B-41E0-AC99-D88190E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FFC-ADF3-4ABC-B2BD-CD8A89DE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6B9C-297E-4BC1-9487-B466D9FB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EDB-9799-4FA9-BB71-A30A321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615-54CF-4CB7-8A91-19AE59FA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142-512C-4D8D-9290-6443563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D69-02B7-42BB-9C59-84416BFB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AAE-8A88-409A-A50F-7D3C9EBADE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FBCA-F300-441F-B184-09FE15E881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6920" y="692280"/>
            <a:ext cx="691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ир профессий: 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роги, которые мы выбираем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29" descr=""/>
          <p:cNvPicPr/>
          <p:nvPr/>
        </p:nvPicPr>
        <p:blipFill>
          <a:blip r:embed="rId6"/>
          <a:stretch/>
        </p:blipFill>
        <p:spPr>
          <a:xfrm>
            <a:off x="0" y="2666880"/>
            <a:ext cx="3124080" cy="2943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56000" y="2781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08a"/>
                </a:solidFill>
                <a:latin typeface="Tahoma"/>
              </a:rPr>
              <a:t>« ЕСЛИ ЧЕЛОВЕК НЕ ЗНАЕТ,  К  КАКОЙ ПРИСТАНИ ОН ДЕРЖИТ ПУТЬ, ДЛЯ НЕГО НИ ОДИН ВЕТЕР НЕ БУДЕТ ПОПУТН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108a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08a"/>
                </a:solidFill>
                <a:latin typeface="Tahoma"/>
              </a:rPr>
              <a:t>                                      </a:t>
            </a:r>
            <a:r>
              <a:rPr b="0" lang="en-US" sz="1800" spc="-1" strike="noStrike">
                <a:solidFill>
                  <a:srgbClr val="1f108a"/>
                </a:solidFill>
                <a:latin typeface="Tahoma"/>
              </a:rPr>
              <a:t>Сенек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- знаковая систе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Програм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017800"/>
            <a:ext cx="56242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атывает программы на основе анализа математических моделей и алгоритмов по реализации решения экономических и др. зада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бирает язык программирования и перевод на него используемых моделей и алгоритм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изводит отладку разработанных программ, корректирует их в процессе доработ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пределяет возможность использования готовых программ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9520" y="4319640"/>
            <a:ext cx="562932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етоды программирования и использования вычислительной техники при обработке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ико-эксплуатационные характеристики, конструктивные особенности, режимы работы оборудования, правила эксплуа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ологию механизированной обработки информ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языки программир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160" y="635148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хорошее зр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перативная памя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устойчивое концентрированное вним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стойкая работоспособ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исциплинирован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аналитическое мыш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6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44000" y="-5790960"/>
            <a:ext cx="699840" cy="746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621468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УЗ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техн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5240" y="1262160"/>
            <a:ext cx="331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Инженер-меха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017800"/>
            <a:ext cx="56242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ектирует, конструирует и эксплуатирует технологическое оборудование различных производ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беспечивает рабочих производственными заданиями и контролирует их выпол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занимается организацией рабочих ме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уществляет контроль за состоянием оборудования и соблюдением техники безопас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2120" y="3921120"/>
            <a:ext cx="56293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черчение и начертательную геометри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оретическую механику, материаловеден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орию машин и механизмов, вычислительную техник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и технологию соответствующего производ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автоматику и автоматизацию производственных процесс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ономику отрас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нструктивное и лог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ним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мение принимать ответственные ре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аторские способ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ккура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900"/>
                            </p:stCondLst>
                            <p:childTnLst>
                              <p:par>
                                <p:cTn id="6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9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900"/>
                            </p:stCondLst>
                            <p:childTnLst>
                              <p:par>
                                <p:cTn id="7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9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900"/>
                            </p:stCondLst>
                            <p:childTnLst>
                              <p:par>
                                <p:cTn id="7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900"/>
                            </p:stCondLst>
                            <p:childTnLst>
                              <p:par>
                                <p:cTn id="7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8900"/>
                            </p:stCondLst>
                            <p:childTnLst>
                              <p:par>
                                <p:cTn id="7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художественный обра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Художник по рекла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эскизы и комплексные проекты оформления выставок, витрин, рекламных установок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в натуре элементы проекта, мак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атывает фирменные стили предприятий организаций (деловые бумаги, товарные знаки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оздает образцы упаковок и рекламы промышленной прод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9120" y="4043520"/>
            <a:ext cx="5629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образительную грамоту по рисунку и живопис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пластической анатомии, перспективы, виды шрифтов, закономерности построения компози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технологических процессов изготовления рекламы, современные материал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фотодело, типы печати, основы полигра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27760" y="1890720"/>
            <a:ext cx="295272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творческое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ккурат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развитое чувство цвета, фор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формированность зрительных образ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4160" y="635148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Художественные училища, Ву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100"/>
                            </p:stCondLst>
                            <p:childTnLst>
                              <p:par>
                                <p:cTn id="7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4100"/>
                            </p:stCondLst>
                            <p:childTnLst>
                              <p:par>
                                <p:cTn id="8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100"/>
                            </p:stCondLst>
                            <p:childTnLst>
                              <p:par>
                                <p:cTn id="82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610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7100"/>
                            </p:stCondLst>
                            <p:childTnLst>
                              <p:par>
                                <p:cTn id="8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100"/>
                            </p:stCondLst>
                            <p:childTnLst>
                              <p:par>
                                <p:cTn id="8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9100"/>
                            </p:stCondLst>
                            <p:childTnLst>
                              <p:par>
                                <p:cTn id="8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художественный образ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Дизай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2017800"/>
            <a:ext cx="562428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стетизация, гармонизация, упорядочение предметного окружения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бор необходимых сведений об изделиях, их конструкции, технологии изготовления, материа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особенностей взаимодействия человека с изделием в процессе эксплуа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отка проектно-компоновочных схем, эскизов, форм, рабочих черте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тработка изделий на образц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437000"/>
            <a:ext cx="5629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кульптуру, рисунок, живопи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компози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ологию производства изде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социологии, псих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27760" y="1890720"/>
            <a:ext cx="295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удожественное вооб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ространственно-образн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коммуникаб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лазом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200" y="61578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Художественно-промышленные училища, архитектурные институты и институты искус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200"/>
                            </p:stCondLst>
                            <p:childTnLst>
                              <p:par>
                                <p:cTn id="8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2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4200"/>
                            </p:stCondLst>
                            <p:childTnLst>
                              <p:par>
                                <p:cTn id="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200"/>
                            </p:stCondLst>
                            <p:childTnLst>
                              <p:par>
                                <p:cTn id="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6200"/>
                            </p:stCondLst>
                            <p:childTnLst>
                              <p:par>
                                <p:cTn id="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200"/>
                            </p:stCondLst>
                            <p:childTnLst>
                              <p:par>
                                <p:cTn id="9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8200"/>
                            </p:stCondLst>
                            <p:childTnLst>
                              <p:par>
                                <p:cTn id="9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Эк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структуры и функционирования природных и созданных человеком биологических сист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ологическое просве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азработка мероприятий по охране окружающе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сследование влияния среды на живые объ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ение влияния промышленных отходов на растительный м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4179960"/>
            <a:ext cx="5629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родоохранное законод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генетики, физиологии растений и человека, гидрологии, почвоведения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27760" y="1890720"/>
            <a:ext cx="295272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аналит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ованность и внутренняя дисципл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гражданская смел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долговременная структурированная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200" y="61452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ниверситет, биофак, технологический инстит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9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"/>
                            </p:stCondLst>
                            <p:childTnLst>
                              <p:par>
                                <p:cTn id="9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0520" y="320760"/>
            <a:ext cx="85885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– прир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Ветер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017800"/>
            <a:ext cx="56242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водит прививки и др. ветеринарные мероприятия по профилактике заболеваний и лечению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экспертизу продуктов животновод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онтролирует качество кор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оизводит предубойный осмотр и вскрытие трупов павших живо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инимает меры к предотвращению падежа живот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4179960"/>
            <a:ext cx="56293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общебиологических дисциплин и ветерина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и экономическую деятельность животноводческих фер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27760" y="1890720"/>
            <a:ext cx="295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юбовь к животны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ие зрение, слух, обоняние, вку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ыстрота реа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ая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200" y="614520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етеринарные училища, институ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300"/>
                            </p:stCondLst>
                            <p:childTnLst>
                              <p:par>
                                <p:cTn id="10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33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300"/>
                            </p:stCondLst>
                            <p:childTnLst>
                              <p:par>
                                <p:cTn id="10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300"/>
                            </p:stCondLst>
                            <p:childTnLst>
                              <p:par>
                                <p:cTn id="1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300"/>
                            </p:stCondLst>
                            <p:childTnLst>
                              <p:par>
                                <p:cTn id="11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7300"/>
                            </p:stCondLst>
                            <p:childTnLst>
                              <p:par>
                                <p:cTn id="1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8300"/>
                            </p:stCondLst>
                            <p:childTnLst>
                              <p:par>
                                <p:cTn id="11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акторы выбора професс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6659640" y="1700280"/>
            <a:ext cx="2057400" cy="1079280"/>
          </a:xfrm>
          <a:prstGeom prst="cube">
            <a:avLst>
              <a:gd name="adj" fmla="val 25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1700280"/>
            <a:ext cx="1981080" cy="1143000"/>
          </a:xfrm>
          <a:prstGeom prst="cube">
            <a:avLst>
              <a:gd name="adj" fmla="val 25000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773360"/>
            <a:ext cx="2054160" cy="1143000"/>
          </a:xfrm>
          <a:prstGeom prst="cube">
            <a:avLst>
              <a:gd name="adj" fmla="val 23194"/>
            </a:avLst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27160" y="339408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2997360"/>
            <a:ext cx="184464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есси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ьные интерес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ло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4720" y="2997360"/>
            <a:ext cx="2232000" cy="22885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ояние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фессиональная квалифик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фессиональные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59640" y="2997360"/>
            <a:ext cx="1904760" cy="17398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прос на    рынке тру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озможности трудо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2268360" y="4924440"/>
            <a:ext cx="1798920" cy="179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00360" y="2421000"/>
            <a:ext cx="41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108a"/>
                </a:solidFill>
                <a:latin typeface="Arial"/>
              </a:rPr>
              <a:t>ХОЧУ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20178600">
            <a:off x="756000" y="227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0400" y="4641840"/>
            <a:ext cx="135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280" y="4941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ЭКОНО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0" y="981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ЮР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166400">
            <a:off x="5795280" y="1431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БУХГАЛ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4365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БАНК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10720" y="48880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РОГРАММ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50920" y="2133720"/>
          <a:ext cx="8569080" cy="440352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4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Должности 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ик отд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Юрисконсуль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недж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мет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сс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ове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627280" y="227952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108a"/>
                </a:solidFill>
                <a:latin typeface="Arial"/>
              </a:rPr>
              <a:t>МОГУ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073600">
            <a:off x="611640" y="2204640"/>
            <a:ext cx="22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РОДА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819800">
            <a:off x="6423480" y="1018800"/>
            <a:ext cx="14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1503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4360" y="43830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38300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ПАРИКМА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 rot="20549400">
            <a:off x="5065200" y="3132000"/>
            <a:ext cx="191484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97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то я такой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 rot="21227400">
            <a:off x="5406840" y="3882600"/>
            <a:ext cx="227628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чем я живу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 rot="433800">
            <a:off x="5749920" y="4675320"/>
            <a:ext cx="23623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ем мне ста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 rot="1030800">
            <a:off x="5897520" y="5415120"/>
            <a:ext cx="246708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му доверя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 rot="872400">
            <a:off x="6271920" y="5927400"/>
            <a:ext cx="159048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быть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 rot="20614800">
            <a:off x="4447800" y="2225520"/>
            <a:ext cx="2838600" cy="498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то мне поможет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 rot="19942800">
            <a:off x="4066920" y="1484280"/>
            <a:ext cx="1923840" cy="657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уда пойти?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8" name="Picture 4" descr="j0160606"/>
          <p:cNvPicPr/>
          <p:nvPr/>
        </p:nvPicPr>
        <p:blipFill>
          <a:blip r:embed="rId2"/>
          <a:stretch/>
        </p:blipFill>
        <p:spPr>
          <a:xfrm>
            <a:off x="0" y="2222640"/>
            <a:ext cx="3505320" cy="4635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 rot="5400000">
            <a:off x="3112920" y="4240080"/>
            <a:ext cx="2685960" cy="149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ebfa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Book Antiqua"/>
              </a:rPr>
              <a:t>?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ffebfa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76720" y="22780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108a"/>
                </a:solidFill>
                <a:latin typeface="Arial"/>
              </a:rPr>
              <a:t>НАДО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2421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СТРО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0000" y="92700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150336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08a"/>
                </a:solidFill>
                <a:latin typeface="Arial"/>
              </a:rPr>
              <a:t>СВАРЩ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92360" y="4076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машин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495936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электр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67840" y="4643280"/>
            <a:ext cx="18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8a"/>
                </a:solidFill>
                <a:latin typeface="Arial"/>
              </a:rPr>
              <a:t>слес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0614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2565360"/>
          <a:ext cx="8641800" cy="3456000"/>
        </p:xfrm>
        <a:graphic>
          <a:graphicData uri="http://schemas.openxmlformats.org/drawingml/2006/table">
            <a:tbl>
              <a:tblPr/>
              <a:tblGrid>
                <a:gridCol w="4095360"/>
                <a:gridCol w="2788920"/>
                <a:gridCol w="17575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65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осварщик, электросва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лад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гнеуп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, слесарь-ремонт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ерл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к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резер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ектрик электромо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50920" y="2133720"/>
          <a:ext cx="8569080" cy="410328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540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В транспорте 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дитель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ду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шинист транспор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  по ремонту автомоби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ктор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лектромонтер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6" dur="indefinite" restart="never" nodeType="tmRoot">
          <p:childTnLst>
            <p:seq>
              <p:cTn id="1327" dur="indefinite" nodeType="mainSeq">
                <p:childTnLst>
                  <p:par>
                    <p:cTn id="1328" fill="hold">
                      <p:stCondLst>
                        <p:cond delay="0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8366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Востребованность обществом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50920" y="2133720"/>
          <a:ext cx="8569080" cy="4319640"/>
        </p:xfrm>
        <a:graphic>
          <a:graphicData uri="http://schemas.openxmlformats.org/drawingml/2006/table">
            <a:tbl>
              <a:tblPr/>
              <a:tblGrid>
                <a:gridCol w="4060800"/>
                <a:gridCol w="2765520"/>
                <a:gridCol w="174276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фе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буютс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щут рабо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8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строитель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тон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мен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нтаж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тник, стол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08a"/>
                          </a:solidFill>
                          <a:latin typeface="Tahoma"/>
                        </a:rPr>
                        <a:t>В других отрас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рмен, офиц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уз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в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ладшая мед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лесарь сантехн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66"/>
                        </a:gs>
                        <a:gs pos="100000">
                          <a:srgbClr val="fde58b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1f108a"/>
                </a:solidFill>
                <a:latin typeface="Times New Roman"/>
              </a:rPr>
              <a:t>Формула выбора профессии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771640" y="1773360"/>
            <a:ext cx="3124440" cy="2895480"/>
          </a:xfrm>
          <a:prstGeom prst="ellipse">
            <a:avLst/>
          </a:prstGeom>
          <a:solidFill>
            <a:srgbClr val="ffcc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хоч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73400" y="3597120"/>
            <a:ext cx="3048120" cy="2819520"/>
          </a:xfrm>
          <a:prstGeom prst="ellipse">
            <a:avLst/>
          </a:prstGeom>
          <a:solidFill>
            <a:srgbClr val="cc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над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1844640"/>
            <a:ext cx="2971800" cy="2819520"/>
          </a:xfrm>
          <a:prstGeom prst="ellipse">
            <a:avLst/>
          </a:prstGeom>
          <a:solidFill>
            <a:srgbClr val="ccff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3290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Все мы, у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не ко всем делам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годны 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        Пропер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11360" y="907560"/>
            <a:ext cx="69501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eorgia"/>
              </a:rPr>
              <a:t>Карта приоритетов семь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518472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Выбор ребенка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Выбор родителей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Семейные традиции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Учебная успешность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Мнение учител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4653000"/>
            <a:ext cx="73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Tahoma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ru-RU" sz="3000" spc="-1" strike="noStrike">
                <a:solidFill>
                  <a:srgbClr val="000000"/>
                </a:solidFill>
                <a:latin typeface="Comic Sans MS"/>
              </a:rPr>
              <a:t>Личностные каче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Все мы, увы, не ко всем делам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                                                    </a:t>
            </a:r>
            <a:r>
              <a:rPr b="0" i="1" lang="ru-RU" sz="2600" spc="-1" strike="noStrike">
                <a:solidFill>
                  <a:srgbClr val="333399"/>
                </a:solidFill>
                <a:latin typeface="Comic Sans MS"/>
              </a:rPr>
              <a:t>годны 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i="1" lang="ru-RU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Comic Sans MS"/>
              </a:rPr>
              <a:t>Пропер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0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800"/>
                            </p:stCondLst>
                            <p:childTnLst>
                              <p:par>
                                <p:cTn id="14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08a"/>
                </a:solidFill>
                <a:latin typeface="Georgia"/>
              </a:rPr>
              <a:t>Памятка для поступления в учебное заве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1916280"/>
            <a:ext cx="760428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108a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1f108a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брать профессию</a:t>
            </a:r>
            <a:r>
              <a:rPr b="0" lang="ru-RU" sz="2400" spc="-1" strike="noStrike">
                <a:solidFill>
                  <a:srgbClr val="1f108a"/>
                </a:solidFill>
                <a:latin typeface="Microsoft San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Microsoft San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08a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Сопоставить личностные качества, 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рофессионально важными 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качествами 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бранной профе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108a"/>
                </a:solidFill>
                <a:latin typeface="Tahoma"/>
              </a:rPr>
              <a:t>3.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Определить приоритеты в учеб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редметах</a:t>
            </a:r>
            <a:r>
              <a:rPr b="0" lang="ru-RU" sz="2800" spc="-1" strike="noStrike">
                <a:solidFill>
                  <a:srgbClr val="1f108a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0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8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8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9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9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9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18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20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8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108a"/>
                </a:solidFill>
                <a:latin typeface="Georgia"/>
              </a:rPr>
              <a:t>Памятка для поступления в учебное заве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108a"/>
                </a:solidFill>
                <a:latin typeface="Tahoma"/>
              </a:rPr>
              <a:t>4.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Выяснить, в каких учебных заведения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можно получить выбранную 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    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специально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f108a"/>
                </a:solidFill>
                <a:latin typeface="Tahoma"/>
              </a:rPr>
              <a:t>5.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Собрать информацию об условия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поступления в учебные заве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f108a"/>
                </a:solidFill>
                <a:latin typeface="Tahoma"/>
              </a:rPr>
              <a:t>6.</a:t>
            </a: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Начать заниматься на подготовительны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108a"/>
                </a:solidFill>
                <a:latin typeface="Comic Sans MS"/>
              </a:rPr>
              <a:t>     </a:t>
            </a:r>
            <a:r>
              <a:rPr b="0" i="1" lang="ru-RU" sz="2800" spc="-1" strike="noStrike">
                <a:solidFill>
                  <a:srgbClr val="1f108a"/>
                </a:solidFill>
                <a:latin typeface="Comic Sans MS"/>
              </a:rPr>
              <a:t>курсах или с репетито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8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9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8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6" dur="2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8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2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9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7640" y="2421000"/>
            <a:ext cx="70470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108a"/>
                </a:solidFill>
                <a:latin typeface="Tahoma"/>
              </a:rPr>
              <a:t>«ИСТИННОЕ  СОКРОВИЩЕ ДЛЯ ЛЮДЕЙ - УМЕНИЕ ТРУДИТЬС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1f108a"/>
                </a:solidFill>
                <a:latin typeface="Tahoma"/>
              </a:rPr>
              <a:t>Эзо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209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Уже сегодня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</a:t>
            </a: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начинайте дел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                          </a:t>
            </a: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свою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78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8a"/>
                </a:solidFill>
                <a:latin typeface="Tahoma"/>
              </a:rPr>
              <a:t>профессиональную карьеру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2771640" y="3357720"/>
            <a:ext cx="352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108a"/>
                </a:solidFill>
                <a:latin typeface="Tahoma"/>
              </a:rPr>
              <a:t>Успехов ва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0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6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92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95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свою дорогу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знать свое место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этом все для  челове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то для него значи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делаться самим соб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.Г. Белинск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7932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1f108a"/>
                </a:solidFill>
                <a:uFillTx/>
                <a:latin typeface="Tahoma"/>
              </a:rPr>
              <a:t>Профессии, которые мы выбирае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3280" y="333360"/>
            <a:ext cx="3986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Профессия  –  это тягость,</a:t>
            </a: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переходящая в радость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36720" y="2049480"/>
            <a:ext cx="3384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юр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ереводч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менедж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рограм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банки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эконом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сихол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бизнесме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экскурсов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82920" y="2049480"/>
            <a:ext cx="43214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официа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пов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уч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арти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ветерин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инжен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дизайн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воспита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                      </a:t>
            </a:r>
            <a:r>
              <a:rPr b="0" lang="ru-RU" sz="2200" spc="-1" strike="noStrike">
                <a:solidFill>
                  <a:srgbClr val="3333cc"/>
                </a:solidFill>
                <a:latin typeface="Tahoma"/>
              </a:rPr>
              <a:t>строит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596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28%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f108a"/>
                </a:solidFill>
                <a:latin typeface="Tahoma"/>
              </a:rPr>
              <a:t>студентов первых курсов Челябинских ВУЗов не   довольны своим выбором и разочаровались  в            выбранной профессии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133720"/>
          <a:ext cx="7848720" cy="43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2133720"/>
                    <a:ext cx="7848720" cy="43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251800" y="394200"/>
            <a:ext cx="5864400" cy="5845680"/>
            <a:chOff x="2251800" y="394200"/>
            <a:chExt cx="5864400" cy="5845680"/>
          </a:xfrm>
        </p:grpSpPr>
        <p:sp>
          <p:nvSpPr>
            <p:cNvPr id="120" name="_s137220"/>
            <p:cNvSpPr/>
            <p:nvPr/>
          </p:nvSpPr>
          <p:spPr>
            <a:xfrm flipH="1" flipV="1">
              <a:off x="3736440" y="3055680"/>
              <a:ext cx="72396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37221"/>
            <p:cNvSpPr/>
            <p:nvPr/>
          </p:nvSpPr>
          <p:spPr>
            <a:xfrm>
              <a:off x="2251800" y="202536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37222"/>
            <p:cNvSpPr/>
            <p:nvPr/>
          </p:nvSpPr>
          <p:spPr>
            <a:xfrm flipH="1">
              <a:off x="4289400" y="4179240"/>
              <a:ext cx="447120" cy="636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37223"/>
            <p:cNvSpPr/>
            <p:nvPr/>
          </p:nvSpPr>
          <p:spPr>
            <a:xfrm>
              <a:off x="3081240" y="46656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37224"/>
            <p:cNvSpPr/>
            <p:nvPr/>
          </p:nvSpPr>
          <p:spPr>
            <a:xfrm>
              <a:off x="5631480" y="4179240"/>
              <a:ext cx="447120" cy="636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37225"/>
            <p:cNvSpPr/>
            <p:nvPr/>
          </p:nvSpPr>
          <p:spPr>
            <a:xfrm>
              <a:off x="5764680" y="46656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37226"/>
            <p:cNvSpPr/>
            <p:nvPr/>
          </p:nvSpPr>
          <p:spPr>
            <a:xfrm flipV="1">
              <a:off x="5907240" y="3055680"/>
              <a:ext cx="723960" cy="243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37227"/>
            <p:cNvSpPr/>
            <p:nvPr/>
          </p:nvSpPr>
          <p:spPr>
            <a:xfrm>
              <a:off x="6594120" y="202536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37228"/>
            <p:cNvSpPr/>
            <p:nvPr/>
          </p:nvSpPr>
          <p:spPr>
            <a:xfrm flipV="1">
              <a:off x="5184000" y="1968480"/>
              <a:ext cx="0" cy="7869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37229"/>
            <p:cNvSpPr/>
            <p:nvPr/>
          </p:nvSpPr>
          <p:spPr>
            <a:xfrm>
              <a:off x="4422960" y="394200"/>
              <a:ext cx="1522080" cy="1574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37230"/>
            <p:cNvSpPr/>
            <p:nvPr/>
          </p:nvSpPr>
          <p:spPr>
            <a:xfrm>
              <a:off x="4422960" y="2755800"/>
              <a:ext cx="152208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8"/>
            <p:cNvSpPr/>
            <p:nvPr/>
          </p:nvSpPr>
          <p:spPr>
            <a:xfrm>
              <a:off x="4417200" y="405000"/>
              <a:ext cx="152208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ТЕХ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ОДИТЕЛ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ЭЛЕКТР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38"/>
            <p:cNvSpPr/>
            <p:nvPr/>
          </p:nvSpPr>
          <p:spPr>
            <a:xfrm>
              <a:off x="2259360" y="1988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И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ЕТЕРИНА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АГР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8"/>
            <p:cNvSpPr/>
            <p:nvPr/>
          </p:nvSpPr>
          <p:spPr>
            <a:xfrm>
              <a:off x="3093840" y="4652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ff"/>
                  </a:solidFill>
                  <a:latin typeface="Arial"/>
                </a:rPr>
                <a:t>ХУДОЖЕСТВЕН НЫЙ ОБР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АК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ХУДОЖН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8"/>
            <p:cNvSpPr/>
            <p:nvPr/>
          </p:nvSpPr>
          <p:spPr>
            <a:xfrm>
              <a:off x="5739480" y="4652640"/>
              <a:ext cx="1522080" cy="157500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ЗН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БУХГАЛТЕ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ПРОГРАММИ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8"/>
            <p:cNvSpPr/>
            <p:nvPr/>
          </p:nvSpPr>
          <p:spPr>
            <a:xfrm>
              <a:off x="6573960" y="2060640"/>
              <a:ext cx="1522800" cy="15742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lin ang="135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ЧЕЛОВ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ВРАЧ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ПРОДАВЕ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43000" y="6281280"/>
            <a:ext cx="781200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редне-специальные учебные заведения, учебные комбин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042920" y="36684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человек»                             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1268280"/>
            <a:ext cx="3313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Секретарь-рефер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5200" y="2046240"/>
            <a:ext cx="5624640" cy="20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Регистрирует и систематизирует письма, документы, ведет телефонные перегово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яет поручения руководителя, передает по назначению его зад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участвует в подготовке заседаний и совещаний, ведет их стенограммы, тиражирует необходимую документацию, использует в работе ПЭВМ, оргтех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2120" y="3921120"/>
            <a:ext cx="56293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Делопроизводство, основы научной организации тру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тенографию, машинопись, русский язык и литературу, правила орфографии и пункту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правила эксплуатации персональных ЭВМ и оргтехни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структуру учреждения и функции ответственных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психологии общения, эстетики, эт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желательно иностранны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ормальный слух, хорошая наглядно-образная памя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склонность к работе с людьми и документами, умеренная общитель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рганизованность, доброжелательность, сосредоточенность вним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моционально-волевая устойчивость, приятная внешность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700"/>
                            </p:stCondLst>
                            <p:childTnLst>
                              <p:par>
                                <p:cTn id="2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7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7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7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7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7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700"/>
                            </p:stCondLst>
                            <p:childTnLst>
                              <p:par>
                                <p:cTn id="3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-человек»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268280"/>
            <a:ext cx="33130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о развитые коммуникативные и организаторские способ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моциональная устойчив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хорошая памя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ответ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огическое мыш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умение быстро принимать решения, четко излагать мысл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56242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рганизация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роизводства или коммерческой деятельности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вышение производительности и качества труд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я ресурсов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т конкурентоспособности товаров и услуг, прибыли (дохода) и благосостоя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ормирование товарных ниш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пределяет стратегию и тактику конкурентной борьб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едет коммерческие перегово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зучает спрос и предложение на рынке, обновляет продукцию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регулирует процессы приема, подбора и профессионально-квалификационного роста работников, их перемещения по вертикали и горизонтал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37960" y="6308640"/>
            <a:ext cx="8569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экономические и технические ВУЗы, частные учебные за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797360"/>
            <a:ext cx="49687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рудовое законодательство, положения, уста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технику ведения  коммерческих переговор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рганизацию производст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кредитование и банковское дел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маркет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"/>
                            </p:stCondLst>
                            <p:childTnLst>
                              <p:par>
                                <p:cTn id="3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2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200"/>
                            </p:stCondLst>
                            <p:childTnLst>
                              <p:par>
                                <p:cTn id="4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2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200"/>
                            </p:stCondLst>
                            <p:childTnLst>
                              <p:par>
                                <p:cTn id="4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2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200"/>
                            </p:stCondLst>
                            <p:childTnLst>
                              <p:par>
                                <p:cTn id="4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71640" y="320760"/>
            <a:ext cx="7907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Профессии типа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</a:rPr>
              <a:t>«человек - знаковая систем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1268280"/>
            <a:ext cx="51814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Маркет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017800"/>
            <a:ext cx="562428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Содержание тру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зучает и прогнозирует спрос на товары и услуги, путем наблюдения, опроса потреб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анализирует причины колебания спроса на товары и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пределяет пути улучшения их потребительских свойств, перспективы сбы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тслеживает конкурентную сферу, изменения налоговой, ценовой и таможенной политики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920" y="4165560"/>
            <a:ext cx="562932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Должен зн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эконом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историю развития производства, торгов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действующее законодатель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основы социологии, психологии, правоведения, этики, статис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числительную и оргтехн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6273720"/>
            <a:ext cx="8737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Comic Sans MS"/>
              </a:rPr>
              <a:t>Квалификационные требования: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сшее экономическое, юридическое 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1887480"/>
            <a:ext cx="295272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Профессионально важные каче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аналитическое мыш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аблюдатель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социально-психологическая интуи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образно-логическая памя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коммуникативные способ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ая самооце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эмоционально-волевая устойч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400"/>
                            </p:stCondLst>
                            <p:childTnLst>
                              <p:par>
                                <p:cTn id="4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400"/>
                            </p:stCondLst>
                            <p:childTnLst>
                              <p:par>
                                <p:cTn id="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900"/>
                            </p:stCondLst>
                            <p:childTnLst>
                              <p:par>
                                <p:cTn id="5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9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900"/>
                            </p:stCondLst>
                            <p:childTnLst>
                              <p:par>
                                <p:cTn id="5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6900"/>
                            </p:stCondLst>
                            <p:childTnLst>
                              <p:par>
                                <p:cTn id="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7900"/>
                            </p:stCondLst>
                            <p:childTnLst>
                              <p:par>
                                <p:cTn id="5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8:15:36Z</dcterms:created>
  <dc:creator>11</dc:creator>
  <dc:description/>
  <dc:language>en-US</dc:language>
  <cp:lastModifiedBy>1</cp:lastModifiedBy>
  <dcterms:modified xsi:type="dcterms:W3CDTF">2009-03-19T18:38:22Z</dcterms:modified>
  <cp:revision>5</cp:revision>
  <dc:subject/>
  <dc:title>Слайд 1</dc:title>
</cp:coreProperties>
</file>