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FF0-CB7D-4FB5-93BF-AFB73D95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248-7643-4E66-A7F5-EC43E3C9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247-3DF5-41C4-8DA5-387ADF62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EC6-B122-4568-8C94-875EE4CE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124D-C3D3-4054-AC20-C206B27A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C2C1-CF29-4A39-BC4A-789B4CC6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09DC-DC5D-4754-ADB4-21F51295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ACA0-E0B1-4FA9-89D4-784157BA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B9EF-F6A1-4E01-B4DC-0DD629F7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9B0C-F41D-4FC0-A32C-A39F129E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5220-D6A1-4318-867F-69A08179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420-19F8-4426-9019-95432D3D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288D-B6DD-4EA1-B036-4CC1EAE1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0E4E-47DC-48D0-91B2-71AB2BE3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1F65-EAEA-4903-B719-9585DB7A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DC33-A16D-4741-B857-A35754BC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C8F2-5B5B-4588-B0F5-7D4640F2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26B-9C87-4C6A-AA6E-AEB8A470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D91-AD3D-4A3E-AE50-050BC370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7CF-AE0A-4450-B3BF-D9C4AC1C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960-D393-4374-B0A9-19EC8789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80A-1E9A-4164-8C8A-6C6C1D3C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AEA-902F-426A-A703-64FFFD32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E0C-F6F3-46E5-914E-06212AB8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4013-838D-418A-9DF7-3787EDDF20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E878-1058-4E44-BE38-FF0E1A6DEE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26920" y="692280"/>
            <a:ext cx="6912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ир профессий: 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ороги, которые мы выбираем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Picture 29" descr=""/>
          <p:cNvPicPr/>
          <p:nvPr/>
        </p:nvPicPr>
        <p:blipFill>
          <a:blip r:embed="rId6"/>
          <a:stretch/>
        </p:blipFill>
        <p:spPr>
          <a:xfrm>
            <a:off x="0" y="2666880"/>
            <a:ext cx="3124080" cy="2943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356000" y="2781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108a"/>
                </a:solidFill>
                <a:latin typeface="Tahoma"/>
              </a:rPr>
              <a:t>« ЕСЛИ ЧЕЛОВЕК НЕ ЗНАЕТ,  К  КАКОЙ ПРИСТАНИ ОН ДЕРЖИТ ПУТЬ, ДЛЯ НЕГО НИ ОДИН ВЕТЕР НЕ БУДЕТ ПОПУТ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108a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08a"/>
                </a:solidFill>
                <a:latin typeface="Tahoma"/>
              </a:rPr>
              <a:t>                                      </a:t>
            </a:r>
            <a:r>
              <a:rPr b="0" lang="en-US" sz="1800" spc="-1" strike="noStrike">
                <a:solidFill>
                  <a:srgbClr val="1f108a"/>
                </a:solidFill>
                <a:latin typeface="Tahoma"/>
              </a:rPr>
              <a:t>Сенек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71640" y="320760"/>
            <a:ext cx="790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 - знаковая систем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1268280"/>
            <a:ext cx="51814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Программ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017800"/>
            <a:ext cx="562428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Разрабатывает программы на основе анализа математических моделей и алгоритмов по реализации решения экономических и др. задач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выбирает язык программирования и перевод на него используемых моделей и алгоритм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оизводит отладку разработанных программ, корректирует их в процессе доработ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пределяет возможность использования готовых программных 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9520" y="4319640"/>
            <a:ext cx="562932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Методы программирования и использования вычислительной техники при обработке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ехнико-эксплуатационные характеристики, конструктивные особенности, режимы работы оборудования, правила эксплуа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ехнологию механизированной обработки информ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языки программ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160" y="6351480"/>
            <a:ext cx="8737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У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1887480"/>
            <a:ext cx="295272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хорошее зр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оперативная памя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устойчивое концентрированное вним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стойкая работоспособ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дисциплинирован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аналитическое мыш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500"/>
                            </p:stCondLst>
                            <p:childTnLst>
                              <p:par>
                                <p:cTn id="6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7500"/>
                            </p:stCondLst>
                            <p:childTnLst>
                              <p:par>
                                <p:cTn id="6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8500"/>
                            </p:stCondLst>
                            <p:childTnLst>
                              <p:par>
                                <p:cTn id="6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44000" y="-5790960"/>
            <a:ext cx="69984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621468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УЗ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320760"/>
            <a:ext cx="790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-техни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35240" y="1262160"/>
            <a:ext cx="3313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Инженер-меха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017800"/>
            <a:ext cx="562428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оектирует, конструирует и эксплуатирует технологическое оборудование различных производ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беспечивает рабочих производственными заданиями и контролирует их выпол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занимается организацией рабочих ме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уществляет контроль за состоянием оборудования и соблюдением техники безопас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2120" y="3921120"/>
            <a:ext cx="562932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черчение и начертательную геометрию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еоретическую механику, материаловедени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еорию машин и механизмов, вычислительную техник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рганизацию и технологию соответствующего производст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автоматику и автоматизацию производственных процесс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экономику отрас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2000" y="1887480"/>
            <a:ext cx="295272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онструктивное и логическое мыш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нима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мение принимать ответственные ре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рганизаторские способ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аккура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900"/>
                            </p:stCondLst>
                            <p:childTnLst>
                              <p:par>
                                <p:cTn id="6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3900"/>
                            </p:stCondLst>
                            <p:childTnLst>
                              <p:par>
                                <p:cTn id="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900"/>
                            </p:stCondLst>
                            <p:childTnLst>
                              <p:par>
                                <p:cTn id="7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900"/>
                            </p:stCondLst>
                            <p:childTnLst>
                              <p:par>
                                <p:cTn id="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900"/>
                            </p:stCondLst>
                            <p:childTnLst>
                              <p:par>
                                <p:cTn id="7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7900"/>
                            </p:stCondLst>
                            <p:childTnLst>
                              <p:par>
                                <p:cTn id="7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8900"/>
                            </p:stCondLst>
                            <p:childTnLst>
                              <p:par>
                                <p:cTn id="7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90520" y="320760"/>
            <a:ext cx="85885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 – художественный образ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1268280"/>
            <a:ext cx="51814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Художник по рекла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017800"/>
            <a:ext cx="562428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Выполняет эскизы и комплексные проекты оформления выставок, витрин, рекламных установок и п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выполняет в натуре элементы проекта, мак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разрабатывает фирменные стили предприятий организаций (деловые бумаги, товарные знаки и т.д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создает образцы упаковок и рекламы промышленной прод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9120" y="4043520"/>
            <a:ext cx="5629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Изобразительную грамоту по рисунку и живопис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пластической анатомии, перспективы, виды шрифтов, закономерности построения компози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технологических процессов изготовления рекламы, современные материал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фотодело, типы печати, основы полигра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27760" y="1890720"/>
            <a:ext cx="29527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ворческое вообра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аккурат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звитое чувство цвета, фор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формированность зрительных образ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4160" y="6351480"/>
            <a:ext cx="8737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Художественные училища, Ву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100"/>
                            </p:stCondLst>
                            <p:childTnLst>
                              <p:par>
                                <p:cTn id="7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4100"/>
                            </p:stCondLst>
                            <p:childTnLst>
                              <p:par>
                                <p:cTn id="8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100"/>
                            </p:stCondLst>
                            <p:childTnLst>
                              <p:par>
                                <p:cTn id="8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6100"/>
                            </p:stCondLst>
                            <p:childTnLst>
                              <p:par>
                                <p:cTn id="8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7100"/>
                            </p:stCondLst>
                            <p:childTnLst>
                              <p:par>
                                <p:cTn id="8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8100"/>
                            </p:stCondLst>
                            <p:childTnLst>
                              <p:par>
                                <p:cTn id="8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9100"/>
                            </p:stCondLst>
                            <p:childTnLst>
                              <p:par>
                                <p:cTn id="8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90520" y="320760"/>
            <a:ext cx="85885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 – художественный образ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1268280"/>
            <a:ext cx="51814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Дизай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2017800"/>
            <a:ext cx="562428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Эстетизация, гармонизация, упорядочение предметного окружени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сбор необходимых сведений об изделиях, их конструкции, технологии изготовления, материал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изучение особенностей взаимодействия человека с изделием в процессе эксплуа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разработка проектно-компоновочных схем, эскизов, форм, рабочих чертеж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тработка изделий на образц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4437000"/>
            <a:ext cx="56293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Скульптуру, рисунок, живопи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компози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ехнологию производства издел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социологии, псих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27760" y="1890720"/>
            <a:ext cx="295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художественное вообра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ространственно-образное мыш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оммуникаб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глазом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200" y="6157800"/>
            <a:ext cx="8737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Художественно-промышленные училища, архитектурные институты и институты искус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200"/>
                            </p:stCondLst>
                            <p:childTnLst>
                              <p:par>
                                <p:cTn id="8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200"/>
                            </p:stCondLst>
                            <p:childTnLst>
                              <p:par>
                                <p:cTn id="8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200"/>
                            </p:stCondLst>
                            <p:childTnLst>
                              <p:par>
                                <p:cTn id="9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200"/>
                            </p:stCondLst>
                            <p:childTnLst>
                              <p:par>
                                <p:cTn id="9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6200"/>
                            </p:stCondLst>
                            <p:childTnLst>
                              <p:par>
                                <p:cTn id="9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200"/>
                            </p:stCondLst>
                            <p:childTnLst>
                              <p:par>
                                <p:cTn id="9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8200"/>
                            </p:stCondLst>
                            <p:childTnLst>
                              <p:par>
                                <p:cTn id="9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90520" y="320760"/>
            <a:ext cx="85885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 – прир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1268280"/>
            <a:ext cx="51814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Эк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2017800"/>
            <a:ext cx="562428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Изучение структуры и функционирования природных и созданных человеком биологических систе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экологическое просве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разработка мероприятий по охране окружающей сре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исследование влияния среды на живые объе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изучение влияния промышленных отходов на растительный м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4179960"/>
            <a:ext cx="56293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иродоохранное законода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генетики, физиологии растений и человека, гидрологии, почвоведения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27760" y="1890720"/>
            <a:ext cx="295272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аналитическое мыш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аблюда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рганизованность и внутренняя дисципли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гражданская смел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олговременная структурированная пам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1200" y="6145200"/>
            <a:ext cx="8737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Университет, биофак, технологический инстит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3000"/>
                            </p:stCondLst>
                            <p:childTnLst>
                              <p:par>
                                <p:cTn id="9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90520" y="320760"/>
            <a:ext cx="85885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 – прир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56000" y="1268280"/>
            <a:ext cx="51814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Ветери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017800"/>
            <a:ext cx="562428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оводит прививки и др. ветеринарные мероприятия по профилактике заболеваний и лечению живо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экспертизу продуктов животновод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онтролирует качество кор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оизводит предубойный осмотр и вскрытие трупов павших живо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инимает меры к предотвращению падежа живот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4179960"/>
            <a:ext cx="56293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общебиологических дисциплин и ветерина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рганизацию и экономическую деятельность животноводческих фер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27760" y="1890720"/>
            <a:ext cx="295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любовь к животны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хорошие зрение, слух, обоняние, вку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быстрота реак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аблюда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хорошая пам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200" y="6145200"/>
            <a:ext cx="8737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етеринарные училища, институ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300"/>
                            </p:stCondLst>
                            <p:childTnLst>
                              <p:par>
                                <p:cTn id="10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3300"/>
                            </p:stCondLst>
                            <p:childTnLst>
                              <p:par>
                                <p:cTn id="1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4300"/>
                            </p:stCondLst>
                            <p:childTnLst>
                              <p:par>
                                <p:cTn id="10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300"/>
                            </p:stCondLst>
                            <p:childTnLst>
                              <p:par>
                                <p:cTn id="1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6300"/>
                            </p:stCondLst>
                            <p:childTnLst>
                              <p:par>
                                <p:cTn id="11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7300"/>
                            </p:stCondLst>
                            <p:childTnLst>
                              <p:par>
                                <p:cTn id="1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8300"/>
                            </p:stCondLst>
                            <p:childTnLst>
                              <p:par>
                                <p:cTn id="11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акторы выбора професси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1700280"/>
            <a:ext cx="2057400" cy="1079280"/>
          </a:xfrm>
          <a:prstGeom prst="cube">
            <a:avLst>
              <a:gd name="adj" fmla="val 25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1700280"/>
            <a:ext cx="1981080" cy="1143000"/>
          </a:xfrm>
          <a:prstGeom prst="cube">
            <a:avLst>
              <a:gd name="adj" fmla="val 25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95640" y="1773360"/>
            <a:ext cx="2054160" cy="1143000"/>
          </a:xfrm>
          <a:prstGeom prst="cube">
            <a:avLst>
              <a:gd name="adj" fmla="val 23194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27160" y="339408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24000" y="2997360"/>
            <a:ext cx="1844640" cy="1739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и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льные интерес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ло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2997360"/>
            <a:ext cx="2232000" cy="22885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стояние здоров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фессиональная квалификац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фессиональн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59640" y="2997360"/>
            <a:ext cx="1904760" cy="1739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прос на    рынке тру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зможности трудо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268360" y="4924440"/>
            <a:ext cx="1798920" cy="1790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00360" y="2421000"/>
            <a:ext cx="41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f108a"/>
                </a:solidFill>
                <a:latin typeface="Arial"/>
              </a:rPr>
              <a:t>ХОЧУ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20178600">
            <a:off x="756000" y="227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30400" y="4641840"/>
            <a:ext cx="135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4941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ЭКОНОМ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0" y="981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ЮР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166400">
            <a:off x="5795280" y="1431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БУХГАЛ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51280" y="4365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БАНК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10720" y="48880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ПРОГРАММ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779292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Georgia"/>
              </a:rPr>
              <a:t>Востребованность общество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50920" y="2133720"/>
          <a:ext cx="8569080" cy="4403520"/>
        </p:xfrm>
        <a:graphic>
          <a:graphicData uri="http://schemas.openxmlformats.org/drawingml/2006/table">
            <a:tbl>
              <a:tblPr/>
              <a:tblGrid>
                <a:gridCol w="4060800"/>
                <a:gridCol w="2765520"/>
                <a:gridCol w="1742760"/>
              </a:tblGrid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фе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ебуют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щут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44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08a"/>
                          </a:solidFill>
                          <a:latin typeface="Tahoma"/>
                        </a:rPr>
                        <a:t>Должности служащ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чальник отд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вный 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рисконсуль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недж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метч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сс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ал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ов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627280" y="227952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f108a"/>
                </a:solidFill>
                <a:latin typeface="Arial"/>
              </a:rPr>
              <a:t>МОГУ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0073600">
            <a:off x="611640" y="2204640"/>
            <a:ext cx="22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ПРОДА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819800">
            <a:off x="6423480" y="1018800"/>
            <a:ext cx="14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П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1503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74360" y="438300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ВО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38300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ПАРИКМА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4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 rot="20549400">
            <a:off x="5065200" y="3132000"/>
            <a:ext cx="191484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97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то я такой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 rot="21227400">
            <a:off x="5406840" y="3882600"/>
            <a:ext cx="227628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чем я живу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 rot="433800">
            <a:off x="5749920" y="4675320"/>
            <a:ext cx="23623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ем мне стать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 rot="1030800">
            <a:off x="5897520" y="5415120"/>
            <a:ext cx="246708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му доверять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 rot="872400">
            <a:off x="6271920" y="5927400"/>
            <a:ext cx="159048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быть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 rot="20614800">
            <a:off x="4447800" y="2225520"/>
            <a:ext cx="2838600" cy="49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то мне поможет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 rot="19942800">
            <a:off x="4066920" y="1484280"/>
            <a:ext cx="1923840" cy="65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уда пойти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8" name="Picture 4" descr="j0160606"/>
          <p:cNvPicPr/>
          <p:nvPr/>
        </p:nvPicPr>
        <p:blipFill>
          <a:blip r:embed="rId2"/>
          <a:stretch/>
        </p:blipFill>
        <p:spPr>
          <a:xfrm>
            <a:off x="0" y="2222640"/>
            <a:ext cx="3505320" cy="4635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 rot="5400000">
            <a:off x="3112920" y="4240080"/>
            <a:ext cx="2685960" cy="149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-1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ebfa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Book Antiqua"/>
              </a:rPr>
              <a:t>?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ffebfa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5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67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76720" y="22780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f108a"/>
                </a:solidFill>
                <a:latin typeface="Arial"/>
              </a:rPr>
              <a:t>НАДО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2421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СТРО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0000" y="92700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В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150336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СВАРЩ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92360" y="4076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08a"/>
                </a:solidFill>
                <a:latin typeface="Arial"/>
              </a:rPr>
              <a:t>машин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495936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08a"/>
                </a:solidFill>
                <a:latin typeface="Arial"/>
              </a:rPr>
              <a:t>элект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67840" y="4643280"/>
            <a:ext cx="18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08a"/>
                </a:solidFill>
                <a:latin typeface="Arial"/>
              </a:rPr>
              <a:t>слес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3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779292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Georgia"/>
              </a:rPr>
              <a:t>Востребованность общество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061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50920" y="2565360"/>
          <a:ext cx="8641800" cy="3456000"/>
        </p:xfrm>
        <a:graphic>
          <a:graphicData uri="http://schemas.openxmlformats.org/drawingml/2006/table">
            <a:tbl>
              <a:tblPr/>
              <a:tblGrid>
                <a:gridCol w="4095360"/>
                <a:gridCol w="2788920"/>
                <a:gridCol w="17575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фе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ебуют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щут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65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08a"/>
                          </a:solidFill>
                          <a:latin typeface="Tahoma"/>
                        </a:rPr>
                        <a:t>В промыш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азосварщик, электросвар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адч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гнеупор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есарь, слесарь-ремонт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ерлов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к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резеров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лектрик электромон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1892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Georgia"/>
              </a:rPr>
              <a:t>Востребованность общество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50920" y="2133720"/>
          <a:ext cx="8569080" cy="4103280"/>
        </p:xfrm>
        <a:graphic>
          <a:graphicData uri="http://schemas.openxmlformats.org/drawingml/2006/table">
            <a:tbl>
              <a:tblPr/>
              <a:tblGrid>
                <a:gridCol w="4060800"/>
                <a:gridCol w="2765520"/>
                <a:gridCol w="174276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фе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ебуют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щут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540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транспорте и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дитель транспор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ду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шинист транспор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есарь  по ремонту автомоби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актор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лектромонтер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0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18920" y="8366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Georgia"/>
              </a:rPr>
              <a:t>Востребованность общество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0920" y="2133720"/>
          <a:ext cx="8569080" cy="4319640"/>
        </p:xfrm>
        <a:graphic>
          <a:graphicData uri="http://schemas.openxmlformats.org/drawingml/2006/table">
            <a:tbl>
              <a:tblPr/>
              <a:tblGrid>
                <a:gridCol w="4060800"/>
                <a:gridCol w="2765520"/>
                <a:gridCol w="174276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фе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ебуют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щут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85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08a"/>
                          </a:solidFill>
                          <a:latin typeface="Tahoma"/>
                        </a:rPr>
                        <a:t>В строительст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тон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мен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нтаж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отник, столя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46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08a"/>
                          </a:solidFill>
                          <a:latin typeface="Tahoma"/>
                        </a:rPr>
                        <a:t>В других отрасл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рмен, офиц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узч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в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ладшая мед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есарь сантехн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0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f108a"/>
                </a:solidFill>
                <a:latin typeface="Times New Roman"/>
              </a:rPr>
              <a:t>Формула выбора профессии: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771640" y="1773360"/>
            <a:ext cx="3124440" cy="2895480"/>
          </a:xfrm>
          <a:prstGeom prst="ellipse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хоч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73400" y="3597120"/>
            <a:ext cx="3048120" cy="2819520"/>
          </a:xfrm>
          <a:prstGeom prst="ellipse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над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92720" y="1844640"/>
            <a:ext cx="2971800" cy="2819520"/>
          </a:xfrm>
          <a:prstGeom prst="ellipse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3290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Все мы, ув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не ко всем делам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годны 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        Пропер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11360" y="907560"/>
            <a:ext cx="69501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eorgia"/>
              </a:rPr>
              <a:t>Карта приоритетов семь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518472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Выбор ребенка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Выбор родителей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Семейные традиции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Учебная успешность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Мнение учителя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4653000"/>
            <a:ext cx="7344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Tahoma"/>
              </a:rPr>
              <a:t>6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Comic Sans MS"/>
              </a:rPr>
              <a:t>Личностные каче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ru-RU" sz="2600" spc="-1" strike="noStrike">
                <a:solidFill>
                  <a:srgbClr val="333399"/>
                </a:solidFill>
                <a:latin typeface="Comic Sans MS"/>
              </a:rPr>
              <a:t>Все мы, увы, не ко всем делам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99"/>
                </a:solidFill>
                <a:latin typeface="Comic Sans MS"/>
              </a:rPr>
              <a:t>                                                    </a:t>
            </a:r>
            <a:r>
              <a:rPr b="0" i="1" lang="ru-RU" sz="2600" spc="-1" strike="noStrike">
                <a:solidFill>
                  <a:srgbClr val="333399"/>
                </a:solidFill>
                <a:latin typeface="Comic Sans MS"/>
              </a:rPr>
              <a:t>годны 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              </a:t>
            </a:r>
            <a:r>
              <a:rPr b="0" i="1" lang="ru-RU" sz="1600" spc="-1" strike="noStrike">
                <a:solidFill>
                  <a:srgbClr val="333399"/>
                </a:solidFill>
                <a:latin typeface="Comic Sans MS"/>
              </a:rPr>
              <a:t>Пропер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0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8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2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2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2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5800"/>
                            </p:stCondLst>
                            <p:childTnLst>
                              <p:par>
                                <p:cTn id="14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108a"/>
                </a:solidFill>
                <a:latin typeface="Georgia"/>
              </a:rPr>
              <a:t>Памятка для поступления в учебное завед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1916280"/>
            <a:ext cx="760428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108a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1f108a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1f108a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Выбрать профессию</a:t>
            </a:r>
            <a:r>
              <a:rPr b="0" lang="ru-RU" sz="2400" spc="-1" strike="noStrike">
                <a:solidFill>
                  <a:srgbClr val="1f108a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08a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1f108a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Сопоставить личностные качества, 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     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профессионально важными </a:t>
            </a: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       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качествами 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           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выбранной проф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108a"/>
                </a:solidFill>
                <a:latin typeface="Tahoma"/>
              </a:rPr>
              <a:t>3.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   Определить приоритеты в учеб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предметах</a:t>
            </a:r>
            <a:r>
              <a:rPr b="0" lang="ru-RU" sz="2800" spc="-1" strike="noStrike">
                <a:solidFill>
                  <a:srgbClr val="1f108a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0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8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8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9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9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9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20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8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20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8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108a"/>
                </a:solidFill>
                <a:latin typeface="Georgia"/>
              </a:rPr>
              <a:t>Памятка для поступления в учебное завед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276280"/>
            <a:ext cx="77724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f108a"/>
                </a:solidFill>
                <a:latin typeface="Tahoma"/>
              </a:rPr>
              <a:t>4.</a:t>
            </a: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Выяснить, в каких учебных заведения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      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можно получить выбранную </a:t>
            </a: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          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специаль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108a"/>
                </a:solidFill>
                <a:latin typeface="Tahoma"/>
              </a:rPr>
              <a:t>5.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 Собрать информацию об услови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поступления в учебные заве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f108a"/>
                </a:solidFill>
                <a:latin typeface="Tahoma"/>
              </a:rPr>
              <a:t>6.</a:t>
            </a: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Начать заниматься на подготовительны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 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курсах или с репетитор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9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8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9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9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8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9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2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6" dur="2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8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9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7640" y="2421000"/>
            <a:ext cx="704700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108a"/>
                </a:solidFill>
                <a:latin typeface="Tahoma"/>
              </a:rPr>
              <a:t>«ИСТИННОЕ  СОКРОВИЩЕ ДЛЯ ЛЮДЕЙ - УМЕНИЕ ТРУДИТЬС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108a"/>
                </a:solidFill>
                <a:latin typeface="Tahoma"/>
              </a:rPr>
              <a:t>                                          </a:t>
            </a:r>
            <a:r>
              <a:rPr b="0" lang="en-US" sz="3200" spc="-1" strike="noStrike">
                <a:solidFill>
                  <a:srgbClr val="1f108a"/>
                </a:solidFill>
                <a:latin typeface="Tahoma"/>
              </a:rPr>
              <a:t>Эзо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209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108a"/>
                </a:solidFill>
                <a:latin typeface="Tahoma"/>
              </a:rPr>
              <a:t>Уже сегодня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7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108a"/>
                </a:solidFill>
                <a:latin typeface="Tahoma"/>
              </a:rPr>
              <a:t>           </a:t>
            </a:r>
            <a:r>
              <a:rPr b="1" i="1" lang="en-US" sz="3200" spc="-1" strike="noStrike">
                <a:solidFill>
                  <a:srgbClr val="1f108a"/>
                </a:solidFill>
                <a:latin typeface="Tahoma"/>
              </a:rPr>
              <a:t>начинайте дела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7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108a"/>
                </a:solidFill>
                <a:latin typeface="Tahoma"/>
              </a:rPr>
              <a:t>                          </a:t>
            </a:r>
            <a:r>
              <a:rPr b="1" i="1" lang="en-US" sz="3200" spc="-1" strike="noStrike">
                <a:solidFill>
                  <a:srgbClr val="1f108a"/>
                </a:solidFill>
                <a:latin typeface="Tahoma"/>
              </a:rPr>
              <a:t>свою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78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8a"/>
                </a:solidFill>
                <a:latin typeface="Tahoma"/>
              </a:rPr>
              <a:t>профессиональную карьеру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2771640" y="3357720"/>
            <a:ext cx="3529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108a"/>
                </a:solidFill>
                <a:latin typeface="Tahoma"/>
              </a:rPr>
              <a:t>Успехов ва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4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5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86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89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92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95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йти свою дорогу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знать свое место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этом все для  челове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то для него значи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делаться самим соб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Г. Белински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1052640"/>
            <a:ext cx="77932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1f108a"/>
                </a:solidFill>
                <a:uFillTx/>
                <a:latin typeface="Tahoma"/>
              </a:rPr>
              <a:t>Профессии, которые мы выбираем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03280" y="333360"/>
            <a:ext cx="3986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Профессия  –  это тягость,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переходящая в радость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36720" y="2049480"/>
            <a:ext cx="338436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юри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переводч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менедж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программи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банки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экономи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психол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бизнесм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экскурсов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82920" y="2049480"/>
            <a:ext cx="43214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официа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пов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учи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арти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ветерин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инжен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дизайн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воспита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строи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8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20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4000"/>
                            </p:stCondLst>
                            <p:childTnLst>
                              <p:par>
                                <p:cTn id="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6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08a"/>
                </a:solidFill>
                <a:latin typeface="Tahoma"/>
              </a:rPr>
              <a:t>28%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1f108a"/>
                </a:solidFill>
                <a:latin typeface="Tahoma"/>
              </a:rPr>
              <a:t>студентов первых курсов Челябинских ВУЗов не   довольны своим выбором и разочаровались  в            выбранной профессии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2133720"/>
          <a:ext cx="7848720" cy="437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133720"/>
                    <a:ext cx="784872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251800" y="394200"/>
            <a:ext cx="5864400" cy="5845680"/>
            <a:chOff x="2251800" y="394200"/>
            <a:chExt cx="5864400" cy="5845680"/>
          </a:xfrm>
        </p:grpSpPr>
        <p:sp>
          <p:nvSpPr>
            <p:cNvPr id="120" name="_s137220"/>
            <p:cNvSpPr/>
            <p:nvPr/>
          </p:nvSpPr>
          <p:spPr>
            <a:xfrm flipH="1" flipV="1">
              <a:off x="3736440" y="3055680"/>
              <a:ext cx="723960" cy="243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37221"/>
            <p:cNvSpPr/>
            <p:nvPr/>
          </p:nvSpPr>
          <p:spPr>
            <a:xfrm>
              <a:off x="2251800" y="2025360"/>
              <a:ext cx="1522080" cy="1574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37222"/>
            <p:cNvSpPr/>
            <p:nvPr/>
          </p:nvSpPr>
          <p:spPr>
            <a:xfrm flipH="1">
              <a:off x="4289400" y="4179240"/>
              <a:ext cx="447120" cy="636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37223"/>
            <p:cNvSpPr/>
            <p:nvPr/>
          </p:nvSpPr>
          <p:spPr>
            <a:xfrm>
              <a:off x="3081240" y="4665600"/>
              <a:ext cx="1522080" cy="1574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37224"/>
            <p:cNvSpPr/>
            <p:nvPr/>
          </p:nvSpPr>
          <p:spPr>
            <a:xfrm>
              <a:off x="5631480" y="4179240"/>
              <a:ext cx="447120" cy="636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37225"/>
            <p:cNvSpPr/>
            <p:nvPr/>
          </p:nvSpPr>
          <p:spPr>
            <a:xfrm>
              <a:off x="5764680" y="4665600"/>
              <a:ext cx="1522080" cy="1574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37226"/>
            <p:cNvSpPr/>
            <p:nvPr/>
          </p:nvSpPr>
          <p:spPr>
            <a:xfrm flipV="1">
              <a:off x="5907240" y="3055680"/>
              <a:ext cx="723960" cy="243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37227"/>
            <p:cNvSpPr/>
            <p:nvPr/>
          </p:nvSpPr>
          <p:spPr>
            <a:xfrm>
              <a:off x="6594120" y="2025360"/>
              <a:ext cx="1522080" cy="1574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37228"/>
            <p:cNvSpPr/>
            <p:nvPr/>
          </p:nvSpPr>
          <p:spPr>
            <a:xfrm flipV="1">
              <a:off x="5184000" y="1968480"/>
              <a:ext cx="0" cy="786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37229"/>
            <p:cNvSpPr/>
            <p:nvPr/>
          </p:nvSpPr>
          <p:spPr>
            <a:xfrm>
              <a:off x="4422960" y="394200"/>
              <a:ext cx="1522080" cy="1574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37230"/>
            <p:cNvSpPr/>
            <p:nvPr/>
          </p:nvSpPr>
          <p:spPr>
            <a:xfrm>
              <a:off x="4422960" y="2755800"/>
              <a:ext cx="1522080" cy="15742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ЧЕЛОВ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8"/>
            <p:cNvSpPr/>
            <p:nvPr/>
          </p:nvSpPr>
          <p:spPr>
            <a:xfrm>
              <a:off x="4417200" y="405000"/>
              <a:ext cx="1522080" cy="15742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ТЕХН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ВОДИТЕЛ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ЭЛЕКТР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38"/>
            <p:cNvSpPr/>
            <p:nvPr/>
          </p:nvSpPr>
          <p:spPr>
            <a:xfrm>
              <a:off x="2259360" y="1988640"/>
              <a:ext cx="1522080" cy="15750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ПРИР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ВЕТЕРИНА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АГРОНО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8"/>
            <p:cNvSpPr/>
            <p:nvPr/>
          </p:nvSpPr>
          <p:spPr>
            <a:xfrm>
              <a:off x="3093840" y="4652640"/>
              <a:ext cx="1522080" cy="15750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ХУДОЖЕСТВЕН НЫЙ ОБРА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АКТЕ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ХУДОЖН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38"/>
            <p:cNvSpPr/>
            <p:nvPr/>
          </p:nvSpPr>
          <p:spPr>
            <a:xfrm>
              <a:off x="5739480" y="4652640"/>
              <a:ext cx="1522080" cy="15750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ЗНА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БУХГАЛТЕ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ПРОГРАММИ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38"/>
            <p:cNvSpPr/>
            <p:nvPr/>
          </p:nvSpPr>
          <p:spPr>
            <a:xfrm>
              <a:off x="6573960" y="2060640"/>
              <a:ext cx="1522800" cy="15742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ЧЕЛОВ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ВРАЧ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ПРОДАВЕ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43000" y="6281280"/>
            <a:ext cx="781200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редне-специальные учебные заведения, учебные комбинат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920" y="36684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-человек»                              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1268280"/>
            <a:ext cx="33130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Секретарь-рефер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5200" y="2046240"/>
            <a:ext cx="562464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Регистрирует и систематизирует письма, документы, ведет телефонные перегово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выполняет поручения руководителя, передает по назначению его зад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участвует в подготовке заседаний и совещаний, ведет их стенограммы, тиражирует необходимую документацию, использует в работе ПЭВМ, оргтехн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2120" y="3921120"/>
            <a:ext cx="562932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Делопроизводство, основы научной организации труд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стенографию, машинопись, русский язык и литературу, правила орфографии и пункту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авила эксплуатации персональных ЭВМ и оргтехни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структуру учреждения и функции ответственных сотруд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психологии общения, эстетики, эти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желательно иностранный язы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1887480"/>
            <a:ext cx="295272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ормальный слух, хорошая наглядно-образная памя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клонность к работе с людьми и документами, умеренная общительнос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рганизованность, доброжелательность, сосредоточенность вним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эмоционально-волевая устойчивость, приятная внешность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700"/>
                            </p:stCondLst>
                            <p:childTnLst>
                              <p:par>
                                <p:cTn id="2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7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700"/>
                            </p:stCondLst>
                            <p:childTnLst>
                              <p:par>
                                <p:cTn id="2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7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7700"/>
                            </p:stCondLst>
                            <p:childTnLst>
                              <p:par>
                                <p:cTn id="3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7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700"/>
                            </p:stCondLst>
                            <p:childTnLst>
                              <p:par>
                                <p:cTn id="3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320760"/>
            <a:ext cx="79074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-человек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268280"/>
            <a:ext cx="33130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1887480"/>
            <a:ext cx="295272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хорошо развитые коммуникативные и организаторские способ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эмоциональная устойчив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хорошая памя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тветствен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логическое мыш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мение быстро принимать решения, четко излагать мысл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56242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рганизация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оизводства или коммерческой деятельности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вышение производительности и качества труд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номия ресурсов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ост конкурентоспособности товаров и услуг, прибыли (дохода) и благосостоя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формирование товарных ниш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пределяет стратегию и тактику конкурентной борьб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едет коммерческие перегово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зучает спрос и предложение на рынке, обновляет продукцию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регулирует процессы приема, подбора и профессионально-квалификационного роста работников, их перемещения по вертикали и горизонтали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37960" y="6308640"/>
            <a:ext cx="8569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экономические и технические ВУЗы, частные учебные за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4797360"/>
            <a:ext cx="496872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рудовое законодательство, положения, уста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ехнику ведения  коммерческих переговор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рганизацию производст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редитование и банковское дел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маркетин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"/>
                            </p:stCondLst>
                            <p:childTnLst>
                              <p:par>
                                <p:cTn id="3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2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200"/>
                            </p:stCondLst>
                            <p:childTnLst>
                              <p:par>
                                <p:cTn id="4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2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200"/>
                            </p:stCondLst>
                            <p:childTnLst>
                              <p:par>
                                <p:cTn id="4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72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8200"/>
                            </p:stCondLst>
                            <p:childTnLst>
                              <p:par>
                                <p:cTn id="4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71640" y="320760"/>
            <a:ext cx="790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 - знаковая систем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1268280"/>
            <a:ext cx="51814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Маркет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2017800"/>
            <a:ext cx="562428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Изучает и прогнозирует спрос на товары и услуги, путем наблюдения, опроса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анализирует причины колебания спроса на товары и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пределяет пути улучшения их потребительских свойств, перспективы сбы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тслеживает конкурентную сферу, изменения налоговой, ценовой и таможенной политики государ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920" y="4165560"/>
            <a:ext cx="562932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эконом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историю развития производства, торгов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действующее законода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социологии, психологии, правоведения, этики, статис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вычислительную и оргтехн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6273720"/>
            <a:ext cx="8737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ысшее экономическое, юридическое образ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1887480"/>
            <a:ext cx="295272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аналитическое мышл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наблюдатель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социально-психологическая интуиц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образно-логическая памя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коммуникативные способ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ая самооце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эмоционально-волевая устойчив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400"/>
                            </p:stCondLst>
                            <p:childTnLst>
                              <p:par>
                                <p:cTn id="4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400"/>
                            </p:stCondLst>
                            <p:childTnLst>
                              <p:par>
                                <p:cTn id="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900"/>
                            </p:stCondLst>
                            <p:childTnLst>
                              <p:par>
                                <p:cTn id="5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900"/>
                            </p:stCondLst>
                            <p:childTnLst>
                              <p:par>
                                <p:cTn id="5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900"/>
                            </p:stCondLst>
                            <p:childTnLst>
                              <p:par>
                                <p:cTn id="5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90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7900"/>
                            </p:stCondLst>
                            <p:childTnLst>
                              <p:par>
                                <p:cTn id="5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8:15:36Z</dcterms:created>
  <dc:creator>11</dc:creator>
  <dc:description/>
  <dc:language>en-US</dc:language>
  <cp:lastModifiedBy>1</cp:lastModifiedBy>
  <dcterms:modified xsi:type="dcterms:W3CDTF">2009-03-19T18:38:22Z</dcterms:modified>
  <cp:revision>5</cp:revision>
  <dc:subject/>
  <dc:title>Слайд 1</dc:title>
</cp:coreProperties>
</file>