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3F42-3566-4A1D-A97F-2AF84CD2DA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 марта 2010 года в 20 ч 30 мин на один час выключили с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16EE-0D15-4C5C-B70B-662673A665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Ь, НЕФ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5929-EAD4-479D-BC98-4DD10B8C3C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6C9E-630E-4E6C-ACE9-179353373F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ЭЦ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BD43-BD75-4F9B-B121-331B898659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248-E822-4528-8D10-B4FC5FF1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569-9723-45FC-AF49-B8991701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1BC6-B53A-4C57-B425-791AEE5A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26A-6710-410B-B307-99D512FE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213-614B-477D-B3FC-C914826A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8BC1-8618-4CF7-9927-99E38014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6F4E-7F55-41CE-B748-5D61154F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1774-38E0-49F4-8709-57A71A42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9D0-2939-48BF-8006-18EA44C0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423C-BF49-473B-87EF-05D9F6F9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DD9F-B276-4C28-BA8C-DC20CBF7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284-8A43-414F-AC7D-3C19B5B8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6745-1606-44E5-9777-9CE2802DFC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ЧАС ЗЕМЛИ - отдохни сам, дай отдохнуть природ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C:\Users\Михаил\Desktop\Новая папка\EH-logo[1].jpg"/>
          <p:cNvPicPr/>
          <p:nvPr/>
        </p:nvPicPr>
        <p:blipFill>
          <a:blip r:embed="rId1"/>
          <a:stretch/>
        </p:blipFill>
        <p:spPr>
          <a:xfrm>
            <a:off x="285840" y="1285920"/>
            <a:ext cx="84294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ЧТО ТАКОЕ ЭКОНОМИЯ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Зачем  нужно экономить электроэнергию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Полезные ископаемы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:\Users\Михаил\Desktop\Новая папка\1263034706[1].jpg"/>
          <p:cNvPicPr/>
          <p:nvPr/>
        </p:nvPicPr>
        <p:blipFill>
          <a:blip r:embed="rId1"/>
          <a:stretch/>
        </p:blipFill>
        <p:spPr>
          <a:xfrm>
            <a:off x="4648320" y="1857240"/>
            <a:ext cx="4038480" cy="400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Михаил\Desktop\Новая папка\45534_view[1].jpg"/>
          <p:cNvPicPr/>
          <p:nvPr/>
        </p:nvPicPr>
        <p:blipFill>
          <a:blip r:embed="rId2"/>
          <a:stretch/>
        </p:blipFill>
        <p:spPr>
          <a:xfrm>
            <a:off x="45720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Михаил\Desktop\Новая папка\1255071252_gas-6[1].jpg"/>
          <p:cNvPicPr/>
          <p:nvPr/>
        </p:nvPicPr>
        <p:blipFill>
          <a:blip r:embed="rId1"/>
          <a:stretch/>
        </p:blipFill>
        <p:spPr>
          <a:xfrm>
            <a:off x="785880" y="571680"/>
            <a:ext cx="750096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Откуда в твоём доме электричеств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Михаил\Desktop\Новая папка\big[1].jpg"/>
          <p:cNvPicPr/>
          <p:nvPr/>
        </p:nvPicPr>
        <p:blipFill>
          <a:blip r:embed="rId1"/>
          <a:stretch/>
        </p:blipFill>
        <p:spPr>
          <a:xfrm>
            <a:off x="1000080" y="1600200"/>
            <a:ext cx="72867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ключи потери энергии в дом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Михаил\Desktop\Новая папка\windowsPar_266_20080526125636[1].jpg"/>
          <p:cNvPicPr/>
          <p:nvPr/>
        </p:nvPicPr>
        <p:blipFill>
          <a:blip r:embed="rId1"/>
          <a:stretch/>
        </p:blipFill>
        <p:spPr>
          <a:xfrm>
            <a:off x="0" y="1214280"/>
            <a:ext cx="88581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alibri"/>
              </a:rPr>
              <a:t>Освещение в дом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4800" y="272880"/>
            <a:ext cx="5111640" cy="62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ставь свой рабочий стол у чисто вымытого окна, а не в тёмном угл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ля подготовки домашнего задания используй светлое время суток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 наливай в электрочайник литр воды, если нужно вскипятить одну чашк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ключай свет и оборудование, когда ими не пользуешь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Михаил\Desktop\Новая папка\compact_fluorescent_bulbs[1].jpg"/>
          <p:cNvPicPr/>
          <p:nvPr/>
        </p:nvPicPr>
        <p:blipFill>
          <a:blip r:embed="rId1"/>
          <a:stretch/>
        </p:blipFill>
        <p:spPr>
          <a:xfrm>
            <a:off x="428760" y="1500120"/>
            <a:ext cx="31431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Начни со своего дома, расскажи об этом своим друзьям. И тогда мир вокруг нас станет чище и лучш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Михаил\Desktop\Новая папка\Lake8[1].jpg"/>
          <p:cNvPicPr/>
          <p:nvPr/>
        </p:nvPicPr>
        <p:blipFill>
          <a:blip r:embed="rId1"/>
          <a:stretch/>
        </p:blipFill>
        <p:spPr>
          <a:xfrm>
            <a:off x="0" y="2000160"/>
            <a:ext cx="9144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У Московская международная гимназия г. Москв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шибякина Оксана Алексее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2:01:41Z</dcterms:created>
  <dc:creator>Михаил</dc:creator>
  <dc:description/>
  <dc:language>en-US</dc:language>
  <cp:lastModifiedBy>Михаил</cp:lastModifiedBy>
  <dcterms:modified xsi:type="dcterms:W3CDTF">2011-10-16T12:20:11Z</dcterms:modified>
  <cp:revision>14</cp:revision>
  <dc:subject/>
  <dc:title>ЧАС ЗЕМЛИ</dc:title>
</cp:coreProperties>
</file>