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734B-32B6-48D9-8FBF-C82F07CDE1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 марта 2010 года в 20 ч 30 мин на один час выключили с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7056-7C2C-43A6-BC8F-2467A4FF5C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Ь, НЕФ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C3E2-56CE-4E45-88CD-ADFCAAB994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7412-29B1-4C9C-B610-8D7DF834C1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ЭЦ В Моск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C71D-2F4E-4684-A853-C6588077E9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527F-0367-4D8A-9404-04D94D08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B440-91CB-419B-B798-C98DD1D3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D17B-F3E3-4619-8751-E35EDF5B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9442-C45F-48FD-A596-98ADF637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F64-07F1-44F6-AE5C-C54411DC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149-7B28-4311-8547-DA4D2BBF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A5FA-0323-4545-BFDB-7531B9B0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6B87-498C-43B0-BFBF-7BA9F55B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8C41-15D0-4FC5-88CF-3F7D7F5B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516D-3E32-4EE3-BA87-15FD86E2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041C-D66F-459D-AC90-D16D3787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89F-E655-460C-AB0F-99AE59FA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54F5-ED37-4DDF-82B6-B51BCC94B1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d050"/>
                </a:solidFill>
                <a:latin typeface="Calibri"/>
              </a:rPr>
              <a:t>ЧАС ЗЕМЛИ - отдохни сам, дай отдохнуть природ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C:\Users\Михаил\Desktop\Новая папка\EH-logo[1].jpg"/>
          <p:cNvPicPr/>
          <p:nvPr/>
        </p:nvPicPr>
        <p:blipFill>
          <a:blip r:embed="rId1"/>
          <a:stretch/>
        </p:blipFill>
        <p:spPr>
          <a:xfrm>
            <a:off x="285840" y="1285920"/>
            <a:ext cx="84294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ЧТО ТАКОЕ ЭКОНОМИЯ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Calibri"/>
              </a:rPr>
              <a:t>Зачем  нужно экономить электроэнергию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alibri"/>
              </a:rPr>
              <a:t>Полезные ископаемы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C:\Users\Михаил\Desktop\Новая папка\1263034706[1].jpg"/>
          <p:cNvPicPr/>
          <p:nvPr/>
        </p:nvPicPr>
        <p:blipFill>
          <a:blip r:embed="rId1"/>
          <a:stretch/>
        </p:blipFill>
        <p:spPr>
          <a:xfrm>
            <a:off x="4648320" y="1857240"/>
            <a:ext cx="4038480" cy="4000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Михаил\Desktop\Новая папка\45534_view[1].jpg"/>
          <p:cNvPicPr/>
          <p:nvPr/>
        </p:nvPicPr>
        <p:blipFill>
          <a:blip r:embed="rId2"/>
          <a:stretch/>
        </p:blipFill>
        <p:spPr>
          <a:xfrm>
            <a:off x="45720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Михаил\Desktop\Новая папка\1255071252_gas-6[1].jpg"/>
          <p:cNvPicPr/>
          <p:nvPr/>
        </p:nvPicPr>
        <p:blipFill>
          <a:blip r:embed="rId1"/>
          <a:stretch/>
        </p:blipFill>
        <p:spPr>
          <a:xfrm>
            <a:off x="785880" y="571680"/>
            <a:ext cx="750096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Calibri"/>
              </a:rPr>
              <a:t>Откуда в твоём доме электричеств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Михаил\Desktop\Новая папка\big[1].jpg"/>
          <p:cNvPicPr/>
          <p:nvPr/>
        </p:nvPicPr>
        <p:blipFill>
          <a:blip r:embed="rId1"/>
          <a:stretch/>
        </p:blipFill>
        <p:spPr>
          <a:xfrm>
            <a:off x="1000080" y="1600200"/>
            <a:ext cx="72867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ключи потери энергии в дом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Михаил\Desktop\Новая папка\windowsPar_266_20080526125636[1].jpg"/>
          <p:cNvPicPr/>
          <p:nvPr/>
        </p:nvPicPr>
        <p:blipFill>
          <a:blip r:embed="rId1"/>
          <a:stretch/>
        </p:blipFill>
        <p:spPr>
          <a:xfrm>
            <a:off x="0" y="1214280"/>
            <a:ext cx="88581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Calibri"/>
              </a:rPr>
              <a:t>Освещение в дом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4800" y="272880"/>
            <a:ext cx="5111640" cy="62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ставь свой рабочий стол у чисто вымытого окна, а не в тёмном угл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ля подготовки домашнего задания используй светлое время суток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 наливай в электрочайник литр воды, если нужно вскипятить одну чашку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ключай свет и оборудование, когда ими не пользуешь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Михаил\Desktop\Новая папка\compact_fluorescent_bulbs[1].jpg"/>
          <p:cNvPicPr/>
          <p:nvPr/>
        </p:nvPicPr>
        <p:blipFill>
          <a:blip r:embed="rId1"/>
          <a:stretch/>
        </p:blipFill>
        <p:spPr>
          <a:xfrm>
            <a:off x="428760" y="1500120"/>
            <a:ext cx="31431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Начни со своего дома, расскажи об этом своим друзьям. И тогда мир вокруг нас станет чище и лучш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Михаил\Desktop\Новая папка\Lake8[1].jpg"/>
          <p:cNvPicPr/>
          <p:nvPr/>
        </p:nvPicPr>
        <p:blipFill>
          <a:blip r:embed="rId1"/>
          <a:stretch/>
        </p:blipFill>
        <p:spPr>
          <a:xfrm>
            <a:off x="0" y="2000160"/>
            <a:ext cx="91440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У Московская международная гимназия г. Москв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дшибякина Оксана Алексее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2:01:41Z</dcterms:created>
  <dc:creator>Михаил</dc:creator>
  <dc:description/>
  <dc:language>en-US</dc:language>
  <cp:lastModifiedBy>Михаил</cp:lastModifiedBy>
  <dcterms:modified xsi:type="dcterms:W3CDTF">2011-10-16T12:20:11Z</dcterms:modified>
  <cp:revision>14</cp:revision>
  <dc:subject/>
  <dc:title>ЧАС ЗЕМЛИ</dc:title>
</cp:coreProperties>
</file>