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9E6-A542-403D-9719-4D8965D7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67A-6E89-4A25-8787-EEFFD455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05A4-CF6D-4CB9-9D24-EE8C246E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4FE-1ED5-437C-8288-24847DA1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FF2-2061-4108-8135-907001CD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283-2D50-40CF-9567-C23EF6DE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091-4964-4141-AB5E-01567C8F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C06-C78A-4421-9B71-F7C118E9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B09-AD70-478F-9A0F-B82E704A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2C02-9D93-4235-8B12-AE420786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D0C-3126-498E-9A3F-D9C7AD7A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206-D066-459F-88BF-FEF3BEB0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6FC6-F941-4D8B-839A-962AA360E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ымковская бары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65320" y="12600"/>
            <a:ext cx="32133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16080" y="19080"/>
            <a:ext cx="31118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29040" y="25560"/>
            <a:ext cx="308592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22560" y="25560"/>
            <a:ext cx="309888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22560" y="12600"/>
            <a:ext cx="309888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35160" y="6480"/>
            <a:ext cx="307368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65320" y="12600"/>
            <a:ext cx="321336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10T03:30:03Z</dcterms:modified>
  <cp:revision>12</cp:revision>
  <dc:subject/>
  <dc:title>Слайд 1</dc:title>
</cp:coreProperties>
</file>