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92CD-4A93-4DFD-8A70-A6BA3D9B3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BF31-88EA-46E1-B483-18226581D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285D-1038-409D-9119-E5C36F2FA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8C91-7BB1-4AF0-9FA7-5DD736F94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369C-55C0-4539-B834-26288D043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50D7-DD67-4BBB-A03F-24CED872C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E00E-5C8C-4866-A378-936D367DF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16ED-7DA5-4CCA-8F66-BFBF68879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5A0B-C5BC-48B5-A653-B2ED5712A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3709-E97A-4C7C-92F9-E83C0F5C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6149-B78D-4D73-B225-F3B7C3C1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1F26-C1D0-4B99-B33A-330C5DA8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085E9-2D12-405F-B2AE-8F1A5819A5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Дымковская бары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965320" y="12600"/>
            <a:ext cx="321336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16080" y="19080"/>
            <a:ext cx="311184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29040" y="25560"/>
            <a:ext cx="3085920" cy="68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22560" y="25560"/>
            <a:ext cx="3098880" cy="68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22560" y="12600"/>
            <a:ext cx="309888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35160" y="6480"/>
            <a:ext cx="3073680" cy="68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965320" y="12600"/>
            <a:ext cx="321336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07:36:00Z</dcterms:created>
  <dc:creator>sk</dc:creator>
  <dc:description/>
  <dc:language>en-US</dc:language>
  <cp:lastModifiedBy>sk</cp:lastModifiedBy>
  <dcterms:modified xsi:type="dcterms:W3CDTF">2010-03-10T03:30:03Z</dcterms:modified>
  <cp:revision>12</cp:revision>
  <dc:subject/>
  <dc:title>Слайд 1</dc:title>
</cp:coreProperties>
</file>