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DD24-520A-4A9D-BBD6-56D9531F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8AB-62DA-40BD-BC4D-1860F65D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F0B-4439-4E39-99C7-47645333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6AF-F937-4197-AC66-40497848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CD3-02C2-44D4-854D-94A57152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DB2-89E1-4A01-9910-353AC225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6B74-7DBF-4618-B197-B66DA54C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4A7F-61AF-463B-99CE-8E9D6F07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67F1-201C-4146-90B1-2FA010C6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2E5F-E9B8-41F6-9996-10E57EBB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31E-4E77-4E71-8881-EB2D0DE6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A285-B5EC-4F5F-833A-174CF989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0E85-0684-41BD-8718-F84A69762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Дымковская бары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73320" y="12600"/>
            <a:ext cx="29973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54240" y="12600"/>
            <a:ext cx="303552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4240" y="12600"/>
            <a:ext cx="303552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60720" y="12600"/>
            <a:ext cx="30225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67200" y="12600"/>
            <a:ext cx="30096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67200" y="19080"/>
            <a:ext cx="30096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73320" y="12600"/>
            <a:ext cx="29973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sk</cp:lastModifiedBy>
  <dcterms:modified xsi:type="dcterms:W3CDTF">2010-03-10T03:29:31Z</dcterms:modified>
  <cp:revision>12</cp:revision>
  <dc:subject/>
  <dc:title>Слайд 1</dc:title>
</cp:coreProperties>
</file>