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CED-F472-4738-BEA6-D453233B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577-2EA8-4BEB-BDC7-7654EA2E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535-E17C-4F83-919D-F05FEFF3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850-3514-41FC-AC7A-8ABCCA89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0A9-A39C-448B-997D-43560CFE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5E4-5CC1-4A13-8579-4F51147B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0F0-C94C-41A6-9609-97408C1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EF1-A5FF-473C-9F50-0382C292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731-7A69-4C6A-BC80-B624F0A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EF4-D26D-4087-8E8C-9D30759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8A9-893B-41FF-991A-2E038A2D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278-3325-41C0-9DBE-61E49FAB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4192-BBAC-4CD4-A3A8-9D82E45D9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73320" y="12600"/>
            <a:ext cx="2997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4240" y="12600"/>
            <a:ext cx="30355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4240" y="12600"/>
            <a:ext cx="30355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60720" y="12600"/>
            <a:ext cx="30225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67200" y="12600"/>
            <a:ext cx="30096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67200" y="19080"/>
            <a:ext cx="30096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73320" y="12600"/>
            <a:ext cx="2997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29:31Z</dcterms:modified>
  <cp:revision>12</cp:revision>
  <dc:subject/>
  <dc:title>Слайд 1</dc:title>
</cp:coreProperties>
</file>