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977-DC3D-4564-AAAE-BF800732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D5A-41FA-4339-8CBB-1BF2716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41C-C5EF-4EE2-A089-0C357743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3EB0-3C6D-43F6-8C42-F33F13A3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9FC-5FFC-40EA-851E-E6500595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2E9-C95D-4EC0-BBAD-5E2106AA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CE3-1CBD-4956-8172-F4FB3798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FC4-54D2-447F-B34D-F260CC4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8B7-B174-4F19-B2E7-0EA8D69C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20F-C5E3-47C2-92B7-C2A5CF4E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15B-E2E2-4E30-B7D1-70E7EE1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B8E-6976-4C43-AAF8-BEBC113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5BB7-8C8E-4261-921F-262C020C9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73320" y="19080"/>
            <a:ext cx="299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73320" y="19080"/>
            <a:ext cx="299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6480"/>
            <a:ext cx="30477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60720" y="6480"/>
            <a:ext cx="302256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7200" y="6480"/>
            <a:ext cx="30096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73320" y="25560"/>
            <a:ext cx="299736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7200" y="19080"/>
            <a:ext cx="3009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86280" y="12600"/>
            <a:ext cx="29718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60720" y="19080"/>
            <a:ext cx="30225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28:16Z</dcterms:modified>
  <cp:revision>12</cp:revision>
  <dc:subject/>
  <dc:title>Слайд 1</dc:title>
</cp:coreProperties>
</file>