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B64-3893-4653-B27D-5557F288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CF5-0D36-4250-9E30-A32AF78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D23-1FB0-4B2A-8DC9-3B21507C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F54-17A7-4553-AE29-CD987659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46F-0061-49E2-BB44-F2817246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A55-B0E4-4C3F-B5B6-987B9A7D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233-ACB1-4CEC-B963-D8846D2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E13-395D-4B94-BA55-BE3A8C09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CA4-38F0-430D-A90B-C6FF79D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C35-9CEC-4BB8-96E8-60375C9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6E3-E736-46DB-90AA-F17F43E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2C9-3649-4A4B-8C61-E1349001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34DD-0807-4AD7-9490-C7A48A53E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73320" y="19080"/>
            <a:ext cx="299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73320" y="19080"/>
            <a:ext cx="299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6480"/>
            <a:ext cx="30477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60720" y="6480"/>
            <a:ext cx="30225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7200" y="6480"/>
            <a:ext cx="30096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73320" y="25560"/>
            <a:ext cx="299736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67200" y="19080"/>
            <a:ext cx="3009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86280" y="12600"/>
            <a:ext cx="29718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60720" y="19080"/>
            <a:ext cx="30225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28:16Z</dcterms:modified>
  <cp:revision>12</cp:revision>
  <dc:subject/>
  <dc:title>Слайд 1</dc:title>
</cp:coreProperties>
</file>