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C3D-103A-47B2-B1AE-69F74963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CCC-F48D-4144-9BD6-DD46450E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782-4BE6-4D92-B4AC-D47BF3FC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0E6-4667-4CC3-B00F-C4A3643E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C69A-B2C8-41EF-9EEF-EC3C3F2A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26B-CF7B-4D1C-85EE-743833EB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6FC-831F-4EB0-901E-DF0BA2B4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EA1-5DD1-40C3-9519-DDDAA339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014F-C652-496F-B92D-87C45ECB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1CC5-AF19-4E41-B199-82C1B118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FF57-746D-4C7C-8FDF-C64E7729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562-9322-489C-BE82-197BA598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0D2B-748F-4183-B337-E7A1B49D6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ымковский петуш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95560" y="19080"/>
            <a:ext cx="49528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38320" y="19080"/>
            <a:ext cx="5067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38320" y="19080"/>
            <a:ext cx="5067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7560" y="25560"/>
            <a:ext cx="516888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01680" y="6480"/>
            <a:ext cx="494064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08160" y="6480"/>
            <a:ext cx="492768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95560" y="19080"/>
            <a:ext cx="49528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10T03:34:51Z</dcterms:modified>
  <cp:revision>14</cp:revision>
  <dc:subject/>
  <dc:title>Слайд 1</dc:title>
</cp:coreProperties>
</file>