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715-67EC-4836-A634-F520DA49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5F4-CDA8-486E-BB3E-65355EE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A8D-3C81-4E20-9CDC-9A86ACD3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0DC-C263-429A-9605-5D3AF53E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362-ADDB-4829-99DE-3E58CDAA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47A-E400-4AD5-8222-0C708D25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139-9746-48AA-8F96-5527293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FED-5092-45A4-8599-B4AAA68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2E0-BDF3-460F-8300-10EDC76B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5F3-45B0-4A29-9B62-38B9618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890-8505-4CDE-9730-5F212E0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35C9-31E8-4747-AFC8-6A471369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44BC-06F0-4E2A-80FE-3ADE15B6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ымковский петуш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38320" y="19080"/>
            <a:ext cx="506736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87560" y="25560"/>
            <a:ext cx="5168880" cy="68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01680" y="6480"/>
            <a:ext cx="49406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08160" y="6480"/>
            <a:ext cx="492768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95560" y="19080"/>
            <a:ext cx="49528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sk</cp:lastModifiedBy>
  <dcterms:modified xsi:type="dcterms:W3CDTF">2010-03-10T03:34:51Z</dcterms:modified>
  <cp:revision>14</cp:revision>
  <dc:subject/>
  <dc:title>Слайд 1</dc:title>
</cp:coreProperties>
</file>