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DDF-5D0E-42C9-8DCA-0832F24F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4E0-3BCE-4FE4-9A61-5972CE81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F94-8043-4BB3-96C1-DA8B565A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A14-370B-4A6D-ABF9-F18CAE4C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770-F6D9-43B8-ABC9-33EB6889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800-D1D2-4D9A-B40E-B8296B31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3AD-D5B2-4AB4-B6AF-2EC9E52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9C6-329D-4335-9FC1-171D8D3C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211-3299-41F9-BE1C-9FBA8D3D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061-E659-405F-A513-B60118CB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229-7E46-4D55-8ACA-9FD85F8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CAE-08FB-452D-9325-548C9F8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9F63-7109-497D-B031-303D8107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ий пету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14640" y="19080"/>
            <a:ext cx="4914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19080"/>
            <a:ext cx="5130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25720" y="12600"/>
            <a:ext cx="50925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4040" y="852480"/>
            <a:ext cx="38959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5:23Z</dcterms:modified>
  <cp:revision>14</cp:revision>
  <dc:subject/>
  <dc:title>Слайд 1</dc:title>
</cp:coreProperties>
</file>