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CFD-E700-4473-B027-E2A1EC17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DC5-BE2F-484F-BC46-461FF5F4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6F8-AEAC-4501-A2F9-C82BB5D4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C305-B4E4-4747-B8CC-ED54FDCB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B30-2A6A-42E0-935A-5DF0EA5D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8AF-779C-4AF5-995F-594BB6F5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0A92-03FA-4D2C-93DB-4784F5E4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6B7-56DF-4DC2-B3F5-58BE45FA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0ADB-8FA2-4BDE-9468-3A6F05C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98B-B97D-4797-BC7C-99F0166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94D-2B02-45D9-9579-60CEFE48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490-E6C8-4E97-BC8E-4CA2BDB7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38B-406D-4944-AACC-6A7546D07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ий пету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14640" y="19080"/>
            <a:ext cx="4914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19080"/>
            <a:ext cx="5130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25720" y="12600"/>
            <a:ext cx="50925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24040" y="852480"/>
            <a:ext cx="38959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6480"/>
            <a:ext cx="50421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5:23Z</dcterms:modified>
  <cp:revision>14</cp:revision>
  <dc:subject/>
  <dc:title>Слайд 1</dc:title>
</cp:coreProperties>
</file>