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77DE-5A8D-45E0-9CCF-58BF0A267B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A1B7-A50A-4F4E-8143-383E894BBA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C559-B5F4-4013-BF42-EDDA0778C7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B247-6FA1-4530-AD51-00FAD54FBF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CF30-C38C-40FD-B743-A9A114740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67FF-CA3C-44AB-8E8C-219E962227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15E2-502B-4E54-8F00-543FF0A52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6B70-0285-4A50-8B67-619DA9104A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7769-4FE1-416F-9EF4-62BD677994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DF9-E852-4E11-93B8-7FF4EE9E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ACB3-4FA7-4A83-82F3-D311379D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EF4-74D9-4985-AC14-56352B22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221-9FD2-46B6-B8B2-EB703FA9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68A2-8FD1-43C2-B1D2-D1D297FD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27AE-F866-41C7-A3B5-E403A263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D96-5362-4D7B-A222-6BFCC2C1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80D-C972-4859-BBB1-B3681542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94E4-5056-405C-8890-AC554C9F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491C-2FA6-4CCA-A604-9CBCE98A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50E-78CA-4975-AFCF-CF253C05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0EE-0919-493A-A5CD-C76F0005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EDC0-C5F3-4C6B-8617-89EB6082A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kp.ru/f/12/image/02/96/2399602.jp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26960" y="1041480"/>
            <a:ext cx="79581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АЖЁ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ЗАДАЧИ НА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5480" y="4714920"/>
            <a:ext cx="816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ьмина Ольг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лицей №1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3087720"/>
            <a:ext cx="1803240" cy="1352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521160" y="3017880"/>
            <a:ext cx="1508040" cy="1508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647040" y="3102120"/>
            <a:ext cx="18986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1760" y="995400"/>
            <a:ext cx="887112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ованные материал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kp.ru/f/12/image/02/96/239960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http://school.xvatit.com/images/b/bc/Bio8_5_2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http://schtiel.files.wordpress.com/2011/08/aminals_02.jpg?w=300&amp;h=1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8"/>
          <p:cNvSpPr/>
          <p:nvPr/>
        </p:nvSpPr>
        <p:spPr>
          <a:xfrm>
            <a:off x="-9360" y="770040"/>
            <a:ext cx="915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ша прошла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м . Какова её скорость, если она затратила на путь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а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3"/>
          <p:cNvGrpSpPr/>
          <p:nvPr/>
        </p:nvGrpSpPr>
        <p:grpSpPr>
          <a:xfrm>
            <a:off x="463680" y="3216240"/>
            <a:ext cx="3095640" cy="1376280"/>
            <a:chOff x="463680" y="3216240"/>
            <a:chExt cx="3095640" cy="1376280"/>
          </a:xfrm>
        </p:grpSpPr>
        <p:sp>
          <p:nvSpPr>
            <p:cNvPr id="55" name="Oval 4"/>
            <p:cNvSpPr/>
            <p:nvPr/>
          </p:nvSpPr>
          <p:spPr>
            <a:xfrm>
              <a:off x="463680" y="3216240"/>
              <a:ext cx="3095640" cy="1376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9"/>
            <p:cNvSpPr/>
            <p:nvPr/>
          </p:nvSpPr>
          <p:spPr>
            <a:xfrm>
              <a:off x="990720" y="3513240"/>
              <a:ext cx="192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4 км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4"/>
          <p:cNvGrpSpPr/>
          <p:nvPr/>
        </p:nvGrpSpPr>
        <p:grpSpPr>
          <a:xfrm>
            <a:off x="5692680" y="3413160"/>
            <a:ext cx="3095640" cy="1376280"/>
            <a:chOff x="5692680" y="3413160"/>
            <a:chExt cx="3095640" cy="1376280"/>
          </a:xfrm>
        </p:grpSpPr>
        <p:sp>
          <p:nvSpPr>
            <p:cNvPr id="58" name="Oval 5"/>
            <p:cNvSpPr/>
            <p:nvPr/>
          </p:nvSpPr>
          <p:spPr>
            <a:xfrm>
              <a:off x="5692680" y="3413160"/>
              <a:ext cx="3095640" cy="1376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0"/>
            <p:cNvSpPr/>
            <p:nvPr/>
          </p:nvSpPr>
          <p:spPr>
            <a:xfrm>
              <a:off x="6245640" y="3745080"/>
              <a:ext cx="152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36 км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5"/>
          <p:cNvGrpSpPr/>
          <p:nvPr/>
        </p:nvGrpSpPr>
        <p:grpSpPr>
          <a:xfrm>
            <a:off x="422280" y="4983120"/>
            <a:ext cx="3095640" cy="1376280"/>
            <a:chOff x="422280" y="4983120"/>
            <a:chExt cx="3095640" cy="1376280"/>
          </a:xfrm>
        </p:grpSpPr>
        <p:sp>
          <p:nvSpPr>
            <p:cNvPr id="61" name="Oval 6"/>
            <p:cNvSpPr/>
            <p:nvPr/>
          </p:nvSpPr>
          <p:spPr>
            <a:xfrm>
              <a:off x="422280" y="4983120"/>
              <a:ext cx="3095640" cy="1376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1246320" y="5342040"/>
              <a:ext cx="16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4 м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6"/>
          <p:cNvGrpSpPr/>
          <p:nvPr/>
        </p:nvGrpSpPr>
        <p:grpSpPr>
          <a:xfrm>
            <a:off x="5638680" y="5153040"/>
            <a:ext cx="3095640" cy="1376280"/>
            <a:chOff x="5638680" y="5153040"/>
            <a:chExt cx="3095640" cy="1376280"/>
          </a:xfrm>
        </p:grpSpPr>
        <p:sp>
          <p:nvSpPr>
            <p:cNvPr id="64" name="Oval 7"/>
            <p:cNvSpPr/>
            <p:nvPr/>
          </p:nvSpPr>
          <p:spPr>
            <a:xfrm>
              <a:off x="5638680" y="5153040"/>
              <a:ext cx="3095640" cy="1376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6310800" y="5364000"/>
              <a:ext cx="152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15 км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922320" y="109440"/>
            <a:ext cx="66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ыбери правильн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" dur="1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2"/>
          <p:cNvSpPr/>
          <p:nvPr/>
        </p:nvSpPr>
        <p:spPr>
          <a:xfrm>
            <a:off x="5838840" y="502452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*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"/>
          <p:cNvSpPr/>
          <p:nvPr/>
        </p:nvSpPr>
        <p:spPr>
          <a:xfrm>
            <a:off x="5815080" y="339084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"/>
          <p:cNvSpPr/>
          <p:nvPr/>
        </p:nvSpPr>
        <p:spPr>
          <a:xfrm>
            <a:off x="422280" y="506088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"/>
          <p:cNvSpPr/>
          <p:nvPr/>
        </p:nvSpPr>
        <p:spPr>
          <a:xfrm>
            <a:off x="438120" y="332424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92040" y="1122480"/>
            <a:ext cx="855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на  шла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асов со скоростью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. Какое расстояние она прошла за это врем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00200" y="365616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+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58640" y="5452920"/>
            <a:ext cx="198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*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460480" y="3722760"/>
            <a:ext cx="22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6440" y="154080"/>
            <a:ext cx="591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ыбери правильн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2"/>
          <p:cNvSpPr/>
          <p:nvPr/>
        </p:nvSpPr>
        <p:spPr>
          <a:xfrm>
            <a:off x="392040" y="502128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"/>
          <p:cNvSpPr/>
          <p:nvPr/>
        </p:nvSpPr>
        <p:spPr>
          <a:xfrm>
            <a:off x="4994280" y="3244680"/>
            <a:ext cx="3095640" cy="1376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"/>
          <p:cNvSpPr/>
          <p:nvPr/>
        </p:nvSpPr>
        <p:spPr>
          <a:xfrm>
            <a:off x="5091120" y="517536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488880" y="330048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198360" y="289080"/>
            <a:ext cx="82962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ыбери правильн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адник едет на лошади со скоростью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 . Какое расстояние он проедет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а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2"/>
          <p:cNvSpPr/>
          <p:nvPr/>
        </p:nvSpPr>
        <p:spPr>
          <a:xfrm>
            <a:off x="5241960" y="504504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8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"/>
          <p:cNvSpPr/>
          <p:nvPr/>
        </p:nvSpPr>
        <p:spPr>
          <a:xfrm>
            <a:off x="503280" y="507060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8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"/>
          <p:cNvSpPr/>
          <p:nvPr/>
        </p:nvSpPr>
        <p:spPr>
          <a:xfrm>
            <a:off x="5405400" y="326880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8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5"/>
          <p:cNvSpPr/>
          <p:nvPr/>
        </p:nvSpPr>
        <p:spPr>
          <a:xfrm>
            <a:off x="563400" y="3255840"/>
            <a:ext cx="3095640" cy="1376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8х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0" y="208080"/>
            <a:ext cx="8344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ыбери правильн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водная лодка проплыл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м з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ва её скор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9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2"/>
          <p:cNvSpPr/>
          <p:nvPr/>
        </p:nvSpPr>
        <p:spPr>
          <a:xfrm>
            <a:off x="5653080" y="351324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: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"/>
          <p:cNvSpPr/>
          <p:nvPr/>
        </p:nvSpPr>
        <p:spPr>
          <a:xfrm>
            <a:off x="298440" y="336708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d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"/>
          <p:cNvSpPr/>
          <p:nvPr/>
        </p:nvSpPr>
        <p:spPr>
          <a:xfrm>
            <a:off x="422280" y="498312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d+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5638680" y="515304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d)x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157320" y="297000"/>
            <a:ext cx="8788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ыбери правильн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ня шла сначала по шосс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м ,а потом по просёлку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м . С какой скоростью шла Таня, если весь путь занял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а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2"/>
          <p:cNvSpPr/>
          <p:nvPr/>
        </p:nvSpPr>
        <p:spPr>
          <a:xfrm>
            <a:off x="463680" y="321624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: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3"/>
          <p:cNvSpPr/>
          <p:nvPr/>
        </p:nvSpPr>
        <p:spPr>
          <a:xfrm>
            <a:off x="5692680" y="341316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+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"/>
          <p:cNvSpPr/>
          <p:nvPr/>
        </p:nvSpPr>
        <p:spPr>
          <a:xfrm>
            <a:off x="422280" y="498312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: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5638680" y="515304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х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237960" y="320760"/>
            <a:ext cx="860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ыбери правильн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ля прошла з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асов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м. С какой скоростью шла Ва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val 2"/>
          <p:cNvSpPr/>
          <p:nvPr/>
        </p:nvSpPr>
        <p:spPr>
          <a:xfrm>
            <a:off x="5470560" y="5022720"/>
            <a:ext cx="3095640" cy="1376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:2х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"/>
          <p:cNvSpPr/>
          <p:nvPr/>
        </p:nvSpPr>
        <p:spPr>
          <a:xfrm>
            <a:off x="5235480" y="343548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х(2+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"/>
          <p:cNvSpPr/>
          <p:nvPr/>
        </p:nvSpPr>
        <p:spPr>
          <a:xfrm>
            <a:off x="422280" y="498312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:5х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"/>
          <p:cNvSpPr/>
          <p:nvPr/>
        </p:nvSpPr>
        <p:spPr>
          <a:xfrm>
            <a:off x="358920" y="3438360"/>
            <a:ext cx="3095640" cy="1376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-2)х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263520" y="274680"/>
            <a:ext cx="888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ыбери правильн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коза пролетает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м з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.Какое расстояние она пролетит з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, если будет лететь с той же скорост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2"/>
          <p:cNvSpPr/>
          <p:nvPr/>
        </p:nvSpPr>
        <p:spPr>
          <a:xfrm>
            <a:off x="463680" y="5092560"/>
            <a:ext cx="3095640" cy="1376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:3-с: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5692680" y="341316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:3 : с: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493560" y="351468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:4-с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5638680" y="5153040"/>
            <a:ext cx="3095640" cy="137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:4 : с 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35000" y="182520"/>
            <a:ext cx="9009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ыбери правильное 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яц пробежал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м з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 ,а волк пробежал то же расстояние з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ч.У кого  из них скорость больше и на сколько?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1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7:51:53Z</dcterms:created>
  <dc:creator>Пользователь</dc:creator>
  <dc:description/>
  <dc:language>en-US</dc:language>
  <cp:lastModifiedBy>Пользователь</cp:lastModifiedBy>
  <dcterms:modified xsi:type="dcterms:W3CDTF">2012-06-06T18:45:13Z</dcterms:modified>
  <cp:revision>9</cp:revision>
  <dc:subject/>
  <dc:title>Слайд 1</dc:title>
</cp:coreProperties>
</file>