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E6F7-FE34-4246-B545-D1FBB62C9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1F19-E62C-4CA7-8795-424B10DAD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B3EE-D22E-4C98-979E-EDBCBFB9A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FE7-4C1A-40C4-9FC5-BD4EAD250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868B-9CA7-4E3D-9171-E3707CF1C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5A33-8409-4AE4-8EBA-2EC8A97DE1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754B-9D90-4E59-AD92-83863B222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DA45-216D-4CA8-A36C-BB8B57132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9E83-799A-4FB9-9038-4F78F522B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139-2CB6-4028-B9A0-7C948208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7B5-3351-4C2E-979B-8DCFC2DB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3A1-E3EA-4DFC-AC68-319DC542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9C1-F414-468F-9EF0-381E3FC8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C6F-8459-469A-8F78-6B9D8CF3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023-5D81-427F-B9F1-13A8119B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8AD-E16B-4DD3-9ADA-D9F68C80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C8C-C26D-486D-9883-02CFDCB8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9A4-DD51-46FD-90F9-07266907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F5C-D15D-4EF4-8E2D-8412EF1F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B4B-0146-49F3-97A6-A62EF385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874-AFF3-44F4-927D-05C96BB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59DC-A8C3-487B-B7E1-13262112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p.ru/f/12/image/02/96/2399602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6960" y="1041480"/>
            <a:ext cx="7958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АЖ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ЗАДАЧИ НА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5480" y="4714920"/>
            <a:ext cx="816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ьмина Ольг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087720"/>
            <a:ext cx="180324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21160" y="3017880"/>
            <a:ext cx="1508040" cy="1508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47040" y="3102120"/>
            <a:ext cx="18986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1760" y="995400"/>
            <a:ext cx="88711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p.ru/f/12/image/02/96/239960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http://school.xvatit.com/images/b/bc/Bio8_5_2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http://schtiel.files.wordpress.com/2011/08/aminals_02.jpg?w=300&amp;h=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-9360" y="770040"/>
            <a:ext cx="915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ша прошла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 . Какова её скорость, если она затратила на путь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а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463680" y="3216240"/>
            <a:ext cx="3095640" cy="1376280"/>
            <a:chOff x="463680" y="3216240"/>
            <a:chExt cx="3095640" cy="1376280"/>
          </a:xfrm>
        </p:grpSpPr>
        <p:sp>
          <p:nvSpPr>
            <p:cNvPr id="55" name="Oval 4"/>
            <p:cNvSpPr/>
            <p:nvPr/>
          </p:nvSpPr>
          <p:spPr>
            <a:xfrm>
              <a:off x="463680" y="3216240"/>
              <a:ext cx="3095640" cy="137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990720" y="3513240"/>
              <a:ext cx="192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4 км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4"/>
          <p:cNvGrpSpPr/>
          <p:nvPr/>
        </p:nvGrpSpPr>
        <p:grpSpPr>
          <a:xfrm>
            <a:off x="5692680" y="3413160"/>
            <a:ext cx="3095640" cy="1376280"/>
            <a:chOff x="5692680" y="3413160"/>
            <a:chExt cx="3095640" cy="1376280"/>
          </a:xfrm>
        </p:grpSpPr>
        <p:sp>
          <p:nvSpPr>
            <p:cNvPr id="58" name="Oval 5"/>
            <p:cNvSpPr/>
            <p:nvPr/>
          </p:nvSpPr>
          <p:spPr>
            <a:xfrm>
              <a:off x="5692680" y="3413160"/>
              <a:ext cx="3095640" cy="137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0"/>
            <p:cNvSpPr/>
            <p:nvPr/>
          </p:nvSpPr>
          <p:spPr>
            <a:xfrm>
              <a:off x="6245640" y="3745080"/>
              <a:ext cx="152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36 км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5"/>
          <p:cNvGrpSpPr/>
          <p:nvPr/>
        </p:nvGrpSpPr>
        <p:grpSpPr>
          <a:xfrm>
            <a:off x="422280" y="4983120"/>
            <a:ext cx="3095640" cy="1376280"/>
            <a:chOff x="422280" y="4983120"/>
            <a:chExt cx="3095640" cy="1376280"/>
          </a:xfrm>
        </p:grpSpPr>
        <p:sp>
          <p:nvSpPr>
            <p:cNvPr id="61" name="Oval 6"/>
            <p:cNvSpPr/>
            <p:nvPr/>
          </p:nvSpPr>
          <p:spPr>
            <a:xfrm>
              <a:off x="422280" y="4983120"/>
              <a:ext cx="3095640" cy="137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1246320" y="5342040"/>
              <a:ext cx="16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4 м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5638680" y="5153040"/>
            <a:ext cx="3095640" cy="1376280"/>
            <a:chOff x="5638680" y="5153040"/>
            <a:chExt cx="3095640" cy="1376280"/>
          </a:xfrm>
        </p:grpSpPr>
        <p:sp>
          <p:nvSpPr>
            <p:cNvPr id="64" name="Oval 7"/>
            <p:cNvSpPr/>
            <p:nvPr/>
          </p:nvSpPr>
          <p:spPr>
            <a:xfrm>
              <a:off x="5638680" y="5153040"/>
              <a:ext cx="3095640" cy="137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6310800" y="5364000"/>
              <a:ext cx="152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5 км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922320" y="109440"/>
            <a:ext cx="66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"/>
          <p:cNvSpPr/>
          <p:nvPr/>
        </p:nvSpPr>
        <p:spPr>
          <a:xfrm>
            <a:off x="5838840" y="502452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*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>
            <a:off x="5815080" y="33908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"/>
          <p:cNvSpPr/>
          <p:nvPr/>
        </p:nvSpPr>
        <p:spPr>
          <a:xfrm>
            <a:off x="422280" y="50608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438120" y="33242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92040" y="1122480"/>
            <a:ext cx="855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а  шла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асов со скоростью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. Какое расстояние она прошла за это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00200" y="36561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+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58640" y="545292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*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460480" y="372276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440" y="154080"/>
            <a:ext cx="59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392040" y="50212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4994280" y="324468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5091120" y="517536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488880" y="33004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198360" y="289080"/>
            <a:ext cx="82962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адник едет на лошади со скоростью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 . Какое расстояние он проедет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а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2"/>
          <p:cNvSpPr/>
          <p:nvPr/>
        </p:nvSpPr>
        <p:spPr>
          <a:xfrm>
            <a:off x="5241960" y="50450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503280" y="507060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5405400" y="326880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"/>
          <p:cNvSpPr/>
          <p:nvPr/>
        </p:nvSpPr>
        <p:spPr>
          <a:xfrm>
            <a:off x="563400" y="325584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х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0" y="208080"/>
            <a:ext cx="834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водная лодка проплыл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её скор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2"/>
          <p:cNvSpPr/>
          <p:nvPr/>
        </p:nvSpPr>
        <p:spPr>
          <a:xfrm>
            <a:off x="5653080" y="35132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298440" y="33670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d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422280" y="498312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d+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638680" y="51530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d)x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57320" y="297000"/>
            <a:ext cx="878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я шла сначала по шосс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,а потом по просёлку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. С какой скоростью шла Таня, если весь путь занял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463680" y="32162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: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"/>
          <p:cNvSpPr/>
          <p:nvPr/>
        </p:nvSpPr>
        <p:spPr>
          <a:xfrm>
            <a:off x="5692680" y="341316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+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422280" y="498312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: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638680" y="51530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х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37960" y="320760"/>
            <a:ext cx="860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я прошла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асо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. С какой скоростью шла Ва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"/>
          <p:cNvSpPr/>
          <p:nvPr/>
        </p:nvSpPr>
        <p:spPr>
          <a:xfrm>
            <a:off x="5470560" y="502272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:2х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5235480" y="34354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х(2+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422280" y="498312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:5х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358920" y="343836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-2)х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263520" y="274680"/>
            <a:ext cx="888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коза пролетает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.Какое расстояние она пролетит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, если будет лететь с той же скор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2"/>
          <p:cNvSpPr/>
          <p:nvPr/>
        </p:nvSpPr>
        <p:spPr>
          <a:xfrm>
            <a:off x="463680" y="509256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:3-с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5692680" y="341316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:3 : с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493560" y="35146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:4-с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5638680" y="51530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:4 : с 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35000" y="182520"/>
            <a:ext cx="900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ц пробежал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 ,а волк пробежал то же расстояние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.У кого  из них скорость больше и на сколько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1:53Z</dcterms:created>
  <dc:creator>Пользователь</dc:creator>
  <dc:description/>
  <dc:language>en-US</dc:language>
  <cp:lastModifiedBy>Пользователь</cp:lastModifiedBy>
  <dcterms:modified xsi:type="dcterms:W3CDTF">2012-06-06T18:45:13Z</dcterms:modified>
  <cp:revision>9</cp:revision>
  <dc:subject/>
  <dc:title>Слайд 1</dc:title>
</cp:coreProperties>
</file>