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645-AE31-4D5D-9BFE-42BBD2AC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31E-6FCA-4A62-9231-806869A8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70B-3039-4536-9CE4-25A9BAB4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9EC-DD92-41D2-9907-51C11EDE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029-81CE-4DFF-9285-A4361148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6A6-BD4B-4331-A975-FDE05E97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F5B-8E4C-4667-92F9-079D2D64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4DB-9322-4C72-9870-EFF2ED0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992-4792-49F1-96D4-47E96DEF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695-764E-4914-98B8-0FD1107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A45-CE06-424B-9079-8305850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9A5-2541-4D1F-ABFA-64B7FB1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1BAC-1E40-4E6B-A769-9D8315B35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ая бары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5040" y="12600"/>
            <a:ext cx="37339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6280" y="12600"/>
            <a:ext cx="4051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0160" y="12600"/>
            <a:ext cx="40636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6920" y="19080"/>
            <a:ext cx="4610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33680" y="19080"/>
            <a:ext cx="4076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5040" y="12600"/>
            <a:ext cx="37339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09T18:04:55Z</dcterms:modified>
  <cp:revision>9</cp:revision>
  <dc:subject/>
  <dc:title>Слайд 1</dc:title>
</cp:coreProperties>
</file>