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895-44FE-4445-9EB6-0E8C9ABC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9D6-9128-43BB-B67E-32A7BE09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113-AA0C-440A-B5EE-B3B386D2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56B-A6FE-4315-92F7-B0B20C5B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C7F-BE65-4F38-AF2F-7E59DE4F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233-CC51-4822-86CF-A03BDC6F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ED4-1916-4A9D-A938-E7E6E62F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8B3-453C-4C2E-AB55-2056DA40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02C-AF31-4757-BD73-F92ED03E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0806-09E6-493D-B447-824117FA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C76-161F-43B3-AE30-5AE1DA22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0CD-2EA5-4AFB-8037-C6245DEA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2F50-6E41-482A-B0CF-70C959CB1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ая бары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5040" y="12600"/>
            <a:ext cx="37339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46280" y="12600"/>
            <a:ext cx="40514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40160" y="12600"/>
            <a:ext cx="40636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66920" y="19080"/>
            <a:ext cx="46101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33680" y="19080"/>
            <a:ext cx="40766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05040" y="12600"/>
            <a:ext cx="37339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09T18:04:55Z</dcterms:modified>
  <cp:revision>9</cp:revision>
  <dc:subject/>
  <dc:title>Слайд 1</dc:title>
</cp:coreProperties>
</file>