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5.png" ContentType="image/png"/>
  <Override PartName="/ppt/media/image3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6.png" ContentType="image/png"/>
  <Override PartName="/ppt/media/image1.png" ContentType="image/pn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6B0E-D7B1-413F-8B78-4EF5501658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BEF3-D737-4FCA-84C4-23F0492C5C23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6773-DF42-4121-A460-4B860D5286FF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3D56-F103-4794-A3C3-BBC95B09E9C4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743D-0BA2-4F56-8A43-AEA897244F92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75CC-8A86-4F98-9B1B-E78623294BA6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BECF-6C13-4A4D-B589-87A02527E6A0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7047-47F8-4C4D-93BD-EF5B9FB8FCDF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9AB0-32B3-4B17-A2BE-811247B124A3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6967-37C3-47EC-BD12-BF2DE0B38E1F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B20F-F689-43B6-9470-72B8531F0BD5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5E47-341F-44BA-B9A0-6EB8211FD35E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4CAC-73D9-4E41-A957-989CF7FC4471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7B86-036D-4462-A216-1BE4417668F2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95F9-2B6F-431D-AE53-28CC8EBF4500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1754-731D-4121-A7F4-BD9659E34156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407F-3077-46E6-97EE-D0965055D4BA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1A11-3206-4222-A087-826AE71C6065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8C3A-676D-4B4A-AD02-E06540125799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1124-F7B0-45F3-A6BD-6EED4494D963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E48A-DFC3-4922-9C4D-76C48710010E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C3D0-07AD-402C-9756-13C308E6E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A45E-23AA-4048-94D9-44EC08CE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69E4-AAF7-42EF-AD87-14A6B351F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6401-14B5-455B-A58D-8A1F2EE1C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3CD9-911A-491B-A84C-B7DF54F32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2CA0-10D5-4040-BC7E-65B77868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EE48-6679-4A5E-8947-4E7E5E96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45E4D-CDDF-45E9-B99D-2C2647C7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D770-EB92-4D6B-9C59-A94CC955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E6B0-B5D6-4B34-8425-978B5C08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3021-84B7-406E-9FD4-70B3DE27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EEE6-3293-4734-8E3D-AAC3EC80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A7F5-5A56-467E-B2EA-BF74ABB0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47A9-7B37-40A0-B31D-86973527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AB6B-2E4D-45F0-95C9-14D8CB2D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B99D-FA8A-45F3-A401-CFB7E55CC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CDF5-6F5B-4C56-B6D5-126D897F4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793D-E634-49CE-8893-F53A0EF1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DF13-700F-4765-8ACC-CC8FEE8D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C91E-9AF6-4301-AFDC-52D21E5A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716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DDFA-03FC-413A-9D36-9AE4D3B2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940E-4A23-457E-9946-7EAE5031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9539-1CD0-49EA-9AAF-67AAFF21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276A-10F6-45A9-BCC1-3E2A6E1D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573200" cy="6858000"/>
            <a:chOff x="0" y="0"/>
            <a:chExt cx="1573200" cy="6858000"/>
          </a:xfrm>
        </p:grpSpPr>
        <p:sp>
          <p:nvSpPr>
            <p:cNvPr id="1" name="Rectangle 3"/>
            <p:cNvSpPr/>
            <p:nvPr/>
          </p:nvSpPr>
          <p:spPr>
            <a:xfrm>
              <a:off x="1268280" y="1440"/>
              <a:ext cx="30492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19e8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ahoma"/>
              </a:endParaRPr>
            </a:p>
          </p:txBody>
        </p:sp>
        <p:pic>
          <p:nvPicPr>
            <p:cNvPr id="2" name="Picture 4" descr=""/>
            <p:cNvPicPr/>
            <p:nvPr/>
          </p:nvPicPr>
          <p:blipFill>
            <a:blip r:embed="rId2"/>
            <a:srcRect l="8110" t="0" r="0" b="0"/>
            <a:stretch/>
          </p:blipFill>
          <p:spPr>
            <a:xfrm>
              <a:off x="0" y="0"/>
              <a:ext cx="12603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6942-DCF4-41D8-9EB0-EC7E8DFF17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0695-B1A0-43DA-AC18-F0C5023D66CD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76720" y="1125000"/>
            <a:ext cx="56880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3300"/>
                </a:solidFill>
                <a:latin typeface="Showcard Gothic"/>
              </a:rPr>
              <a:t>Famous Britons</a:t>
            </a:r>
            <a:endParaRPr b="0" lang="en-US" sz="8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181120" y="4556160"/>
            <a:ext cx="3961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31640" y="115560"/>
            <a:ext cx="784836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Showcard Gothic"/>
              </a:rPr>
              <a:t>Robert Louis Stevenson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4681080"/>
            <a:ext cx="7772400" cy="198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rn: 13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November 1850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ccupation: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novelist, poet, and travel writer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amous book: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Treasure Islan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ed: 3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December 1894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0" name="Picture 11" descr="Stevenson"/>
          <p:cNvPicPr/>
          <p:nvPr/>
        </p:nvPicPr>
        <p:blipFill>
          <a:blip r:embed="rId1"/>
          <a:srcRect l="12625" t="12154" r="11502" b="19906"/>
          <a:stretch/>
        </p:blipFill>
        <p:spPr>
          <a:xfrm>
            <a:off x="1819440" y="1052640"/>
            <a:ext cx="2465280" cy="3600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treasure-Island"/>
          <p:cNvPicPr/>
          <p:nvPr/>
        </p:nvPicPr>
        <p:blipFill>
          <a:blip r:embed="rId2"/>
          <a:stretch/>
        </p:blipFill>
        <p:spPr>
          <a:xfrm>
            <a:off x="4861080" y="1346040"/>
            <a:ext cx="403200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92000" y="117360"/>
            <a:ext cx="7164360" cy="7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Showcard Gothic"/>
              </a:rPr>
              <a:t>Joseph</a:t>
            </a:r>
            <a:r>
              <a:rPr b="0" lang="ru-RU" sz="40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cc66"/>
                </a:solidFill>
                <a:latin typeface="Showcard Gothic"/>
              </a:rPr>
              <a:t>Rudyard </a:t>
            </a:r>
            <a:r>
              <a:rPr b="0" lang="ru-RU" sz="4000" spc="-1" strike="noStrike">
                <a:solidFill>
                  <a:srgbClr val="ffcc66"/>
                </a:solidFill>
                <a:latin typeface="Showcard Gothic"/>
              </a:rPr>
              <a:t> </a:t>
            </a:r>
            <a:r>
              <a:rPr b="0" lang="en-US" sz="4000" spc="-1" strike="noStrike">
                <a:solidFill>
                  <a:srgbClr val="ffcc66"/>
                </a:solidFill>
                <a:latin typeface="Showcard Gothic"/>
              </a:rPr>
              <a:t>Kipling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63640" y="4437000"/>
            <a:ext cx="7416720" cy="22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orn: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December 30, 1865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Bombay, India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ccupation: short story writer, novelist, poet, journalist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enres: Short story, novel, children's literature, poetry, travel literature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amous work: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“The Jungle Book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ied: January 18, 1936 (aged 70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4" name="Picture 8" descr="Kipling1"/>
          <p:cNvPicPr/>
          <p:nvPr/>
        </p:nvPicPr>
        <p:blipFill>
          <a:blip r:embed="rId1"/>
          <a:srcRect l="0" t="2480" r="0" b="4034"/>
          <a:stretch/>
        </p:blipFill>
        <p:spPr>
          <a:xfrm>
            <a:off x="2152800" y="1052640"/>
            <a:ext cx="2347920" cy="3313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Jungle_Book"/>
          <p:cNvPicPr/>
          <p:nvPr/>
        </p:nvPicPr>
        <p:blipFill>
          <a:blip r:embed="rId2"/>
          <a:srcRect l="4515" t="2113" r="0" b="4138"/>
          <a:stretch/>
        </p:blipFill>
        <p:spPr>
          <a:xfrm>
            <a:off x="5867280" y="1125360"/>
            <a:ext cx="252108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64840" y="43920"/>
            <a:ext cx="771516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Showcard Gothic"/>
              </a:rPr>
              <a:t>Sir Alexander Fleming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836720" y="3933720"/>
            <a:ext cx="7128000" cy="278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Born: 6 August 1881, Scotlan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Occupation: biologist and pharmacologist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Best-known achievement:  the discovery of penicillin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a Nobel Prize in 1945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Died: 11 March 1955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8" name="Picture 8" descr="Fleming"/>
          <p:cNvPicPr/>
          <p:nvPr/>
        </p:nvPicPr>
        <p:blipFill>
          <a:blip r:embed="rId1"/>
          <a:srcRect l="0" t="0" r="0" b="17503"/>
          <a:stretch/>
        </p:blipFill>
        <p:spPr>
          <a:xfrm>
            <a:off x="2009880" y="981000"/>
            <a:ext cx="2525760" cy="3024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penicillin"/>
          <p:cNvPicPr/>
          <p:nvPr/>
        </p:nvPicPr>
        <p:blipFill>
          <a:blip r:embed="rId2"/>
          <a:srcRect l="10522" t="0" r="12263" b="6350"/>
          <a:stretch/>
        </p:blipFill>
        <p:spPr>
          <a:xfrm>
            <a:off x="5651640" y="1241280"/>
            <a:ext cx="288108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Showcard Gothic"/>
              </a:rPr>
              <a:t>Charlie Chaplin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Picture 8" descr="charlie_chaplin"/>
          <p:cNvPicPr/>
          <p:nvPr/>
        </p:nvPicPr>
        <p:blipFill>
          <a:blip r:embed="rId1"/>
          <a:srcRect l="0" t="0" r="0" b="2026"/>
          <a:stretch/>
        </p:blipFill>
        <p:spPr>
          <a:xfrm>
            <a:off x="1547640" y="1197000"/>
            <a:ext cx="3029040" cy="49687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716000" y="1125000"/>
            <a:ext cx="4427640" cy="547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Full Name: Sir Charles Spencer Chaplin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Born: 16 April 1889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Occupation: comedy acto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director and musician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one of the finest mimes and clown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His working life: over 65 year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Died:25 December 1977 (aged 88)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81200" y="117360"/>
            <a:ext cx="7283520" cy="7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Showcard Gothic"/>
              </a:rPr>
              <a:t>John Logie Bair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95640" y="4149360"/>
            <a:ext cx="6480000" cy="24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Born: August 13, 1888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Occupation:  engineer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inventor of the world's first working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television system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Died: June 14, 1946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5" name="Picture 8" descr="John_Logie_Baird_young_man"/>
          <p:cNvPicPr/>
          <p:nvPr/>
        </p:nvPicPr>
        <p:blipFill>
          <a:blip r:embed="rId1"/>
          <a:srcRect l="0" t="0" r="0" b="7782"/>
          <a:stretch/>
        </p:blipFill>
        <p:spPr>
          <a:xfrm>
            <a:off x="1996920" y="981000"/>
            <a:ext cx="2719440" cy="3240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Television"/>
          <p:cNvPicPr/>
          <p:nvPr/>
        </p:nvPicPr>
        <p:blipFill>
          <a:blip r:embed="rId2"/>
          <a:srcRect l="13462" t="3694" r="12739" b="5085"/>
          <a:stretch/>
        </p:blipFill>
        <p:spPr>
          <a:xfrm>
            <a:off x="5508720" y="1413000"/>
            <a:ext cx="30240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76000" y="117000"/>
            <a:ext cx="721044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Showcard Gothic"/>
              </a:rPr>
              <a:t>Agatha Christie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050560" y="4221000"/>
            <a:ext cx="709308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Name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Agatha Mary Clarissa, Lady Mallowan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Born: 15 September 1890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Occupation: novelist (80 detective novels)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Genres: murder mystery, crime fiction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the best-selling writer of books of all tim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Died: 12 January 1976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9" name="Picture 8" descr="Agatha"/>
          <p:cNvPicPr/>
          <p:nvPr/>
        </p:nvPicPr>
        <p:blipFill>
          <a:blip r:embed="rId1"/>
          <a:srcRect l="0" t="0" r="0" b="10211"/>
          <a:stretch/>
        </p:blipFill>
        <p:spPr>
          <a:xfrm>
            <a:off x="2143080" y="1052640"/>
            <a:ext cx="2644920" cy="3168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Puaro"/>
          <p:cNvPicPr/>
          <p:nvPr/>
        </p:nvPicPr>
        <p:blipFill>
          <a:blip r:embed="rId2"/>
          <a:srcRect l="0" t="6515" r="0" b="13030"/>
          <a:stretch/>
        </p:blipFill>
        <p:spPr>
          <a:xfrm>
            <a:off x="6000840" y="1268280"/>
            <a:ext cx="23162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24000" y="43920"/>
            <a:ext cx="65628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Showcard Gothic"/>
              </a:rPr>
              <a:t>JRR Tolkien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47640" y="3933720"/>
            <a:ext cx="7561440" cy="278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624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eaeaea"/>
                </a:solidFill>
                <a:latin typeface="Times New Roman"/>
              </a:rPr>
              <a:t>Born: 3 January 1892 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eaeaea"/>
                </a:solidFill>
                <a:latin typeface="Times New Roman"/>
              </a:rPr>
              <a:t>Occupation: philologist, writer and 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eaeaea"/>
                </a:solidFill>
                <a:latin typeface="Times New Roman"/>
              </a:rPr>
              <a:t>university professor 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Times New Roman"/>
              </a:rPr>
              <a:t>Genres: high fantasy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eaeaea"/>
                </a:solidFill>
                <a:latin typeface="Times New Roman"/>
              </a:rPr>
              <a:t>Famous books: </a:t>
            </a:r>
            <a:r>
              <a:rPr b="0" i="1" lang="ru-RU" sz="2500" spc="-1" strike="noStrike">
                <a:solidFill>
                  <a:srgbClr val="eaeaea"/>
                </a:solidFill>
                <a:latin typeface="Times New Roman"/>
              </a:rPr>
              <a:t>The Hobbit</a:t>
            </a:r>
            <a:r>
              <a:rPr b="0" lang="ru-RU" sz="2500" spc="-1" strike="noStrike">
                <a:solidFill>
                  <a:srgbClr val="eaeaea"/>
                </a:solidFill>
                <a:latin typeface="Times New Roman"/>
              </a:rPr>
              <a:t> and </a:t>
            </a:r>
            <a:r>
              <a:rPr b="0" i="1" lang="ru-RU" sz="2500" spc="-1" strike="noStrike">
                <a:solidFill>
                  <a:srgbClr val="eaeaea"/>
                </a:solidFill>
                <a:latin typeface="Times New Roman"/>
              </a:rPr>
              <a:t>The Lord of the Rings</a:t>
            </a:r>
            <a:r>
              <a:rPr b="0" lang="ru-RU" sz="25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eaeaea"/>
                </a:solidFill>
                <a:latin typeface="Times New Roman"/>
              </a:rPr>
              <a:t>Died: 2 September 1973 </a:t>
            </a:r>
            <a:r>
              <a:rPr b="0" lang="en-US" sz="2500" spc="-1" strike="noStrike">
                <a:solidFill>
                  <a:srgbClr val="eaeaea"/>
                </a:solidFill>
                <a:latin typeface="Times New Roman"/>
              </a:rPr>
              <a:t>(aged 81)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3" name="Picture 8" descr="Tolkien"/>
          <p:cNvPicPr/>
          <p:nvPr/>
        </p:nvPicPr>
        <p:blipFill>
          <a:blip r:embed="rId1"/>
          <a:srcRect l="8123" t="6039" r="0" b="19884"/>
          <a:stretch/>
        </p:blipFill>
        <p:spPr>
          <a:xfrm>
            <a:off x="2411280" y="907920"/>
            <a:ext cx="2443320" cy="3097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Lord of Rings"/>
          <p:cNvPicPr/>
          <p:nvPr/>
        </p:nvPicPr>
        <p:blipFill>
          <a:blip r:embed="rId2"/>
          <a:srcRect l="0" t="0" r="0" b="4559"/>
          <a:stretch/>
        </p:blipFill>
        <p:spPr>
          <a:xfrm>
            <a:off x="5850000" y="907920"/>
            <a:ext cx="2394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24000" y="117360"/>
            <a:ext cx="6491520" cy="7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Showcard Gothic"/>
              </a:rPr>
              <a:t>JK Rowling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835280" y="4292280"/>
            <a:ext cx="7308720" cy="24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Name: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Joanne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"Jo"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Murray née Rowling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Born: 31 July 1965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ccupation: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noveli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enres: fantas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amous book – about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Harry Potter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7" name="Picture 8" descr="rowling_j_k_photograph"/>
          <p:cNvPicPr/>
          <p:nvPr/>
        </p:nvPicPr>
        <p:blipFill>
          <a:blip r:embed="rId1"/>
          <a:srcRect l="0" t="0" r="0" b="4267"/>
          <a:stretch/>
        </p:blipFill>
        <p:spPr>
          <a:xfrm>
            <a:off x="2046240" y="981000"/>
            <a:ext cx="2836800" cy="3240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Harry Potter"/>
          <p:cNvPicPr/>
          <p:nvPr/>
        </p:nvPicPr>
        <p:blipFill>
          <a:blip r:embed="rId2"/>
          <a:stretch/>
        </p:blipFill>
        <p:spPr>
          <a:xfrm>
            <a:off x="5910120" y="1052640"/>
            <a:ext cx="2367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0560" y="117360"/>
            <a:ext cx="6635880" cy="7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Showcard Gothic"/>
              </a:rPr>
              <a:t>John Lennon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4292280"/>
            <a:ext cx="7772400" cy="24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90000"/>
              </a:lnSpc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ull name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John Winston Ono Lenn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rn: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9 October 1940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Occupation: songwriter, singer, musician, graphic artist, author and peace activist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One of the founders of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The Beatles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Died: 8 December 1980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1" name="Picture 8" descr="john-lennon"/>
          <p:cNvPicPr/>
          <p:nvPr/>
        </p:nvPicPr>
        <p:blipFill>
          <a:blip r:embed="rId1"/>
          <a:stretch/>
        </p:blipFill>
        <p:spPr>
          <a:xfrm>
            <a:off x="2017800" y="981000"/>
            <a:ext cx="2770200" cy="3313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yesterday"/>
          <p:cNvPicPr/>
          <p:nvPr/>
        </p:nvPicPr>
        <p:blipFill>
          <a:blip r:embed="rId2"/>
          <a:stretch/>
        </p:blipFill>
        <p:spPr>
          <a:xfrm>
            <a:off x="6067440" y="1197000"/>
            <a:ext cx="22255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Showcard Gothic"/>
              </a:rPr>
              <a:t>Princess Dian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4" name="Picture 8" descr="Diana,_Princess_of_Wales"/>
          <p:cNvPicPr/>
          <p:nvPr/>
        </p:nvPicPr>
        <p:blipFill>
          <a:blip r:embed="rId1"/>
          <a:stretch/>
        </p:blipFill>
        <p:spPr>
          <a:xfrm>
            <a:off x="1798560" y="1339920"/>
            <a:ext cx="3349800" cy="45370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148000" y="1341000"/>
            <a:ext cx="380988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Diana Frances; née Spencer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1 July 1961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Princess of Wale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the first wife of Charles, Prince of Wale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two sons, Princes William and Harry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ok part in many Charities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31 August 1997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(aged 36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19280" y="115920"/>
            <a:ext cx="691344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Showcard Gothic"/>
              </a:rPr>
              <a:t>Charles Babbage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5" name="Picture 10" descr="180px-CharlesBabbage"/>
          <p:cNvPicPr/>
          <p:nvPr/>
        </p:nvPicPr>
        <p:blipFill>
          <a:blip r:embed="rId1"/>
          <a:srcRect l="0" t="0" r="0" b="10208"/>
          <a:stretch/>
        </p:blipFill>
        <p:spPr>
          <a:xfrm>
            <a:off x="1590840" y="1052640"/>
            <a:ext cx="2981160" cy="3168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к бабиджу"/>
          <p:cNvPicPr/>
          <p:nvPr/>
        </p:nvPicPr>
        <p:blipFill>
          <a:blip r:embed="rId2"/>
          <a:stretch/>
        </p:blipFill>
        <p:spPr>
          <a:xfrm>
            <a:off x="4788000" y="1052640"/>
            <a:ext cx="4176720" cy="31334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27"/>
          <p:cNvSpPr/>
          <p:nvPr/>
        </p:nvSpPr>
        <p:spPr>
          <a:xfrm>
            <a:off x="1547640" y="5013360"/>
            <a:ext cx="71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Text Box 28"/>
          <p:cNvSpPr/>
          <p:nvPr/>
        </p:nvSpPr>
        <p:spPr>
          <a:xfrm>
            <a:off x="1620720" y="4221000"/>
            <a:ext cx="727236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Born: </a:t>
            </a: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26 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December 1791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Occupation: Mathematician, analytical philosopher, mechanical engineer,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Originated the idea of a programmable computer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Died: 18 October 1871 (aged 79)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44280"/>
            <a:ext cx="7772400" cy="95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Showcard Gothic"/>
              </a:rPr>
              <a:t>David Beckham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7" name="Picture 8" descr="David Beckham"/>
          <p:cNvPicPr/>
          <p:nvPr/>
        </p:nvPicPr>
        <p:blipFill>
          <a:blip r:embed="rId1"/>
          <a:srcRect l="0" t="0" r="0" b="6245"/>
          <a:stretch/>
        </p:blipFill>
        <p:spPr>
          <a:xfrm>
            <a:off x="1658880" y="1125360"/>
            <a:ext cx="3068640" cy="52563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858920" y="1052280"/>
            <a:ext cx="4140360" cy="56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Full name:  David Robert Joseph Beckham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Born: 2 May 1975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Professional football (soccer) midfielder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A member of the England national team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ubs: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Manchester United</a:t>
            </a:r>
            <a:br>
              <a:rPr sz="2800"/>
            </a:b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Real Madrid</a:t>
            </a:r>
            <a:br>
              <a:rPr sz="2800"/>
            </a:b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Los Angeles Galaxy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the world's highest-paid footballer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7480" y="115560"/>
            <a:ext cx="797724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Showcard Gothic"/>
              </a:rPr>
              <a:t>Alexander Graham Bell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0" name="Picture 10" descr="Alexander_Graham_Bell"/>
          <p:cNvPicPr/>
          <p:nvPr/>
        </p:nvPicPr>
        <p:blipFill>
          <a:blip r:embed="rId1"/>
          <a:stretch/>
        </p:blipFill>
        <p:spPr>
          <a:xfrm>
            <a:off x="2062080" y="1052640"/>
            <a:ext cx="2266920" cy="3311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ntktajy"/>
          <p:cNvPicPr/>
          <p:nvPr/>
        </p:nvPicPr>
        <p:blipFill>
          <a:blip r:embed="rId2"/>
          <a:stretch/>
        </p:blipFill>
        <p:spPr>
          <a:xfrm>
            <a:off x="5661000" y="1125360"/>
            <a:ext cx="2459160" cy="32403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2"/>
          <p:cNvSpPr/>
          <p:nvPr/>
        </p:nvSpPr>
        <p:spPr>
          <a:xfrm>
            <a:off x="1763640" y="4724280"/>
            <a:ext cx="633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2124000" y="4365720"/>
            <a:ext cx="705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Born: 3 March 1847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Occupation: inventor, scientis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Education: University of Edinburgh,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University of Toronto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associated with the invention of the telephone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Died: 2 August 1922 (aged 75)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63600" y="4392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Showcard Gothic"/>
              </a:rPr>
              <a:t>William Shakespeare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5" name="Picture 7" descr="shakespeare-web"/>
          <p:cNvPicPr/>
          <p:nvPr/>
        </p:nvPicPr>
        <p:blipFill>
          <a:blip r:embed="rId1"/>
          <a:stretch/>
        </p:blipFill>
        <p:spPr>
          <a:xfrm>
            <a:off x="1619280" y="981000"/>
            <a:ext cx="2554200" cy="3313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shakespeare"/>
          <p:cNvPicPr/>
          <p:nvPr/>
        </p:nvPicPr>
        <p:blipFill>
          <a:blip r:embed="rId2"/>
          <a:srcRect l="0" t="0" r="0" b="2948"/>
          <a:stretch/>
        </p:blipFill>
        <p:spPr>
          <a:xfrm>
            <a:off x="4572000" y="1052640"/>
            <a:ext cx="4356000" cy="30844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9"/>
          <p:cNvSpPr/>
          <p:nvPr/>
        </p:nvSpPr>
        <p:spPr>
          <a:xfrm>
            <a:off x="1871640" y="4772160"/>
            <a:ext cx="727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8" name="Text Box 62"/>
          <p:cNvSpPr/>
          <p:nvPr/>
        </p:nvSpPr>
        <p:spPr>
          <a:xfrm>
            <a:off x="1906560" y="4365720"/>
            <a:ext cx="691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Born: April 1564 (exact date unknown)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Occupation: playwright, poet, actor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Genres: comedies, tragedies, tragicomedies,        sonnets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38 plays, 154 sonnets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Died: 23 April 1616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0560" y="44280"/>
            <a:ext cx="69138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Showcard Gothic"/>
              </a:rPr>
              <a:t>Daniel Defoe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0" name="Picture 10" descr="defoe"/>
          <p:cNvPicPr/>
          <p:nvPr/>
        </p:nvPicPr>
        <p:blipFill>
          <a:blip r:embed="rId1"/>
          <a:stretch/>
        </p:blipFill>
        <p:spPr>
          <a:xfrm>
            <a:off x="1962000" y="1052640"/>
            <a:ext cx="2465640" cy="3313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Robinzon"/>
          <p:cNvPicPr/>
          <p:nvPr/>
        </p:nvPicPr>
        <p:blipFill>
          <a:blip r:embed="rId2"/>
          <a:stretch/>
        </p:blipFill>
        <p:spPr>
          <a:xfrm>
            <a:off x="5364000" y="1052640"/>
            <a:ext cx="3311640" cy="33112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2"/>
          <p:cNvSpPr/>
          <p:nvPr/>
        </p:nvSpPr>
        <p:spPr>
          <a:xfrm>
            <a:off x="1763640" y="479736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268360" y="4365720"/>
            <a:ext cx="68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Born: 1659|1661(?)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Occupation: writer, journalist, spy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500 books, pamphlets, journals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amous novel: 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“Robinson Crusoe”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opics: politics, crime, religion, psychology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Died: 24 April 1771 (?)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92000" y="117360"/>
            <a:ext cx="6994440" cy="7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Showcard Gothic"/>
              </a:rPr>
              <a:t>Lewis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Showcard Gothic"/>
              </a:rPr>
              <a:t>Carrol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31960" y="4437000"/>
            <a:ext cx="7448400" cy="23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Name: Charles Lutwidge Dodgs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Born: 27 January 183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Occupation: writer, mathematician, clergyman, photograph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Genre: literary nonsens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Died: 14 January 189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6" name="Picture 10" descr="Carroll"/>
          <p:cNvPicPr/>
          <p:nvPr/>
        </p:nvPicPr>
        <p:blipFill>
          <a:blip r:embed="rId1"/>
          <a:srcRect l="0" t="0" r="0" b="23397"/>
          <a:stretch/>
        </p:blipFill>
        <p:spPr>
          <a:xfrm>
            <a:off x="2154240" y="1052640"/>
            <a:ext cx="2903400" cy="3313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Alice_In_Wonderland"/>
          <p:cNvPicPr/>
          <p:nvPr/>
        </p:nvPicPr>
        <p:blipFill>
          <a:blip r:embed="rId2"/>
          <a:srcRect l="0" t="0" r="0" b="10651"/>
          <a:stretch/>
        </p:blipFill>
        <p:spPr>
          <a:xfrm>
            <a:off x="6012000" y="1052640"/>
            <a:ext cx="23842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115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Showcard Gothic"/>
              </a:rPr>
              <a:t>Sir Arthur Conan Doy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451008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Born: 22 May 185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Occupation: short story writer, novelist, poet, doc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Genre: detective fiction, historical novels, nonfiction, poet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amous book – about detective 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Sherlock Holm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Died: 7 July 1930 (aged 71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0" name="Picture 10" descr="Doyle"/>
          <p:cNvPicPr/>
          <p:nvPr/>
        </p:nvPicPr>
        <p:blipFill>
          <a:blip r:embed="rId1"/>
          <a:srcRect l="0" t="0" r="0" b="17027"/>
          <a:stretch/>
        </p:blipFill>
        <p:spPr>
          <a:xfrm>
            <a:off x="2195640" y="1197000"/>
            <a:ext cx="2457360" cy="3240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Sherlock"/>
          <p:cNvPicPr/>
          <p:nvPr/>
        </p:nvPicPr>
        <p:blipFill>
          <a:blip r:embed="rId2"/>
          <a:srcRect l="0" t="0" r="0" b="10557"/>
          <a:stretch/>
        </p:blipFill>
        <p:spPr>
          <a:xfrm>
            <a:off x="5867280" y="1197000"/>
            <a:ext cx="23907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Showcard Gothic"/>
              </a:rPr>
              <a:t>Sir Isaac Newton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3" name="Picture 10" descr="isaac_newton_hd"/>
          <p:cNvPicPr/>
          <p:nvPr/>
        </p:nvPicPr>
        <p:blipFill>
          <a:blip r:embed="rId1"/>
          <a:srcRect l="10293" t="0" r="14209" b="5690"/>
          <a:stretch/>
        </p:blipFill>
        <p:spPr>
          <a:xfrm>
            <a:off x="1547640" y="1413000"/>
            <a:ext cx="3311640" cy="43923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859280" y="1844640"/>
            <a:ext cx="428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Born: 4 January 1643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Occupation: physicist, mathematician, astronomer, natural philosopher, alchemi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Scientific revolu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Died: 31 March 1728 (aged 85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600" y="11592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Showcard Gothic"/>
              </a:rPr>
              <a:t>Charles Darwin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6" name="Picture 10" descr="darwin"/>
          <p:cNvPicPr/>
          <p:nvPr/>
        </p:nvPicPr>
        <p:blipFill>
          <a:blip r:embed="rId1"/>
          <a:srcRect l="0" t="0" r="0" b="4182"/>
          <a:stretch/>
        </p:blipFill>
        <p:spPr>
          <a:xfrm>
            <a:off x="1562040" y="1628640"/>
            <a:ext cx="3154320" cy="43214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716000" y="1052640"/>
            <a:ext cx="4211640" cy="554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ahoma"/>
              </a:rPr>
              <a:t>Full Name: </a:t>
            </a:r>
            <a:r>
              <a:rPr b="1" lang="ru-RU" sz="2600" spc="-1" strike="noStrike">
                <a:solidFill>
                  <a:srgbClr val="eaeaea"/>
                </a:solidFill>
                <a:latin typeface="Times New Roman"/>
              </a:rPr>
              <a:t>Charles Robert Darwin</a:t>
            </a: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ahoma"/>
              </a:rPr>
              <a:t>Born: 12 February 1809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ahoma"/>
              </a:rPr>
              <a:t>Alma mater: University of Edinburgh, University of Cambridge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ahoma"/>
              </a:rPr>
              <a:t>Occupation: naturalist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ahoma"/>
              </a:rPr>
              <a:t>Known for: Natural selection,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0" lang="en-US" sz="2600" spc="-1" strike="noStrike">
                <a:solidFill>
                  <a:srgbClr val="eaeaea"/>
                </a:solidFill>
                <a:latin typeface="Tahoma"/>
              </a:rPr>
              <a:t>The origin of Species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ahoma"/>
              </a:rPr>
              <a:t>Prizes: Royal Medal (1853), Wollaston Medal (1859), Coplay Medal (1864)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ahoma"/>
              </a:rPr>
              <a:t>Died: 19 April 1882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15:39:08Z</dcterms:created>
  <dc:creator>Comp</dc:creator>
  <dc:description/>
  <dc:language>en-US</dc:language>
  <cp:lastModifiedBy>ПК</cp:lastModifiedBy>
  <dcterms:modified xsi:type="dcterms:W3CDTF">2012-01-29T18:31:18Z</dcterms:modified>
  <cp:revision>301</cp:revision>
  <dc:subject/>
  <dc:title>Famous Britons</dc:title>
</cp:coreProperties>
</file>