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05E6-B796-4CE8-ADEC-2C95ACBCFB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36DA-F04A-4BBA-B1DB-C09C75D1E5F5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81F6-C502-4CFC-9F0C-BAE325976F26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EC39-21C3-45DC-B452-000B411B5281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13BE-CA67-4327-AED1-14C21F06ACCE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5378-1078-4821-BF02-319845A9C1D9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2B15-39D6-46F4-96BE-5EF9BDC727B4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CEB0-28A9-4BA2-8522-B10C603873E1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4CC5-AC1D-4195-9952-9BE3256D7284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4D4B-8AD5-427A-AC74-37C9B830EDAB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2116-E1F3-4CA7-96D2-A1191B73975D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46AD-8995-4936-A865-C000149B2889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5BDE-1D7A-4F7C-9B57-1E84E68D47E6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93B9-6293-4075-BCE2-F982981F6BF8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25C2-402C-4A88-8BAC-D8EE7498EAF6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89FE-E18D-4D3F-B97A-6AC855956CE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D517-5CF1-456E-9B18-DFC1BE9069B6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E2F5-C390-435B-954B-E5D44B70A30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FFD5-4531-4890-BEC9-1804E32ACB6B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15FE-BFAF-43E5-AABD-29FC8A83545A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0AAD-C53D-48B9-B8BF-2092CD5A112A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394B-36EE-464E-A96E-C6EC0C2AC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D70B-B0AF-4B73-A7DF-1C0454A4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C1E1-5AEA-490F-A8C1-6432E2D23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9EE1-6529-4E4E-B1BB-1ACABD907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E084-2174-48DF-9EED-0E4CCF79E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25F9-9513-4EC3-9937-13AAC9C8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74E6-9404-49E5-88F1-EFA7E6F7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F751-17D2-4C10-BA8E-F5AE2107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B5FC-D625-43CD-9B86-ED18C699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C933-1ECA-4EEA-93F8-3E99DD2D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3354-BE48-4CB4-A6DF-294FFF38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F5C9-D7AF-41B2-9BCA-58152102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6E6B-6BA0-49C9-BB8C-AB96E577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6130-81C8-4872-AC99-952F82CA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A25C-73D8-41D0-A32A-792F1489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C1BF-5E7B-4372-A2ED-ECE518315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3E01-B881-4765-A25C-00B0CE88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CD43-CFBE-4F81-A5EC-DE90A8AD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1891-100E-490C-ADED-230FE316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0AF4-A1B4-458A-9CF7-85FE7E95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716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4EDF-8CE6-4DA6-AA94-5943821B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8BDD-7B05-4049-96E6-CF3DB20F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165A-0B16-427C-8090-E45A0548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F506-D9CB-4D0E-95C6-AFF266C1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573200" cy="6858000"/>
            <a:chOff x="0" y="0"/>
            <a:chExt cx="1573200" cy="6858000"/>
          </a:xfrm>
        </p:grpSpPr>
        <p:sp>
          <p:nvSpPr>
            <p:cNvPr id="1" name="Rectangle 3"/>
            <p:cNvSpPr/>
            <p:nvPr/>
          </p:nvSpPr>
          <p:spPr>
            <a:xfrm>
              <a:off x="1268280" y="1440"/>
              <a:ext cx="30492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19e8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pic>
          <p:nvPicPr>
            <p:cNvPr id="2" name="Picture 4" descr=""/>
            <p:cNvPicPr/>
            <p:nvPr/>
          </p:nvPicPr>
          <p:blipFill>
            <a:blip r:embed="rId2"/>
            <a:srcRect l="8110" t="0" r="0" b="0"/>
            <a:stretch/>
          </p:blipFill>
          <p:spPr>
            <a:xfrm>
              <a:off x="0" y="0"/>
              <a:ext cx="12603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E8DB-8DD0-4946-A14E-4AC3946913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42F6-265A-4384-ADB6-2D5E1B09F981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76720" y="1125000"/>
            <a:ext cx="56880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3300"/>
                </a:solidFill>
                <a:latin typeface="Showcard Gothic"/>
              </a:rPr>
              <a:t>Famous Britons</a:t>
            </a:r>
            <a:endParaRPr b="0" lang="en-US" sz="8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181120" y="4556160"/>
            <a:ext cx="3961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31640" y="115560"/>
            <a:ext cx="784836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Showcard Gothic"/>
              </a:rPr>
              <a:t>Robert Louis Stevenson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4681080"/>
            <a:ext cx="7772400" cy="198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rn: 13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November 1850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ccupation: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novelist, poet, and travel writer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amous book: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Treasure Islan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ed: 3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December 189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0" name="Picture 11" descr="Stevenson"/>
          <p:cNvPicPr/>
          <p:nvPr/>
        </p:nvPicPr>
        <p:blipFill>
          <a:blip r:embed="rId1"/>
          <a:srcRect l="12625" t="12154" r="11502" b="19906"/>
          <a:stretch/>
        </p:blipFill>
        <p:spPr>
          <a:xfrm>
            <a:off x="1819440" y="1052640"/>
            <a:ext cx="2465280" cy="360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treasure-Island"/>
          <p:cNvPicPr/>
          <p:nvPr/>
        </p:nvPicPr>
        <p:blipFill>
          <a:blip r:embed="rId2"/>
          <a:stretch/>
        </p:blipFill>
        <p:spPr>
          <a:xfrm>
            <a:off x="4861080" y="1346040"/>
            <a:ext cx="403200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92000" y="117360"/>
            <a:ext cx="7164360" cy="7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Showcard Gothic"/>
              </a:rPr>
              <a:t>Joseph</a:t>
            </a:r>
            <a:r>
              <a:rPr b="0" lang="ru-RU" sz="40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cc66"/>
                </a:solidFill>
                <a:latin typeface="Showcard Gothic"/>
              </a:rPr>
              <a:t>Rudyard </a:t>
            </a:r>
            <a:r>
              <a:rPr b="0" lang="ru-RU" sz="4000" spc="-1" strike="noStrike">
                <a:solidFill>
                  <a:srgbClr val="ffcc66"/>
                </a:solidFill>
                <a:latin typeface="Showcard Gothic"/>
              </a:rPr>
              <a:t> </a:t>
            </a:r>
            <a:r>
              <a:rPr b="0" lang="en-US" sz="4000" spc="-1" strike="noStrike">
                <a:solidFill>
                  <a:srgbClr val="ffcc66"/>
                </a:solidFill>
                <a:latin typeface="Showcard Gothic"/>
              </a:rPr>
              <a:t>Kipling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63640" y="4437000"/>
            <a:ext cx="741672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orn: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December 30, 1865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Bombay, India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ccupation: short story writer, novelist, poet, journalist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enres: Short story, novel, children's literature, poetry, travel literature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amous work: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“The Jungle Book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ied: January 18, 1936 (aged 70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4" name="Picture 8" descr="Kipling1"/>
          <p:cNvPicPr/>
          <p:nvPr/>
        </p:nvPicPr>
        <p:blipFill>
          <a:blip r:embed="rId1"/>
          <a:srcRect l="0" t="2480" r="0" b="4034"/>
          <a:stretch/>
        </p:blipFill>
        <p:spPr>
          <a:xfrm>
            <a:off x="2152800" y="1052640"/>
            <a:ext cx="2347920" cy="3313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Jungle_Book"/>
          <p:cNvPicPr/>
          <p:nvPr/>
        </p:nvPicPr>
        <p:blipFill>
          <a:blip r:embed="rId2"/>
          <a:srcRect l="4515" t="2113" r="0" b="4138"/>
          <a:stretch/>
        </p:blipFill>
        <p:spPr>
          <a:xfrm>
            <a:off x="5867280" y="1125360"/>
            <a:ext cx="252108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64840" y="43920"/>
            <a:ext cx="771516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Showcard Gothic"/>
              </a:rPr>
              <a:t>Sir Alexander Fleming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836720" y="3933720"/>
            <a:ext cx="7128000" cy="278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Born: 6 August 1881, Scotlan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Occupation: biologist and pharmacologist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Best-known achievement:  the discovery of penicillin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a Nobel Prize in 1945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Died: 11 March 1955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8" name="Picture 8" descr="Fleming"/>
          <p:cNvPicPr/>
          <p:nvPr/>
        </p:nvPicPr>
        <p:blipFill>
          <a:blip r:embed="rId1"/>
          <a:srcRect l="0" t="0" r="0" b="17503"/>
          <a:stretch/>
        </p:blipFill>
        <p:spPr>
          <a:xfrm>
            <a:off x="2009880" y="981000"/>
            <a:ext cx="2525760" cy="3024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penicillin"/>
          <p:cNvPicPr/>
          <p:nvPr/>
        </p:nvPicPr>
        <p:blipFill>
          <a:blip r:embed="rId2"/>
          <a:srcRect l="10522" t="0" r="12263" b="6350"/>
          <a:stretch/>
        </p:blipFill>
        <p:spPr>
          <a:xfrm>
            <a:off x="5651640" y="1241280"/>
            <a:ext cx="28810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Showcard Gothic"/>
              </a:rPr>
              <a:t>Charlie Chaplin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Picture 8" descr="charlie_chaplin"/>
          <p:cNvPicPr/>
          <p:nvPr/>
        </p:nvPicPr>
        <p:blipFill>
          <a:blip r:embed="rId1"/>
          <a:srcRect l="0" t="0" r="0" b="2026"/>
          <a:stretch/>
        </p:blipFill>
        <p:spPr>
          <a:xfrm>
            <a:off x="1547640" y="1197000"/>
            <a:ext cx="3029040" cy="49687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716000" y="1125000"/>
            <a:ext cx="4427640" cy="547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Full Name: Sir Charles Spencer Chaplin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Born: 16 April 1889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Occupation: comedy acto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director and musician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one of the finest mimes and clown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His working life: over 65 year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Died:25 December 1977 (aged 88)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81200" y="117360"/>
            <a:ext cx="7283520" cy="7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Showcard Gothic"/>
              </a:rPr>
              <a:t>John Logie Bair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95640" y="4149360"/>
            <a:ext cx="6480000" cy="24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Born: August 13, 1888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Occupation:  engineer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inventor of the world's first working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television system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Died: June 14, 1946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5" name="Picture 8" descr="John_Logie_Baird_young_man"/>
          <p:cNvPicPr/>
          <p:nvPr/>
        </p:nvPicPr>
        <p:blipFill>
          <a:blip r:embed="rId1"/>
          <a:srcRect l="0" t="0" r="0" b="7782"/>
          <a:stretch/>
        </p:blipFill>
        <p:spPr>
          <a:xfrm>
            <a:off x="1996920" y="981000"/>
            <a:ext cx="2719440" cy="3240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Television"/>
          <p:cNvPicPr/>
          <p:nvPr/>
        </p:nvPicPr>
        <p:blipFill>
          <a:blip r:embed="rId2"/>
          <a:srcRect l="13462" t="3694" r="12739" b="5085"/>
          <a:stretch/>
        </p:blipFill>
        <p:spPr>
          <a:xfrm>
            <a:off x="5508720" y="1413000"/>
            <a:ext cx="30240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76000" y="11700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Showcard Gothic"/>
              </a:rPr>
              <a:t>Agatha Christie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050560" y="4221000"/>
            <a:ext cx="709308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Name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Agatha Mary Clarissa, Lady Mallowan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Born: 15 September 1890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Occupation: novelist (80 detective novels)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Genres: murder mystery, crime fiction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the best-selling writer of books of all tim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Died: 12 January 1976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9" name="Picture 8" descr="Agatha"/>
          <p:cNvPicPr/>
          <p:nvPr/>
        </p:nvPicPr>
        <p:blipFill>
          <a:blip r:embed="rId1"/>
          <a:srcRect l="0" t="0" r="0" b="10211"/>
          <a:stretch/>
        </p:blipFill>
        <p:spPr>
          <a:xfrm>
            <a:off x="2143080" y="1052640"/>
            <a:ext cx="2644920" cy="3168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Puaro"/>
          <p:cNvPicPr/>
          <p:nvPr/>
        </p:nvPicPr>
        <p:blipFill>
          <a:blip r:embed="rId2"/>
          <a:srcRect l="0" t="6515" r="0" b="13030"/>
          <a:stretch/>
        </p:blipFill>
        <p:spPr>
          <a:xfrm>
            <a:off x="6000840" y="1268280"/>
            <a:ext cx="23162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24000" y="43920"/>
            <a:ext cx="65628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Showcard Gothic"/>
              </a:rPr>
              <a:t>JRR Tolkien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47640" y="3933720"/>
            <a:ext cx="7561440" cy="278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624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aeaea"/>
                </a:solidFill>
                <a:latin typeface="Times New Roman"/>
              </a:rPr>
              <a:t>Born: 3 January 1892 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aeaea"/>
                </a:solidFill>
                <a:latin typeface="Times New Roman"/>
              </a:rPr>
              <a:t>Occupation: philologist, writer and 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aeaea"/>
                </a:solidFill>
                <a:latin typeface="Times New Roman"/>
              </a:rPr>
              <a:t>university professor 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Times New Roman"/>
              </a:rPr>
              <a:t>Genres: high fantasy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aeaea"/>
                </a:solidFill>
                <a:latin typeface="Times New Roman"/>
              </a:rPr>
              <a:t>Famous books: </a:t>
            </a:r>
            <a:r>
              <a:rPr b="0" i="1" lang="ru-RU" sz="2500" spc="-1" strike="noStrike">
                <a:solidFill>
                  <a:srgbClr val="eaeaea"/>
                </a:solidFill>
                <a:latin typeface="Times New Roman"/>
              </a:rPr>
              <a:t>The Hobbit</a:t>
            </a:r>
            <a:r>
              <a:rPr b="0" lang="ru-RU" sz="25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i="1" lang="ru-RU" sz="2500" spc="-1" strike="noStrike">
                <a:solidFill>
                  <a:srgbClr val="eaeaea"/>
                </a:solidFill>
                <a:latin typeface="Times New Roman"/>
              </a:rPr>
              <a:t>The Lord of the Rings</a:t>
            </a:r>
            <a:r>
              <a:rPr b="0" lang="ru-RU" sz="25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aeaea"/>
                </a:solidFill>
                <a:latin typeface="Times New Roman"/>
              </a:rPr>
              <a:t>Died: 2 September 1973 </a:t>
            </a:r>
            <a:r>
              <a:rPr b="0" lang="en-US" sz="2500" spc="-1" strike="noStrike">
                <a:solidFill>
                  <a:srgbClr val="eaeaea"/>
                </a:solidFill>
                <a:latin typeface="Times New Roman"/>
              </a:rPr>
              <a:t>(aged 81)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3" name="Picture 8" descr="Tolkien"/>
          <p:cNvPicPr/>
          <p:nvPr/>
        </p:nvPicPr>
        <p:blipFill>
          <a:blip r:embed="rId1"/>
          <a:srcRect l="8123" t="6039" r="0" b="19884"/>
          <a:stretch/>
        </p:blipFill>
        <p:spPr>
          <a:xfrm>
            <a:off x="2411280" y="907920"/>
            <a:ext cx="2443320" cy="3097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Lord of Rings"/>
          <p:cNvPicPr/>
          <p:nvPr/>
        </p:nvPicPr>
        <p:blipFill>
          <a:blip r:embed="rId2"/>
          <a:srcRect l="0" t="0" r="0" b="4559"/>
          <a:stretch/>
        </p:blipFill>
        <p:spPr>
          <a:xfrm>
            <a:off x="5850000" y="907920"/>
            <a:ext cx="2394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24000" y="117360"/>
            <a:ext cx="6491520" cy="7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Showcard Gothic"/>
              </a:rPr>
              <a:t>JK Rowling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835280" y="4292280"/>
            <a:ext cx="7308720" cy="24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Name: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Joanne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"Jo"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Murray née Rowling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Born: 31 July 1965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ccupation: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noveli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enres: fantas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amous book – about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Harry Potter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7" name="Picture 8" descr="rowling_j_k_photograph"/>
          <p:cNvPicPr/>
          <p:nvPr/>
        </p:nvPicPr>
        <p:blipFill>
          <a:blip r:embed="rId1"/>
          <a:srcRect l="0" t="0" r="0" b="4267"/>
          <a:stretch/>
        </p:blipFill>
        <p:spPr>
          <a:xfrm>
            <a:off x="2046240" y="981000"/>
            <a:ext cx="2836800" cy="3240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Harry Potter"/>
          <p:cNvPicPr/>
          <p:nvPr/>
        </p:nvPicPr>
        <p:blipFill>
          <a:blip r:embed="rId2"/>
          <a:stretch/>
        </p:blipFill>
        <p:spPr>
          <a:xfrm>
            <a:off x="5910120" y="1052640"/>
            <a:ext cx="2367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560" y="117360"/>
            <a:ext cx="6635880" cy="7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Showcard Gothic"/>
              </a:rPr>
              <a:t>John Lennon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4292280"/>
            <a:ext cx="7772400" cy="24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ull name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John Winston Ono Lenn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rn: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9 October 1940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Occupation: songwriter, singer, musician, graphic artist, author and peace activist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One of the founders of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The Beatles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Died: 8 December 1980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1" name="Picture 8" descr="john-lennon"/>
          <p:cNvPicPr/>
          <p:nvPr/>
        </p:nvPicPr>
        <p:blipFill>
          <a:blip r:embed="rId1"/>
          <a:stretch/>
        </p:blipFill>
        <p:spPr>
          <a:xfrm>
            <a:off x="2017800" y="981000"/>
            <a:ext cx="2770200" cy="3313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yesterday"/>
          <p:cNvPicPr/>
          <p:nvPr/>
        </p:nvPicPr>
        <p:blipFill>
          <a:blip r:embed="rId2"/>
          <a:stretch/>
        </p:blipFill>
        <p:spPr>
          <a:xfrm>
            <a:off x="6067440" y="1197000"/>
            <a:ext cx="22255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Showcard Gothic"/>
              </a:rPr>
              <a:t>Princess Dian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4" name="Picture 8" descr="Diana,_Princess_of_Wales"/>
          <p:cNvPicPr/>
          <p:nvPr/>
        </p:nvPicPr>
        <p:blipFill>
          <a:blip r:embed="rId1"/>
          <a:stretch/>
        </p:blipFill>
        <p:spPr>
          <a:xfrm>
            <a:off x="1798560" y="1339920"/>
            <a:ext cx="3349800" cy="45370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148000" y="1341000"/>
            <a:ext cx="380988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Diana Frances; née Spencer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1 July 1961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Princess of Wale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the first wife of Charles, Prince of Wale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two sons, Princes William and Harry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ok part in many Charities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31 August 1997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(aged 36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9280" y="115920"/>
            <a:ext cx="691344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Showcard Gothic"/>
              </a:rPr>
              <a:t>Charles Babbage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5" name="Picture 10" descr="180px-CharlesBabbage"/>
          <p:cNvPicPr/>
          <p:nvPr/>
        </p:nvPicPr>
        <p:blipFill>
          <a:blip r:embed="rId1"/>
          <a:srcRect l="0" t="0" r="0" b="10208"/>
          <a:stretch/>
        </p:blipFill>
        <p:spPr>
          <a:xfrm>
            <a:off x="1590840" y="1052640"/>
            <a:ext cx="2981160" cy="3168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к бабиджу"/>
          <p:cNvPicPr/>
          <p:nvPr/>
        </p:nvPicPr>
        <p:blipFill>
          <a:blip r:embed="rId2"/>
          <a:stretch/>
        </p:blipFill>
        <p:spPr>
          <a:xfrm>
            <a:off x="4788000" y="1052640"/>
            <a:ext cx="4176720" cy="31334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7"/>
          <p:cNvSpPr/>
          <p:nvPr/>
        </p:nvSpPr>
        <p:spPr>
          <a:xfrm>
            <a:off x="1547640" y="5013360"/>
            <a:ext cx="71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Text Box 28"/>
          <p:cNvSpPr/>
          <p:nvPr/>
        </p:nvSpPr>
        <p:spPr>
          <a:xfrm>
            <a:off x="1620720" y="4221000"/>
            <a:ext cx="727236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Born: </a:t>
            </a: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26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December 1791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Occupation: Mathematician, analytical philosopher, mechanical engineer,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Originated the idea of a programmable computer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Died: 18 October 1871 (aged 79)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44280"/>
            <a:ext cx="7772400" cy="95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Showcard Gothic"/>
              </a:rPr>
              <a:t>David Beckham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7" name="Picture 8" descr="David Beckham"/>
          <p:cNvPicPr/>
          <p:nvPr/>
        </p:nvPicPr>
        <p:blipFill>
          <a:blip r:embed="rId1"/>
          <a:srcRect l="0" t="0" r="0" b="6245"/>
          <a:stretch/>
        </p:blipFill>
        <p:spPr>
          <a:xfrm>
            <a:off x="1658880" y="1125360"/>
            <a:ext cx="3068640" cy="52563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858920" y="1052280"/>
            <a:ext cx="4140360" cy="56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Full name:  David Robert Joseph Beckham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Born: 2 May 1975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Professional football (soccer) midfielder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A member of the England national team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ubs: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Manchester United</a:t>
            </a:r>
            <a:br>
              <a:rPr sz="2800"/>
            </a:b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Real Madrid</a:t>
            </a:r>
            <a:br>
              <a:rPr sz="2800"/>
            </a:b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Los Angeles Galaxy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the world's highest-paid footballer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7480" y="115560"/>
            <a:ext cx="79772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Showcard Gothic"/>
              </a:rPr>
              <a:t>Alexander Graham Bell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0" name="Picture 10" descr="Alexander_Graham_Bell"/>
          <p:cNvPicPr/>
          <p:nvPr/>
        </p:nvPicPr>
        <p:blipFill>
          <a:blip r:embed="rId1"/>
          <a:stretch/>
        </p:blipFill>
        <p:spPr>
          <a:xfrm>
            <a:off x="2062080" y="1052640"/>
            <a:ext cx="2266920" cy="3311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ntktajy"/>
          <p:cNvPicPr/>
          <p:nvPr/>
        </p:nvPicPr>
        <p:blipFill>
          <a:blip r:embed="rId2"/>
          <a:stretch/>
        </p:blipFill>
        <p:spPr>
          <a:xfrm>
            <a:off x="5661000" y="1125360"/>
            <a:ext cx="2459160" cy="32403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2"/>
          <p:cNvSpPr/>
          <p:nvPr/>
        </p:nvSpPr>
        <p:spPr>
          <a:xfrm>
            <a:off x="1763640" y="4724280"/>
            <a:ext cx="633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2124000" y="4365720"/>
            <a:ext cx="705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Born: 3 March 1847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Occupation: inventor, scientis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Education: University of Edinburgh,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University of Toronto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associated with the invention of the telephone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Died: 2 August 1922 (aged 75)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63600" y="4392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Showcard Gothic"/>
              </a:rPr>
              <a:t>William Shakespeare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5" name="Picture 7" descr="shakespeare-web"/>
          <p:cNvPicPr/>
          <p:nvPr/>
        </p:nvPicPr>
        <p:blipFill>
          <a:blip r:embed="rId1"/>
          <a:stretch/>
        </p:blipFill>
        <p:spPr>
          <a:xfrm>
            <a:off x="1619280" y="981000"/>
            <a:ext cx="2554200" cy="3313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shakespeare"/>
          <p:cNvPicPr/>
          <p:nvPr/>
        </p:nvPicPr>
        <p:blipFill>
          <a:blip r:embed="rId2"/>
          <a:srcRect l="0" t="0" r="0" b="2948"/>
          <a:stretch/>
        </p:blipFill>
        <p:spPr>
          <a:xfrm>
            <a:off x="4572000" y="1052640"/>
            <a:ext cx="4356000" cy="30844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9"/>
          <p:cNvSpPr/>
          <p:nvPr/>
        </p:nvSpPr>
        <p:spPr>
          <a:xfrm>
            <a:off x="1871640" y="4772160"/>
            <a:ext cx="727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8" name="Text Box 62"/>
          <p:cNvSpPr/>
          <p:nvPr/>
        </p:nvSpPr>
        <p:spPr>
          <a:xfrm>
            <a:off x="1906560" y="4365720"/>
            <a:ext cx="691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Born: April 1564 (exact date unknown)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Occupation: playwright, poet, actor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Genres: comedies, tragedies, tragicomedies,        sonnets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38 plays, 154 sonnets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Died: 23 April 1616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0560" y="44280"/>
            <a:ext cx="69138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Showcard Gothic"/>
              </a:rPr>
              <a:t>Daniel Defoe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0" name="Picture 10" descr="defoe"/>
          <p:cNvPicPr/>
          <p:nvPr/>
        </p:nvPicPr>
        <p:blipFill>
          <a:blip r:embed="rId1"/>
          <a:stretch/>
        </p:blipFill>
        <p:spPr>
          <a:xfrm>
            <a:off x="1962000" y="1052640"/>
            <a:ext cx="2465640" cy="3313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Robinzon"/>
          <p:cNvPicPr/>
          <p:nvPr/>
        </p:nvPicPr>
        <p:blipFill>
          <a:blip r:embed="rId2"/>
          <a:stretch/>
        </p:blipFill>
        <p:spPr>
          <a:xfrm>
            <a:off x="5364000" y="1052640"/>
            <a:ext cx="3311640" cy="33112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2"/>
          <p:cNvSpPr/>
          <p:nvPr/>
        </p:nvSpPr>
        <p:spPr>
          <a:xfrm>
            <a:off x="1763640" y="479736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268360" y="4365720"/>
            <a:ext cx="68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Born: 1659|1661(?)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Occupation: writer, journalist, spy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500 books, pamphlets, journals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amous novel: 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“Robinson Crusoe”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opics: politics, crime, religion, psychology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Died: 24 April 1771 (?)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92000" y="117360"/>
            <a:ext cx="699444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Showcard Gothic"/>
              </a:rPr>
              <a:t>Lewis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Showcard Gothic"/>
              </a:rPr>
              <a:t>Carrol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31960" y="4437000"/>
            <a:ext cx="7448400" cy="23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Name: Charles Lutwidge Dodgs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Born: 27 January 183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Occupation: writer, mathematician, clergyman, photograph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Genre: literary nonsen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Died: 14 January 189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6" name="Picture 10" descr="Carroll"/>
          <p:cNvPicPr/>
          <p:nvPr/>
        </p:nvPicPr>
        <p:blipFill>
          <a:blip r:embed="rId1"/>
          <a:srcRect l="0" t="0" r="0" b="23397"/>
          <a:stretch/>
        </p:blipFill>
        <p:spPr>
          <a:xfrm>
            <a:off x="2154240" y="1052640"/>
            <a:ext cx="2903400" cy="3313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Alice_In_Wonderland"/>
          <p:cNvPicPr/>
          <p:nvPr/>
        </p:nvPicPr>
        <p:blipFill>
          <a:blip r:embed="rId2"/>
          <a:srcRect l="0" t="0" r="0" b="10651"/>
          <a:stretch/>
        </p:blipFill>
        <p:spPr>
          <a:xfrm>
            <a:off x="6012000" y="1052640"/>
            <a:ext cx="2384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115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Showcard Gothic"/>
              </a:rPr>
              <a:t>Sir Arthur Conan Doy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45100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Born: 22 May 185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Occupation: short story writer, novelist, poet, doc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Genre: detective fiction, historical novels, nonfiction, poet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amous book – about detective 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Sherlock Holm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Died: 7 July 1930 (aged 71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Picture 10" descr="Doyle"/>
          <p:cNvPicPr/>
          <p:nvPr/>
        </p:nvPicPr>
        <p:blipFill>
          <a:blip r:embed="rId1"/>
          <a:srcRect l="0" t="0" r="0" b="17027"/>
          <a:stretch/>
        </p:blipFill>
        <p:spPr>
          <a:xfrm>
            <a:off x="2195640" y="1197000"/>
            <a:ext cx="2457360" cy="3240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Sherlock"/>
          <p:cNvPicPr/>
          <p:nvPr/>
        </p:nvPicPr>
        <p:blipFill>
          <a:blip r:embed="rId2"/>
          <a:srcRect l="0" t="0" r="0" b="10557"/>
          <a:stretch/>
        </p:blipFill>
        <p:spPr>
          <a:xfrm>
            <a:off x="5867280" y="1197000"/>
            <a:ext cx="23907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Showcard Gothic"/>
              </a:rPr>
              <a:t>Sir Isaac Newton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3" name="Picture 10" descr="isaac_newton_hd"/>
          <p:cNvPicPr/>
          <p:nvPr/>
        </p:nvPicPr>
        <p:blipFill>
          <a:blip r:embed="rId1"/>
          <a:srcRect l="10293" t="0" r="14209" b="5690"/>
          <a:stretch/>
        </p:blipFill>
        <p:spPr>
          <a:xfrm>
            <a:off x="1547640" y="1413000"/>
            <a:ext cx="3311640" cy="4392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859280" y="1844640"/>
            <a:ext cx="428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Born: 4 January 1643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Occupation: physicist, mathematician, astronomer, natural philosopher, alchemi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Scientific revolu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Died: 31 March 1728 (aged 85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600" y="11592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Showcard Gothic"/>
              </a:rPr>
              <a:t>Charles Darwin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6" name="Picture 10" descr="darwin"/>
          <p:cNvPicPr/>
          <p:nvPr/>
        </p:nvPicPr>
        <p:blipFill>
          <a:blip r:embed="rId1"/>
          <a:srcRect l="0" t="0" r="0" b="4182"/>
          <a:stretch/>
        </p:blipFill>
        <p:spPr>
          <a:xfrm>
            <a:off x="1562040" y="1628640"/>
            <a:ext cx="3154320" cy="4321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716000" y="1052640"/>
            <a:ext cx="4211640" cy="554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ahoma"/>
              </a:rPr>
              <a:t>Full Name: </a:t>
            </a:r>
            <a:r>
              <a:rPr b="1" lang="ru-RU" sz="2600" spc="-1" strike="noStrike">
                <a:solidFill>
                  <a:srgbClr val="eaeaea"/>
                </a:solidFill>
                <a:latin typeface="Times New Roman"/>
              </a:rPr>
              <a:t>Charles Robert Darwin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ahoma"/>
              </a:rPr>
              <a:t>Born: 12 February 1809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ahoma"/>
              </a:rPr>
              <a:t>Alma mater: University of Edinburgh, University of Cambridge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ahoma"/>
              </a:rPr>
              <a:t>Occupation: naturalist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ahoma"/>
              </a:rPr>
              <a:t>Known for: Natural selection,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en-US" sz="2600" spc="-1" strike="noStrike">
                <a:solidFill>
                  <a:srgbClr val="eaeaea"/>
                </a:solidFill>
                <a:latin typeface="Tahoma"/>
              </a:rPr>
              <a:t>The origin of Species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ahoma"/>
              </a:rPr>
              <a:t>Prizes: Royal Medal (1853), Wollaston Medal (1859), Coplay Medal (1864)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ahoma"/>
              </a:rPr>
              <a:t>Died: 19 April 1882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15:39:08Z</dcterms:created>
  <dc:creator>Comp</dc:creator>
  <dc:description/>
  <dc:language>en-US</dc:language>
  <cp:lastModifiedBy>ПК</cp:lastModifiedBy>
  <dcterms:modified xsi:type="dcterms:W3CDTF">2012-01-29T18:31:18Z</dcterms:modified>
  <cp:revision>301</cp:revision>
  <dc:subject/>
  <dc:title>Famous Britons</dc:title>
</cp:coreProperties>
</file>