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20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media/image2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  <p:custShowLst>
    <p:custShow name="Произвольный показ 1" id="0">
      <p:sldLst>
        <p:sld r:id="rId6"/>
        <p:sld r:id="rId7"/>
        <p:sld r:id="rId8"/>
        <p:sld r:id="rId9"/>
        <p:sld r:id="rId11"/>
        <p:sld r:id="rId12"/>
        <p:sld r:id="rId13"/>
        <p:sld r:id="rId18"/>
        <p:sld r:id="rId25"/>
        <p:sld r:id="rId2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F5A-E5E7-483D-80A7-97FE0215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B79-F1D0-42B8-A577-2AC7118C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45A-2473-4FDD-9264-EC77E0C0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621-F9E0-4957-8F2E-21CB22DC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5004-E2F8-4B07-9C6D-A638B430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A833-446E-427F-9DDC-FEF42924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E295-1197-4DBE-988A-DD55A6DD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B12C-9BCB-4BCA-9901-D3377D12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B586-5A66-406B-9557-FC922903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0DFF-44B6-4109-AB23-8DFAC50C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068D-E52A-42A0-9F68-8E705A42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996-27D9-4D62-B2CB-7A8A6989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EEED-F502-4F13-8455-557C30C3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6BBF-AC4D-41EF-BEB8-1AB8025F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5B4E-7B9F-4CCF-8250-EE898537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5871-40F7-49CE-9478-AF0533DE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F230-48E9-4BCB-943D-C2F051F6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5C65-C076-4365-AFC2-57E929EE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95005-7368-481C-966B-5EE9C9EF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E4833-DAD7-4788-B110-A607CA44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60FDE-99A2-4DE4-BC91-E3B7E29D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20A5D-82F0-41AE-A25F-E4FA522C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AB2-2AB1-468C-BCB1-96F20000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81F2B-30E6-4F2A-90DC-237B4814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EC905-DD5A-45C6-89E8-3EE91B73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18B05-4113-4D3A-8405-20A5FD70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91FA2-4236-42D6-ACF4-8E9FC6A8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6CDDA-52FE-4894-90D3-50A8C1D8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57FF-4816-47EF-92D3-0B295B1C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BD21-2E0F-4A45-A26C-0FDD9382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1B866-A949-45CE-9C46-75B9EA4B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6FB68-6337-4327-A259-59C4E854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5FF99-3636-4C43-A2E4-3FA9715C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0BC-3CFC-4365-A811-86A346F7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A9284-FC80-431C-881D-7749B0FE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97F7D-14CF-41AF-9C20-AFDC0DE4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6C01A-B188-4231-996E-59499D9F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96A8C-4A77-4741-A294-B8FDD25F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C7940-CE29-44D9-81CB-BCF63971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87A5E-6331-4C95-A233-6D36DE95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C75D8-FF91-47B0-A918-65C7E5C8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8D6DD-77A3-4697-902C-C50F3B6E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36CB5-D965-4423-8DE2-3B61480D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903-BCA2-49CE-8E11-4AFEB9E2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EBA-48F8-4581-A5FB-2F249E09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DDB-5C75-498F-81FE-CAB69B6B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2C0-B7B0-4078-8CA3-F9472B76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015-D122-4BD0-984D-9D079427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9ABF-666A-4C46-86A2-51CA2DFED95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027C-B61F-417C-9629-A5ACE8A69BB9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67AE-CAA7-4786-A25D-324F6487DA70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50AF-B595-4838-8EA6-7103371A9FC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9240" y="2514600"/>
            <a:ext cx="74008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Формы</a:t>
            </a:r>
            <a:br>
              <a:rPr sz="4400"/>
            </a:b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работы с одарёнными детьми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228600" y="380988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c2e1e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дога мой ласковый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151920" y="25909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езентацию подготовила: Парахонько  Людмила Ивановна, учитель  русского языка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литературы, 1  квалификационной категории,  КОУ «Тарская ООШ №12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2"/>
          <a:stretch/>
        </p:blipFill>
        <p:spPr>
          <a:xfrm>
            <a:off x="5791320" y="304920"/>
            <a:ext cx="2936880" cy="21333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онкурс сочинений в стиле Н.В.Гоголя.  2009 год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52880" y="2819160"/>
            <a:ext cx="2286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2" descr="04"/>
          <p:cNvPicPr/>
          <p:nvPr/>
        </p:nvPicPr>
        <p:blipFill>
          <a:blip r:embed="rId1"/>
          <a:srcRect l="11323" t="7545" r="18867" b="0"/>
          <a:stretch/>
        </p:blipFill>
        <p:spPr>
          <a:xfrm>
            <a:off x="4114800" y="2590920"/>
            <a:ext cx="4294080" cy="40384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1219320" y="-299160"/>
            <a:ext cx="7086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609480" y="1399320"/>
            <a:ext cx="25146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сем молоденькая мама,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  Богородицею стал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 малень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ынок её Христ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нь, когда он появился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ожде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праздник мир вес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зднует люб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н чудесный и наивный,     как дит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коснё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тлый Ангел всех   крыл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 все сказки завершаются добром. Колыбель Хри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има качает внов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ыбельную поёт сама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вятая В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вёздочкой гор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Надеж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ый дом благослови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457200" y="1295280"/>
            <a:ext cx="52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Рождественское чудо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4191120" y="213372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ца: Шелехова Ирина, ученица 7 класса.  2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курс творческих работ  «</a:t>
            </a: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Гимн чести, мужеству и славе»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минация конкурса: сочинени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ТЕМА:   </a:t>
            </a: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« ЭХО  АФГАНСКОЙ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                   ВОЙНЫ»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63520" y="2438280"/>
            <a:ext cx="73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Нам не жалко себя, но обидно за лучши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ребят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Нам обидно за тех, кто однажды не сяде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за праздничный сто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И не скажет: « А помнишь ты, мама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ведь я обещал и пришёл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Нет, не станем мы плакать, ведь слёз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не красят солдат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Лишь слезинка мелькнёт, и суровее станет наш взгляд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Батальонная песн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304920" y="1523880"/>
            <a:ext cx="525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2009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ница: Аширбаева Гульфия, ученица 8 класса. 2 место в райо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«Великая Отечественная война для меня это…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560" y="3276360"/>
            <a:ext cx="7467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Я только раз видала рукопашный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Раз – наяву. И сотни раз – во сне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Кто говорит, что на войне не страшно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Тот ничего не знает о войн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Юлия Друнин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7702"/>
          <p:cNvPicPr/>
          <p:nvPr/>
        </p:nvPicPr>
        <p:blipFill>
          <a:blip r:embed="rId1"/>
          <a:srcRect l="2254" t="11431" r="0" b="20002"/>
          <a:stretch/>
        </p:blipFill>
        <p:spPr>
          <a:xfrm>
            <a:off x="5486400" y="2971800"/>
            <a:ext cx="3465360" cy="35812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4"/>
          <p:cNvSpPr/>
          <p:nvPr/>
        </p:nvSpPr>
        <p:spPr>
          <a:xfrm>
            <a:off x="457200" y="2666880"/>
            <a:ext cx="472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2010 го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Конкурс сочинений-рассуждений. Участница: Шелехова Ирина 8 класс. 2 ме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449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ектная деятельность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24382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настоящее время очень популярный вид деятель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четает в себе творческую и познавательную деятельн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ктивно развивает самостоятельную работу учащихс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читывает личные интересы и цели учащихс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ступает как пространство поиска и творчест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вляется межпредметной деятельностью: решение проблемы, которая заложена в каком-либо проекте, всегда требует интегрированных зна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286000" cy="21798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3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 следам Белого Кролик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Picture 4" descr="C:\Users\женя\Desktop\сканир\1.jpeg"/>
          <p:cNvPicPr/>
          <p:nvPr/>
        </p:nvPicPr>
        <p:blipFill>
          <a:blip r:embed="rId1"/>
          <a:stretch/>
        </p:blipFill>
        <p:spPr>
          <a:xfrm>
            <a:off x="1295280" y="1981080"/>
            <a:ext cx="6324840" cy="4373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Users\женя\Desktop\сканир\1.jpeg"/>
          <p:cNvPicPr/>
          <p:nvPr/>
        </p:nvPicPr>
        <p:blipFill>
          <a:blip r:embed="rId2"/>
          <a:stretch/>
        </p:blipFill>
        <p:spPr>
          <a:xfrm>
            <a:off x="1447920" y="2133720"/>
            <a:ext cx="6324480" cy="4373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Этапы проекта «По следам Белого Кролика».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011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Исследовать основные этапы творчества писателя Льюиса Кэррол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гадать задачи, головоломки, которыми развлекал своих студентов  и друзей профессор Оксфордского университе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писание письма юной особ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ть фото для обложки книги.  Выбрать подходящую фотомодель для Алис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Береги честь смолоду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Picture 2" descr="C:\Users\женя\Desktop\сканир\2.jpeg"/>
          <p:cNvPicPr/>
          <p:nvPr/>
        </p:nvPicPr>
        <p:blipFill>
          <a:blip r:embed="rId1"/>
          <a:stretch/>
        </p:blipFill>
        <p:spPr>
          <a:xfrm>
            <a:off x="228600" y="1981080"/>
            <a:ext cx="3389400" cy="4505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C:\Users\женя\Desktop\сканир\3.jpeg"/>
          <p:cNvPicPr/>
          <p:nvPr/>
        </p:nvPicPr>
        <p:blipFill>
          <a:blip r:embed="rId2"/>
          <a:stretch/>
        </p:blipFill>
        <p:spPr>
          <a:xfrm>
            <a:off x="4191120" y="2666880"/>
            <a:ext cx="450504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Этапы  проекта «Береги честь смолоду»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010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142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.Что означают этические понятия? Честь, достоинство, честный поступок, достойное повед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Защита чести и достоинства. 19 век. Представления о чести и достоинстве современников 19 века. Их отношение к дуэл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 Настоящий герой поэмы. Вопросы к поэме М.Ю.Лермонтова «Песня про купца Калашникова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 Проблема чести, достоинства, внутреннего выбора. А.С.Пушкин «Капитанская дочка». Написать эссе  к пословице «Береги честь смолоду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 Определение черт характера человека чести. Составить внутренний кодекс че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762120" y="4114800"/>
            <a:ext cx="4343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КОДЕКС ЧЕ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Century Gothic"/>
              </a:rPr>
              <a:t>1. Честь по заслуг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Century Gothic"/>
              </a:rPr>
              <a:t>2. Честь ум рождает, бесчестье и последний отним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Century Gothic"/>
              </a:rPr>
              <a:t>3. Честь головою оберег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Century Gothic"/>
              </a:rPr>
              <a:t>4. Честь тверда, в слове стой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Century Gothic"/>
              </a:rPr>
              <a:t>5. Чести дворянин не кинет, хоть головушка покин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Century Gothic"/>
              </a:rPr>
              <a:t>6. Смерть лучше бесчест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Century Gothic"/>
              </a:rPr>
              <a:t>    </a:t>
            </a:r>
            <a:r>
              <a:rPr b="1" lang="ru-RU" sz="1400" spc="-1" strike="noStrike">
                <a:solidFill>
                  <a:srgbClr val="5f5f5f"/>
                </a:solidFill>
                <a:latin typeface="Century Gothic"/>
              </a:rPr>
              <a:t>Бесчестье хуже смер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Рисунок1"/>
          <p:cNvPicPr/>
          <p:nvPr/>
        </p:nvPicPr>
        <p:blipFill>
          <a:blip r:embed="rId1"/>
          <a:stretch/>
        </p:blipFill>
        <p:spPr>
          <a:xfrm>
            <a:off x="5486400" y="4038480"/>
            <a:ext cx="288144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Дистанционные конкурсы.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2012 год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ют возможность раскрыть себ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следить развитие  приобретаемых умений и своих достиже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имулируют разностороннее образова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вышение положительной мотивации к предмет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onstantia"/>
              </a:rPr>
              <a:t>Результат участия детей в дистанционных конкурсах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нтеллектуальный рост учащихся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глубление и расширение программного материала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асширение кругозора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азвитие основных компетентностей и творческих      способностей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азвитие умения работать с информацией, поиск информации в сети Интернет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вершенствование навыков работы с компьютером, а также «переживание» ситуации успеха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вышение мотивации и познавательного интереса, результативность участия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6858000" y="152280"/>
            <a:ext cx="204156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Международный  дистанционный конкурс  орфографической грамотности.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«Грамотей-марафон 2012»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9903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тапы конкурс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Бег с препятствиями. Преодолеть орфографические барьеры. Задание состоит из 84 пар слов.  В каждой паре одно слово написано правильно, а другое – с ошибкой. Задача – выбрать правильное слово и отметить галочко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лалом. Спуск по извилистой трассе на сноуборде или лыжах.  На пути 50 ворот – сквозь них нужно проехать. Огибай флажки-препятствия из словарных слов. В рамочке под номерами даны несколько вариантов написания  одного и того же слова. Выбери правильны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вуп. Экстремальный вид парашютного спорта. В тексте нужно найти орфографические ошибки. Задача – с высоты увидеть ошибк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Рисунок 3" descr=""/>
          <p:cNvPicPr/>
          <p:nvPr/>
        </p:nvPicPr>
        <p:blipFill>
          <a:blip r:embed="rId1"/>
          <a:srcRect l="3278" t="26225" r="8997" b="26033"/>
          <a:stretch/>
        </p:blipFill>
        <p:spPr>
          <a:xfrm>
            <a:off x="380880" y="4038480"/>
            <a:ext cx="3581640" cy="266724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"/>
          <p:cNvPicPr/>
          <p:nvPr/>
        </p:nvPicPr>
        <p:blipFill>
          <a:blip r:embed="rId2"/>
          <a:srcRect l="3819" t="26166" r="8476" b="25472"/>
          <a:stretch/>
        </p:blipFill>
        <p:spPr>
          <a:xfrm>
            <a:off x="4267080" y="3992400"/>
            <a:ext cx="3902040" cy="2865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0" y="228600"/>
            <a:ext cx="746748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Цель работы с одарёнными детьми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500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еспечить возможности творческой самореализации личности в различных видах дея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114800" cy="30718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Формы работы с талантливыми учащимися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ндивидуальный подход на урок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полнительные занят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астие в олимпиад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сихологические консульт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нкурсы, интеллектуальные игр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ектная деятельност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спользование современных средств информ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здание портфоли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истанционные конкурс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5410080" y="2209680"/>
            <a:ext cx="277992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9240" y="2514240"/>
            <a:ext cx="81626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В каждом человеке солнце.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олько дайте ему светить».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               Сократ.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2280" y="3352320"/>
            <a:ext cx="830592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2819520" cy="2668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298440" y="-390600"/>
            <a:ext cx="9101160" cy="19749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-360" y="1523520"/>
            <a:ext cx="5791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являют любопытство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едлагают много идей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вободно высказывают мнени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бладают богатой фантази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бладают чувством юмор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увствительны к красот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конфликтны, не приспособленц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онструктивно критичн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тремление к самовыражению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WordArt 5"/>
          <p:cNvSpPr txBox="1"/>
          <p:nvPr/>
        </p:nvSpPr>
        <p:spPr>
          <a:xfrm rot="20476800">
            <a:off x="152280" y="2209680"/>
            <a:ext cx="2438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7" name="WordArt 8"/>
          <p:cNvSpPr txBox="1"/>
          <p:nvPr/>
        </p:nvSpPr>
        <p:spPr>
          <a:xfrm rot="20476800">
            <a:off x="3962160" y="2361960"/>
            <a:ext cx="275436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8" name="WordArt 11"/>
          <p:cNvSpPr txBox="1"/>
          <p:nvPr/>
        </p:nvSpPr>
        <p:spPr>
          <a:xfrm rot="20476800">
            <a:off x="533520" y="5714640"/>
            <a:ext cx="2438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9" name="WordArt 16"/>
          <p:cNvSpPr txBox="1"/>
          <p:nvPr/>
        </p:nvSpPr>
        <p:spPr>
          <a:xfrm rot="20476800">
            <a:off x="2743200" y="4343040"/>
            <a:ext cx="2438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10" name="WordArt 17"/>
          <p:cNvSpPr txBox="1"/>
          <p:nvPr/>
        </p:nvSpPr>
        <p:spPr>
          <a:xfrm rot="20476800">
            <a:off x="1905120" y="2514240"/>
            <a:ext cx="2438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 advTm="20000"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5"/>
          <p:cNvSpPr txBox="1"/>
          <p:nvPr/>
        </p:nvSpPr>
        <p:spPr>
          <a:xfrm>
            <a:off x="1066680" y="6095880"/>
            <a:ext cx="6229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едметные олимпиады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7696080" cy="17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пособствуют выявлению талантливых дет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ановление и развитие образовательных потребностей лич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ка учащихся к получению высшего образов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ка к творческому труду  в разных областях деятель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3"/>
          <a:stretch/>
        </p:blipFill>
        <p:spPr>
          <a:xfrm>
            <a:off x="2514600" y="4038480"/>
            <a:ext cx="3409920" cy="2546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Областная филологическая олимпиада школьников «История России в языке и тексте», посвящённая Году Российской истории.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2012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80880" y="2895480"/>
          <a:ext cx="8229600" cy="3048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.и. участ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9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9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9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9ca3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епёлкина Татья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ндаурова Ан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мёнова Надеж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</a:tbl>
          </a:graphicData>
        </a:graphic>
      </p:graphicFrame>
      <p:pic>
        <p:nvPicPr>
          <p:cNvPr id="217" name="Рисунок 1" descr="Логотип"/>
          <p:cNvPicPr/>
          <p:nvPr/>
        </p:nvPicPr>
        <p:blipFill>
          <a:blip r:embed="rId1"/>
          <a:stretch/>
        </p:blipFill>
        <p:spPr>
          <a:xfrm>
            <a:off x="3352680" y="914400"/>
            <a:ext cx="494028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«Русский медвежонок – языкознание для всех».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04920" y="1828800"/>
          <a:ext cx="7345080" cy="4751280"/>
        </p:xfrm>
        <a:graphic>
          <a:graphicData uri="http://schemas.openxmlformats.org/drawingml/2006/table">
            <a:tbl>
              <a:tblPr/>
              <a:tblGrid>
                <a:gridCol w="2438280"/>
                <a:gridCol w="1447920"/>
                <a:gridCol w="1904760"/>
                <a:gridCol w="1554120"/>
              </a:tblGrid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201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амилия 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есто в школ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ратухина Веро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акетко Надеж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даурова Ан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7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Шехтель Светл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акалова  Нас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рков Андр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лягина Ю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9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ёркин Ден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20" name="Picture 55" descr=""/>
          <p:cNvPicPr/>
          <p:nvPr/>
        </p:nvPicPr>
        <p:blipFill>
          <a:blip r:embed="rId1"/>
          <a:stretch/>
        </p:blipFill>
        <p:spPr>
          <a:xfrm>
            <a:off x="7772400" y="4648320"/>
            <a:ext cx="1062000" cy="14475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"/>
          <p:cNvPicPr/>
          <p:nvPr/>
        </p:nvPicPr>
        <p:blipFill>
          <a:blip r:embed="rId2"/>
          <a:stretch/>
        </p:blipFill>
        <p:spPr>
          <a:xfrm>
            <a:off x="7162920" y="228600"/>
            <a:ext cx="160020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аучно-практическая конференция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5" descr="C:\Users\женя\Desktop\сканир\4.jpeg"/>
          <p:cNvPicPr/>
          <p:nvPr/>
        </p:nvPicPr>
        <p:blipFill>
          <a:blip r:embed="rId1"/>
          <a:srcRect l="8931" t="9238" r="27831" b="20871"/>
          <a:stretch/>
        </p:blipFill>
        <p:spPr>
          <a:xfrm>
            <a:off x="5562720" y="1828800"/>
            <a:ext cx="2958840" cy="44974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457200" y="2209680"/>
            <a:ext cx="441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ие во Всероссийской научно-практической конференции с международным участ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04920" y="2819520"/>
          <a:ext cx="5029200" cy="2631960"/>
        </p:xfrm>
        <a:graphic>
          <a:graphicData uri="http://schemas.openxmlformats.org/drawingml/2006/table">
            <a:tbl>
              <a:tblPr/>
              <a:tblGrid>
                <a:gridCol w="2209680"/>
                <a:gridCol w="1295280"/>
                <a:gridCol w="15242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а опубликованной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ыходные данные из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Развитие исследовательских умений обучающихся в процессе проектно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.05.20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Современные методы изучения литературы в школ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-05.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26" name="TextBox 5"/>
          <p:cNvSpPr/>
          <p:nvPr/>
        </p:nvSpPr>
        <p:spPr>
          <a:xfrm>
            <a:off x="609480" y="5943600"/>
            <a:ext cx="449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: Парахонько Людмила Ивановна, учитель русского языка и литературы.   МОУ «Тарская ООШ № 1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                                       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      </a:t>
            </a: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Литературно-творческие     конкурсы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63520" y="2285640"/>
            <a:ext cx="7386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2010-2011 го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Если бы я был президентом..» (районный, победител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Эхо афганской войны». (областной, 2 место в районе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нкурс сочинений в стиле Н.В. Гоголя «Рождественское чудо» ( городской, 2 место, Шелехова Ирина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Великая Отечественная война для меня это …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 2 место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Любимому городу сказку дарю». ( Стихи «Подарила мне Россия» Шехтель Светы 6 кл.,  «Колокольный звон» Бакаловой Насти 6 кл, вошли в сборник творческих работ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705720" y="762120"/>
            <a:ext cx="199692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Литературно-творческие     конкурсы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2012 го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ворческий конкурс для педагогов и родителей «Зимний калейдоскоп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«Талант с колыбели» г.Курган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частник: Парахонько Людмила Ивановн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2666880"/>
          <a:ext cx="6095880" cy="1621080"/>
        </p:xfrm>
        <a:graphic>
          <a:graphicData uri="http://schemas.openxmlformats.org/drawingml/2006/table">
            <a:tbl>
              <a:tblPr/>
              <a:tblGrid>
                <a:gridCol w="2895480"/>
                <a:gridCol w="1523880"/>
                <a:gridCol w="1676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омин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d9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В череде морозных дн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учивание зимних иг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евраль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иплом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Зимние праздники. Встречаем Рождество».  Разработка сценар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евраль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ауре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33" name="Рисунок 4" descr="C:\Documents and Settings\admin\Рабочий стол\IMG_1868.JPG"/>
          <p:cNvPicPr/>
          <p:nvPr/>
        </p:nvPicPr>
        <p:blipFill>
          <a:blip r:embed="rId1"/>
          <a:stretch/>
        </p:blipFill>
        <p:spPr>
          <a:xfrm>
            <a:off x="4800600" y="4419720"/>
            <a:ext cx="2895480" cy="21333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C:\Documents and Settings\admin\Рабочий стол\IMG_1867.JPG"/>
          <p:cNvPicPr/>
          <p:nvPr/>
        </p:nvPicPr>
        <p:blipFill>
          <a:blip r:embed="rId2"/>
          <a:stretch/>
        </p:blipFill>
        <p:spPr>
          <a:xfrm>
            <a:off x="457200" y="43434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женя</dc:creator>
  <dc:description/>
  <dc:language>en-US</dc:language>
  <cp:lastModifiedBy>admin</cp:lastModifiedBy>
  <dcterms:modified xsi:type="dcterms:W3CDTF">2012-06-04T15:27:48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