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6.png" ContentType="image/png"/>
  <Override PartName="/ppt/media/image7.png" ContentType="image/png"/>
  <Override PartName="/ppt/media/image1.jpeg" ContentType="image/jpeg"/>
  <Override PartName="/ppt/media/image20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3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jpeg" ContentType="image/jpe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media/image12.png" ContentType="image/png"/>
  <Override PartName="/ppt/media/image23.jpeg" ContentType="image/jpeg"/>
  <Override PartName="/ppt/media/image2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  <p:custShowLst>
    <p:custShow name="Произвольный показ 1" id="0">
      <p:sldLst>
        <p:sld r:id="rId6"/>
        <p:sld r:id="rId7"/>
        <p:sld r:id="rId8"/>
        <p:sld r:id="rId9"/>
        <p:sld r:id="rId11"/>
        <p:sld r:id="rId12"/>
        <p:sld r:id="rId13"/>
        <p:sld r:id="rId18"/>
        <p:sld r:id="rId25"/>
        <p:sld r:id="rId2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E7D2-DA7E-4E13-9119-556F104B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9F50-B8C3-4D2B-8694-FA98BAF6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5ADA-663D-48A5-BB38-D72D3FF21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6160-8554-4B48-8A30-A8FB72EC5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D528-39A1-40A6-BAD9-9ED43F78D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A824-C376-4C9C-AED2-FBC62CF7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0746-86B3-4226-BCA5-0E16EA14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E078-7EA6-4251-8116-64D0387F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39C7-D1D8-461E-9265-AD96268B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F082-0145-4C1D-A5DB-30213057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10B0-341E-476B-B64C-12B40731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16A3-FFEE-43A0-BA63-1D2A7B4D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A4BF-0503-43EF-8C06-4E660C55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1154-9312-41D7-BE39-F6189A15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A768-C43D-48C7-BFFD-96D210F0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6739-9B14-4DC4-AE2D-CB0DB6DA4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33E4-98B2-4FD3-93BD-9357E33DD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1AEAD-F5FC-481E-A346-417C82573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FAE5C-D5A4-44DF-B178-955E875F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AAD15-03FD-489D-99B2-332D74F3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F4A7D-B33D-421D-90C3-3A5160AC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979EA-D05F-4B3F-95F1-42D18DE5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F065-92E8-4717-9A9A-5FEA8469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65972-302D-4049-AC87-6F016542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345A3-D9A2-4028-A6B1-DF58E9A0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F0208-8FDD-4834-A4E9-F5555AD8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62F4B-4E41-4F29-8052-60B58B10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CB1BF-C51F-4DB2-8D37-D3D03E6B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B80CE-4FD3-41DA-A565-DD39C5016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A4BD1-7F05-49B0-88F1-E91CE1AE2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DF8A4-FA11-43C6-8A7D-CC2A182DB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10064-00F7-471D-8537-B149A933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B0D10-6ABD-4E28-B0F9-7DF6D0AB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42F5-9E4F-4292-A912-10087615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676A6-F7ED-41DD-A2A9-A711D1AA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7196F-F6BE-4E86-91B4-9BFB26AD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D7460-3B61-437B-8998-FDF87C60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58B42-EC62-4F9B-860D-7F43C5F9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9FF52-40EB-44E1-986E-460D1452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8832A-B874-451A-80AE-881F69E1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EC332-EDA4-425B-BEF6-6B497508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F4B7D-56A1-4D67-9415-2748CA263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758CF-B595-49FA-A774-4AC1F1031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54C5-33E9-4A92-ABCC-0AC8ADFB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0AA3-D9E2-43A7-B3E9-F6033A59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3672-0A3D-45AC-88AF-DEABE427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20F5-48E1-4AB2-9AD7-BF1DB6A6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E563-C073-4EDC-B566-E587E66F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6818-B620-43B9-8DAA-363B972B9DC8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37CD-AFAF-42DE-9AA0-4F53CAA9B770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8ED1-5631-40BF-A0A6-7DDB384A5DAA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A8A7-CA0E-4CA9-AA67-A5C71ECAD7A3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9240" y="2514600"/>
            <a:ext cx="74008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Формы</a:t>
            </a:r>
            <a:br>
              <a:rPr sz="4400"/>
            </a:b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работы с одарёнными детьми.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228600" y="3809880"/>
            <a:ext cx="7010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c2e1e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дога мой ласковый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151920" y="25909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резентацию подготовила: Парахонько  Людмила Ивановна, учитель  русского языка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и литературы, 1  квалификационной категории,  КОУ «Тарская ООШ №12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7" descr=""/>
          <p:cNvPicPr/>
          <p:nvPr/>
        </p:nvPicPr>
        <p:blipFill>
          <a:blip r:embed="rId2"/>
          <a:stretch/>
        </p:blipFill>
        <p:spPr>
          <a:xfrm>
            <a:off x="5791320" y="304920"/>
            <a:ext cx="2936880" cy="213336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Конкурс сочинений в стиле Н.В.Гоголя.  2009 год.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952880" y="2819160"/>
            <a:ext cx="22860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Picture 2" descr="04"/>
          <p:cNvPicPr/>
          <p:nvPr/>
        </p:nvPicPr>
        <p:blipFill>
          <a:blip r:embed="rId1"/>
          <a:srcRect l="11323" t="7545" r="18867" b="0"/>
          <a:stretch/>
        </p:blipFill>
        <p:spPr>
          <a:xfrm>
            <a:off x="4114800" y="2590920"/>
            <a:ext cx="4294080" cy="40384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"/>
          <p:cNvSpPr/>
          <p:nvPr/>
        </p:nvSpPr>
        <p:spPr>
          <a:xfrm>
            <a:off x="1219320" y="-299160"/>
            <a:ext cx="7086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609480" y="1399320"/>
            <a:ext cx="251460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всем молоденькая мама,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  Богородицею стал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зван малень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ынок её Христо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ень, когда он появился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ождеств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т праздник мир вес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зднует люб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н чудесный и наивный,     как дит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усть коснё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ветлый Ангел всех   крыло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 все сказки завершаются добром. Колыбель Хри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има качает внов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Колыбельную поёт сама любов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 святая В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вёздочкой гори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усть Надеж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ждый дом благословит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6"/>
          <p:cNvSpPr/>
          <p:nvPr/>
        </p:nvSpPr>
        <p:spPr>
          <a:xfrm>
            <a:off x="457200" y="1295280"/>
            <a:ext cx="522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Рождественское чудо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7"/>
          <p:cNvSpPr/>
          <p:nvPr/>
        </p:nvSpPr>
        <p:spPr>
          <a:xfrm>
            <a:off x="4191120" y="213372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ца: Шелехова Ирина, ученица 7 класса.  2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нкурс творческих работ  «</a:t>
            </a:r>
            <a:r>
              <a:rPr b="0" lang="ru-RU" sz="2200" spc="-1" strike="noStrike">
                <a:solidFill>
                  <a:srgbClr val="0070c0"/>
                </a:solidFill>
                <a:latin typeface="Calibri"/>
              </a:rPr>
              <a:t>Гимн чести, мужеству и славе»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оминация конкурса: сочинение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ТЕМА:   </a:t>
            </a:r>
            <a:r>
              <a:rPr b="0" lang="ru-RU" sz="2200" spc="-1" strike="noStrike">
                <a:solidFill>
                  <a:srgbClr val="0070c0"/>
                </a:solidFill>
                <a:latin typeface="Calibri"/>
              </a:rPr>
              <a:t>« ЭХО  АФГАНСКОЙ</a:t>
            </a:r>
            <a:br>
              <a:rPr sz="2200"/>
            </a:br>
            <a:r>
              <a:rPr b="0" lang="ru-RU" sz="2200" spc="-1" strike="noStrike">
                <a:solidFill>
                  <a:srgbClr val="0070c0"/>
                </a:solidFill>
                <a:latin typeface="Calibri"/>
              </a:rPr>
              <a:t>                   ВОЙНЫ».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63520" y="2438280"/>
            <a:ext cx="7386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Нам не жалко себя, но обидно за лучши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ребят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Нам обидно за тех, кто однажды не сяде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за праздничный сто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И не скажет: « А помнишь ты, мама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ведь я обещал и пришёл»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Нет, не станем мы плакать, ведь слёз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не красят солдат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Лишь слезинка мелькнёт, и суровее станет наш взгляд»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Батальонная песн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304920" y="1523880"/>
            <a:ext cx="5257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2009 г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астница: Аширбаева Гульфия, ученица 8 класса. 2 место в райо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«Великая Отечественная война для меня это…»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560" y="3276360"/>
            <a:ext cx="74674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Я только раз видала рукопашный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Раз – наяву. И сотни раз – во сне…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Кто говорит, что на войне не страшно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Тот ничего не знает о войн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Юлия Друнин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2" descr="7702"/>
          <p:cNvPicPr/>
          <p:nvPr/>
        </p:nvPicPr>
        <p:blipFill>
          <a:blip r:embed="rId1"/>
          <a:srcRect l="2254" t="11431" r="0" b="20002"/>
          <a:stretch/>
        </p:blipFill>
        <p:spPr>
          <a:xfrm>
            <a:off x="5486400" y="2971800"/>
            <a:ext cx="3465360" cy="3581280"/>
          </a:xfrm>
          <a:prstGeom prst="rect">
            <a:avLst/>
          </a:prstGeom>
          <a:ln w="0">
            <a:noFill/>
          </a:ln>
        </p:spPr>
      </p:pic>
      <p:sp>
        <p:nvSpPr>
          <p:cNvPr id="248" name="TextBox 4"/>
          <p:cNvSpPr/>
          <p:nvPr/>
        </p:nvSpPr>
        <p:spPr>
          <a:xfrm>
            <a:off x="457200" y="2666880"/>
            <a:ext cx="472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2010 год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Конкурс сочинений-рассуждений. Участница: Шелехова Ирина 8 класс. 2 мест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449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ектная деятельность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24382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настоящее время очень популярный вид деятельност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очетает в себе творческую и познавательную деятельность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ктивно развивает самостоятельную работу учащихс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Учитывает личные интересы и цели учащихс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ыступает как пространство поиска и творчеств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Является межпредметной деятельностью: решение проблемы, которая заложена в каком-либо проекте, всегда требует интегрированных знани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6858000" y="228600"/>
            <a:ext cx="2286000" cy="21798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wheel spokes="3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 следам Белого Кролика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3" name="Picture 4" descr="C:\Users\женя\Desktop\сканир\1.jpeg"/>
          <p:cNvPicPr/>
          <p:nvPr/>
        </p:nvPicPr>
        <p:blipFill>
          <a:blip r:embed="rId1"/>
          <a:stretch/>
        </p:blipFill>
        <p:spPr>
          <a:xfrm>
            <a:off x="1295280" y="1981080"/>
            <a:ext cx="6324840" cy="43736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C:\Users\женя\Desktop\сканир\1.jpeg"/>
          <p:cNvPicPr/>
          <p:nvPr/>
        </p:nvPicPr>
        <p:blipFill>
          <a:blip r:embed="rId2"/>
          <a:stretch/>
        </p:blipFill>
        <p:spPr>
          <a:xfrm>
            <a:off x="1447920" y="2133720"/>
            <a:ext cx="6324480" cy="4373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Этапы проекта «По следам Белого Кролика». 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2011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0666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1.Исследовать основные этапы творчества писателя Льюиса Кэрролл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згадать задачи, головоломки, которыми развлекал своих студентов  и друзей профессор Оксфордского университет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писание письма юной особ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делать фото для обложки книги.  Выбрать подходящую фотомодель для Алис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Береги честь смолоду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8" name="Picture 2" descr="C:\Users\женя\Desktop\сканир\2.jpeg"/>
          <p:cNvPicPr/>
          <p:nvPr/>
        </p:nvPicPr>
        <p:blipFill>
          <a:blip r:embed="rId1"/>
          <a:stretch/>
        </p:blipFill>
        <p:spPr>
          <a:xfrm>
            <a:off x="228600" y="1981080"/>
            <a:ext cx="3389400" cy="45054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C:\Users\женя\Desktop\сканир\3.jpeg"/>
          <p:cNvPicPr/>
          <p:nvPr/>
        </p:nvPicPr>
        <p:blipFill>
          <a:blip r:embed="rId2"/>
          <a:stretch/>
        </p:blipFill>
        <p:spPr>
          <a:xfrm>
            <a:off x="4191120" y="2666880"/>
            <a:ext cx="4505040" cy="3276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Этапы  проекта «Береги честь смолоду» 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2010 год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1426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.Что означают этические понятия? Честь, достоинство, честный поступок, достойное поведени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.Защита чести и достоинства. 19 век. Представления о чести и достоинстве современников 19 века. Их отношение к дуэл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3. Настоящий герой поэмы. Вопросы к поэме М.Ю.Лермонтова «Песня про купца Калашникова»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4. Проблема чести, достоинства, внутреннего выбора. А.С.Пушкин «Капитанская дочка». Написать эссе  к пословице «Береги честь смолоду»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5. Определение черт характера человека чести. Составить внутренний кодекс чест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TextBox 3"/>
          <p:cNvSpPr/>
          <p:nvPr/>
        </p:nvSpPr>
        <p:spPr>
          <a:xfrm>
            <a:off x="762120" y="4114800"/>
            <a:ext cx="43434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entury Gothic"/>
              </a:rPr>
              <a:t>КОДЕКС ЧЕ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f5f5f"/>
                </a:solidFill>
                <a:latin typeface="Century Gothic"/>
              </a:rPr>
              <a:t>1. Честь по заслуг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f5f5f"/>
                </a:solidFill>
                <a:latin typeface="Century Gothic"/>
              </a:rPr>
              <a:t>2. Честь ум рождает, бесчестье и последний отним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f5f5f"/>
                </a:solidFill>
                <a:latin typeface="Century Gothic"/>
              </a:rPr>
              <a:t>3. Честь головою оберега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f5f5f"/>
                </a:solidFill>
                <a:latin typeface="Century Gothic"/>
              </a:rPr>
              <a:t>4. Честь тверда, в слове стой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f5f5f"/>
                </a:solidFill>
                <a:latin typeface="Century Gothic"/>
              </a:rPr>
              <a:t>5. Чести дворянин не кинет, хоть головушка покине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f5f5f"/>
                </a:solidFill>
                <a:latin typeface="Century Gothic"/>
              </a:rPr>
              <a:t>6. Смерть лучше бесчесть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f5f5f"/>
                </a:solidFill>
                <a:latin typeface="Century Gothic"/>
              </a:rPr>
              <a:t>    </a:t>
            </a:r>
            <a:r>
              <a:rPr b="1" lang="ru-RU" sz="1400" spc="-1" strike="noStrike">
                <a:solidFill>
                  <a:srgbClr val="5f5f5f"/>
                </a:solidFill>
                <a:latin typeface="Century Gothic"/>
              </a:rPr>
              <a:t>Бесчестье хуже смер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1" descr="Рисунок1"/>
          <p:cNvPicPr/>
          <p:nvPr/>
        </p:nvPicPr>
        <p:blipFill>
          <a:blip r:embed="rId1"/>
          <a:stretch/>
        </p:blipFill>
        <p:spPr>
          <a:xfrm>
            <a:off x="5486400" y="4038480"/>
            <a:ext cx="288144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Дистанционные конкурсы.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2012 год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ают возможность раскрыть себ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тследить развитие  приобретаемых умений и своих достижени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тимулируют разностороннее образовани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вышение положительной мотивации к предмету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Constantia"/>
              </a:rPr>
              <a:t>Результат участия детей в дистанционных конкурсах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интеллектуальный рост учащихся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углубление и расширение программного материала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расширение кругозора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развитие основных компетентностей и творческих      способностей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развитие умения работать с информацией, поиск информации в сети Интернет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овершенствование навыков работы с компьютером, а также «переживание» ситуации успеха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овышение мотивации и познавательного интереса, результативность участия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6" name="Picture 5" descr=""/>
          <p:cNvPicPr/>
          <p:nvPr/>
        </p:nvPicPr>
        <p:blipFill>
          <a:blip r:embed="rId1"/>
          <a:stretch/>
        </p:blipFill>
        <p:spPr>
          <a:xfrm>
            <a:off x="6858000" y="152280"/>
            <a:ext cx="204156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Международный  дистанционный конкурс  орфографической грамотности.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«Грамотей-марафон 2012»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9903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Этапы конкурс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Бег с препятствиями. Преодолеть орфографические барьеры. Задание состоит из 84 пар слов.  В каждой паре одно слово написано правильно, а другое – с ошибкой. Задача – выбрать правильное слово и отметить галочкой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лалом. Спуск по извилистой трассе на сноуборде или лыжах.  На пути 50 ворот – сквозь них нужно проехать. Огибай флажки-препятствия из словарных слов. В рамочке под номерами даны несколько вариантов написания  одного и того же слова. Выбери правильный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вуп. Экстремальный вид парашютного спорта. В тексте нужно найти орфографические ошибки. Задача – с высоты увидеть ошибку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9" name="Рисунок 3" descr=""/>
          <p:cNvPicPr/>
          <p:nvPr/>
        </p:nvPicPr>
        <p:blipFill>
          <a:blip r:embed="rId1"/>
          <a:srcRect l="3278" t="26225" r="8997" b="26033"/>
          <a:stretch/>
        </p:blipFill>
        <p:spPr>
          <a:xfrm>
            <a:off x="380880" y="4038480"/>
            <a:ext cx="3581640" cy="266724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4" descr=""/>
          <p:cNvPicPr/>
          <p:nvPr/>
        </p:nvPicPr>
        <p:blipFill>
          <a:blip r:embed="rId2"/>
          <a:srcRect l="3819" t="26166" r="8476" b="25472"/>
          <a:stretch/>
        </p:blipFill>
        <p:spPr>
          <a:xfrm>
            <a:off x="4267080" y="3992400"/>
            <a:ext cx="3902040" cy="2865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4"/>
          <p:cNvSpPr/>
          <p:nvPr/>
        </p:nvSpPr>
        <p:spPr>
          <a:xfrm>
            <a:off x="0" y="228600"/>
            <a:ext cx="7467480" cy="17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Цель работы с одарёнными детьми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500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еспечить возможности творческой самореализации личности в различных видах деятельн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1"/>
          <a:stretch/>
        </p:blipFill>
        <p:spPr>
          <a:xfrm>
            <a:off x="2362320" y="3352680"/>
            <a:ext cx="4114800" cy="307188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wheel spokes="3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504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Формы работы с талантливыми учащимися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2057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ндивидуальный подход на урока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ополнительные заняти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частие в олимпиада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сихологические консультаци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онкурсы, интеллектуальные игр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оектная деятельность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спользование современных средств информаци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здание портфоли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истанционные конкурс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3" name="Picture 5" descr=""/>
          <p:cNvPicPr/>
          <p:nvPr/>
        </p:nvPicPr>
        <p:blipFill>
          <a:blip r:embed="rId1"/>
          <a:stretch/>
        </p:blipFill>
        <p:spPr>
          <a:xfrm>
            <a:off x="5410080" y="2209680"/>
            <a:ext cx="2779920" cy="27432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9240" y="2514240"/>
            <a:ext cx="81626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«В каждом человеке солнце.</a:t>
            </a:r>
            <a:br>
              <a:rPr sz="5000"/>
            </a:b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олько дайте ему светить». </a:t>
            </a:r>
            <a:br>
              <a:rPr sz="5000"/>
            </a:b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                             Сократ.</a:t>
            </a: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52280" y="3352320"/>
            <a:ext cx="830592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2819520" cy="26686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Rectangle 2" descr=""/>
          <p:cNvPicPr/>
          <p:nvPr/>
        </p:nvPicPr>
        <p:blipFill>
          <a:blip r:embed="rId1"/>
          <a:stretch/>
        </p:blipFill>
        <p:spPr>
          <a:xfrm>
            <a:off x="298440" y="-390600"/>
            <a:ext cx="9101160" cy="19749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-360" y="1523520"/>
            <a:ext cx="57913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роявляют любопытство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редлагают много идей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вободно высказывают мнение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      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бладают богатой фантазие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бладают чувством юмора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Чувствительны к красоте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Не конфликтны, не приспособленцы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Конструктивно критичны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тремление к самовыражению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WordArt 5"/>
          <p:cNvSpPr txBox="1"/>
          <p:nvPr/>
        </p:nvSpPr>
        <p:spPr>
          <a:xfrm rot="20476800">
            <a:off x="152280" y="2209680"/>
            <a:ext cx="2438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07" name="WordArt 8"/>
          <p:cNvSpPr txBox="1"/>
          <p:nvPr/>
        </p:nvSpPr>
        <p:spPr>
          <a:xfrm rot="20476800">
            <a:off x="3962160" y="2361960"/>
            <a:ext cx="275436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08" name="WordArt 11"/>
          <p:cNvSpPr txBox="1"/>
          <p:nvPr/>
        </p:nvSpPr>
        <p:spPr>
          <a:xfrm rot="20476800">
            <a:off x="533520" y="5714640"/>
            <a:ext cx="24382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09" name="WordArt 16"/>
          <p:cNvSpPr txBox="1"/>
          <p:nvPr/>
        </p:nvSpPr>
        <p:spPr>
          <a:xfrm rot="20476800">
            <a:off x="2743200" y="4343040"/>
            <a:ext cx="24382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10" name="WordArt 17"/>
          <p:cNvSpPr txBox="1"/>
          <p:nvPr/>
        </p:nvSpPr>
        <p:spPr>
          <a:xfrm rot="20476800">
            <a:off x="1905120" y="2514240"/>
            <a:ext cx="24382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slow" advTm="20000">
    <p:wheel spokes="3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5"/>
          <p:cNvSpPr txBox="1"/>
          <p:nvPr/>
        </p:nvSpPr>
        <p:spPr>
          <a:xfrm>
            <a:off x="1066680" y="6095880"/>
            <a:ext cx="6229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едметные олимпиады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7696080" cy="17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пособствуют выявлению талантливых дете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тановление и развитие образовательных потребностей личност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дготовка учащихся к получению высшего образовани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дготовка к творческому труду  в разных областях деятельност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3"/>
          <a:stretch/>
        </p:blipFill>
        <p:spPr>
          <a:xfrm>
            <a:off x="2514600" y="4038480"/>
            <a:ext cx="3409920" cy="2546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3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Областная филологическая олимпиада школьников «История России в языке и тексте», посвящённая Году Российской истории.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2012 год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80880" y="2895480"/>
          <a:ext cx="8229600" cy="30481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.и. участ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89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89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бал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89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89ca3"/>
                    </a:solidFill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ерепёлкина Татья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ертифик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</a:tr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ондаурова Ани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ертифик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емёнова Надеж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ертифик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1b2c9"/>
                    </a:solidFill>
                  </a:tcPr>
                </a:tc>
              </a:tr>
            </a:tbl>
          </a:graphicData>
        </a:graphic>
      </p:graphicFrame>
      <p:pic>
        <p:nvPicPr>
          <p:cNvPr id="217" name="Рисунок 1" descr="Логотип"/>
          <p:cNvPicPr/>
          <p:nvPr/>
        </p:nvPicPr>
        <p:blipFill>
          <a:blip r:embed="rId1"/>
          <a:stretch/>
        </p:blipFill>
        <p:spPr>
          <a:xfrm>
            <a:off x="3352680" y="914400"/>
            <a:ext cx="4940280" cy="1676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64771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4617b"/>
                </a:solidFill>
                <a:latin typeface="Calibri"/>
              </a:rPr>
              <a:t>«Русский медвежонок – языкознание для всех».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04920" y="1828800"/>
          <a:ext cx="7345080" cy="4751280"/>
        </p:xfrm>
        <a:graphic>
          <a:graphicData uri="http://schemas.openxmlformats.org/drawingml/2006/table">
            <a:tbl>
              <a:tblPr/>
              <a:tblGrid>
                <a:gridCol w="2438280"/>
                <a:gridCol w="1447920"/>
                <a:gridCol w="1904760"/>
                <a:gridCol w="1554120"/>
              </a:tblGrid>
              <a:tr h="65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2011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Фамилия и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Бал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Место в школ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5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ратухина Веро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ертифик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акетко Надеж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ертифик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одаурова Ани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ертифик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7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Шехтель Светл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акалова  Наст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ертифик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Ярков Андр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ертифик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алягина Ю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ертифик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onstantia"/>
                        </a:rPr>
                        <a:t>9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Чёркин Ден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ертифик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pic>
        <p:nvPicPr>
          <p:cNvPr id="220" name="Picture 55" descr=""/>
          <p:cNvPicPr/>
          <p:nvPr/>
        </p:nvPicPr>
        <p:blipFill>
          <a:blip r:embed="rId1"/>
          <a:stretch/>
        </p:blipFill>
        <p:spPr>
          <a:xfrm>
            <a:off x="7772400" y="4648320"/>
            <a:ext cx="1062000" cy="144756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4" descr=""/>
          <p:cNvPicPr/>
          <p:nvPr/>
        </p:nvPicPr>
        <p:blipFill>
          <a:blip r:embed="rId2"/>
          <a:stretch/>
        </p:blipFill>
        <p:spPr>
          <a:xfrm>
            <a:off x="7162920" y="228600"/>
            <a:ext cx="1600200" cy="152388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Научно-практическая конференция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Picture 5" descr="C:\Users\женя\Desktop\сканир\4.jpeg"/>
          <p:cNvPicPr/>
          <p:nvPr/>
        </p:nvPicPr>
        <p:blipFill>
          <a:blip r:embed="rId1"/>
          <a:srcRect l="8931" t="9238" r="27831" b="20871"/>
          <a:stretch/>
        </p:blipFill>
        <p:spPr>
          <a:xfrm>
            <a:off x="5562720" y="1828800"/>
            <a:ext cx="2958840" cy="4497480"/>
          </a:xfrm>
          <a:prstGeom prst="rect">
            <a:avLst/>
          </a:prstGeom>
          <a:ln w="0">
            <a:noFill/>
          </a:ln>
        </p:spPr>
      </p:pic>
      <p:sp>
        <p:nvSpPr>
          <p:cNvPr id="224" name="TextBox 3"/>
          <p:cNvSpPr/>
          <p:nvPr/>
        </p:nvSpPr>
        <p:spPr>
          <a:xfrm>
            <a:off x="457200" y="2209680"/>
            <a:ext cx="441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астие во Всероссийской научно-практической конференции с международным участи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04920" y="2819520"/>
          <a:ext cx="5029200" cy="2631960"/>
        </p:xfrm>
        <a:graphic>
          <a:graphicData uri="http://schemas.openxmlformats.org/drawingml/2006/table">
            <a:tbl>
              <a:tblPr/>
              <a:tblGrid>
                <a:gridCol w="2209680"/>
                <a:gridCol w="1295280"/>
                <a:gridCol w="152424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Тема опубликованной рабо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ыходные данные изд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езульта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 Развитие исследовательских умений обучающихся в процессе проектной деятель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.05.20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ертифик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Современные методы изучения литературы в школ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-05.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ертифик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sp>
        <p:nvSpPr>
          <p:cNvPr id="226" name="TextBox 5"/>
          <p:cNvSpPr/>
          <p:nvPr/>
        </p:nvSpPr>
        <p:spPr>
          <a:xfrm>
            <a:off x="609480" y="5943600"/>
            <a:ext cx="449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: Парахонько Людмила Ивановна, учитель русского языка и литературы.   МОУ «Тарская ООШ № 12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2388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                                           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         </a:t>
            </a:r>
            <a:br>
              <a:rPr sz="4500"/>
            </a:b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Литературно-творческие     конкурсы.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63520" y="2285640"/>
            <a:ext cx="7386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nstantia"/>
              </a:rPr>
              <a:t>2010-2011 год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«Если бы я был президентом..» (районный, победители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«Эхо афганской войны». (областной, 2 место в районе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онкурс сочинений в стиле Н.В. Гоголя «Рождественское чудо» ( городской, 2 место, Шелехова Ирина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«Великая Отечественная война для меня это …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 2 место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«Любимому городу сказку дарю». ( Стихи «Подарила мне Россия» Шехтель Светы 6 кл.,  «Колокольный звон» Бакаловой Насти 6 кл, вошли в сборник творческих работ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6705720" y="762120"/>
            <a:ext cx="1996920" cy="2286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Литературно-творческие     конкурсы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1430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2012 год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Творческий конкурс для педагогов и родителей «Зимний калейдоскоп»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«Талант с колыбели» г.Курган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Участник: Парахонько Людмила Ивановн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04920" y="2666880"/>
          <a:ext cx="6095880" cy="1621080"/>
        </p:xfrm>
        <a:graphic>
          <a:graphicData uri="http://schemas.openxmlformats.org/drawingml/2006/table">
            <a:tbl>
              <a:tblPr/>
              <a:tblGrid>
                <a:gridCol w="2895480"/>
                <a:gridCol w="1523880"/>
                <a:gridCol w="1676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омин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d9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d9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d9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«В череде морозных дне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зучивание зимних иг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евраль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иплома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«Зимние праздники. Встречаем Рождество».  Разработка сценар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евраль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ауре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pic>
        <p:nvPicPr>
          <p:cNvPr id="233" name="Рисунок 4" descr="C:\Documents and Settings\admin\Рабочий стол\IMG_1868.JPG"/>
          <p:cNvPicPr/>
          <p:nvPr/>
        </p:nvPicPr>
        <p:blipFill>
          <a:blip r:embed="rId1"/>
          <a:stretch/>
        </p:blipFill>
        <p:spPr>
          <a:xfrm>
            <a:off x="4800600" y="4419720"/>
            <a:ext cx="2895480" cy="213336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5" descr="C:\Documents and Settings\admin\Рабочий стол\IMG_1867.JPG"/>
          <p:cNvPicPr/>
          <p:nvPr/>
        </p:nvPicPr>
        <p:blipFill>
          <a:blip r:embed="rId2"/>
          <a:stretch/>
        </p:blipFill>
        <p:spPr>
          <a:xfrm>
            <a:off x="457200" y="434340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женя</dc:creator>
  <dc:description/>
  <dc:language>en-US</dc:language>
  <cp:lastModifiedBy>admin</cp:lastModifiedBy>
  <dcterms:modified xsi:type="dcterms:W3CDTF">2012-06-04T15:27:48Z</dcterms:modified>
  <cp:revision>8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