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699-0A74-4DBF-A28F-2F79196F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3F8A-8942-4DC8-B2B5-A4407093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3C6-7916-4403-AA9D-ADA486C3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F0C-0FD9-4F1C-9C2B-537EB069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8F28-E3B2-4ADD-A023-EC7D321F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F8B7-8213-4A60-9AD6-1F1E1BD4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0453-C739-48C2-91E1-A35A0B98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417C-6319-4502-8686-0C703404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A347-A281-4FE6-AF86-FD15AEF1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5FF8-B747-48B3-9217-A6A5E064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87DD-BABE-46B7-B2B7-4EBCE30C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66A2-74E3-41E1-8592-F4B01442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1B8C-6824-4980-8AEF-8DD3E9F7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A24F-EBA1-47B5-B6D4-C7DE88D2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B1E5-354C-48AA-9FA7-B9EE3BBC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148E-47F8-4CDA-93C7-CE93C0CE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9AD2-F246-4880-9AD1-5A76ED9A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724-892B-4434-BE5B-EE41E0E6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80CB-2B11-4983-86DF-42E29F4B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1589-9541-4A3E-9259-AC3F42BB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1D8-E1F3-4626-A5EE-DD8B9E96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873-62ED-4604-9FD6-51FF7FAC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CB2-019A-4B18-AFFF-79D371CB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674-B616-4FEF-A882-0DB3946D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3EE1-BF8C-4578-AF27-1513850C0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3F82-120D-4E5D-8061-89C395EDD2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684360" y="476280"/>
            <a:ext cx="295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639960" y="1916280"/>
            <a:ext cx="29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сский язык и 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278960" y="2997360"/>
            <a:ext cx="52189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Чтоб мудро жизнь прожить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знать надобно немало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     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О. Хайя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826920" y="2060640"/>
            <a:ext cx="1657440" cy="431640"/>
          </a:xfrm>
          <a:custGeom>
            <a:avLst/>
            <a:gdLst>
              <a:gd name="textAreaLeft" fmla="*/ 27720 w 1657440"/>
              <a:gd name="textAreaRight" fmla="*/ 1629720 w 1657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2890" h="21600">
                <a:moveTo>
                  <a:pt x="0" y="0"/>
                </a:moveTo>
                <a:lnTo>
                  <a:pt x="82890" y="0"/>
                </a:lnTo>
                <a:lnTo>
                  <a:pt x="82890" y="21600"/>
                </a:lnTo>
                <a:lnTo>
                  <a:pt x="0" y="21600"/>
                </a:lnTo>
                <a:close/>
              </a:path>
              <a:path fill="lightenLess" w="82890" h="21600">
                <a:moveTo>
                  <a:pt x="0" y="0"/>
                </a:moveTo>
                <a:lnTo>
                  <a:pt x="82890" y="0"/>
                </a:lnTo>
                <a:lnTo>
                  <a:pt x="81490" y="1400"/>
                </a:lnTo>
                <a:lnTo>
                  <a:pt x="1400" y="1400"/>
                </a:lnTo>
                <a:close/>
              </a:path>
              <a:path fill="darken" w="82890" h="21600">
                <a:moveTo>
                  <a:pt x="82890" y="0"/>
                </a:moveTo>
                <a:lnTo>
                  <a:pt x="82890" y="21600"/>
                </a:lnTo>
                <a:lnTo>
                  <a:pt x="81490" y="20200"/>
                </a:lnTo>
                <a:lnTo>
                  <a:pt x="81490" y="1400"/>
                </a:lnTo>
                <a:close/>
              </a:path>
              <a:path fill="darkenLess" w="82890" h="21600">
                <a:moveTo>
                  <a:pt x="82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490" y="20200"/>
                </a:lnTo>
                <a:close/>
              </a:path>
              <a:path fill="lighten" w="82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аш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826920" y="2781360"/>
            <a:ext cx="1657440" cy="503280"/>
          </a:xfrm>
          <a:custGeom>
            <a:avLst/>
            <a:gdLst>
              <a:gd name="textAreaLeft" fmla="*/ 32400 w 1657440"/>
              <a:gd name="textAreaRight" fmla="*/ 1625040 w 1657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71099" h="21600">
                <a:moveTo>
                  <a:pt x="0" y="0"/>
                </a:moveTo>
                <a:lnTo>
                  <a:pt x="71099" y="0"/>
                </a:lnTo>
                <a:lnTo>
                  <a:pt x="71099" y="21600"/>
                </a:lnTo>
                <a:lnTo>
                  <a:pt x="0" y="21600"/>
                </a:lnTo>
                <a:close/>
              </a:path>
              <a:path fill="lightenLess" w="71099" h="21600">
                <a:moveTo>
                  <a:pt x="0" y="0"/>
                </a:moveTo>
                <a:lnTo>
                  <a:pt x="71099" y="0"/>
                </a:lnTo>
                <a:lnTo>
                  <a:pt x="69699" y="1400"/>
                </a:lnTo>
                <a:lnTo>
                  <a:pt x="1400" y="1400"/>
                </a:lnTo>
                <a:close/>
              </a:path>
              <a:path fill="darken" w="71099" h="21600">
                <a:moveTo>
                  <a:pt x="71099" y="0"/>
                </a:moveTo>
                <a:lnTo>
                  <a:pt x="71099" y="21600"/>
                </a:lnTo>
                <a:lnTo>
                  <a:pt x="69699" y="20200"/>
                </a:lnTo>
                <a:lnTo>
                  <a:pt x="69699" y="1400"/>
                </a:lnTo>
                <a:close/>
              </a:path>
              <a:path fill="darkenLess" w="71099" h="21600">
                <a:moveTo>
                  <a:pt x="71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699" y="20200"/>
                </a:lnTo>
                <a:close/>
              </a:path>
              <a:path fill="lighten" w="71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826920" y="3573360"/>
            <a:ext cx="1657440" cy="432000"/>
          </a:xfrm>
          <a:custGeom>
            <a:avLst/>
            <a:gdLst>
              <a:gd name="textAreaLeft" fmla="*/ 27720 w 1657440"/>
              <a:gd name="textAreaRight" fmla="*/ 1629720 w 1657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2821" h="21600">
                <a:moveTo>
                  <a:pt x="0" y="0"/>
                </a:moveTo>
                <a:lnTo>
                  <a:pt x="82821" y="0"/>
                </a:lnTo>
                <a:lnTo>
                  <a:pt x="82821" y="21600"/>
                </a:lnTo>
                <a:lnTo>
                  <a:pt x="0" y="21600"/>
                </a:lnTo>
                <a:close/>
              </a:path>
              <a:path fill="lightenLess" w="82821" h="21600">
                <a:moveTo>
                  <a:pt x="0" y="0"/>
                </a:moveTo>
                <a:lnTo>
                  <a:pt x="82821" y="0"/>
                </a:lnTo>
                <a:lnTo>
                  <a:pt x="81421" y="1400"/>
                </a:lnTo>
                <a:lnTo>
                  <a:pt x="1400" y="1400"/>
                </a:lnTo>
                <a:close/>
              </a:path>
              <a:path fill="darken" w="82821" h="21600">
                <a:moveTo>
                  <a:pt x="82821" y="0"/>
                </a:moveTo>
                <a:lnTo>
                  <a:pt x="82821" y="21600"/>
                </a:lnTo>
                <a:lnTo>
                  <a:pt x="81421" y="20200"/>
                </a:lnTo>
                <a:lnTo>
                  <a:pt x="81421" y="1400"/>
                </a:lnTo>
                <a:close/>
              </a:path>
              <a:path fill="darkenLess" w="82821" h="21600">
                <a:moveTo>
                  <a:pt x="82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421" y="20200"/>
                </a:lnTo>
                <a:close/>
              </a:path>
              <a:path fill="lighten" w="82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8класс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826920" y="4365720"/>
            <a:ext cx="1657440" cy="431640"/>
          </a:xfrm>
          <a:custGeom>
            <a:avLst/>
            <a:gdLst>
              <a:gd name="textAreaLeft" fmla="*/ 27720 w 1657440"/>
              <a:gd name="textAreaRight" fmla="*/ 1629720 w 1657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2890" h="21600">
                <a:moveTo>
                  <a:pt x="0" y="0"/>
                </a:moveTo>
                <a:lnTo>
                  <a:pt x="82890" y="0"/>
                </a:lnTo>
                <a:lnTo>
                  <a:pt x="82890" y="21600"/>
                </a:lnTo>
                <a:lnTo>
                  <a:pt x="0" y="21600"/>
                </a:lnTo>
                <a:close/>
              </a:path>
              <a:path fill="lightenLess" w="82890" h="21600">
                <a:moveTo>
                  <a:pt x="0" y="0"/>
                </a:moveTo>
                <a:lnTo>
                  <a:pt x="82890" y="0"/>
                </a:lnTo>
                <a:lnTo>
                  <a:pt x="81490" y="1400"/>
                </a:lnTo>
                <a:lnTo>
                  <a:pt x="1400" y="1400"/>
                </a:lnTo>
                <a:close/>
              </a:path>
              <a:path fill="darken" w="82890" h="21600">
                <a:moveTo>
                  <a:pt x="82890" y="0"/>
                </a:moveTo>
                <a:lnTo>
                  <a:pt x="82890" y="21600"/>
                </a:lnTo>
                <a:lnTo>
                  <a:pt x="81490" y="20200"/>
                </a:lnTo>
                <a:lnTo>
                  <a:pt x="81490" y="1400"/>
                </a:lnTo>
                <a:close/>
              </a:path>
              <a:path fill="darkenLess" w="82890" h="21600">
                <a:moveTo>
                  <a:pt x="82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490" y="20200"/>
                </a:lnTo>
                <a:close/>
              </a:path>
              <a:path fill="lighten" w="82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826920" y="5084640"/>
            <a:ext cx="1657440" cy="432000"/>
          </a:xfrm>
          <a:custGeom>
            <a:avLst/>
            <a:gdLst>
              <a:gd name="textAreaLeft" fmla="*/ 27720 w 1657440"/>
              <a:gd name="textAreaRight" fmla="*/ 1629720 w 1657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2821" h="21600">
                <a:moveTo>
                  <a:pt x="0" y="0"/>
                </a:moveTo>
                <a:lnTo>
                  <a:pt x="82821" y="0"/>
                </a:lnTo>
                <a:lnTo>
                  <a:pt x="82821" y="21600"/>
                </a:lnTo>
                <a:lnTo>
                  <a:pt x="0" y="21600"/>
                </a:lnTo>
                <a:close/>
              </a:path>
              <a:path fill="lightenLess" w="82821" h="21600">
                <a:moveTo>
                  <a:pt x="0" y="0"/>
                </a:moveTo>
                <a:lnTo>
                  <a:pt x="82821" y="0"/>
                </a:lnTo>
                <a:lnTo>
                  <a:pt x="81421" y="1400"/>
                </a:lnTo>
                <a:lnTo>
                  <a:pt x="1400" y="1400"/>
                </a:lnTo>
                <a:close/>
              </a:path>
              <a:path fill="darken" w="82821" h="21600">
                <a:moveTo>
                  <a:pt x="82821" y="0"/>
                </a:moveTo>
                <a:lnTo>
                  <a:pt x="82821" y="21600"/>
                </a:lnTo>
                <a:lnTo>
                  <a:pt x="81421" y="20200"/>
                </a:lnTo>
                <a:lnTo>
                  <a:pt x="81421" y="1400"/>
                </a:lnTo>
                <a:close/>
              </a:path>
              <a:path fill="darkenLess" w="82821" h="21600">
                <a:moveTo>
                  <a:pt x="82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421" y="20200"/>
                </a:lnTo>
                <a:close/>
              </a:path>
              <a:path fill="lighten" w="82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36666"/>
                </a:solidFill>
                <a:latin typeface="comic"/>
              </a:rPr>
              <a:t>Автор проекта</a:t>
            </a:r>
            <a:endParaRPr b="0" lang="en-US" sz="2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6732720" y="5661000"/>
            <a:ext cx="1368360" cy="57636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1263" h="21600">
                <a:moveTo>
                  <a:pt x="0" y="0"/>
                </a:moveTo>
                <a:lnTo>
                  <a:pt x="51263" y="0"/>
                </a:lnTo>
                <a:lnTo>
                  <a:pt x="51263" y="21600"/>
                </a:lnTo>
                <a:lnTo>
                  <a:pt x="0" y="21600"/>
                </a:lnTo>
                <a:close/>
              </a:path>
              <a:path fill="lightenLess" w="51263" h="21600">
                <a:moveTo>
                  <a:pt x="0" y="0"/>
                </a:moveTo>
                <a:lnTo>
                  <a:pt x="51263" y="0"/>
                </a:lnTo>
                <a:lnTo>
                  <a:pt x="49863" y="1400"/>
                </a:lnTo>
                <a:lnTo>
                  <a:pt x="1400" y="1400"/>
                </a:lnTo>
                <a:close/>
              </a:path>
              <a:path fill="darken" w="51263" h="21600">
                <a:moveTo>
                  <a:pt x="51263" y="0"/>
                </a:moveTo>
                <a:lnTo>
                  <a:pt x="51263" y="21600"/>
                </a:lnTo>
                <a:lnTo>
                  <a:pt x="49863" y="20200"/>
                </a:lnTo>
                <a:lnTo>
                  <a:pt x="49863" y="1400"/>
                </a:lnTo>
                <a:close/>
              </a:path>
              <a:path fill="darkenLess" w="51263" h="21600">
                <a:moveTo>
                  <a:pt x="51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63" y="20200"/>
                </a:lnTo>
                <a:close/>
              </a:path>
              <a:path fill="lighten" w="51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7676"/>
              </a:gs>
              <a:gs pos="5000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3564000" y="1125360"/>
            <a:ext cx="46004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ссонова Наталия Валерьевна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8" descr="P2120165"/>
          <p:cNvPicPr/>
          <p:nvPr/>
        </p:nvPicPr>
        <p:blipFill>
          <a:blip r:embed="rId1"/>
          <a:stretch/>
        </p:blipFill>
        <p:spPr>
          <a:xfrm>
            <a:off x="5003640" y="2781360"/>
            <a:ext cx="3529080" cy="26478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591840" y="2297160"/>
            <a:ext cx="78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читель русского языка и литературы, педагог-психолог МОУ СОШ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города Оби Новосибирской обла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42160" y="3232080"/>
            <a:ext cx="528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1 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таж работы 18,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тодическая проблема: «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ворческих способностей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 уроках словесности путем применения ИК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5:11:03Z</dcterms:created>
  <dc:creator>наталья</dc:creator>
  <dc:description/>
  <dc:language>en-US</dc:language>
  <cp:lastModifiedBy>Наталия</cp:lastModifiedBy>
  <dcterms:modified xsi:type="dcterms:W3CDTF">2012-06-06T05:22:09Z</dcterms:modified>
  <cp:revision>11</cp:revision>
  <dc:subject/>
  <dc:title>Слайд 1</dc:title>
</cp:coreProperties>
</file>