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E266-A6FE-43DC-B114-A1D2F271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2DB-73BC-49AF-B913-F14972BD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8081-0EC7-4A70-BAB4-385BE286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2D01-9B68-47F2-99A6-481DC165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274E-7018-4F7C-A166-CEFC96D2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A61B-837D-4EF9-B09C-38DF1AFF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8847-445D-4C72-92D2-D48D712C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4264-84E4-4037-A216-6E6A3A7D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A315-8B48-4942-B4BF-A194030A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85EA-C661-40D8-8BF5-89DC7436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A6F1-F400-4D80-B708-8743A500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0BB3-009D-474B-A103-9E3DB5A9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5818-979B-407A-9DFE-8BF189FE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10E1-09AA-46A2-BD30-498EDEB3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C340-9055-4A0E-9B75-68EB219E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E438-3FD3-46E6-A574-34E1785E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3347-EF93-435D-846B-611AE809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A11-9021-4A3C-B759-1807C798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E386-1B8B-47E8-83CC-A520444E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CF41-7076-4319-81A2-A5CFF752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27B4-FEB0-412A-BC2F-5A4E9B82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87A-47C9-42B7-93D1-52316269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9060-D438-4A34-80A7-38FA28F1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10A-0DA4-4F13-A433-2CF8B0B8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27E4-B077-46DC-BE96-5E7BC7C952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6F98-6E20-49EE-95AB-510FC38A2D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684360" y="476280"/>
            <a:ext cx="295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639960" y="1916280"/>
            <a:ext cx="29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сский язык и литера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278960" y="2997360"/>
            <a:ext cx="5218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Чтоб мудро жизнь прожить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знать надобно немало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О. Хай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826920" y="2060640"/>
            <a:ext cx="1657440" cy="431640"/>
          </a:xfrm>
          <a:custGeom>
            <a:avLst/>
            <a:gdLst>
              <a:gd name="textAreaLeft" fmla="*/ 27720 w 1657440"/>
              <a:gd name="textAreaRight" fmla="*/ 1629720 w 1657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2890" h="21600">
                <a:moveTo>
                  <a:pt x="0" y="0"/>
                </a:moveTo>
                <a:lnTo>
                  <a:pt x="82890" y="0"/>
                </a:lnTo>
                <a:lnTo>
                  <a:pt x="82890" y="21600"/>
                </a:lnTo>
                <a:lnTo>
                  <a:pt x="0" y="21600"/>
                </a:lnTo>
                <a:close/>
              </a:path>
              <a:path fill="lightenLess" w="82890" h="21600">
                <a:moveTo>
                  <a:pt x="0" y="0"/>
                </a:moveTo>
                <a:lnTo>
                  <a:pt x="82890" y="0"/>
                </a:lnTo>
                <a:lnTo>
                  <a:pt x="81490" y="1400"/>
                </a:lnTo>
                <a:lnTo>
                  <a:pt x="1400" y="1400"/>
                </a:lnTo>
                <a:close/>
              </a:path>
              <a:path fill="darken" w="82890" h="21600">
                <a:moveTo>
                  <a:pt x="82890" y="0"/>
                </a:moveTo>
                <a:lnTo>
                  <a:pt x="82890" y="21600"/>
                </a:lnTo>
                <a:lnTo>
                  <a:pt x="81490" y="20200"/>
                </a:lnTo>
                <a:lnTo>
                  <a:pt x="81490" y="1400"/>
                </a:lnTo>
                <a:close/>
              </a:path>
              <a:path fill="darkenLess" w="82890" h="21600">
                <a:moveTo>
                  <a:pt x="82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490" y="20200"/>
                </a:lnTo>
                <a:close/>
              </a:path>
              <a:path fill="lighten" w="82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аш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826920" y="2781360"/>
            <a:ext cx="1657440" cy="503280"/>
          </a:xfrm>
          <a:custGeom>
            <a:avLst/>
            <a:gdLst>
              <a:gd name="textAreaLeft" fmla="*/ 32400 w 1657440"/>
              <a:gd name="textAreaRight" fmla="*/ 1625040 w 16574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1099" h="21600">
                <a:moveTo>
                  <a:pt x="0" y="0"/>
                </a:moveTo>
                <a:lnTo>
                  <a:pt x="71099" y="0"/>
                </a:lnTo>
                <a:lnTo>
                  <a:pt x="71099" y="21600"/>
                </a:lnTo>
                <a:lnTo>
                  <a:pt x="0" y="21600"/>
                </a:lnTo>
                <a:close/>
              </a:path>
              <a:path fill="lightenLess" w="71099" h="21600">
                <a:moveTo>
                  <a:pt x="0" y="0"/>
                </a:moveTo>
                <a:lnTo>
                  <a:pt x="71099" y="0"/>
                </a:lnTo>
                <a:lnTo>
                  <a:pt x="69699" y="1400"/>
                </a:lnTo>
                <a:lnTo>
                  <a:pt x="1400" y="1400"/>
                </a:lnTo>
                <a:close/>
              </a:path>
              <a:path fill="darken" w="71099" h="21600">
                <a:moveTo>
                  <a:pt x="71099" y="0"/>
                </a:moveTo>
                <a:lnTo>
                  <a:pt x="71099" y="21600"/>
                </a:lnTo>
                <a:lnTo>
                  <a:pt x="69699" y="20200"/>
                </a:lnTo>
                <a:lnTo>
                  <a:pt x="69699" y="1400"/>
                </a:lnTo>
                <a:close/>
              </a:path>
              <a:path fill="darkenLess" w="71099" h="21600">
                <a:moveTo>
                  <a:pt x="71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699" y="20200"/>
                </a:lnTo>
                <a:close/>
              </a:path>
              <a:path fill="lighten" w="71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826920" y="3573360"/>
            <a:ext cx="1657440" cy="432000"/>
          </a:xfrm>
          <a:custGeom>
            <a:avLst/>
            <a:gdLst>
              <a:gd name="textAreaLeft" fmla="*/ 27720 w 1657440"/>
              <a:gd name="textAreaRight" fmla="*/ 1629720 w 1657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2821" h="21600">
                <a:moveTo>
                  <a:pt x="0" y="0"/>
                </a:moveTo>
                <a:lnTo>
                  <a:pt x="82821" y="0"/>
                </a:lnTo>
                <a:lnTo>
                  <a:pt x="82821" y="21600"/>
                </a:lnTo>
                <a:lnTo>
                  <a:pt x="0" y="21600"/>
                </a:lnTo>
                <a:close/>
              </a:path>
              <a:path fill="lightenLess" w="82821" h="21600">
                <a:moveTo>
                  <a:pt x="0" y="0"/>
                </a:moveTo>
                <a:lnTo>
                  <a:pt x="82821" y="0"/>
                </a:lnTo>
                <a:lnTo>
                  <a:pt x="81421" y="1400"/>
                </a:lnTo>
                <a:lnTo>
                  <a:pt x="1400" y="1400"/>
                </a:lnTo>
                <a:close/>
              </a:path>
              <a:path fill="darken" w="82821" h="21600">
                <a:moveTo>
                  <a:pt x="82821" y="0"/>
                </a:moveTo>
                <a:lnTo>
                  <a:pt x="82821" y="21600"/>
                </a:lnTo>
                <a:lnTo>
                  <a:pt x="81421" y="20200"/>
                </a:lnTo>
                <a:lnTo>
                  <a:pt x="81421" y="1400"/>
                </a:lnTo>
                <a:close/>
              </a:path>
              <a:path fill="darkenLess" w="82821" h="21600">
                <a:moveTo>
                  <a:pt x="82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421" y="20200"/>
                </a:lnTo>
                <a:close/>
              </a:path>
              <a:path fill="lighten" w="82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8класс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826920" y="4365720"/>
            <a:ext cx="1657440" cy="431640"/>
          </a:xfrm>
          <a:custGeom>
            <a:avLst/>
            <a:gdLst>
              <a:gd name="textAreaLeft" fmla="*/ 27720 w 1657440"/>
              <a:gd name="textAreaRight" fmla="*/ 1629720 w 1657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2890" h="21600">
                <a:moveTo>
                  <a:pt x="0" y="0"/>
                </a:moveTo>
                <a:lnTo>
                  <a:pt x="82890" y="0"/>
                </a:lnTo>
                <a:lnTo>
                  <a:pt x="82890" y="21600"/>
                </a:lnTo>
                <a:lnTo>
                  <a:pt x="0" y="21600"/>
                </a:lnTo>
                <a:close/>
              </a:path>
              <a:path fill="lightenLess" w="82890" h="21600">
                <a:moveTo>
                  <a:pt x="0" y="0"/>
                </a:moveTo>
                <a:lnTo>
                  <a:pt x="82890" y="0"/>
                </a:lnTo>
                <a:lnTo>
                  <a:pt x="81490" y="1400"/>
                </a:lnTo>
                <a:lnTo>
                  <a:pt x="1400" y="1400"/>
                </a:lnTo>
                <a:close/>
              </a:path>
              <a:path fill="darken" w="82890" h="21600">
                <a:moveTo>
                  <a:pt x="82890" y="0"/>
                </a:moveTo>
                <a:lnTo>
                  <a:pt x="82890" y="21600"/>
                </a:lnTo>
                <a:lnTo>
                  <a:pt x="81490" y="20200"/>
                </a:lnTo>
                <a:lnTo>
                  <a:pt x="81490" y="1400"/>
                </a:lnTo>
                <a:close/>
              </a:path>
              <a:path fill="darkenLess" w="82890" h="21600">
                <a:moveTo>
                  <a:pt x="82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490" y="20200"/>
                </a:lnTo>
                <a:close/>
              </a:path>
              <a:path fill="lighten" w="82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826920" y="5084640"/>
            <a:ext cx="1657440" cy="432000"/>
          </a:xfrm>
          <a:custGeom>
            <a:avLst/>
            <a:gdLst>
              <a:gd name="textAreaLeft" fmla="*/ 27720 w 1657440"/>
              <a:gd name="textAreaRight" fmla="*/ 1629720 w 1657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2821" h="21600">
                <a:moveTo>
                  <a:pt x="0" y="0"/>
                </a:moveTo>
                <a:lnTo>
                  <a:pt x="82821" y="0"/>
                </a:lnTo>
                <a:lnTo>
                  <a:pt x="82821" y="21600"/>
                </a:lnTo>
                <a:lnTo>
                  <a:pt x="0" y="21600"/>
                </a:lnTo>
                <a:close/>
              </a:path>
              <a:path fill="lightenLess" w="82821" h="21600">
                <a:moveTo>
                  <a:pt x="0" y="0"/>
                </a:moveTo>
                <a:lnTo>
                  <a:pt x="82821" y="0"/>
                </a:lnTo>
                <a:lnTo>
                  <a:pt x="81421" y="1400"/>
                </a:lnTo>
                <a:lnTo>
                  <a:pt x="1400" y="1400"/>
                </a:lnTo>
                <a:close/>
              </a:path>
              <a:path fill="darken" w="82821" h="21600">
                <a:moveTo>
                  <a:pt x="82821" y="0"/>
                </a:moveTo>
                <a:lnTo>
                  <a:pt x="82821" y="21600"/>
                </a:lnTo>
                <a:lnTo>
                  <a:pt x="81421" y="20200"/>
                </a:lnTo>
                <a:lnTo>
                  <a:pt x="81421" y="1400"/>
                </a:lnTo>
                <a:close/>
              </a:path>
              <a:path fill="darkenLess" w="82821" h="21600">
                <a:moveTo>
                  <a:pt x="82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421" y="20200"/>
                </a:lnTo>
                <a:close/>
              </a:path>
              <a:path fill="lighten" w="82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66"/>
                </a:solidFill>
                <a:latin typeface="comic"/>
              </a:rPr>
              <a:t>Автор проекта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6732720" y="5661000"/>
            <a:ext cx="1368360" cy="576360"/>
          </a:xfrm>
          <a:custGeom>
            <a:avLst/>
            <a:gdLst>
              <a:gd name="textAreaLeft" fmla="*/ 37080 w 1368360"/>
              <a:gd name="textAreaRight" fmla="*/ 1331280 w 1368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1263" h="21600">
                <a:moveTo>
                  <a:pt x="0" y="0"/>
                </a:moveTo>
                <a:lnTo>
                  <a:pt x="51263" y="0"/>
                </a:lnTo>
                <a:lnTo>
                  <a:pt x="51263" y="21600"/>
                </a:lnTo>
                <a:lnTo>
                  <a:pt x="0" y="21600"/>
                </a:lnTo>
                <a:close/>
              </a:path>
              <a:path fill="lightenLess" w="51263" h="21600">
                <a:moveTo>
                  <a:pt x="0" y="0"/>
                </a:moveTo>
                <a:lnTo>
                  <a:pt x="51263" y="0"/>
                </a:lnTo>
                <a:lnTo>
                  <a:pt x="49863" y="1400"/>
                </a:lnTo>
                <a:lnTo>
                  <a:pt x="1400" y="1400"/>
                </a:lnTo>
                <a:close/>
              </a:path>
              <a:path fill="darken" w="51263" h="21600">
                <a:moveTo>
                  <a:pt x="51263" y="0"/>
                </a:moveTo>
                <a:lnTo>
                  <a:pt x="51263" y="21600"/>
                </a:lnTo>
                <a:lnTo>
                  <a:pt x="49863" y="20200"/>
                </a:lnTo>
                <a:lnTo>
                  <a:pt x="49863" y="1400"/>
                </a:lnTo>
                <a:close/>
              </a:path>
              <a:path fill="darkenLess" w="51263" h="21600">
                <a:moveTo>
                  <a:pt x="51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63" y="20200"/>
                </a:lnTo>
                <a:close/>
              </a:path>
              <a:path fill="lighten" w="51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7676"/>
              </a:gs>
              <a:gs pos="5000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3564000" y="1125360"/>
            <a:ext cx="46004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ссонова Наталия Валерьевна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8" descr="P2120165"/>
          <p:cNvPicPr/>
          <p:nvPr/>
        </p:nvPicPr>
        <p:blipFill>
          <a:blip r:embed="rId1"/>
          <a:stretch/>
        </p:blipFill>
        <p:spPr>
          <a:xfrm>
            <a:off x="5003640" y="2781360"/>
            <a:ext cx="3529080" cy="2647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591840" y="2297160"/>
            <a:ext cx="78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читель русского языка и литературы, педагог-психолог МОУ СОШ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города Оби Новосибирской обла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542160" y="3232080"/>
            <a:ext cx="528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 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таж работы 18,5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тодическая проблема: «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ворческих способностей 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 уроках словесности путем применения ИК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15:11:03Z</dcterms:created>
  <dc:creator>наталья</dc:creator>
  <dc:description/>
  <dc:language>en-US</dc:language>
  <cp:lastModifiedBy>Наталия</cp:lastModifiedBy>
  <dcterms:modified xsi:type="dcterms:W3CDTF">2012-06-06T05:22:09Z</dcterms:modified>
  <cp:revision>11</cp:revision>
  <dc:subject/>
  <dc:title>Слайд 1</dc:title>
</cp:coreProperties>
</file>