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gif" ContentType="image/gif"/>
  <Override PartName="/ppt/media/image12.png" ContentType="image/png"/>
  <Override PartName="/ppt/media/image7.wmf" ContentType="image/x-wmf"/>
  <Override PartName="/ppt/media/image18.gif" ContentType="image/gif"/>
  <Override PartName="/ppt/media/image16.wmf" ContentType="image/x-wmf"/>
  <Override PartName="/ppt/media/image1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1.jpeg" ContentType="image/jpeg"/>
  <Override PartName="/ppt/media/image15.wmf" ContentType="image/x-wmf"/>
  <Override PartName="/ppt/media/image4.gif" ContentType="image/gif"/>
  <Override PartName="/ppt/media/image11.jpeg" ContentType="image/jpeg"/>
  <Override PartName="/ppt/media/image1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9BE-207B-4E62-8FD9-F12C342A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0EA-07B7-4194-BEA6-4163003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A9C-D89D-4CE3-A93B-2EF9BC66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5E8-C87F-4147-9D65-A2AD527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F95-5265-4EC1-A89E-2ACC3B9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6BF-3B17-4DFC-B5BB-A92BE80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C32-1741-4B9F-97AC-3AB9DE0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5BB-C820-4DCD-998E-9A1AF96A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9B4-E40D-414F-BF93-762BC812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8DC-BCD8-4045-A28D-89C74EDD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E11-2AA5-4F91-BB39-53DAC61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689-536D-4763-9119-AAC8B0F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7E3-B8E3-4357-887D-43EA89797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flipH="1">
            <a:off x="-360" y="2421000"/>
            <a:ext cx="4344840" cy="44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76360" y="189000"/>
            <a:ext cx="67816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спользование информационных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компьютерных технологий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работе психологической служб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76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Monotype Corsiva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0" y="141300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20000" y="314172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50864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4508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58136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219640" y="4724280"/>
            <a:ext cx="28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4581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Monotype Corsiva"/>
              </a:rPr>
              <a:t>Посмотри внимательно на фигуры и запомни 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3360"/>
            <a:ext cx="1439640" cy="1368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5300640"/>
            <a:ext cx="1440000" cy="13683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1773360"/>
            <a:ext cx="1665000" cy="136836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5300640"/>
            <a:ext cx="1439640" cy="1368360"/>
          </a:xfrm>
          <a:custGeom>
            <a:avLst/>
            <a:gdLst>
              <a:gd name="textAreaLeft" fmla="*/ 593280 w 1439640"/>
              <a:gd name="textAreaRight" fmla="*/ 846360 w 143964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429000"/>
            <a:ext cx="1440000" cy="136836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4797360"/>
            <a:ext cx="1913040" cy="1817640"/>
          </a:xfrm>
          <a:prstGeom prst="diamond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877000"/>
            <a:ext cx="1439640" cy="136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357720"/>
            <a:ext cx="1514160" cy="1368360"/>
          </a:xfrm>
          <a:prstGeom prst="star5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89360"/>
            <a:ext cx="1536480" cy="727200"/>
          </a:xfrm>
          <a:prstGeom prst="rightArrow">
            <a:avLst>
              <a:gd name="adj1" fmla="val 50000"/>
              <a:gd name="adj2" fmla="val 52822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5084640"/>
            <a:ext cx="765000" cy="1460520"/>
          </a:xfrm>
          <a:prstGeom prst="upArrow">
            <a:avLst>
              <a:gd name="adj1" fmla="val 50000"/>
              <a:gd name="adj2" fmla="val 4772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3336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Monotype Corsiv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0"/>
                            </p:stCondLst>
                            <p:childTnLst>
                              <p:par>
                                <p:cTn id="52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000"/>
                            </p:stCondLst>
                            <p:childTnLst>
                              <p:par>
                                <p:cTn id="53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02000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0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0" y="141300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020000" y="314172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450864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508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19640" y="4724280"/>
            <a:ext cx="28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0"/>
            <a:ext cx="8136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Monotype Corsiva"/>
              </a:rPr>
              <a:t>В каждой строке вместо «?» нарисуй недостающие фигуры, сохраняя поряд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458136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41600" y="1984320"/>
            <a:ext cx="570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Развитие  мышления, воображения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Тренировка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Оптимизация умственной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2868840" cy="324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700360" y="189000"/>
            <a:ext cx="388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сихология на урок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102564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-72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аписано в центр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209080" cy="6553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53640"/>
            <a:ext cx="23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ут написан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46200" y="0"/>
            <a:ext cx="66978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179280" y="1413000"/>
            <a:ext cx="21225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Най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л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50920" y="864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пытайтесь назвать ЦВЕТ каждого слова, а не само слов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098720"/>
            <a:ext cx="8136000" cy="5759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те 20 предм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871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рограммы:«Ориентир», «Я выбираю профессию»,«Тинэйджер» помогают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сориентироваться в мире професс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адекватно оценить свои способности и возмо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составить индивидуальный профессиональный маршрут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785000" y="4724280"/>
            <a:ext cx="1359000" cy="213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08000" y="5148360"/>
            <a:ext cx="2016000" cy="1614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56000" y="0"/>
            <a:ext cx="4305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свещен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консультиров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Большой интерес учащихся ко всему, что связано с компью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озможность учитывать индивидуальные особенности и возмож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нтерактивность компьютерны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ультимедийные возм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Экономия времен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16840" y="4076640"/>
            <a:ext cx="1863720" cy="278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0"/>
            <a:ext cx="561672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имущества использования ИК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школьного психоло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Цикл занят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«Психологическая культура родителей как необходимое условие психологического здоровья учащих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9744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езент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ндивидуальные карты развития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3600720" cy="255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484360" y="26028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онно-методическо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67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иагностическ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Коррекционно-развивающ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Организационно-методическ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0"/>
            <a:ext cx="47512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я использования ИК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школьного психоло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67690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Психологический инструментари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тес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опрос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компьютерн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333360"/>
            <a:ext cx="43034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агностическо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Использование программ, способствую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 развитию сенсомоторных и       когнитивных функций головного моз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 повышению эффективности обучения учащихся, их учебной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развитию интеллектуальных и творческих возмож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-171360"/>
            <a:ext cx="53802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ррекционно-развивающе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19280" y="2205000"/>
            <a:ext cx="537984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чальная шко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8120" y="0"/>
          <a:ext cx="6095880" cy="68738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121932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2643120" cy="294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59640" y="2060640"/>
            <a:ext cx="71280" cy="71280"/>
          </a:xfrm>
          <a:prstGeom prst="ellipse">
            <a:avLst/>
          </a:prstGeom>
          <a:solidFill>
            <a:srgbClr val="ff3300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2060280"/>
            <a:ext cx="64944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84720" y="1052640"/>
            <a:ext cx="0" cy="1008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549360"/>
            <a:ext cx="57456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49360"/>
            <a:ext cx="122544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549360"/>
            <a:ext cx="64800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1052640"/>
            <a:ext cx="0" cy="1008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2060640"/>
            <a:ext cx="576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2637000"/>
            <a:ext cx="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732720" y="2637000"/>
            <a:ext cx="57600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637000"/>
            <a:ext cx="0" cy="1584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84720" y="4221000"/>
            <a:ext cx="64800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724280"/>
            <a:ext cx="648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084720" y="5300640"/>
            <a:ext cx="6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508720" y="4723920"/>
            <a:ext cx="576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4221000"/>
            <a:ext cx="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859280" y="4724280"/>
            <a:ext cx="64944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84720" y="5300640"/>
            <a:ext cx="5745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84720" y="4723920"/>
            <a:ext cx="57456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284720" y="4221000"/>
            <a:ext cx="57456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35280" y="2637000"/>
            <a:ext cx="64944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2637000"/>
            <a:ext cx="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060640"/>
            <a:ext cx="24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060640"/>
            <a:ext cx="122544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859280" y="2060640"/>
            <a:ext cx="122544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084720" y="2060280"/>
            <a:ext cx="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59280" y="2060280"/>
            <a:ext cx="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4221000"/>
            <a:ext cx="5745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4221000"/>
            <a:ext cx="6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59280" y="3716280"/>
            <a:ext cx="64944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508720" y="3716280"/>
            <a:ext cx="57600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981000"/>
            <a:ext cx="215640" cy="216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981000"/>
            <a:ext cx="215640" cy="216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1267920"/>
            <a:ext cx="64944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508720" y="1267920"/>
            <a:ext cx="57600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435640" y="1557000"/>
            <a:ext cx="64908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858920" y="1557360"/>
            <a:ext cx="576360" cy="287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1557360"/>
            <a:ext cx="122544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84720" y="2637000"/>
            <a:ext cx="0" cy="1584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562120" cy="223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18900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Monotype Corsiva"/>
              </a:rPr>
              <a:t>Найди лишнюю картин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663640" cy="2327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808360" cy="24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10800000">
            <a:off x="178920" y="1484280"/>
            <a:ext cx="2592360" cy="226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3645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0" y="3357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24000" y="6021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2764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flipH="1">
            <a:off x="2268360" y="3573360"/>
            <a:ext cx="2340000" cy="288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3040" y="3645000"/>
            <a:ext cx="239868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517840" cy="3097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2341440" cy="2881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9280" y="2781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88000" y="2997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609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8472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1:06:15Z</dcterms:created>
  <dc:creator>Шутова </dc:creator>
  <dc:description/>
  <dc:language>en-US</dc:language>
  <cp:lastModifiedBy>Ольга</cp:lastModifiedBy>
  <dcterms:modified xsi:type="dcterms:W3CDTF">2012-06-07T16:21:22Z</dcterms:modified>
  <cp:revision>10</cp:revision>
  <dc:subject/>
  <dc:title>Слайд 1</dc:title>
</cp:coreProperties>
</file>