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gif" ContentType="image/gif"/>
  <Override PartName="/ppt/media/image12.png" ContentType="image/png"/>
  <Override PartName="/ppt/media/image7.wmf" ContentType="image/x-wmf"/>
  <Override PartName="/ppt/media/image18.gif" ContentType="image/gif"/>
  <Override PartName="/ppt/media/image16.wmf" ContentType="image/x-wmf"/>
  <Override PartName="/ppt/media/image1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1.jpeg" ContentType="image/jpeg"/>
  <Override PartName="/ppt/media/image15.wmf" ContentType="image/x-wmf"/>
  <Override PartName="/ppt/media/image4.gif" ContentType="image/gif"/>
  <Override PartName="/ppt/media/image11.jpeg" ContentType="image/jpeg"/>
  <Override PartName="/ppt/media/image13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9D7-E412-4E43-A079-807F8C65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732-48B2-470F-B88D-B036EC5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A01-44A2-4774-AFBE-D7BF90A7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E3C-0DA6-46F3-9DD8-1275677C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F1F6-305E-45E7-851A-C57B915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B51-99CF-44AD-9BC2-B07FD17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BE1-F8E7-4569-A098-71F59FB4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0BB-89E1-4F67-8555-195E1267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F74-541D-48D0-94BC-DEC602FB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A3A-97E4-4FC7-A5A9-9ED0AEC9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0E5B-0BA6-41CF-92C6-2C4F2163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C5B-8A41-40F0-B6C9-C2E8D1FD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CAA-CC31-4089-9DDD-B96A1F4C59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 flipH="1">
            <a:off x="-360" y="2421000"/>
            <a:ext cx="4344840" cy="44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76360" y="189000"/>
            <a:ext cx="67816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спользование информационных 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компьютерных технологий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в работе психологической служб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76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Monotype Corsiva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781360"/>
            <a:ext cx="1214280" cy="1214280"/>
          </a:xfrm>
          <a:prstGeom prst="diamond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400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2800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0" y="141300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020000" y="314172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508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50864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7640" y="4508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458136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2781360"/>
            <a:ext cx="1214280" cy="1214280"/>
          </a:xfrm>
          <a:prstGeom prst="diamond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219640" y="4724280"/>
            <a:ext cx="28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172360" y="4797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28000" y="458136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4508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Monotype Corsiva"/>
              </a:rPr>
              <a:t>Посмотри внимательно на фигуры и запомни 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773360"/>
            <a:ext cx="1439640" cy="1368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5300640"/>
            <a:ext cx="1440000" cy="136836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1773360"/>
            <a:ext cx="1665000" cy="136836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8720" y="5300640"/>
            <a:ext cx="1439640" cy="1368360"/>
          </a:xfrm>
          <a:custGeom>
            <a:avLst/>
            <a:gdLst>
              <a:gd name="textAreaLeft" fmla="*/ 593280 w 1439640"/>
              <a:gd name="textAreaRight" fmla="*/ 846360 w 1439640"/>
              <a:gd name="textAreaTop" fmla="*/ 563760 h 1368360"/>
              <a:gd name="textAreaBottom" fmla="*/ 80460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429000"/>
            <a:ext cx="1440000" cy="1368360"/>
          </a:xfrm>
          <a:prstGeom prst="rtTriangl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4797360"/>
            <a:ext cx="1913040" cy="1817640"/>
          </a:xfrm>
          <a:prstGeom prst="diamond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5877000"/>
            <a:ext cx="1439640" cy="136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3357720"/>
            <a:ext cx="1514160" cy="1368360"/>
          </a:xfrm>
          <a:prstGeom prst="star5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89360"/>
            <a:ext cx="1536480" cy="727200"/>
          </a:xfrm>
          <a:prstGeom prst="rightArrow">
            <a:avLst>
              <a:gd name="adj1" fmla="val 50000"/>
              <a:gd name="adj2" fmla="val 52822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40000" y="5084640"/>
            <a:ext cx="765000" cy="1460520"/>
          </a:xfrm>
          <a:prstGeom prst="upArrow">
            <a:avLst>
              <a:gd name="adj1" fmla="val 50000"/>
              <a:gd name="adj2" fmla="val 47729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3336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Monotype Corsiv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0"/>
                            </p:stCondLst>
                            <p:childTnLst>
                              <p:par>
                                <p:cTn id="52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500"/>
                            </p:stCondLst>
                            <p:childTnLst>
                              <p:par>
                                <p:cTn id="53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9000"/>
                            </p:stCondLst>
                            <p:childTnLst>
                              <p:par>
                                <p:cTn id="53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6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02000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19280" y="1197000"/>
            <a:ext cx="9144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59280" y="11970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2781360"/>
            <a:ext cx="1214280" cy="1214280"/>
          </a:xfrm>
          <a:prstGeom prst="diamond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2924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00" y="2997360"/>
            <a:ext cx="914400" cy="9144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0" y="141300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020000" y="3141720"/>
            <a:ext cx="28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508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4508640"/>
            <a:ext cx="914400" cy="9144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450864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87640" y="450864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219640" y="4724280"/>
            <a:ext cx="28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72360" y="4797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0"/>
            <a:ext cx="8136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33ff"/>
                </a:solidFill>
                <a:latin typeface="Monotype Corsiva"/>
              </a:rPr>
              <a:t>В каждой строке вместо «?» нарисуй недостающие фигуры, сохраняя порядо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458136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20000" y="458136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72360" y="4797360"/>
            <a:ext cx="28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441600" y="1984320"/>
            <a:ext cx="5702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Развитие  мышления, воображения и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Тренировка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Verdana"/>
              </a:rPr>
              <a:t>Оптимизация умственной работо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7733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2868840" cy="324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700360" y="189000"/>
            <a:ext cx="388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сихология на урок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1025640"/>
            <a:ext cx="8207280" cy="5832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-72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аписано в центр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209080" cy="6553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53640"/>
            <a:ext cx="23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ут написано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46200" y="0"/>
            <a:ext cx="66978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179280" y="1413000"/>
            <a:ext cx="21225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Найд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5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660066"/>
                </a:solidFill>
                <a:latin typeface="Arial"/>
              </a:rPr>
              <a:t>л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25640"/>
            <a:ext cx="9144000" cy="5832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8" name=""/>
          <p:cNvSpPr/>
          <p:nvPr/>
        </p:nvSpPr>
        <p:spPr>
          <a:xfrm>
            <a:off x="250920" y="864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пытайтесь назвать ЦВЕТ каждого слова, а не само слово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0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098720"/>
            <a:ext cx="8136000" cy="5759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0920" y="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те 20 предм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871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рограммы:«Ориентир», «Я выбираю профессию»,«Тинэйджер» помогают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сориентироваться в мире професс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адекватно оценить свои способности и возмож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составить индивидуальный профессиональный маршрут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785000" y="4724280"/>
            <a:ext cx="1359000" cy="213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08000" y="5148360"/>
            <a:ext cx="2016000" cy="16142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2556000" y="0"/>
            <a:ext cx="430524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свещени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консультиров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2184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Большой интерес учащихся ко всему, что связано с компьюте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Возможность учитывать индивидуальные особенности и возможност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Интерактивность компьютерных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Мультимедийные возмо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Экономия временных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16840" y="4076640"/>
            <a:ext cx="1863720" cy="2781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0"/>
            <a:ext cx="561672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имущества использования ИК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школьного психолог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Цикл занят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«Психологическая культура родителей как необходимое условие психологического здоровья учащих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309744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Презентац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Индивидуальные карты развития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3600720" cy="2556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2484360" y="260280"/>
            <a:ext cx="5977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рганизационно-методическо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1640" y="2781000"/>
            <a:ext cx="676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Диагностическ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Коррекционно-развивающе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Организационно-методическ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Просветитель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0"/>
            <a:ext cx="47512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я использования ИК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школьного психолог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000" y="2565000"/>
            <a:ext cx="676908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Психологический инструментарий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тес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опрос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компьютерные иг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-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333360"/>
            <a:ext cx="430344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агностическо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Использование программ, способствующ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 развитию сенсомоторных и       когнитивных функций головного моз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 повышению эффективности обучения учащихся, их учебной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- развитию интеллектуальных и творческих возмож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5640" y="-171360"/>
            <a:ext cx="538020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ррекционно-развивающее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правл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19280" y="2205000"/>
            <a:ext cx="5379840" cy="20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чальная школ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8120" y="0"/>
          <a:ext cx="6095880" cy="687384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121932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2643120" cy="2941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659640" y="2060640"/>
            <a:ext cx="71280" cy="71280"/>
          </a:xfrm>
          <a:prstGeom prst="ellipse">
            <a:avLst/>
          </a:prstGeom>
          <a:solidFill>
            <a:srgbClr val="ff3300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35280" y="2060280"/>
            <a:ext cx="64944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84720" y="1052640"/>
            <a:ext cx="0" cy="1008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549360"/>
            <a:ext cx="57456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49360"/>
            <a:ext cx="122544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549360"/>
            <a:ext cx="64800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1052640"/>
            <a:ext cx="0" cy="1008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2060640"/>
            <a:ext cx="57600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2637000"/>
            <a:ext cx="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732720" y="2637000"/>
            <a:ext cx="57600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637000"/>
            <a:ext cx="0" cy="1584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84720" y="4221000"/>
            <a:ext cx="64800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4724280"/>
            <a:ext cx="64800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084720" y="5300640"/>
            <a:ext cx="64800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508720" y="4723920"/>
            <a:ext cx="57600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08720" y="4221000"/>
            <a:ext cx="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859280" y="4724280"/>
            <a:ext cx="64944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84720" y="5300640"/>
            <a:ext cx="5745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84720" y="4723920"/>
            <a:ext cx="574560" cy="57636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284720" y="4221000"/>
            <a:ext cx="574560" cy="503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635280" y="2637000"/>
            <a:ext cx="64944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2637000"/>
            <a:ext cx="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060640"/>
            <a:ext cx="244800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060640"/>
            <a:ext cx="122544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859280" y="2060640"/>
            <a:ext cx="122544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084720" y="2060280"/>
            <a:ext cx="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59280" y="2060280"/>
            <a:ext cx="0" cy="1081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4221000"/>
            <a:ext cx="57456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4720" y="4221000"/>
            <a:ext cx="64800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59280" y="3716280"/>
            <a:ext cx="64944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508720" y="3716280"/>
            <a:ext cx="576000" cy="50472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981000"/>
            <a:ext cx="215640" cy="216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981000"/>
            <a:ext cx="215640" cy="216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859280" y="1267920"/>
            <a:ext cx="649440" cy="289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508720" y="1267920"/>
            <a:ext cx="576000" cy="289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435640" y="1557000"/>
            <a:ext cx="649080" cy="2890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858920" y="1557360"/>
            <a:ext cx="576360" cy="28728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1557360"/>
            <a:ext cx="1225440" cy="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284720" y="2637000"/>
            <a:ext cx="0" cy="1584000"/>
          </a:xfrm>
          <a:prstGeom prst="line">
            <a:avLst/>
          </a:prstGeom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5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2562120" cy="223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403280" y="189000"/>
            <a:ext cx="65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Monotype Corsiva"/>
              </a:rPr>
              <a:t>Найди лишнюю картин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95640" y="4221000"/>
            <a:ext cx="2663640" cy="2327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3280" y="1484280"/>
            <a:ext cx="2808360" cy="2452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 rot="10800000">
            <a:off x="178920" y="1484280"/>
            <a:ext cx="2592360" cy="2263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24000" y="3645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0" y="33577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24000" y="6021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27640" y="616572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flipH="1">
            <a:off x="2268360" y="3573360"/>
            <a:ext cx="2340000" cy="2880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23040" y="3645000"/>
            <a:ext cx="2398680" cy="2952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2517840" cy="3097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2341440" cy="2881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9280" y="278136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88000" y="299736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79640" y="609300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84720" y="6165720"/>
            <a:ext cx="2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11:06:15Z</dcterms:created>
  <dc:creator>Шутова </dc:creator>
  <dc:description/>
  <dc:language>en-US</dc:language>
  <cp:lastModifiedBy>Ольга</cp:lastModifiedBy>
  <dcterms:modified xsi:type="dcterms:W3CDTF">2012-06-07T16:21:22Z</dcterms:modified>
  <cp:revision>10</cp:revision>
  <dc:subject/>
  <dc:title>Слайд 1</dc:title>
</cp:coreProperties>
</file>