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767-2039-4BB6-A705-F0673204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E40-024C-47CA-A04B-29B595F0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859-A747-4D23-BD9F-EA7B116B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8F6-40B1-4305-9FAF-4BF4C9B8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B8705-DA95-4EA7-A335-3BDB3D1C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904F2-4FC9-40BC-B83A-C5367D48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A8CB5-E930-4046-97F6-3253152A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6DC52-7E78-47D4-98AE-7870601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12CD3-C00E-4066-97C6-D0C12804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DD47A-0721-4019-92DB-17010554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A27F5-04B6-4A0D-A363-B440F4F2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2AB-8B87-4C3A-A214-DD7E61E1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373D9-8191-4124-9D74-99AB162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6DD1B-8A3F-413A-A9E1-380102E2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88FE4-803B-474F-BDE2-C199265E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657C5-B56C-48DD-B369-F4402562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2FB4D-56D4-4C4D-9941-E233B54B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2E34-2B2C-4458-BCD9-F04B9361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4228-5B57-428E-B671-5630393A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0102-1CCE-4956-8950-5AE067A4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9861-B404-4435-9FC6-D2F8D31F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CA34-F471-4DE4-A51C-9A558223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06D-4F3D-4EEA-B552-3A8035FE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33E1-B883-4A73-8EDC-B0149DF4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97B2-DDC1-470D-9B9C-6B442B9D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347B-56CE-40E1-983E-0B9BFE90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FD5D-1AF7-4383-BAC9-E691BB1F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152D-856B-402D-ACC1-5AED7678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0858A-1896-4668-98CE-5C7453D4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5AEE-F3F4-451D-AF1C-9F82F5B2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45CF-2749-45BB-B421-406F5D55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00E5-4375-46C8-B6AC-B499AD09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3643-7A82-4B2B-8E9C-7FB779FD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E1B-95A9-45E5-AD34-D7B8A2A0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6648-F75A-4F6C-94D7-EC0EA900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DADD-DD34-45DC-A3DE-71CB3963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38A49-6BE2-452C-B775-6C2C1BAA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B7E5-9EB4-41D7-86DE-0C6DE05D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938DB-70D6-4F89-9C98-604BE425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0C77D-2D4B-404F-B0A4-C158121E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3402F-3DC2-4337-83EA-F5679BE5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A2541-4D52-4587-A32F-BB5680DA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129D-4BC0-4C7A-836B-AE6269AF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2DC4F-26E8-4C8D-9920-11CA7017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9BB-4D4B-422E-AB46-81FBBD6B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C818C-3CD5-4BC7-A300-B5520B4E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5EC7B-8BA9-4A8A-A5DA-6660829E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AE249-96BD-4555-BEA5-8B109E95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0CDC1-FB65-4555-B580-5220756A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78EE6-709F-4412-BB21-DF4FB431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BE9A4-D2C0-4047-B60D-5C3E7A1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B8BD2-9597-4491-A566-066C3121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37220-61B7-4A2B-B92E-2506EEE1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E45D6-F14A-4F74-967C-2AD8D703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C92FD-C77E-42E1-8503-EBC988DE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33D-F59F-4913-8656-64AE52C7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FC4BF-A80C-43DD-8E1C-CB372340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882F5-0D7E-477E-A4DA-0CE5EBD8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3825B-BC21-4AB2-BE51-6EDAA753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0C3CC-2433-41E0-ACE2-E542B992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08800-86CF-498A-82D1-16EE788E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3756B-390B-42A3-923A-A3098EFF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65D47-F46B-4F82-8F79-75972FAA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678A-3CE7-4E2F-A879-5F6A562E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8163D-AC19-427A-B1F9-6BA74E04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3C645-FF93-4B11-91D2-CD5E32FF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17D-0A5D-470C-BBAD-3F283619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20994-EF8F-4C55-9782-93B9AB85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1E8E-AC88-4F4A-A476-70B0C6DD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BD199-5AD9-40D6-BBC9-100414CC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21605-CA95-4D5A-93A0-14FE5691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42CC1-7F71-4F46-8A89-3BE65113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D4516-5EF1-4328-8347-86786E90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5D67A-AF6A-4D83-BCA8-707CD502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0BCB0-5D07-4E1B-88C1-3C661017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2D45-F89B-41BF-A606-6B41EFC6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254E2-D9C1-4FB8-821E-5122A2C6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F27-F29E-48B0-8808-16F86E04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DCA64-30DE-416A-BE5D-CF0E60DE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7B6BD-B141-4557-84C6-29E5407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A320A-1647-4500-A0B2-D220F12E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D1ED4-082A-4AAC-9F06-268D9195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DC07D-98E7-4324-B2F5-67D8228A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D9C83-1DC2-4CC8-AE7C-87DE2E7D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F0755-36DC-4352-9693-CC00B509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758D8-1190-45EC-88F9-4D9994CB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76DD5-75BB-450B-9476-130AE759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80FAA-375D-44DC-9044-2DFF3264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B23-76B4-46F8-8B70-8D716C12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77B13-3F2E-49CE-93DF-EACDAAAE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BE442-E369-4FA6-AD55-68A10A43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16187-0A3F-4090-BCF9-6F9CB0DE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21552-8B06-4C29-9A39-A59C6433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5A4F7-80EB-40C7-B325-11AC9D69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CC8EC-CCFD-4DD2-A260-4CAFA7B1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3C4A4-EA01-4C38-A161-3EA64A5F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8129-724D-42F1-8DD8-C5CBA88F3A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2BD3-946C-4CFC-809E-3276AF06E60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5BEB-C77F-4AA4-B25F-7C8F9BB31D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89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9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02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5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06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4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19F0-0963-4CA5-9CE8-9D93A7F846A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667A-9ACB-4BAE-9EA8-6F3522F9B7D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4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B5D9-2BC2-42C9-95D8-03C4854556C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12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BC7B-8FC2-4F9D-A6F8-3F6709AE19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461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462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47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480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484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488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492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4A3F-C784-4FB6-8EAE-C72BB8741BDD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Исследователь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по теме:</a:t>
            </a:r>
            <a:br>
              <a:rPr sz="4000"/>
            </a:br>
            <a:r>
              <a:rPr b="0" i="1" lang="ru-RU" sz="4400" spc="-1" strike="noStrike">
                <a:solidFill>
                  <a:srgbClr val="ccff99"/>
                </a:solidFill>
                <a:latin typeface="Arial"/>
              </a:rPr>
              <a:t>«Курение как социальная проблема»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250920" y="5084280"/>
            <a:ext cx="69134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ыполнил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дражанец О.Р. – 10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уководитель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лтавцева О.А –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учитель биоло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4859280" y="472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j0286034"/>
          <p:cNvPicPr/>
          <p:nvPr/>
        </p:nvPicPr>
        <p:blipFill>
          <a:blip r:embed="rId1"/>
          <a:stretch/>
        </p:blipFill>
        <p:spPr>
          <a:xfrm rot="20381400">
            <a:off x="324000" y="404640"/>
            <a:ext cx="1493640" cy="1319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2571840" y="1856880"/>
            <a:ext cx="3674880" cy="46659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стал показывать рак легкого крупным план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ечность челове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путированную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е гангр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зва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урением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10"/>
          <p:cNvSpPr/>
          <p:nvPr/>
        </p:nvSpPr>
        <p:spPr>
          <a:xfrm>
            <a:off x="285840" y="214200"/>
            <a:ext cx="8572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нимание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смотр данных фото не рекомендуется особо впечатлительным людям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66ccff"/>
                </a:solidFill>
                <a:uFillTx/>
                <a:latin typeface="Tahoma"/>
              </a:rPr>
              <a:t>Экспериментальная часть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стирование в СОШ №4 проходило с 7 по 11 классы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нем приняло участие 124 человека.</a:t>
            </a:r>
            <a:br>
              <a:rPr sz="2000"/>
            </a:br>
            <a:r>
              <a:rPr b="1" i="1" lang="ru-RU" sz="2000" spc="-1" strike="noStrike">
                <a:solidFill>
                  <a:srgbClr val="33cc33"/>
                </a:solidFill>
                <a:latin typeface="Tahoma"/>
              </a:rPr>
              <a:t>Вопросы анке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1680" y="1773360"/>
            <a:ext cx="41911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.Пробовали ли Вы курит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. Курите ли Вы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Иног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. Как Вы считаете, во сколько лет начин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урить современные подрост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7-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10-1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15-1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. Курят ли ваши родители (мать или отец)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5. Как Вы относитесь к курящим людям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Отрицатель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Положитель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Мне все рав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6.Вредит ли курение обществу в целом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Не зна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51200" y="1773360"/>
            <a:ext cx="41911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7. Почему курят подрост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Чтобы забыть о проблемах и расслаби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Чтобы выглядеть крутым и модны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Друг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8. Как Вы считаете, помогает ли курение отвлечься от проблем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Не зна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9.Сколько сигарет можно выкурить в день, и это не будет опасным для  здоровь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0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3-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10-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0. Достаточно ли информации о вреде курени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1.Укажите свой пол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мужско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женск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500"/>
                            </p:stCondLst>
                            <p:childTnLst>
                              <p:par>
                                <p:cTn id="5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500"/>
                            </p:stCondLst>
                            <p:childTnLst>
                              <p:par>
                                <p:cTn id="6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000"/>
                            </p:stCondLst>
                            <p:childTnLst>
                              <p:par>
                                <p:cTn id="6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7500"/>
                            </p:stCondLst>
                            <p:childTnLst>
                              <p:par>
                                <p:cTn id="6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8500"/>
                            </p:stCondLst>
                            <p:childTnLst>
                              <p:par>
                                <p:cTn id="6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5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95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5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5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5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5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5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5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5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5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11"/>
          <p:cNvSpPr/>
          <p:nvPr/>
        </p:nvSpPr>
        <p:spPr>
          <a:xfrm>
            <a:off x="973080" y="-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1030320" y="3357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3" name="Object 15"/>
          <p:cNvGraphicFramePr/>
          <p:nvPr/>
        </p:nvGraphicFramePr>
        <p:xfrm>
          <a:off x="179280" y="3716280"/>
          <a:ext cx="3889440" cy="27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716280"/>
                    <a:ext cx="388944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Rectangle 17"/>
          <p:cNvSpPr/>
          <p:nvPr/>
        </p:nvSpPr>
        <p:spPr>
          <a:xfrm>
            <a:off x="5062320" y="-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19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7" name="Object 18"/>
          <p:cNvGraphicFramePr/>
          <p:nvPr/>
        </p:nvGraphicFramePr>
        <p:xfrm>
          <a:off x="4427640" y="333360"/>
          <a:ext cx="4465440" cy="2981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333360"/>
                    <a:ext cx="4465440" cy="29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20"/>
          <p:cNvSpPr/>
          <p:nvPr/>
        </p:nvSpPr>
        <p:spPr>
          <a:xfrm>
            <a:off x="5638680" y="3357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22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Object 21"/>
          <p:cNvGraphicFramePr/>
          <p:nvPr/>
        </p:nvGraphicFramePr>
        <p:xfrm>
          <a:off x="4500720" y="3727440"/>
          <a:ext cx="4392360" cy="3130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2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3727440"/>
                    <a:ext cx="439236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25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4" name="Object 24"/>
          <p:cNvGraphicFramePr/>
          <p:nvPr/>
        </p:nvGraphicFramePr>
        <p:xfrm>
          <a:off x="250920" y="404640"/>
          <a:ext cx="3673440" cy="28450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85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04640"/>
                    <a:ext cx="3673440" cy="28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4"/>
          <p:cNvSpPr/>
          <p:nvPr/>
        </p:nvSpPr>
        <p:spPr>
          <a:xfrm>
            <a:off x="1319040" y="-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8" name="Object 5"/>
          <p:cNvGraphicFramePr/>
          <p:nvPr/>
        </p:nvGraphicFramePr>
        <p:xfrm>
          <a:off x="250920" y="333360"/>
          <a:ext cx="403380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403380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7"/>
          <p:cNvSpPr/>
          <p:nvPr/>
        </p:nvSpPr>
        <p:spPr>
          <a:xfrm>
            <a:off x="1535040" y="30679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5854680" y="-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5854680" y="3141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1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7" name="Object 16"/>
          <p:cNvGraphicFramePr/>
          <p:nvPr/>
        </p:nvGraphicFramePr>
        <p:xfrm>
          <a:off x="324000" y="3429000"/>
          <a:ext cx="4032000" cy="2800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9000"/>
                    <a:ext cx="403200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Rectangle 19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0" name="Object 18"/>
          <p:cNvGraphicFramePr/>
          <p:nvPr/>
        </p:nvGraphicFramePr>
        <p:xfrm>
          <a:off x="4722840" y="500040"/>
          <a:ext cx="3803760" cy="2438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01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2840" y="500040"/>
                    <a:ext cx="38037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Rectangle 21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3" name="Object 20"/>
          <p:cNvGraphicFramePr/>
          <p:nvPr/>
        </p:nvGraphicFramePr>
        <p:xfrm>
          <a:off x="4788000" y="3500280"/>
          <a:ext cx="3816360" cy="2581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4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500280"/>
                    <a:ext cx="38163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4"/>
          <p:cNvSpPr/>
          <p:nvPr/>
        </p:nvSpPr>
        <p:spPr>
          <a:xfrm>
            <a:off x="1174680" y="2595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5638680" y="2595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3709800" y="32839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2" name="Object 13"/>
          <p:cNvGraphicFramePr/>
          <p:nvPr/>
        </p:nvGraphicFramePr>
        <p:xfrm>
          <a:off x="185760" y="785880"/>
          <a:ext cx="3948120" cy="23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785880"/>
                    <a:ext cx="394812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Rectangle 16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5" name="Object 15"/>
          <p:cNvGraphicFramePr/>
          <p:nvPr/>
        </p:nvGraphicFramePr>
        <p:xfrm>
          <a:off x="4427640" y="765000"/>
          <a:ext cx="3816360" cy="240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6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765000"/>
                    <a:ext cx="381636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Rectangle 18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Object 17"/>
          <p:cNvGraphicFramePr/>
          <p:nvPr/>
        </p:nvGraphicFramePr>
        <p:xfrm>
          <a:off x="2195640" y="3716280"/>
          <a:ext cx="4464000" cy="2946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3716280"/>
                    <a:ext cx="446400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dd78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выполнением своей работы я постав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собою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ить популярно ли курение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ах нашей школы и если да, то поч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 показало, что 88% опрошенных не курят, а 12% курят  постоянно или иногда. Основной причиной, по которой курят подростки, является желание выглядеть крутым и модным. Показательно то, что начальный возраст для курения сами школьники определяют как 10-14 лет, то есть то время, когда происходит утверждение молодого человека в своей компании и самым приемлемым способом этого утверждения оказывается сигар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авляющее большинство школьников ясно понимают, что только «0» сигарет в день не вредит здоровью; и что курение вредит обществу в целом. Значит, теоретическую сторону данного вопроса прекрасно осознают все. Очень хорошо, что из 100% опрошенных многие (59%), начав курить не нашли в этом ничего привлекательного и отказались от привычки, а 88% - не курят вообщ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ольшинстве случаев наши учащиеся показали </a:t>
            </a:r>
            <a:r>
              <a:rPr b="1" i="1" lang="ru-RU" sz="2800" spc="-1" strike="noStrike">
                <a:solidFill>
                  <a:srgbClr val="de0000"/>
                </a:solidFill>
                <a:latin typeface="Tahoma"/>
              </a:rPr>
              <a:t>отрицательное</a:t>
            </a:r>
            <a:r>
              <a:rPr b="0" lang="ru-RU" sz="2400" spc="-1" strike="noStrike">
                <a:solidFill>
                  <a:srgbClr val="de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i="1" lang="ru-RU" sz="2800" spc="-1" strike="noStrike">
                <a:solidFill>
                  <a:srgbClr val="de0000"/>
                </a:solidFill>
                <a:latin typeface="Tahoma"/>
              </a:rPr>
              <a:t>безразлично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е к курению других людей. Может в этом и кроется проблема? Пассивное отношение к этому заболеванию общества – причина многих печальных результа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0000"/>
                </a:solidFill>
                <a:latin typeface="Tahoma"/>
              </a:rPr>
              <a:t>В Америке и Европе курить становится не модно, может, пришло время и нам стать </a:t>
            </a:r>
            <a:r>
              <a:rPr b="1" lang="ru-RU" sz="3200" spc="-1" strike="noStrike">
                <a:solidFill>
                  <a:srgbClr val="de0000"/>
                </a:solidFill>
                <a:latin typeface="Tahoma"/>
              </a:rPr>
              <a:t>модными</a:t>
            </a:r>
            <a:r>
              <a:rPr b="0" lang="ru-RU" sz="3200" spc="-1" strike="noStrike">
                <a:solidFill>
                  <a:srgbClr val="de0000"/>
                </a:solidFill>
                <a:latin typeface="Tahoma"/>
              </a:rPr>
              <a:t>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Blackadder ITC"/>
              </a:rPr>
              <a:t>«Наша жизнь, в сущности, кукольное представление. Нужно лишь держать нити в своих руках, не спутывать их, двигать ими по своей воле и самому решать, когда идти, а когда стоять, не позволять дергать за них другим, и тогда ты вознесешься над сценой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800" spc="-1" strike="noStrike">
                <a:solidFill>
                  <a:srgbClr val="800080"/>
                </a:solidFill>
                <a:latin typeface="Blackadder ITC"/>
              </a:rPr>
              <a:t>Гун Цзычен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Так пусть каждый сам примет решение - держать нити здоровья в своих руках или давать дёргать за них посторонним в нашей жизни привычкам!!!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2" dur="10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7" dur="10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68360" y="1484280"/>
            <a:ext cx="5759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«Представьте себе толпу людей, слепых, глухих, увеченных, бесноватых, и вдруг из этой толпы раздается вопрос: что делать? Единственный разумный здесь ответ: ищите исцеления; пока вы не исцелитесь, для вас нет дела, а пока вы выдаете себя за здоровых, для вас нет исцеления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ладимир Соловье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Picture 6" descr="j0302953"/>
          <p:cNvPicPr/>
          <p:nvPr/>
        </p:nvPicPr>
        <p:blipFill>
          <a:blip r:embed="rId1"/>
          <a:stretch/>
        </p:blipFill>
        <p:spPr>
          <a:xfrm>
            <a:off x="6300720" y="26028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9900cc"/>
                </a:solidFill>
                <a:uFillTx/>
                <a:latin typeface="Arial"/>
              </a:rPr>
              <a:t>Содержание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d800"/>
                </a:solidFill>
                <a:uFillTx/>
                <a:latin typeface="Tahoma"/>
              </a:rPr>
              <a:t>Введ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ddd800"/>
                </a:solidFill>
                <a:uFillTx/>
                <a:latin typeface="Tahoma"/>
              </a:rPr>
              <a:t>Теоретическая час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1. История появления таба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2. Состав табачного ды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3. Влияние курения на организ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d800"/>
                </a:solidFill>
                <a:uFillTx/>
                <a:latin typeface="Tahoma"/>
              </a:rPr>
              <a:t>Экспериментальная раб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d800"/>
                </a:solidFill>
                <a:uFillTx/>
                <a:latin typeface="Tahoma"/>
              </a:rPr>
              <a:t>Вы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Введение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Куре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ленная, но верная смерть. Многие ученые признают, что курение – медленное  самоубий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огочисленные исследования показали, что курение способствует возникновению различных заболеваний, приводит к преждевременной смерти, учащает случаи внезапной смерти, сокращает продолжительность жизни на 8-10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мы видим, курение очень опасно, но несмотря на это- очень распространено. Именно этот парадокс заинтересовал меня и явился причиной данной рабо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00cc"/>
                </a:solidFill>
                <a:uFillTx/>
                <a:latin typeface="Tahoma"/>
              </a:rPr>
              <a:t>Гипотеза</a:t>
            </a:r>
            <a:r>
              <a:rPr b="0" i="1" lang="ru-RU" sz="3200" spc="-1" strike="noStrike">
                <a:solidFill>
                  <a:srgbClr val="9900cc"/>
                </a:solidFill>
                <a:latin typeface="Tahoma"/>
              </a:rPr>
              <a:t> исследования заключается в том, что все подростки, теоретически осознавая вред курения на практике куря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3" name="Picture 27" descr="BD21298_"/>
          <p:cNvPicPr/>
          <p:nvPr/>
        </p:nvPicPr>
        <p:blipFill>
          <a:blip r:embed="rId1"/>
          <a:stretch/>
        </p:blipFill>
        <p:spPr>
          <a:xfrm>
            <a:off x="324000" y="1341360"/>
            <a:ext cx="220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10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Tahoma"/>
              </a:rPr>
              <a:t>Цель моего труда</a:t>
            </a: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 – </a:t>
            </a:r>
            <a:r>
              <a:rPr b="0" i="1" lang="ru-RU" sz="2800" spc="-1" strike="noStrike">
                <a:solidFill>
                  <a:srgbClr val="66ccff"/>
                </a:solidFill>
                <a:latin typeface="Tahoma"/>
              </a:rPr>
              <a:t>выявить соотношение курящих и некурящих подростков в стенах нашей школы и прояснить причины, по которым курение является популярным в молодёжной сре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cc"/>
                </a:solidFill>
                <a:uFillTx/>
                <a:latin typeface="Tahoma"/>
              </a:rPr>
              <a:t>Задачи исследов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ccff"/>
                </a:solidFill>
                <a:latin typeface="Tahoma"/>
              </a:rPr>
              <a:t>выяснить историю возникновения курения в мир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ccff"/>
                </a:solidFill>
                <a:latin typeface="Tahoma"/>
              </a:rPr>
              <a:t>выяснить и показать влияние курения на организм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ccff"/>
                </a:solidFill>
                <a:latin typeface="Tahoma"/>
              </a:rPr>
              <a:t>выяснить реальную картину отношения к курению среди учащихся нашей шко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4" descr="BD21427_"/>
          <p:cNvPicPr/>
          <p:nvPr/>
        </p:nvPicPr>
        <p:blipFill>
          <a:blip r:embed="rId4"/>
          <a:stretch/>
        </p:blipFill>
        <p:spPr>
          <a:xfrm>
            <a:off x="179280" y="2637000"/>
            <a:ext cx="871380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Теоретическая часть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cc33"/>
                </a:solidFill>
                <a:uFillTx/>
                <a:latin typeface="Tahoma"/>
              </a:rPr>
              <a:t>2.1. История появления таб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Знакомство человека с табаком произошло задолго д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открытия Америки. Так, в Египте при раскопках усыпальниц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фараонов, относящихся к 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XXI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XVIII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вв., до н. э., были найде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глиняные курительные трубк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Распространение табака в Европе произошло после втор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посещения Колумбом Америки в 1496 г. Его спутник, испан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монарх Роман Пано, вывез из провинции Тобаго на острове Гаити семе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табака и впервые посеял его в Испании как декоративное растен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Несмотря на запреты инквизиции, европейцы начали культивирова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табак. Посол Франции при португальском дворе Жан Нико в 1560-м го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отправил измельченные в порошок листья табака королеве Екатери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Медичи, рекомендовав его как средство от мигрени. Вскоре после эт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мода на нюхательный табак распространилась по всей Франц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В честь Нико растение впоследствии получило латинс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название </a:t>
            </a:r>
            <a:r>
              <a:rPr b="1" lang="en-US" sz="1600" spc="-1" strike="noStrike">
                <a:solidFill>
                  <a:srgbClr val="cc6600"/>
                </a:solidFill>
                <a:latin typeface="Tahoma"/>
              </a:rPr>
              <a:t>Nicotaina</a:t>
            </a:r>
            <a:r>
              <a:rPr b="0" lang="ru-RU" sz="1600" spc="-1" strike="noStrike">
                <a:solidFill>
                  <a:srgbClr val="cc6600"/>
                </a:solidFill>
                <a:latin typeface="Tahoma"/>
              </a:rPr>
              <a:t>,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а выделенный из него в начале 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XIX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в. Алкалои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соответственно «</a:t>
            </a:r>
            <a:r>
              <a:rPr b="1" lang="ru-RU" sz="1600" spc="-1" strike="noStrike">
                <a:solidFill>
                  <a:srgbClr val="cc6600"/>
                </a:solidFill>
                <a:latin typeface="Tahoma"/>
              </a:rPr>
              <a:t>никотин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00"/>
                </a:solidFill>
                <a:latin typeface="Tahoma"/>
              </a:rPr>
              <a:t>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5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5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5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5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5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5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5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5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55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ервое время курение преследовалось, и курильщ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жестоко наказывали. В Англии они подвергались суров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аказаниям, вплоть до смертной казни. В Турции курильщ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одвергали телесным наказаниям, позорным церемониям и даж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иговаривали к смертной казни – сажали на кол. В Японии 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курение можно было угодить в тюрьму, а у нас в России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одвергнуться пыткам и увечь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Уже в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XVIII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в. появляются сообщения о вреде курения. С 40-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годов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XVIII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в. в медицинской литературе ученые писали о вред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ействии табака на организм человека. С этого момента иллюзия 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лечебных  свойствах табака исчезает, но производство зелья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Европе все больше развивается, так как торговля им принос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хорошие дохо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 Россию табак был завезен английскими купцами в 1585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через Архангельск, а затем стал широко культивироваться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Российской земле.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000"/>
                            </p:stCondLst>
                            <p:childTnLst>
                              <p:par>
                                <p:cTn id="3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d50b0b"/>
                </a:solidFill>
                <a:uFillTx/>
                <a:latin typeface="Tahoma"/>
              </a:rPr>
              <a:t>Состав табачного ды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Антраце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ри вдыхании пыли или паров происходит отек век, раздражение слизистых оболочек горла, носа, снижается масса тела, фибромные заболе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Пирен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хорошо растворим в крови человека, вызывает судороги, спазмы дыхательных путей, снижается гемоглобин, нарушение функций пече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2, 4-диметилфено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гнетает высшие, нервные центры, действует наркотичес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Этилфено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снижает давление, острое угнетение, снижает двигательную актив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Нитробензол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при вдыхании в больших концентрациях почти мгновенная потеря сознания и смерть. При малых концентрациях – сонливость, мышечные подергивания, тошнота, необратимые изменения кровеносных сосу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Нитромет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чащает пульс, ослабляет внимание, при высоких концентрациях вызывает наркотическое состояние с психической травм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6" dur="5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50b0b"/>
                </a:solidFill>
                <a:latin typeface="Arial"/>
              </a:rPr>
              <a:t>Влияние курения на организм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дной сигарете содержится от 0,1 до 0,3 миллиграмма никотина. Во время выкуривания сигареты никотин проникает в кровь. Под его влиянием происходит сужение сосудов кожи. При этом через капилляры кожи проходит меньшее количество крови, что вызывает понижение температуры и ее поблед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сходит поражение периферических сосудов, коронарных артерий, сосудов головного мозга, вызывает повышение свертываемости крови, что приводит к стенокардии, инфаркту миокарда, аневризме аорты, остановке сердца. Регулярное курение, вызывая спазм периферических сосудов, мешает полноценному питанию кожи, что в самых тяжелых случаях приводит к гангрене и ампутации кон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</cp:lastModifiedBy>
  <dcterms:modified xsi:type="dcterms:W3CDTF">2012-06-06T15:20:19Z</dcterms:modified>
  <cp:revision>21</cp:revision>
  <dc:subject/>
  <dc:title>PowerPoint Presentation</dc:title>
</cp:coreProperties>
</file>