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51F-E63E-4AE8-9D96-32B93BAA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1E0-A19C-491A-B47D-0684845F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FD9-F506-439C-AD29-CD7A6718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544-6DD6-48B7-993E-C7789BF8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41CD7-8C50-4F1B-8D6C-FA2FD180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6908C-A6C9-47C9-BB40-FB13C27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A8DC1-EA8A-4E0D-A468-7FFA4E61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CDE4F-1FC8-4647-9FDB-4561DA8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4DD2D-3C80-4530-9271-DA69FAD0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633A-310B-4722-9BAE-248524A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976E3-F0A7-4BD1-9156-44216D12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65B-50D1-431B-BD5C-CAADDD00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79C5-DA1B-4C0F-99E6-FB20B8E0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4959B-09D2-4226-A2CA-DD0ABFE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8E538-678D-417D-86E0-2F83D70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C8296-8A57-4D4C-B073-796E266F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4BE47-B555-40A0-97E1-5B6E1C9A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6186D-164A-43ED-97D3-852A1E58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212D-431A-497C-8258-03058F4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999D-7D92-4CFB-BD30-2F4583A3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7CE7-FA17-42EB-AABB-CE9C61C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46A0-2492-4390-90D0-640410B0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F1F-C882-4126-8E78-140F468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194C-A6DC-4646-B6F9-E7E8F1DF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4E5F-A3CF-40E4-A7A1-5B6844B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1D4A-5A38-48DC-8FA5-EE5BD0CA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8B73-6511-4985-94B3-2D05FEF5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13C4D-F50D-4EF2-87E3-71A3F8AC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7ECE-36BC-4674-84C1-186D5C95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87520-60F0-4742-B280-963CE80B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A4A4-8B47-4D03-BF7C-FF147BBA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C101-3BF3-4672-949B-4E6CC428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A7984-2F59-409B-9172-24D71030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051-DA0D-4279-9101-F0298EB1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2932-30DD-4DD3-9D18-3FFDF84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76CB-8633-48BE-8023-A74DB9C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5065-0157-411B-B56D-688F557B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4FEA-DBE3-4215-A38C-87926D57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E883-F081-4BDB-BDD3-580DBE7B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56BB-6142-4223-A71A-6EEFECC2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77E70-0DD0-4281-893E-EF13FD2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2896A-6806-4330-8E56-21EA23D2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0BD6C-47F8-466A-A0BB-CC875713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414D-60F0-439B-B397-38D96396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866-8151-4C3E-A266-6FC8276B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DF42-E4BD-4DA5-8ACE-F9FBB4EF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A57E-0B70-454D-910F-B52150AD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9594C-09C2-43BC-9F26-5DD01512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5CBC5-D1A4-45B1-B84E-50EE588A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1EF92-1BAA-4BE0-BB95-F675DE8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F3973-F449-4B28-82EC-1D2FC34A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9171-F263-43E8-BF6E-625F7A6D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25B9-4B45-44CA-966C-F7E32DD3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1A81-BC29-41A8-A99C-995984A0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8800-D6A5-415C-810B-EAA65E60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647-2569-4EAA-AF6E-D0AAFE6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9AD7-C507-4A23-9F3D-C9D195C2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DD35-42E6-44B3-97D8-BFCD667C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B4A0-5733-4C1A-A175-B7B1FF4B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E9342-24DE-45B1-B952-4D6A95F9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47E0-8ACC-4F37-8484-A5B5066B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26385-3A45-4CD1-84C1-534C06B3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CE62-D12E-4078-A719-8B4579E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7473-FBED-45C6-9943-FFF10810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BE74-7707-4CFF-ABFE-2609925E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5D6D-C4D8-4804-8117-BA335CCA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0D7-B865-4592-BD09-5F96F46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102F-3FCF-4B75-A8B9-B7354EB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6A497-5782-45A8-B108-C2A1DBDC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299D-8D48-4498-A228-3ED8EE67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2646-48B3-4DC0-9B13-EE572578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058E-745D-4C27-B92F-819F89B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0C3CB-5567-440F-82FF-E6CC09F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A48E-CAB5-4424-A693-0840F52A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012B-4F55-4A9D-8937-F9F6428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5D202-427B-472F-B36B-D1BA1D9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88C76-B64B-49C5-B1BD-5C5D8F4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313-CB7E-4321-A6AE-AFCCACD1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8FD44-C8C4-459A-A5BF-340F794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4BDC-D12A-4D9A-8645-31C78D6B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8A2C-EE6D-4731-AA2E-2D3ECB9C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B740D-23CD-486B-B1F2-11CA6E66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412E3-937A-44BB-9281-9CBC4377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4998-D8DC-4EBD-AC96-4172C0C1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B6FFB-5D6F-48BF-B47F-F0A4665B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4A0FB-4DF4-4593-805B-77D950AC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9006-3886-4DE8-AAB0-791FB810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C2559-8CA6-44C5-8B31-004F934D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30F-76B7-4B40-9F1E-7BBC8B43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78A25-756B-4C72-9FEF-A13A3D55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2E2A5-2C74-4065-BFCB-5076CB3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94D6B-79B7-42C4-B55F-EEC502F9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0D960-EB4F-42A1-A701-AA0D9927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4A7F-FD0E-47E9-AEC4-CACD7B51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02C38-1FC7-4418-BB6E-D83FBA76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7541-51BD-4E3F-91AE-23FA035D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F77-35B0-4973-A1D1-BE616D143D2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57E9-C4E4-4418-AC7C-444F0B175D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4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E577-0663-45E8-BD0E-E854F8CE05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89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1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4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96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02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06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0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4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BCB-6872-448D-A596-B697582FAFF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766C-8F9B-42E1-9F9A-55A93DF317B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4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B7A7-09F0-4C7C-A973-3288A28392A7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1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EF3-9E5E-4061-9E4E-96A21A7B2E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461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462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47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480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484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488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492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6D90-5055-40EC-932E-DD963CB88379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Исследовательская работа </a:t>
            </a:r>
            <a:br>
              <a:rPr sz="4000"/>
            </a:br>
            <a:r>
              <a:rPr b="0" lang="ru-RU" sz="4000" spc="-1" strike="noStrike">
                <a:solidFill>
                  <a:srgbClr val="ccff99"/>
                </a:solidFill>
                <a:latin typeface="Arial"/>
              </a:rPr>
              <a:t>по теме:</a:t>
            </a:r>
            <a:br>
              <a:rPr sz="4000"/>
            </a:br>
            <a:r>
              <a:rPr b="0" i="1" lang="ru-RU" sz="4400" spc="-1" strike="noStrike">
                <a:solidFill>
                  <a:srgbClr val="ccff99"/>
                </a:solidFill>
                <a:latin typeface="Arial"/>
              </a:rPr>
              <a:t>«Курение как социальная проблема»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250920" y="5084280"/>
            <a:ext cx="6913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ыполнил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дражанец О.Р. – 10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уководитель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лтавцева О.А –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учитель биоло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4859280" y="4724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j0286034"/>
          <p:cNvPicPr/>
          <p:nvPr/>
        </p:nvPicPr>
        <p:blipFill>
          <a:blip r:embed="rId1"/>
          <a:stretch/>
        </p:blipFill>
        <p:spPr>
          <a:xfrm rot="20381400">
            <a:off x="324000" y="404640"/>
            <a:ext cx="1493640" cy="1319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2571840" y="1856880"/>
            <a:ext cx="3674880" cy="46659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стал показывать рак легкого крупным план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ечность челове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путированную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ультате ганг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зва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урением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10"/>
          <p:cNvSpPr/>
          <p:nvPr/>
        </p:nvSpPr>
        <p:spPr>
          <a:xfrm>
            <a:off x="285840" y="214200"/>
            <a:ext cx="8572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нимание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смотр данных фото не рекомендуется особо впечатлительным людям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5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66ccff"/>
                </a:solidFill>
                <a:uFillTx/>
                <a:latin typeface="Tahoma"/>
              </a:rPr>
              <a:t>Экспериментальная част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стирование в СОШ №4 проходило с 7 по 11 классы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нем приняло участие 124 человека.</a:t>
            </a:r>
            <a:br>
              <a:rPr sz="2000"/>
            </a:br>
            <a:r>
              <a:rPr b="1" i="1" lang="ru-RU" sz="2000" spc="-1" strike="noStrike">
                <a:solidFill>
                  <a:srgbClr val="33cc33"/>
                </a:solidFill>
                <a:latin typeface="Tahoma"/>
              </a:rPr>
              <a:t>Вопросы анке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01680" y="1773360"/>
            <a:ext cx="41911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.Пробовали ли Вы курит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2. Курите ли Вы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Иног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. Как Вы считаете, во сколько лет начин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курить современные подрост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7-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10-1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15-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. Курят ли ваши родители (мать или отец)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5. Как Вы относитесь к курящим людя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Отрицате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Положитель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Мне все равн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6.Вредит ли курение обществу в цело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Не зн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651200" y="1773360"/>
            <a:ext cx="41911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7. Почему курят подрост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Чтобы забыть о проблемах и расслаб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Чтобы выглядеть крутым и мод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Друг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8. Как Вы считаете, помогает ли курение отвлечься от пробле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Не знаю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9.Сколько сигарет можно выкурить в день, и это не будет опасным для  здоров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3-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В) 10-1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0. Достаточно ли информации о вреде курени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Н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11.Укажите свой пол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) мужско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Б) женски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500"/>
                            </p:stCondLst>
                            <p:childTnLst>
                              <p:par>
                                <p:cTn id="5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500"/>
                            </p:stCondLst>
                            <p:childTnLst>
                              <p:par>
                                <p:cTn id="6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000"/>
                            </p:stCondLst>
                            <p:childTnLst>
                              <p:par>
                                <p:cTn id="6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7500"/>
                            </p:stCondLst>
                            <p:childTnLst>
                              <p:par>
                                <p:cTn id="6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500"/>
                            </p:stCondLst>
                            <p:childTnLst>
                              <p:par>
                                <p:cTn id="6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5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9000"/>
                            </p:stCondLst>
                            <p:childTnLst>
                              <p:par>
                                <p:cTn id="6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9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5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5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56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56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5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56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56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5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5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5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5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5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5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97308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1030320" y="3357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3" name="Object 15"/>
          <p:cNvGraphicFramePr/>
          <p:nvPr/>
        </p:nvGraphicFramePr>
        <p:xfrm>
          <a:off x="179280" y="3716280"/>
          <a:ext cx="3889440" cy="27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716280"/>
                    <a:ext cx="388944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Rectangle 17"/>
          <p:cNvSpPr/>
          <p:nvPr/>
        </p:nvSpPr>
        <p:spPr>
          <a:xfrm>
            <a:off x="506232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19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7" name="Object 18"/>
          <p:cNvGraphicFramePr/>
          <p:nvPr/>
        </p:nvGraphicFramePr>
        <p:xfrm>
          <a:off x="4427640" y="333360"/>
          <a:ext cx="4465440" cy="2981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33360"/>
                    <a:ext cx="446544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20"/>
          <p:cNvSpPr/>
          <p:nvPr/>
        </p:nvSpPr>
        <p:spPr>
          <a:xfrm>
            <a:off x="5638680" y="3357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22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1" name="Object 21"/>
          <p:cNvGraphicFramePr/>
          <p:nvPr/>
        </p:nvGraphicFramePr>
        <p:xfrm>
          <a:off x="4500720" y="3727440"/>
          <a:ext cx="4392360" cy="3130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2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3727440"/>
                    <a:ext cx="439236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25"/>
          <p:cNvSpPr/>
          <p:nvPr/>
        </p:nvSpPr>
        <p:spPr>
          <a:xfrm>
            <a:off x="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24"/>
          <p:cNvGraphicFramePr/>
          <p:nvPr/>
        </p:nvGraphicFramePr>
        <p:xfrm>
          <a:off x="250920" y="404640"/>
          <a:ext cx="3673440" cy="2845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85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0920" y="404640"/>
                    <a:ext cx="367344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131904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5"/>
          <p:cNvGraphicFramePr/>
          <p:nvPr/>
        </p:nvGraphicFramePr>
        <p:xfrm>
          <a:off x="250920" y="333360"/>
          <a:ext cx="403380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403380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7"/>
          <p:cNvSpPr/>
          <p:nvPr/>
        </p:nvSpPr>
        <p:spPr>
          <a:xfrm>
            <a:off x="1535040" y="30679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9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10"/>
          <p:cNvSpPr/>
          <p:nvPr/>
        </p:nvSpPr>
        <p:spPr>
          <a:xfrm>
            <a:off x="5854680" y="-72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5854680" y="3141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7" name="Object 16"/>
          <p:cNvGraphicFramePr/>
          <p:nvPr/>
        </p:nvGraphicFramePr>
        <p:xfrm>
          <a:off x="324000" y="3429000"/>
          <a:ext cx="4032000" cy="2800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9000"/>
                    <a:ext cx="40320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Rectangle 19"/>
          <p:cNvSpPr/>
          <p:nvPr/>
        </p:nvSpPr>
        <p:spPr>
          <a:xfrm>
            <a:off x="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0" name="Object 18"/>
          <p:cNvGraphicFramePr/>
          <p:nvPr/>
        </p:nvGraphicFramePr>
        <p:xfrm>
          <a:off x="4722840" y="500040"/>
          <a:ext cx="3803760" cy="2438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1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2840" y="500040"/>
                    <a:ext cx="3803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Rectangle 21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3" name="Object 20"/>
          <p:cNvGraphicFramePr/>
          <p:nvPr/>
        </p:nvGraphicFramePr>
        <p:xfrm>
          <a:off x="4788000" y="3500280"/>
          <a:ext cx="3816360" cy="2581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4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500280"/>
                    <a:ext cx="38163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4"/>
          <p:cNvSpPr/>
          <p:nvPr/>
        </p:nvSpPr>
        <p:spPr>
          <a:xfrm>
            <a:off x="1174680" y="2595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5638680" y="2595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3709800" y="3283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№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14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2" name="Object 13"/>
          <p:cNvGraphicFramePr/>
          <p:nvPr/>
        </p:nvGraphicFramePr>
        <p:xfrm>
          <a:off x="185760" y="785880"/>
          <a:ext cx="3948120" cy="233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785880"/>
                    <a:ext cx="39481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Rectangle 16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5"/>
          <p:cNvGraphicFramePr/>
          <p:nvPr/>
        </p:nvGraphicFramePr>
        <p:xfrm>
          <a:off x="4427640" y="765000"/>
          <a:ext cx="3816360" cy="240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6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765000"/>
                    <a:ext cx="38163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Rectangle 18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Object 17"/>
          <p:cNvGraphicFramePr/>
          <p:nvPr/>
        </p:nvGraphicFramePr>
        <p:xfrm>
          <a:off x="2195640" y="3716280"/>
          <a:ext cx="4464000" cy="2946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3716280"/>
                    <a:ext cx="446400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dd78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выполнением своей работы я постави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д собою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популярно ли курение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ах нашей школы и если да, то поче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следование показало, что 88% опрошенных не курят, а 12% курят  постоянно или иногда. Основной причиной, по которой курят подростки, является желание выглядеть крутым и модным. Показательно то, что начальный возраст для курения сами школьники определяют как 10-14 лет, то есть то время, когда происходит утверждение молодого человека в своей компании и самым приемлемым способом этого утверждения оказывается сигар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6836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авляющее большинство школьников ясно понимают, что только «0» сигарет в день не вредит здоровью; и что курение вредит обществу в целом. Значит, теоретическую сторону данного вопроса прекрасно осознают все. Очень хорошо, что из 100% опрошенных многие (59%), начав курить не нашли в этом ничего привлекательного и отказались от привычки, а 88% - не курят вообщ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большинстве случаев наши учащиеся показали </a:t>
            </a:r>
            <a:r>
              <a:rPr b="1" i="1" lang="ru-RU" sz="2800" spc="-1" strike="noStrike">
                <a:solidFill>
                  <a:srgbClr val="de0000"/>
                </a:solidFill>
                <a:latin typeface="Tahoma"/>
              </a:rPr>
              <a:t>отрицательное</a:t>
            </a:r>
            <a:r>
              <a:rPr b="0" lang="ru-RU" sz="2400" spc="-1" strike="noStrike">
                <a:solidFill>
                  <a:srgbClr val="de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800" spc="-1" strike="noStrike">
                <a:solidFill>
                  <a:srgbClr val="de0000"/>
                </a:solidFill>
                <a:latin typeface="Tahoma"/>
              </a:rPr>
              <a:t>безразличное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к курению других людей. Может в этом и кроется проблема? Пассивное отношение к этому заболеванию общества – причина многих печальных результат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0000"/>
                </a:solidFill>
                <a:latin typeface="Tahoma"/>
              </a:rPr>
              <a:t>В Америке и Европе курить становится не модно, может, пришло время и нам стать </a:t>
            </a:r>
            <a:r>
              <a:rPr b="1" lang="ru-RU" sz="3200" spc="-1" strike="noStrike">
                <a:solidFill>
                  <a:srgbClr val="de0000"/>
                </a:solidFill>
                <a:latin typeface="Tahoma"/>
              </a:rPr>
              <a:t>модными</a:t>
            </a:r>
            <a:r>
              <a:rPr b="0" lang="ru-RU" sz="3200" spc="-1" strike="noStrike">
                <a:solidFill>
                  <a:srgbClr val="de0000"/>
                </a:solidFill>
                <a:latin typeface="Tahoma"/>
              </a:rPr>
              <a:t>?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2000"/>
                            </p:stCondLst>
                            <p:childTnLst>
                              <p:par>
                                <p:cTn id="9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Blackadder ITC"/>
              </a:rPr>
              <a:t>«Наша жизнь, в сущности, кукольное представление. Нужно лишь держать нити в своих руках, не спутывать их, двигать ими по своей воле и самому решать, когда идти, а когда стоять, не позволять дергать за них другим, и тогда ты вознесешься над сценой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i="1" lang="ru-RU" sz="2800" spc="-1" strike="noStrike">
                <a:solidFill>
                  <a:srgbClr val="800080"/>
                </a:solidFill>
                <a:latin typeface="Blackadder ITC"/>
              </a:rPr>
              <a:t>Гун Цзычен.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ак пусть каждый сам примет решение - держать нити здоровья в своих руках или давать дёргать за них посторонним в нашей жизни привычкам!!!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0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1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10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68360" y="1484280"/>
            <a:ext cx="5759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«Представьте себе толпу людей, слепых, глухих, увеченных, бесноватых, и вдруг из этой толпы раздается вопрос: что делать? Единственный разумный здесь ответ: ищите исцеления; пока вы не исцелитесь, для вас нет дела, а пока вы выдаете себя за здоровых, для вас нет исцеления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ладимир Соловье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6" descr="j0302953"/>
          <p:cNvPicPr/>
          <p:nvPr/>
        </p:nvPicPr>
        <p:blipFill>
          <a:blip r:embed="rId1"/>
          <a:stretch/>
        </p:blipFill>
        <p:spPr>
          <a:xfrm>
            <a:off x="6300720" y="26028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9900cc"/>
                </a:solidFill>
                <a:uFillTx/>
                <a:latin typeface="Arial"/>
              </a:rPr>
              <a:t>Содержание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Введ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Теоретическая час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1. История появления таба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2. Состав табачного ды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3. Влияние курения на орган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Экспериментальная раб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d800"/>
                </a:solidFill>
                <a:uFillTx/>
                <a:latin typeface="Tahoma"/>
              </a:rPr>
              <a:t>Выв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Введение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Курени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ленная, но верная смерть. Многие ученые признают, что курение – медленное  самоубий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численные исследования показали, что курение способствует возникновению различных заболеваний, приводит к преждевременной смерти, учащает случаи внезапной смерти, сокращает продолжительность жизни на 8-10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мы видим, курение очень опасно, но несмотря на это- очень распространено. Именно этот парадокс заинтересовал меня и явился причиной данной рабо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cc"/>
                </a:solidFill>
                <a:uFillTx/>
                <a:latin typeface="Tahoma"/>
              </a:rPr>
              <a:t>Гипотеза</a:t>
            </a:r>
            <a:r>
              <a:rPr b="0" i="1" lang="ru-RU" sz="3200" spc="-1" strike="noStrike">
                <a:solidFill>
                  <a:srgbClr val="9900cc"/>
                </a:solidFill>
                <a:latin typeface="Tahoma"/>
              </a:rPr>
              <a:t> исследования заключается в том, что все подростки, теоретически осознавая вред курения на практике куря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27" descr="BD21298_"/>
          <p:cNvPicPr/>
          <p:nvPr/>
        </p:nvPicPr>
        <p:blipFill>
          <a:blip r:embed="rId1"/>
          <a:stretch/>
        </p:blipFill>
        <p:spPr>
          <a:xfrm>
            <a:off x="324000" y="1341360"/>
            <a:ext cx="220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10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Цель моего труда</a:t>
            </a:r>
            <a:r>
              <a:rPr b="0" lang="ru-RU" sz="32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вить соотношение курящих и некурящих подростков в стенах нашей школы и прояснить причины, по которым курение является популярным в молодёжной сре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cc"/>
                </a:solidFill>
                <a:uFillTx/>
                <a:latin typeface="Tahoma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историю возникновения курения в ми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и показать влияние курения на организм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ccff"/>
                </a:solidFill>
                <a:latin typeface="Tahoma"/>
              </a:rPr>
              <a:t>выяснить реальную картину отношения к курению среди учащихся нашей шко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4" descr="BD21427_"/>
          <p:cNvPicPr/>
          <p:nvPr/>
        </p:nvPicPr>
        <p:blipFill>
          <a:blip r:embed="rId4"/>
          <a:stretch/>
        </p:blipFill>
        <p:spPr>
          <a:xfrm>
            <a:off x="179280" y="2637000"/>
            <a:ext cx="87138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Теоретическая часть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cc33"/>
                </a:solidFill>
                <a:uFillTx/>
                <a:latin typeface="Tahoma"/>
              </a:rPr>
              <a:t>2.1. История появления таб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Знакомство человека с табаком произошло задолго д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ткрытия Америки. Так, в Египте при раскопках усыпальниц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фараонов, относящихся к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XI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вв., до н. э., были найде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глиняные курительные труб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Распространение табака в Европе произошло после втор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посещения Колумбом Америки в 1496 г. Его спутник, испан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онарх Роман Пано, вывез из провинции Тобаго на острове Гаити сем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табака и впервые посеял его в Испании как декоративное расте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Несмотря на запреты инквизиции, европейцы начали культивирова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табак. Посол Франции при португальском дворе Жан Нико в 1560-м го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отправил измельченные в порошок листья табака королеве Екатери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едичи, рекомендовав его как средство от мигрени. Вскоре после это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мода на нюхательный табак распространилась по всей Франц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В честь Нико растение впоследствии получило латинс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название </a:t>
            </a:r>
            <a:r>
              <a:rPr b="1" lang="en-US" sz="1600" spc="-1" strike="noStrike">
                <a:solidFill>
                  <a:srgbClr val="cc6600"/>
                </a:solidFill>
                <a:latin typeface="Tahoma"/>
              </a:rPr>
              <a:t>Nicotaina</a:t>
            </a:r>
            <a:r>
              <a:rPr b="0" lang="ru-RU" sz="1600" spc="-1" strike="noStrike">
                <a:solidFill>
                  <a:srgbClr val="cc66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а выделенный из него в начале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XIX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 в. Алкалои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соответственно «</a:t>
            </a:r>
            <a:r>
              <a:rPr b="1" lang="ru-RU" sz="1600" spc="-1" strike="noStrike">
                <a:solidFill>
                  <a:srgbClr val="cc6600"/>
                </a:solidFill>
                <a:latin typeface="Tahoma"/>
              </a:rPr>
              <a:t>никотин</a:t>
            </a:r>
            <a:r>
              <a:rPr b="0" lang="ru-RU" sz="1600" spc="-1" strike="noStrike">
                <a:solidFill>
                  <a:srgbClr val="ffff00"/>
                </a:solidFill>
                <a:latin typeface="Tahoma"/>
              </a:rPr>
              <a:t>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7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5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5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5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5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5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5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5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55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55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5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ервое время курение преследовалось, и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стоко наказывали. В Англии они подвергались суров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наказаниям, вплоть до смертной казни. В Турции куриль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вергали телесным наказаниям, позорным церемониям и даж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риговаривали к смертной казни – сажали на кол. В Японии 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курение можно было угодить в тюрьму, а у нас в России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подвергнуться пыткам и увечь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Уже в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в. появляются сообщения о вреде курения. С 40-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годов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XVIII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в. в медицинской литературе ученые писали о вред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действии табака на организм человека. С этого момента иллюзия 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лечебных  свойствах табака исчезает, но производство зелья 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Европе все больше развивается, так как торговля им приноси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хорошие дохо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В Россию табак был завезен английскими купцами в 1585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через Архангельск, а затем стал широко культивироваться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Российской земле.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5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5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000"/>
                            </p:stCondLst>
                            <p:childTnLst>
                              <p:par>
                                <p:cTn id="3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5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5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d50b0b"/>
                </a:solidFill>
                <a:uFillTx/>
                <a:latin typeface="Tahoma"/>
              </a:rPr>
              <a:t>Состав табачного дым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Антрац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ри вдыхании пыли или паров происходит отек век, раздражение слизистых оболочек горла, носа, снижается масса тела, фибромные заболе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ирен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хорошо растворим в крови человека, вызывает судороги, спазмы дыхательных путей, снижается гемоглобин, нарушение функций печен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2, 4-диметилфено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гнетает высшие, нервные центры, действует наркотичес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Этилфено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снижает давление, острое угнетение, снижает двигательную актив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итробензол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и вдыхании в больших концентрациях почти мгновенная потеря сознания и смерть. При малых концентрациях – сонливость, мышечные подергивания, тошнота, необратимые изменения кровеносных сосу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Нитромета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чащает пульс, ослабляет внимание, при высоких концентрациях вызывает наркотическое состояние с психической трав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d50b0b"/>
                </a:solidFill>
                <a:latin typeface="Arial"/>
              </a:rPr>
              <a:t>Влияние курения на организм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дной сигарете содержится от 0,1 до 0,3 миллиграмма никотина. Во время выкуривания сигареты никотин проникает в кровь. Под его влиянием происходит сужение сосудов кожи. При этом через капилляры кожи проходит меньшее количество крови, что вызывает понижение температуры и ее поблед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поражение периферических сосудов, коронарных артерий, сосудов головного мозга, вызывает повышение свертываемости крови, что приводит к стенокардии, инфаркту миокарда, аневризме аорты, остановке сердца. Регулярное курение, вызывая спазм периферических сосудов, мешает полноценному питанию кожи, что в самых тяжелых случаях приводит к гангрене и ампутации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</cp:lastModifiedBy>
  <dcterms:modified xsi:type="dcterms:W3CDTF">2012-06-06T15:20:19Z</dcterms:modified>
  <cp:revision>21</cp:revision>
  <dc:subject/>
  <dc:title>PowerPoint Presentation</dc:title>
</cp:coreProperties>
</file>