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8.jpeg" ContentType="image/jpeg"/>
  <Override PartName="/ppt/media/image34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EF7C-D1E3-4C56-B28F-955F6734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834F-F1D4-4092-A251-8865EDC0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A466-AACF-44EF-84B1-4B931E89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ACB11-AB23-48F0-911C-BCA9EA08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C323-80B5-4EB7-A7ED-0EB2BEF3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8BC3-65A4-42E2-BA0E-AF53DB2B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1A0A-9B61-4507-8A83-A9060447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417A-92DC-4EBE-BEB5-A2180CD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AFE3-0716-48DF-B064-8888402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4D0C-FE19-4AF6-BA4D-308CA887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AE4-E6B3-4E37-B36E-61428FE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B8CB-725B-42F5-8D09-BB1352AD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BDD6-3726-4674-9947-56292ED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C57-1262-451F-91CA-E76A5B4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127C-7ECF-44DC-B778-88247BD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C01-D792-4ACC-88D4-66B11452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FC02-60F2-4ED4-B45E-C6F4CAB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7DBE-BF71-49D6-A30F-ECBF1F5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0D84-EF48-416A-9501-5CC76E9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26BA-A8C4-4BFD-B66E-27FD3E06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D058-2335-4AE0-AE04-ACFA4A20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49D2-5C00-48F3-8BD6-60BBD3E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6EEA-83E6-4922-BAE4-0FA0FCB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40A3-9539-402A-910A-AEC3EE44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084F-1D09-460B-954D-DB6CBC1A80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8520" y="1219320"/>
              <a:ext cx="864360" cy="4548600"/>
              <a:chOff x="111852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85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824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45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28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6760"/>
              <a:ext cx="7314840" cy="4097880"/>
              <a:chOff x="915120" y="1436760"/>
              <a:chExt cx="7314840" cy="40978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6760"/>
                <a:ext cx="7295400" cy="820440"/>
                <a:chOff x="915120" y="1436760"/>
                <a:chExt cx="729540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67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03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8960" y="19821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88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560" y="2521080"/>
                <a:ext cx="7295400" cy="820440"/>
                <a:chOff x="934560" y="2521080"/>
                <a:chExt cx="72954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560" y="252108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6240" y="30675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8600" y="334152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9160"/>
                <a:ext cx="7295400" cy="820440"/>
                <a:chOff x="915120" y="3629160"/>
                <a:chExt cx="729540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91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312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8960" y="41745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880" y="44496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560" y="4711680"/>
                <a:ext cx="7295400" cy="822960"/>
                <a:chOff x="934560" y="4711680"/>
                <a:chExt cx="72954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560" y="471168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492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6240" y="52599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8600" y="553464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7800" y="1243080"/>
              <a:ext cx="864360" cy="4547520"/>
              <a:chOff x="228780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7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75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38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2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73280" y="1243080"/>
              <a:ext cx="864360" cy="4547520"/>
              <a:chOff x="347328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732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1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9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7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9120" y="1243080"/>
              <a:ext cx="864360" cy="4547520"/>
              <a:chOff x="465912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91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74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32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234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5280" y="1243080"/>
              <a:ext cx="862560" cy="4547520"/>
              <a:chOff x="579528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52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72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84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7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4840" y="1243080"/>
              <a:ext cx="864360" cy="4547520"/>
              <a:chOff x="69548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4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33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8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9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FD69-7270-4B05-BF86-8928AF67FF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средняя общеобразовательная школа № 53</a:t>
            </a:r>
            <a:br>
              <a:rPr sz="1800"/>
            </a:b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города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676520" y="25909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5203"/>
                </a:solidFill>
                <a:latin typeface="Arial"/>
              </a:rPr>
              <a:t>Лидия Ча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3c15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3c15"/>
                </a:solidFill>
                <a:latin typeface="Arial"/>
              </a:rPr>
              <a:t>Канюка Галина Тимоф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3c15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666880" y="3886200"/>
            <a:ext cx="6019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609480" y="15228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Чарская од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амых изве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х писатель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а 20 столе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30760" cy="543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28242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стихи ( вышли 3 сборника стих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Веселая дюжинка» – 1907 г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Голубая волна» - 1909 год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мешные малютки» – 1913 год), сказки, романы, повести, рассказы были переведены на немецкий, английский, французский, чешский язы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2438280" y="3886200"/>
            <a:ext cx="350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РЛЫКА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за прелесть мой Мурлы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любимый серый кот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н весело играе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н песенки поёт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сть его мягка, как барх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, точно угольки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6095880" y="42670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все его движень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циозны и легки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 то люблю Мурлык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х игрушек 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ду с ним мы неразлуч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оварищи-друзья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E:\мама-другое\Картинки, рисунки\Анимация\59.gif"/>
          <p:cNvPicPr/>
          <p:nvPr/>
        </p:nvPicPr>
        <p:blipFill>
          <a:blip r:embed="rId1"/>
          <a:stretch/>
        </p:blipFill>
        <p:spPr>
          <a:xfrm>
            <a:off x="0" y="3429000"/>
            <a:ext cx="2523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иболее читаемые произведения Л. Чар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ки институтки ( 19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яжна Джаваха ( 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а Влассовская ( 19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анный талант ( 19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Нина ( 19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2116080" cy="284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90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189160" cy="3079800"/>
          </a:xfrm>
          <a:prstGeom prst="rect">
            <a:avLst/>
          </a:prstGeom>
          <a:ln w="0">
            <a:noFill/>
          </a:ln>
        </p:spPr>
      </p:pic>
      <p:pic>
        <p:nvPicPr>
          <p:cNvPr id="207" name="cover-full" descr="Лидия Алексеевна Чарская - Сибирочка"/>
          <p:cNvPicPr/>
          <p:nvPr/>
        </p:nvPicPr>
        <p:blipFill>
          <a:blip r:embed="rId2"/>
          <a:stretch/>
        </p:blipFill>
        <p:spPr>
          <a:xfrm>
            <a:off x="6858000" y="457200"/>
            <a:ext cx="2075040" cy="24796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2468520" cy="21636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"/>
          <p:cNvPicPr/>
          <p:nvPr/>
        </p:nvPicPr>
        <p:blipFill>
          <a:blip r:embed="rId4"/>
          <a:stretch/>
        </p:blipFill>
        <p:spPr>
          <a:xfrm>
            <a:off x="914400" y="3581280"/>
            <a:ext cx="1900080" cy="3029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1809720" cy="272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6"/>
          <a:stretch/>
        </p:blipFill>
        <p:spPr>
          <a:xfrm>
            <a:off x="4495680" y="1523880"/>
            <a:ext cx="1905120" cy="1657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7"/>
          <a:stretch/>
        </p:blipFill>
        <p:spPr>
          <a:xfrm>
            <a:off x="2286000" y="685800"/>
            <a:ext cx="1905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900440" cy="24573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"/>
          <p:cNvPicPr/>
          <p:nvPr/>
        </p:nvPicPr>
        <p:blipFill>
          <a:blip r:embed="rId2"/>
          <a:stretch/>
        </p:blipFill>
        <p:spPr>
          <a:xfrm>
            <a:off x="7315200" y="4343400"/>
            <a:ext cx="1730520" cy="25146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3"/>
          <a:stretch/>
        </p:blipFill>
        <p:spPr>
          <a:xfrm>
            <a:off x="4191120" y="838080"/>
            <a:ext cx="1900080" cy="31226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4"/>
          <a:stretch/>
        </p:blipFill>
        <p:spPr>
          <a:xfrm>
            <a:off x="2057400" y="533520"/>
            <a:ext cx="1900080" cy="26240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5"/>
          <a:stretch/>
        </p:blipFill>
        <p:spPr>
          <a:xfrm>
            <a:off x="7086600" y="228600"/>
            <a:ext cx="1900080" cy="25891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1900080" cy="2612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"/>
          <p:cNvPicPr/>
          <p:nvPr/>
        </p:nvPicPr>
        <p:blipFill>
          <a:blip r:embed="rId7"/>
          <a:stretch/>
        </p:blipFill>
        <p:spPr>
          <a:xfrm>
            <a:off x="2209680" y="3581280"/>
            <a:ext cx="1900440" cy="2814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1900440" cy="2743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"/>
          <p:cNvPicPr/>
          <p:nvPr/>
        </p:nvPicPr>
        <p:blipFill>
          <a:blip r:embed="rId9"/>
          <a:stretch/>
        </p:blipFill>
        <p:spPr>
          <a:xfrm>
            <a:off x="0" y="152280"/>
            <a:ext cx="1900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рская Лидия Алексе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6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12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Алексеевна родилась в дворянской семье. Ее отец, Алексей Александрович Воронов был военным инженером. Родилась она В 1875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1878)в Царском селе(Петербур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40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вловский Женский сиротский институт, который Лидия Воронова закончила в 1893 году. Она проучилась здесь с 1886года  по 1893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48240" y="3886200"/>
            <a:ext cx="459576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0" y="2819520"/>
            <a:ext cx="4446720" cy="2971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3048120"/>
            <a:ext cx="69343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3"/>
          <a:stretch/>
        </p:blipFill>
        <p:spPr>
          <a:xfrm>
            <a:off x="7061040" y="1752480"/>
            <a:ext cx="20829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ла замуж за офице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. Чурилова, но брак был недолгим. Чурилов уехал в Сибирь по месту службы, а Лидия Алекс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лась в Петербур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закончила театральные курсы и поступила в петербугский Александрийский театр и играла там до 1924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638680" y="4471920"/>
            <a:ext cx="3181320" cy="2386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2666880" cy="20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7858080" y="762120"/>
            <a:ext cx="1285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0 лет она писала стихи, в 15 лет стала вести дневник, записи которого частично сохранились. Все это пригодилось, когда она осталась одна. Заработок актрисы был очень мал. И Лидия Чурилова стала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ы далеко… ты в пут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же я вижу род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нышко! В детской 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ого восторга свя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нышко! Сердце по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пу Алешу зов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, приезжай, ненагляд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76880" y="17524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ее повесть « Записки институтки» появилась в 1901 году в журнале при издательстве М. Вольфа « Задушевное слово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ех пор и началось ее триумфальное шеств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исывала свои произведения она сценическим псевдоним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4190760"/>
            <a:ext cx="5181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2209680" cy="35244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2590920" cy="38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3124080" y="2846520"/>
            <a:ext cx="32353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20 лет творчества из под ее пера вышло около 80 произвед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революции Чарскую перестали печатать, ее произведения были изъяты из библиотек и уничтожены. Почему? За однообразные сюжеты, за сентиментальность, за язык произве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990 года произведения Л. Чарской стали переиздаваться. Теперь они интересны с исторической точки зрения. Снять фильм по ее повести « Сибирочка»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Чарская прожила очень трудную жизнь. Часто голодала.18 марта 1937 года она умерла и была похоронена на Смоленском кладбище Ленингр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й было 62 ( 59 )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905120" cy="236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2590920" cy="345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5638680" y="4419720"/>
            <a:ext cx="3060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lex</cp:lastModifiedBy>
  <dcterms:modified xsi:type="dcterms:W3CDTF">2012-06-02T16:25:54Z</dcterms:modified>
  <cp:revision>2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