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8.jpeg" ContentType="image/jpeg"/>
  <Override PartName="/ppt/media/image34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38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media/image40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75C7-341D-4780-BB6E-C40978DB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AAC2-6E92-407F-A877-58616E1E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CE50A-15EC-4085-B054-87306C7E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AD88-FFC8-4738-AB4D-C2D18644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7A0-4E7A-4237-A1B4-6397D4FA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E082-5506-42E5-ABD4-70CBD2EA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500-EA51-40DF-997B-A3324BBC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46A-F0B2-43E5-93B6-9277DBC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74ED-6521-433F-B6F6-7EC4A8C5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254A-5D77-4D7C-A9C1-52E4D253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BB11-D442-4014-B5C5-1A37251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0CA7-734D-4557-95DC-810FBD0B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443-8DA5-4272-84A4-87A09706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D267-9AB2-4550-9A38-D99FADAC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82ED-B0D9-4296-9993-26BADBE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977-3CD9-41D4-A70A-77A91DB6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9F35-9493-4EDB-ADE1-DFE690E6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0CC1E-0830-458A-B5BA-4DCC0DD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9E9D-9A84-4EF4-8A91-FC9F30BC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FD52-009F-47BA-987B-13916A8D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3FE8-203A-42D7-AF33-7EA04786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C92F-EC73-4266-AE43-AAE19E0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A880-4C5A-4E5B-8B86-FB676C48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31B3-376C-4C89-BB30-5AD97C36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CEBF-E60F-46A6-BDB3-DCE7FE1D43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120" y="1219320"/>
            <a:ext cx="7314840" cy="4571280"/>
            <a:chOff x="915120" y="1219320"/>
            <a:chExt cx="731484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8520" y="1219320"/>
              <a:ext cx="864360" cy="4548600"/>
              <a:chOff x="111852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852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9824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45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288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120" y="1436760"/>
              <a:ext cx="7314840" cy="4097880"/>
              <a:chOff x="915120" y="1436760"/>
              <a:chExt cx="7314840" cy="409788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120" y="1436760"/>
                <a:ext cx="7295400" cy="820440"/>
                <a:chOff x="915120" y="1436760"/>
                <a:chExt cx="7295400" cy="82044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120" y="14367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000" y="17103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8960" y="19821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880" y="22572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4560" y="2521080"/>
                <a:ext cx="7295400" cy="820440"/>
                <a:chOff x="934560" y="2521080"/>
                <a:chExt cx="72954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4560" y="252108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9440" y="27957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6240" y="30675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8600" y="334152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120" y="3629160"/>
                <a:ext cx="7295400" cy="820440"/>
                <a:chOff x="915120" y="3629160"/>
                <a:chExt cx="729540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120" y="36291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000" y="390312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8960" y="41745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880" y="4449600"/>
                  <a:ext cx="7219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4560" y="4711680"/>
                <a:ext cx="7295400" cy="822960"/>
                <a:chOff x="934560" y="4711680"/>
                <a:chExt cx="72954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4560" y="471168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9440" y="498492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6240" y="525996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8600" y="5534640"/>
                  <a:ext cx="722052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87800" y="1243080"/>
              <a:ext cx="864360" cy="4547520"/>
              <a:chOff x="228780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87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675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38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21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73280" y="1243080"/>
              <a:ext cx="864360" cy="4547520"/>
              <a:chOff x="347328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732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15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92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37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9120" y="1243080"/>
              <a:ext cx="864360" cy="4547520"/>
              <a:chOff x="465912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91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3740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326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234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95280" y="1243080"/>
              <a:ext cx="862560" cy="4547520"/>
              <a:chOff x="5795280" y="1243080"/>
              <a:chExt cx="86256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952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72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840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78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54840" y="1243080"/>
              <a:ext cx="864360" cy="4547520"/>
              <a:chOff x="69548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54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33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83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92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6F77-2C52-472A-A626-141E7BE9D6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Муниципаль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средняя общеобразовательная школа № 53</a:t>
            </a:r>
            <a:br>
              <a:rPr sz="1800"/>
            </a:br>
            <a:r>
              <a:rPr b="0" lang="ru-RU" sz="1800" spc="-1" strike="noStrike">
                <a:solidFill>
                  <a:srgbClr val="8d3c15"/>
                </a:solidFill>
                <a:latin typeface="Arial"/>
              </a:rPr>
              <a:t>города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676520" y="25909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5203"/>
                </a:solidFill>
                <a:latin typeface="Arial"/>
              </a:rPr>
              <a:t>Лидия Чар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d3c15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3c15"/>
                </a:solidFill>
                <a:latin typeface="Arial"/>
              </a:rPr>
              <a:t>Канюка Галина Тимоф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d3c15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666880" y="3886200"/>
            <a:ext cx="6019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609480" y="15228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Чарская од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самых извес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х писатель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ала 20 столе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830760" cy="543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28242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стихи ( вышли 3 сборника стих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Веселая дюжинка» – 1907 г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Голубая волна» - 1909 год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Смешные малютки» – 1913 год), сказки, романы, повести, рассказы были переведены на немецкий, английский, французский, чешский язы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2438280" y="3886200"/>
            <a:ext cx="350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РЛЫКА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за прелесть мой Мурлы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любимый серый кот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н весело играе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он песенки поёт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сть его мягка, как барха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ки, точно угольки,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6"/>
          <p:cNvSpPr/>
          <p:nvPr/>
        </p:nvSpPr>
        <p:spPr>
          <a:xfrm>
            <a:off x="6095880" y="42670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все его движень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циозны и легки!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 то люблю Мурлык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всех игрушек 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юду с ним мы неразлуч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товарищи-друзья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E:\мама-другое\Картинки, рисунки\Анимация\59.gif"/>
          <p:cNvPicPr/>
          <p:nvPr/>
        </p:nvPicPr>
        <p:blipFill>
          <a:blip r:embed="rId1"/>
          <a:stretch/>
        </p:blipFill>
        <p:spPr>
          <a:xfrm>
            <a:off x="0" y="3429000"/>
            <a:ext cx="2523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иболее читаемые произведения Л. Чарс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ски институтки ( 19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яжна Джаваха ( 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а Влассовская ( 19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анный талант ( 19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Нина ( 19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3" descr=""/>
          <p:cNvPicPr/>
          <p:nvPr/>
        </p:nvPicPr>
        <p:blipFill>
          <a:blip r:embed="rId1"/>
          <a:stretch/>
        </p:blipFill>
        <p:spPr>
          <a:xfrm>
            <a:off x="6781680" y="990720"/>
            <a:ext cx="2116080" cy="284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904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189160" cy="3079800"/>
          </a:xfrm>
          <a:prstGeom prst="rect">
            <a:avLst/>
          </a:prstGeom>
          <a:ln w="0">
            <a:noFill/>
          </a:ln>
        </p:spPr>
      </p:pic>
      <p:pic>
        <p:nvPicPr>
          <p:cNvPr id="207" name="cover-full" descr="Лидия Алексеевна Чарская - Сибирочка"/>
          <p:cNvPicPr/>
          <p:nvPr/>
        </p:nvPicPr>
        <p:blipFill>
          <a:blip r:embed="rId2"/>
          <a:stretch/>
        </p:blipFill>
        <p:spPr>
          <a:xfrm>
            <a:off x="6858000" y="457200"/>
            <a:ext cx="2075040" cy="24796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5" descr=""/>
          <p:cNvPicPr/>
          <p:nvPr/>
        </p:nvPicPr>
        <p:blipFill>
          <a:blip r:embed="rId3"/>
          <a:stretch/>
        </p:blipFill>
        <p:spPr>
          <a:xfrm>
            <a:off x="3505320" y="4419720"/>
            <a:ext cx="2468520" cy="21636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"/>
          <p:cNvPicPr/>
          <p:nvPr/>
        </p:nvPicPr>
        <p:blipFill>
          <a:blip r:embed="rId4"/>
          <a:stretch/>
        </p:blipFill>
        <p:spPr>
          <a:xfrm>
            <a:off x="914400" y="3581280"/>
            <a:ext cx="1900080" cy="3029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1809720" cy="272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6"/>
          <a:stretch/>
        </p:blipFill>
        <p:spPr>
          <a:xfrm>
            <a:off x="4495680" y="1523880"/>
            <a:ext cx="1905120" cy="16574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7"/>
          <a:stretch/>
        </p:blipFill>
        <p:spPr>
          <a:xfrm>
            <a:off x="2286000" y="685800"/>
            <a:ext cx="1905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900440" cy="24573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"/>
          <p:cNvPicPr/>
          <p:nvPr/>
        </p:nvPicPr>
        <p:blipFill>
          <a:blip r:embed="rId2"/>
          <a:stretch/>
        </p:blipFill>
        <p:spPr>
          <a:xfrm>
            <a:off x="7315200" y="4343400"/>
            <a:ext cx="1730520" cy="25146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"/>
          <p:cNvPicPr/>
          <p:nvPr/>
        </p:nvPicPr>
        <p:blipFill>
          <a:blip r:embed="rId3"/>
          <a:stretch/>
        </p:blipFill>
        <p:spPr>
          <a:xfrm>
            <a:off x="4191120" y="838080"/>
            <a:ext cx="1900080" cy="31226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6" descr=""/>
          <p:cNvPicPr/>
          <p:nvPr/>
        </p:nvPicPr>
        <p:blipFill>
          <a:blip r:embed="rId4"/>
          <a:stretch/>
        </p:blipFill>
        <p:spPr>
          <a:xfrm>
            <a:off x="2057400" y="533520"/>
            <a:ext cx="1900080" cy="262404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7" descr=""/>
          <p:cNvPicPr/>
          <p:nvPr/>
        </p:nvPicPr>
        <p:blipFill>
          <a:blip r:embed="rId5"/>
          <a:stretch/>
        </p:blipFill>
        <p:spPr>
          <a:xfrm>
            <a:off x="7086600" y="228600"/>
            <a:ext cx="1900080" cy="25891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"/>
          <p:cNvPicPr/>
          <p:nvPr/>
        </p:nvPicPr>
        <p:blipFill>
          <a:blip r:embed="rId6"/>
          <a:stretch/>
        </p:blipFill>
        <p:spPr>
          <a:xfrm>
            <a:off x="4572000" y="4000680"/>
            <a:ext cx="1900080" cy="2612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"/>
          <p:cNvPicPr/>
          <p:nvPr/>
        </p:nvPicPr>
        <p:blipFill>
          <a:blip r:embed="rId7"/>
          <a:stretch/>
        </p:blipFill>
        <p:spPr>
          <a:xfrm>
            <a:off x="2209680" y="3581280"/>
            <a:ext cx="1900440" cy="2814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"/>
          <p:cNvPicPr/>
          <p:nvPr/>
        </p:nvPicPr>
        <p:blipFill>
          <a:blip r:embed="rId8"/>
          <a:stretch/>
        </p:blipFill>
        <p:spPr>
          <a:xfrm>
            <a:off x="380880" y="3962520"/>
            <a:ext cx="1900440" cy="27432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"/>
          <p:cNvPicPr/>
          <p:nvPr/>
        </p:nvPicPr>
        <p:blipFill>
          <a:blip r:embed="rId9"/>
          <a:stretch/>
        </p:blipFill>
        <p:spPr>
          <a:xfrm>
            <a:off x="0" y="152280"/>
            <a:ext cx="19000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арская Лидия Алексее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6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1244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Алексеевна родилась в дворянской семье. Ее отец, Алексей Александрович Воронов был военным инженером. Родилась она В 1875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1878)в Царском селе(Петербур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5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40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вловский Женский сиротский институт, который Лидия Воронова закончила в 1893 году. Она проучилась здесь с 1886года  по 1893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48240" y="3886200"/>
            <a:ext cx="459576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0" y="2819520"/>
            <a:ext cx="4446720" cy="2971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3048120"/>
            <a:ext cx="69343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3"/>
          <a:stretch/>
        </p:blipFill>
        <p:spPr>
          <a:xfrm>
            <a:off x="7061040" y="1752480"/>
            <a:ext cx="20829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шла замуж за офице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. Чурилова, но брак был недолгим. Чурилов уехал в Сибирь по месту службы, а Лидия Алекс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алась в Петербур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закончила театральные курсы и поступила в петербугский Александрийский театр и играла там до 1924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5638680" y="4471920"/>
            <a:ext cx="3181320" cy="2386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2666880" cy="2009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7858080" y="762120"/>
            <a:ext cx="1285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0 лет она писала стихи, в 15 лет стала вести дневник, записи которого частично сохранились. Все это пригодилось, когда она осталась одна. Заработок актрисы был очень мал. И Лидия Чурилова стала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ы далеко… ты в пути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се же я вижу родног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нышко! В детской 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ого восторга свя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лнышко! Сердце по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пу Алешу зов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, приезжай, ненаглядны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5276880" y="17524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ее повесть « Записки институтки» появилась в 1901 году в журнале при издательстве М. Вольфа « Задушевное слово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ех пор и началось ее триумфальное шеств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исывала свои произведения она сценическим псевдоним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4190760"/>
            <a:ext cx="5181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2209680" cy="35244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4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2590920" cy="3886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3124080" y="2846520"/>
            <a:ext cx="32353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20 лет творчества из под ее пера вышло около 80 произвед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революции Чарскую перестали печатать, ее произведения были изъяты из библиотек и уничтожены. Почему? За однообразные сюжеты, за сентиментальность, за язык произвед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990 года произведения Л. Чарской стали переиздаваться. Теперь они интересны с исторической точки зрения. Снять фильм по ее повести « Сибирочка»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дия Чарская прожила очень трудную жизнь. Часто голодала.18 марта 1937 года она умерла и была похоронена на Смоленском кладбище Ленингр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й было 62 ( 59 )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Рисунок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905120" cy="2362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2438280" y="3200400"/>
            <a:ext cx="2590920" cy="345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4"/>
          <a:stretch/>
        </p:blipFill>
        <p:spPr>
          <a:xfrm>
            <a:off x="5638680" y="4419720"/>
            <a:ext cx="30607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lex</cp:lastModifiedBy>
  <dcterms:modified xsi:type="dcterms:W3CDTF">2012-06-02T16:25:54Z</dcterms:modified>
  <cp:revision>24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