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1102-7308-410C-89C4-E5F3CFC5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CA3E-7B0E-4639-A98E-3AE10919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1340-D786-4955-99DD-92EF7475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E864-256E-4F86-A6DD-824D6136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365A-A156-46E5-9A9C-BDE78152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1A64-130A-4956-A90F-C1A81020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D780-3DC1-4B31-B4E5-67BB1094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269D-E1FD-4E77-82C6-115F26D2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95A5-58DA-4351-A1C7-BB2D81D4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FDD-530A-4A28-9A68-AF9EBF13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E0E-3531-416C-91C5-F2276A84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DBC-B8AB-4197-960E-1230D1B6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C72D-1392-4DA7-AB00-A248D0AB3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4.wm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униципальное общеобразовательное учреждение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средняя общеобразовательная школа № 2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города  Буденновска  Ставропольского кр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5840" y="1614240"/>
            <a:ext cx="845820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ема: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800000"/>
                </a:solidFill>
                <a:latin typeface="Comic Sans MS"/>
              </a:rPr>
              <a:t>«Метапредметный подход в обучении географии»</a:t>
            </a:r>
            <a:r>
              <a:rPr b="1" lang="en-US" sz="44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5240" y="4941720"/>
            <a:ext cx="75009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емза Ирина Михайл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итель географ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У СОШ № 2 г. Буденнов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2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258920" cy="154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667640" y="0"/>
            <a:ext cx="118908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7" descr="ФОН9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grpSp>
        <p:nvGrpSpPr>
          <p:cNvPr id="100" name="Скругленный прямоугольник 11"/>
          <p:cNvGrpSpPr/>
          <p:nvPr/>
        </p:nvGrpSpPr>
        <p:grpSpPr>
          <a:xfrm>
            <a:off x="2771640" y="249120"/>
            <a:ext cx="3455640" cy="2524320"/>
            <a:chOff x="2771640" y="249120"/>
            <a:chExt cx="3455640" cy="2524320"/>
          </a:xfrm>
        </p:grpSpPr>
        <p:pic>
          <p:nvPicPr>
            <p:cNvPr id="101" name="Скругленный 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2771640" y="249120"/>
              <a:ext cx="3455640" cy="25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5"/>
            <p:cNvSpPr/>
            <p:nvPr/>
          </p:nvSpPr>
          <p:spPr>
            <a:xfrm>
              <a:off x="2940480" y="382680"/>
              <a:ext cx="3120120" cy="22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ccc00"/>
                  </a:solidFill>
                  <a:latin typeface="Arial"/>
                  <a:ea typeface="Arial"/>
                </a:rPr>
                <a:t>Метапредметные результа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ccc00"/>
                  </a:solidFill>
                  <a:latin typeface="Arial"/>
                  <a:ea typeface="Arial"/>
                </a:rPr>
                <a:t>обучения географ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3"/>
          <p:cNvGrpSpPr/>
          <p:nvPr/>
        </p:nvGrpSpPr>
        <p:grpSpPr>
          <a:xfrm>
            <a:off x="8388360" y="6093000"/>
            <a:ext cx="576360" cy="577800"/>
            <a:chOff x="8388360" y="6093000"/>
            <a:chExt cx="576360" cy="577800"/>
          </a:xfrm>
        </p:grpSpPr>
        <p:sp>
          <p:nvSpPr>
            <p:cNvPr id="104" name="Oval 4"/>
            <p:cNvSpPr/>
            <p:nvPr/>
          </p:nvSpPr>
          <p:spPr>
            <a:xfrm>
              <a:off x="8413920" y="6108480"/>
              <a:ext cx="524880" cy="527040"/>
            </a:xfrm>
            <a:prstGeom prst="ellipse">
              <a:avLst/>
            </a:prstGeom>
            <a:gradFill rotWithShape="0">
              <a:gsLst>
                <a:gs pos="0">
                  <a:srgbClr val="a50021"/>
                </a:gs>
                <a:gs pos="50000">
                  <a:srgbClr val="ffffff"/>
                </a:gs>
                <a:gs pos="100000">
                  <a:srgbClr val="a500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Object 5" descr=""/>
            <p:cNvPicPr/>
            <p:nvPr/>
          </p:nvPicPr>
          <p:blipFill>
            <a:blip r:embed="rId3"/>
            <a:stretch/>
          </p:blipFill>
          <p:spPr>
            <a:xfrm>
              <a:off x="8388360" y="6093000"/>
              <a:ext cx="57636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Скругленный прямоугольник 14"/>
          <p:cNvSpPr/>
          <p:nvPr/>
        </p:nvSpPr>
        <p:spPr>
          <a:xfrm>
            <a:off x="5940360" y="1700280"/>
            <a:ext cx="3003480" cy="4105080"/>
          </a:xfrm>
          <a:custGeom>
            <a:avLst/>
            <a:gdLst>
              <a:gd name="textAreaLeft" fmla="*/ 146520 w 3003480"/>
              <a:gd name="textAreaRight" fmla="*/ 2856960 w 3003480"/>
              <a:gd name="textAreaTop" fmla="*/ 146520 h 4105080"/>
              <a:gd name="textAreaBottom" fmla="*/ 3958560 h 4105080"/>
            </a:gdLst>
            <a:ahLst/>
            <a:rect l="textAreaLeft" t="textAreaTop" r="textAreaRight" b="textAreaBottom"/>
            <a:pathLst>
              <a:path w="21600" h="29521">
                <a:moveTo>
                  <a:pt x="3600" y="0"/>
                </a:moveTo>
                <a:arcTo wR="3600" hR="3600" stAng="16200000" swAng="-5400000"/>
                <a:lnTo>
                  <a:pt x="0" y="25921"/>
                </a:lnTo>
                <a:arcTo wR="3600" hR="3600" stAng="10800000" swAng="-5400000"/>
                <a:lnTo>
                  <a:pt x="18000" y="295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02020"/>
              </a:gs>
              <a:gs pos="100000">
                <a:srgbClr val="800000">
                  <a:alpha val="25098"/>
                </a:srgbClr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Коммуникативн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целесообразное взаимодействие с людьми, совместной деятельности; овладение национально-культурными нормами</a:t>
            </a:r>
            <a:r>
              <a:rPr b="1" lang="ru-RU" sz="1700" spc="-1" strike="noStrike">
                <a:solidFill>
                  <a:srgbClr val="cccc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низ 17"/>
          <p:cNvSpPr/>
          <p:nvPr/>
        </p:nvSpPr>
        <p:spPr>
          <a:xfrm>
            <a:off x="4284720" y="278136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17"/>
          <p:cNvSpPr/>
          <p:nvPr/>
        </p:nvSpPr>
        <p:spPr>
          <a:xfrm rot="7978800">
            <a:off x="2842560" y="3717360"/>
            <a:ext cx="214200" cy="3574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ffff0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17"/>
          <p:cNvSpPr/>
          <p:nvPr/>
        </p:nvSpPr>
        <p:spPr>
          <a:xfrm rot="13687800">
            <a:off x="5722920" y="3789360"/>
            <a:ext cx="214560" cy="35712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ffff0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14"/>
          <p:cNvSpPr/>
          <p:nvPr/>
        </p:nvSpPr>
        <p:spPr>
          <a:xfrm>
            <a:off x="179280" y="1484280"/>
            <a:ext cx="2643120" cy="424980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4249800"/>
              <a:gd name="textAreaBottom" fmla="*/ 4120920 h 4249800"/>
            </a:gdLst>
            <a:ahLst/>
            <a:rect l="textAreaLeft" t="textAreaTop" r="textAreaRight" b="textAreaBottom"/>
            <a:pathLst>
              <a:path w="21600" h="34728">
                <a:moveTo>
                  <a:pt x="3600" y="0"/>
                </a:moveTo>
                <a:arcTo wR="3600" hR="3600" stAng="16200000" swAng="-5400000"/>
                <a:lnTo>
                  <a:pt x="0" y="31128"/>
                </a:lnTo>
                <a:arcTo wR="3600" hR="3600" stAng="10800000" swAng="-5400000"/>
                <a:lnTo>
                  <a:pt x="18000" y="347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02020"/>
              </a:gs>
              <a:gs pos="100000">
                <a:srgbClr val="800000">
                  <a:alpha val="25098"/>
                </a:srgbClr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ладение всеми видами речевой деятельности (аудированием, чтени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овор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письм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15"/>
          <p:cNvSpPr/>
          <p:nvPr/>
        </p:nvSpPr>
        <p:spPr>
          <a:xfrm>
            <a:off x="3059280" y="3141720"/>
            <a:ext cx="2643120" cy="3357360"/>
          </a:xfrm>
          <a:custGeom>
            <a:avLst/>
            <a:gdLst>
              <a:gd name="textAreaLeft" fmla="*/ 128880 w 2643120"/>
              <a:gd name="textAreaRight" fmla="*/ 2514240 w 2643120"/>
              <a:gd name="textAreaTop" fmla="*/ 128880 h 3357360"/>
              <a:gd name="textAreaBottom" fmla="*/ 3228480 h 3357360"/>
            </a:gdLst>
            <a:ahLst/>
            <a:rect l="textAreaLeft" t="textAreaTop" r="textAreaRight" b="textAreaBottom"/>
            <a:pathLst>
              <a:path w="21600" h="27436">
                <a:moveTo>
                  <a:pt x="3600" y="0"/>
                </a:moveTo>
                <a:arcTo wR="3600" hR="3600" stAng="16200000" swAng="-5400000"/>
                <a:lnTo>
                  <a:pt x="0" y="23836"/>
                </a:lnTo>
                <a:arcTo wR="3600" hR="3600" stAng="10800000" swAng="-5400000"/>
                <a:lnTo>
                  <a:pt x="18000" y="27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32626"/>
              </a:gs>
              <a:gs pos="100000">
                <a:srgbClr val="800000">
                  <a:alpha val="25098"/>
                </a:srgbClr>
              </a:gs>
            </a:gsLst>
            <a:lin ang="5400000"/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приобретенных знаний, умений и навыков в повседневной жизни, в учебной деятельности на метапредметном уро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Стрелка вниз 17"/>
          <p:cNvSpPr/>
          <p:nvPr/>
        </p:nvSpPr>
        <p:spPr>
          <a:xfrm>
            <a:off x="7596360" y="3860640"/>
            <a:ext cx="214200" cy="3574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ffff0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низ 17"/>
          <p:cNvSpPr/>
          <p:nvPr/>
        </p:nvSpPr>
        <p:spPr>
          <a:xfrm>
            <a:off x="4716360" y="3860640"/>
            <a:ext cx="214560" cy="35748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fff0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68360" y="115920"/>
            <a:ext cx="8137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  <a:ea typeface="Arial"/>
              </a:rPr>
              <a:t>Системно-деятельностный подход провозглашён в новых ФГОС как основа современного образо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низ 17"/>
          <p:cNvSpPr/>
          <p:nvPr/>
        </p:nvSpPr>
        <p:spPr>
          <a:xfrm>
            <a:off x="1403280" y="3860640"/>
            <a:ext cx="214560" cy="35748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fff0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AutoShape 4"/>
          <p:cNvGrpSpPr/>
          <p:nvPr/>
        </p:nvGrpSpPr>
        <p:grpSpPr>
          <a:xfrm>
            <a:off x="237960" y="3273480"/>
            <a:ext cx="2687760" cy="596880"/>
            <a:chOff x="237960" y="3273480"/>
            <a:chExt cx="2687760" cy="596880"/>
          </a:xfrm>
        </p:grpSpPr>
        <p:pic>
          <p:nvPicPr>
            <p:cNvPr id="117" name="AutoShape 4" descr=""/>
            <p:cNvPicPr/>
            <p:nvPr/>
          </p:nvPicPr>
          <p:blipFill>
            <a:blip r:embed="rId1"/>
            <a:stretch/>
          </p:blipFill>
          <p:spPr>
            <a:xfrm>
              <a:off x="237960" y="3273480"/>
              <a:ext cx="26877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/>
            <p:cNvSpPr/>
            <p:nvPr/>
          </p:nvSpPr>
          <p:spPr>
            <a:xfrm>
              <a:off x="279360" y="3313080"/>
              <a:ext cx="2606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Ради чего учить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AutoShape 5"/>
          <p:cNvGrpSpPr/>
          <p:nvPr/>
        </p:nvGrpSpPr>
        <p:grpSpPr>
          <a:xfrm>
            <a:off x="6576840" y="3273480"/>
            <a:ext cx="2256120" cy="596880"/>
            <a:chOff x="6576840" y="3273480"/>
            <a:chExt cx="2256120" cy="596880"/>
          </a:xfrm>
        </p:grpSpPr>
        <p:pic>
          <p:nvPicPr>
            <p:cNvPr id="120" name="AutoShape 5" descr=""/>
            <p:cNvPicPr/>
            <p:nvPr/>
          </p:nvPicPr>
          <p:blipFill>
            <a:blip r:embed="rId2"/>
            <a:stretch/>
          </p:blipFill>
          <p:spPr>
            <a:xfrm>
              <a:off x="6576840" y="3273480"/>
              <a:ext cx="22561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/>
            <p:cNvSpPr/>
            <p:nvPr/>
          </p:nvSpPr>
          <p:spPr>
            <a:xfrm>
              <a:off x="6616800" y="3313080"/>
              <a:ext cx="2174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Чему учить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AutoShape 6"/>
          <p:cNvGrpSpPr/>
          <p:nvPr/>
        </p:nvGrpSpPr>
        <p:grpSpPr>
          <a:xfrm>
            <a:off x="3121200" y="3273480"/>
            <a:ext cx="3267000" cy="596880"/>
            <a:chOff x="3121200" y="3273480"/>
            <a:chExt cx="3267000" cy="596880"/>
          </a:xfrm>
        </p:grpSpPr>
        <p:pic>
          <p:nvPicPr>
            <p:cNvPr id="123" name="AutoShape 6" descr=""/>
            <p:cNvPicPr/>
            <p:nvPr/>
          </p:nvPicPr>
          <p:blipFill>
            <a:blip r:embed="rId3"/>
            <a:stretch/>
          </p:blipFill>
          <p:spPr>
            <a:xfrm>
              <a:off x="3121200" y="3273480"/>
              <a:ext cx="32670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160800" y="3313080"/>
              <a:ext cx="31845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Как учить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AutoShape 11"/>
          <p:cNvSpPr/>
          <p:nvPr/>
        </p:nvSpPr>
        <p:spPr>
          <a:xfrm>
            <a:off x="6659640" y="4221000"/>
            <a:ext cx="2158920" cy="172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новле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урса, усил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ставля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8317080" y="6093000"/>
            <a:ext cx="576000" cy="577800"/>
            <a:chOff x="8317080" y="6093000"/>
            <a:chExt cx="576000" cy="577800"/>
          </a:xfrm>
        </p:grpSpPr>
        <p:sp>
          <p:nvSpPr>
            <p:cNvPr id="127" name="Oval 4"/>
            <p:cNvSpPr/>
            <p:nvPr/>
          </p:nvSpPr>
          <p:spPr>
            <a:xfrm>
              <a:off x="8342640" y="6108480"/>
              <a:ext cx="524520" cy="527040"/>
            </a:xfrm>
            <a:prstGeom prst="ellipse">
              <a:avLst/>
            </a:prstGeom>
            <a:gradFill rotWithShape="0">
              <a:gsLst>
                <a:gs pos="0">
                  <a:srgbClr val="a50021"/>
                </a:gs>
                <a:gs pos="50000">
                  <a:srgbClr val="ffffff"/>
                </a:gs>
                <a:gs pos="100000">
                  <a:srgbClr val="a500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Object 5" descr=""/>
            <p:cNvPicPr/>
            <p:nvPr/>
          </p:nvPicPr>
          <p:blipFill>
            <a:blip r:embed="rId4"/>
            <a:stretch/>
          </p:blipFill>
          <p:spPr>
            <a:xfrm>
              <a:off x="8317080" y="6093000"/>
              <a:ext cx="57600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AutoShape 21"/>
          <p:cNvSpPr/>
          <p:nvPr/>
        </p:nvSpPr>
        <p:spPr>
          <a:xfrm>
            <a:off x="324000" y="4221000"/>
            <a:ext cx="2376360" cy="16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точнены ц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учения, уси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сп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леполаг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2"/>
          <p:cNvSpPr/>
          <p:nvPr/>
        </p:nvSpPr>
        <p:spPr>
          <a:xfrm>
            <a:off x="3132000" y="4221000"/>
            <a:ext cx="3311640" cy="16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сширены метод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емы, обновл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редства обуч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зволяющие реализ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ный под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AutoShape 23"/>
          <p:cNvGrpSpPr/>
          <p:nvPr/>
        </p:nvGrpSpPr>
        <p:grpSpPr>
          <a:xfrm>
            <a:off x="457200" y="969840"/>
            <a:ext cx="8375760" cy="1322640"/>
            <a:chOff x="457200" y="969840"/>
            <a:chExt cx="8375760" cy="1322640"/>
          </a:xfrm>
        </p:grpSpPr>
        <p:pic>
          <p:nvPicPr>
            <p:cNvPr id="132" name="AutoShape 23" descr=""/>
            <p:cNvPicPr/>
            <p:nvPr/>
          </p:nvPicPr>
          <p:blipFill>
            <a:blip r:embed="rId5"/>
            <a:stretch/>
          </p:blipFill>
          <p:spPr>
            <a:xfrm>
              <a:off x="457200" y="969840"/>
              <a:ext cx="837576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21"/>
            <p:cNvSpPr/>
            <p:nvPr/>
          </p:nvSpPr>
          <p:spPr>
            <a:xfrm>
              <a:off x="531720" y="1044720"/>
              <a:ext cx="822492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Системно-деятельностный подход нацеливает на развит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личности ребенка, на овладение системой метапредметны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и предметных знаний, умений и навыков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в процессе интенсивной учебной деятель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Box 14"/>
          <p:cNvSpPr/>
          <p:nvPr/>
        </p:nvSpPr>
        <p:spPr>
          <a:xfrm>
            <a:off x="71280" y="2421000"/>
            <a:ext cx="90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ктор смещения акцентов ФГОС к деятельностной составляю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шёл отражение во всех традиционных компонентах курса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5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5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0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0"/>
          <p:cNvSpPr/>
          <p:nvPr/>
        </p:nvSpPr>
        <p:spPr>
          <a:xfrm>
            <a:off x="34920" y="2133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c0000"/>
                </a:solidFill>
                <a:latin typeface="Arial"/>
                <a:ea typeface="Arial"/>
              </a:rPr>
              <a:t>«Теоретические  свед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335520" y="249228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c0000"/>
                </a:solidFill>
                <a:latin typeface="Arial"/>
                <a:ea typeface="Arial"/>
              </a:rPr>
              <a:t>«Знайте и применяйт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3419640" y="20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bc0000"/>
                </a:solidFill>
                <a:latin typeface="Arial"/>
                <a:ea typeface="Arial"/>
              </a:rPr>
              <a:t>«Обратите внима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6443640" y="20606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c0000"/>
                </a:solidFill>
                <a:latin typeface="Arial"/>
                <a:ea typeface="Arial"/>
              </a:rPr>
              <a:t>«Любознательны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468360" y="115920"/>
            <a:ext cx="8137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40000"/>
                </a:solidFill>
                <a:latin typeface="Arial"/>
                <a:ea typeface="Arial"/>
              </a:rPr>
              <a:t>Дифференцированный  подход  в предъявлении  теоретического 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AutoShape 15"/>
          <p:cNvGrpSpPr/>
          <p:nvPr/>
        </p:nvGrpSpPr>
        <p:grpSpPr>
          <a:xfrm>
            <a:off x="311040" y="1328760"/>
            <a:ext cx="2687760" cy="596880"/>
            <a:chOff x="311040" y="1328760"/>
            <a:chExt cx="2687760" cy="596880"/>
          </a:xfrm>
        </p:grpSpPr>
        <p:pic>
          <p:nvPicPr>
            <p:cNvPr id="141" name="AutoShape 15" descr=""/>
            <p:cNvPicPr/>
            <p:nvPr/>
          </p:nvPicPr>
          <p:blipFill>
            <a:blip r:embed="rId1"/>
            <a:stretch/>
          </p:blipFill>
          <p:spPr>
            <a:xfrm>
              <a:off x="311040" y="1328760"/>
              <a:ext cx="26877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9"/>
            <p:cNvSpPr/>
            <p:nvPr/>
          </p:nvSpPr>
          <p:spPr>
            <a:xfrm>
              <a:off x="352440" y="1370160"/>
              <a:ext cx="26067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ОСНОВН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AutoShape 16"/>
          <p:cNvGrpSpPr/>
          <p:nvPr/>
        </p:nvGrpSpPr>
        <p:grpSpPr>
          <a:xfrm>
            <a:off x="3267000" y="1328760"/>
            <a:ext cx="2683080" cy="596880"/>
            <a:chOff x="3267000" y="1328760"/>
            <a:chExt cx="2683080" cy="596880"/>
          </a:xfrm>
        </p:grpSpPr>
        <p:pic>
          <p:nvPicPr>
            <p:cNvPr id="144" name="AutoShape 16" descr=""/>
            <p:cNvPicPr/>
            <p:nvPr/>
          </p:nvPicPr>
          <p:blipFill>
            <a:blip r:embed="rId2"/>
            <a:stretch/>
          </p:blipFill>
          <p:spPr>
            <a:xfrm>
              <a:off x="3267000" y="1328760"/>
              <a:ext cx="26830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2"/>
            <p:cNvSpPr/>
            <p:nvPr/>
          </p:nvSpPr>
          <p:spPr>
            <a:xfrm>
              <a:off x="3305160" y="1370160"/>
              <a:ext cx="26067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ДОПОЛНИТЕЛЬ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AutoShape 17"/>
          <p:cNvGrpSpPr/>
          <p:nvPr/>
        </p:nvGrpSpPr>
        <p:grpSpPr>
          <a:xfrm>
            <a:off x="6218280" y="1328760"/>
            <a:ext cx="2687760" cy="596880"/>
            <a:chOff x="6218280" y="1328760"/>
            <a:chExt cx="2687760" cy="596880"/>
          </a:xfrm>
        </p:grpSpPr>
        <p:pic>
          <p:nvPicPr>
            <p:cNvPr id="147" name="AutoShape 17" descr=""/>
            <p:cNvPicPr/>
            <p:nvPr/>
          </p:nvPicPr>
          <p:blipFill>
            <a:blip r:embed="rId3"/>
            <a:stretch/>
          </p:blipFill>
          <p:spPr>
            <a:xfrm>
              <a:off x="6218280" y="1328760"/>
              <a:ext cx="26877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5"/>
            <p:cNvSpPr/>
            <p:nvPr/>
          </p:nvSpPr>
          <p:spPr>
            <a:xfrm>
              <a:off x="6256440" y="1370160"/>
              <a:ext cx="26064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НЕОБЯЗАТЕЛЬ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9"/>
          <p:cNvSpPr/>
          <p:nvPr/>
        </p:nvSpPr>
        <p:spPr>
          <a:xfrm>
            <a:off x="179280" y="2997360"/>
            <a:ext cx="280836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назначен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бязательного чт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нализа и усво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179280" y="4797360"/>
            <a:ext cx="2808360" cy="16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пособ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ого спос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действия в проце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языкового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3203640" y="2492280"/>
            <a:ext cx="2808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опедевтическ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боту с си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чащими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3203640" y="3933720"/>
            <a:ext cx="280836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в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знав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рес учащихся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м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3203640" y="5300640"/>
            <a:ext cx="280836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тановится осн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боты для си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6227640" y="2781360"/>
            <a:ext cx="2808360" cy="13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в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знава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рес учащихся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м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>
            <a:off x="6227640" y="4365720"/>
            <a:ext cx="2808360" cy="13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в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глубленное из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8388360" y="6093000"/>
            <a:ext cx="576360" cy="577800"/>
            <a:chOff x="8388360" y="6093000"/>
            <a:chExt cx="576360" cy="577800"/>
          </a:xfrm>
        </p:grpSpPr>
        <p:sp>
          <p:nvSpPr>
            <p:cNvPr id="157" name="Oval 4"/>
            <p:cNvSpPr/>
            <p:nvPr/>
          </p:nvSpPr>
          <p:spPr>
            <a:xfrm>
              <a:off x="8413920" y="6108480"/>
              <a:ext cx="524880" cy="527040"/>
            </a:xfrm>
            <a:prstGeom prst="ellipse">
              <a:avLst/>
            </a:prstGeom>
            <a:gradFill rotWithShape="0">
              <a:gsLst>
                <a:gs pos="0">
                  <a:srgbClr val="a50021"/>
                </a:gs>
                <a:gs pos="50000">
                  <a:srgbClr val="ffffff"/>
                </a:gs>
                <a:gs pos="100000">
                  <a:srgbClr val="a500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Object 5" descr=""/>
            <p:cNvPicPr/>
            <p:nvPr/>
          </p:nvPicPr>
          <p:blipFill>
            <a:blip r:embed="rId4"/>
            <a:stretch/>
          </p:blipFill>
          <p:spPr>
            <a:xfrm>
              <a:off x="8388360" y="6093000"/>
              <a:ext cx="57636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85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45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3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7"/>
          <p:cNvSpPr/>
          <p:nvPr/>
        </p:nvSpPr>
        <p:spPr>
          <a:xfrm>
            <a:off x="5357880" y="155736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4714920" y="2357280"/>
            <a:ext cx="37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1214280" y="214200"/>
            <a:ext cx="721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Реализация межпредметных связей  в обуч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857160" y="1071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ленаправленное формирование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метапредметных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мений и навы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900000" y="177336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Коммуникати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7"/>
          <p:cNvSpPr/>
          <p:nvPr/>
        </p:nvSpPr>
        <p:spPr>
          <a:xfrm>
            <a:off x="1116000" y="2205000"/>
            <a:ext cx="703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ладение видами речевой деятельности, навыками  информационно-смысловой  переработки текста,  продуктивной  коммуник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857160" y="300024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Регулятив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3000" y="3286080"/>
            <a:ext cx="71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своей деятельностью: формулирование цели, планирование, прогнозирование результатов, контроль и   оценка деятельности, внесение корректив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785880" y="4572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Познават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1143000" y="4857840"/>
            <a:ext cx="674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ыполнение логических операций: сравнение, анализ, синтез, обобщение, классификация, установление аналогий, подведение под понят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"/>
          <p:cNvGrpSpPr/>
          <p:nvPr/>
        </p:nvGrpSpPr>
        <p:grpSpPr>
          <a:xfrm>
            <a:off x="8429760" y="6143760"/>
            <a:ext cx="576000" cy="577800"/>
            <a:chOff x="8429760" y="6143760"/>
            <a:chExt cx="576000" cy="577800"/>
          </a:xfrm>
        </p:grpSpPr>
        <p:sp>
          <p:nvSpPr>
            <p:cNvPr id="170" name="Oval 4"/>
            <p:cNvSpPr/>
            <p:nvPr/>
          </p:nvSpPr>
          <p:spPr>
            <a:xfrm>
              <a:off x="8455320" y="6159240"/>
              <a:ext cx="524520" cy="527040"/>
            </a:xfrm>
            <a:prstGeom prst="ellipse">
              <a:avLst/>
            </a:prstGeom>
            <a:gradFill rotWithShape="0">
              <a:gsLst>
                <a:gs pos="0">
                  <a:srgbClr val="a50021"/>
                </a:gs>
                <a:gs pos="50000">
                  <a:srgbClr val="ffffff"/>
                </a:gs>
                <a:gs pos="100000">
                  <a:srgbClr val="a500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Object 5" descr=""/>
            <p:cNvPicPr/>
            <p:nvPr/>
          </p:nvPicPr>
          <p:blipFill>
            <a:blip r:embed="rId1"/>
            <a:stretch/>
          </p:blipFill>
          <p:spPr>
            <a:xfrm>
              <a:off x="8429760" y="6143760"/>
              <a:ext cx="57600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50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85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8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Ожидаемые результаты освоения  программы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2205000"/>
            <a:ext cx="7848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ичностные 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сформировавшаяся в образовательном процессе система ценностных отношений учащихся – к себе, другим участникам образовательного процесса, самому образовательному процессу, объектам познания, результатам образо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Метапредметные 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освоенные обучающимися способы деятельности, применимые как в рамках образовательного процесса, так и в реальных жизненных ситу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едметные результат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ражаются в усвоении обучаемыми конкретных элементов социального опыта, изучаемого в рамках отдельных учебных предм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932360" y="112536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1187280" y="836640"/>
            <a:ext cx="6409080" cy="100800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908000" y="981000"/>
            <a:ext cx="45007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С точки зрения развития мотивационных, инструментальных ресурсов лич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Monotype Corsiva"/>
              </a:rPr>
              <a:t>Цель обучения ребенка состоит в том, чтобы сделать его способным развиваться дальше  без помощи учителя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Элберт Хаббар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7929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Метапредметный под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900000" y="785880"/>
            <a:ext cx="738684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 мировоззренческая идея – школа должна в первую очередь учить детей мыслить – причем всех детей, без всякого исклю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точки зрения содержания метапредметность – это идея рефлексивности по отношению к предм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апредметность – это новая образовательная форма, которая накладывается на традиционные учебные предметы и позволяет работать с фундаментальными образовательными объектами, носящими универсальный харак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ем реализации метапредметного подхода является предоставление учащимся прежде всего возможности познания реального образовательного объекта, и лишь затем — знакомство со знаниями человечества о 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Метапредметность как инструмент формирования комплекса базовых спосо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68360" y="1285920"/>
            <a:ext cx="781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схематизации – выражение своих мыслей с помощью сх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работать с системам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определять границу собственного знания – не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проблематизации, целеполаг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постановки задач, перевода проблем в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ность к поиску и рефлексии средств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8580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Цели метапредметного под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395280" y="1052640"/>
            <a:ext cx="82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ая цел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формирование у учащихся конкретных знаний (понятий, правил, законов), умений объяснять и применять эти знания, действовать продуктивно в изучаемой обла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Метапредметная цель </a:t>
            </a:r>
            <a:r>
              <a:rPr b="1" lang="ru-RU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ширение опыта творческой деятельности учащихся по отношению к образовательному стандарту по предмету, формирование мировозренческих установок, ценностных, культурологических позиций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ологическая цель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владение навыками самоорганизации учебной деятельности, умениями целеполагания и планированиями, рефлексивными действиями, развитие навыков кооперации в обучении, освоение техники ведения дискусс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Методика работы с метапредметным содерж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0" y="1844640"/>
            <a:ext cx="878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ктуализация субъективного образа фундаментального объекта у уч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Отыскание и формулирование учеником смысла и сущности этого объ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иск источника, причины происхождения объек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учение его внутреннего устройства и системы внешних взаимосвя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ознание их смысловой и функциональной предназнач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Конструирование субъективной системы знаний об объек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539640" y="404640"/>
            <a:ext cx="8399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40000"/>
                </a:solidFill>
                <a:latin typeface="Arial"/>
                <a:ea typeface="Arial"/>
              </a:rPr>
              <a:t>Идеи  нового  ФГОС  определяют  инновационны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40000"/>
                </a:solidFill>
                <a:latin typeface="Arial"/>
                <a:ea typeface="Arial"/>
              </a:rPr>
              <a:t>особенности  курса географи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2473200" y="2349360"/>
            <a:ext cx="25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4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2701800" y="3068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3276720" y="1628640"/>
            <a:ext cx="532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ность на формирование  </a:t>
            </a:r>
            <a:r>
              <a:rPr b="0" lang="ru-RU" sz="2400" spc="-1" strike="noStrike">
                <a:solidFill>
                  <a:srgbClr val="c40000"/>
                </a:solidFill>
                <a:latin typeface="Arial"/>
                <a:ea typeface="Arial"/>
              </a:rPr>
              <a:t>метапредметных ум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00"/>
                </a:solidFill>
                <a:latin typeface="Arial"/>
                <a:ea typeface="Arial"/>
              </a:rPr>
              <a:t>и навы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связанных с развитием видов речевой 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торые прежде всего заключаются в способности извлекать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ных источников,  преобразовывать  и  преподнос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ю, а также создавать собственные высказывания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стной и письмен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8317080" y="6093000"/>
            <a:ext cx="576000" cy="577800"/>
            <a:chOff x="8317080" y="6093000"/>
            <a:chExt cx="576000" cy="577800"/>
          </a:xfrm>
        </p:grpSpPr>
        <p:sp>
          <p:nvSpPr>
            <p:cNvPr id="59" name="Oval 4"/>
            <p:cNvSpPr/>
            <p:nvPr/>
          </p:nvSpPr>
          <p:spPr>
            <a:xfrm>
              <a:off x="8342640" y="6108480"/>
              <a:ext cx="524520" cy="527040"/>
            </a:xfrm>
            <a:prstGeom prst="ellipse">
              <a:avLst/>
            </a:prstGeom>
            <a:gradFill rotWithShape="0">
              <a:gsLst>
                <a:gs pos="0">
                  <a:srgbClr val="a50021"/>
                </a:gs>
                <a:gs pos="50000">
                  <a:srgbClr val="ffffff"/>
                </a:gs>
                <a:gs pos="100000">
                  <a:srgbClr val="a500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Object 5" descr=""/>
            <p:cNvPicPr/>
            <p:nvPr/>
          </p:nvPicPr>
          <p:blipFill>
            <a:blip r:embed="rId1"/>
            <a:stretch/>
          </p:blipFill>
          <p:spPr>
            <a:xfrm>
              <a:off x="8317080" y="6093000"/>
              <a:ext cx="576000" cy="57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Рисунок 12" descr="Две девочки 1.jpg"/>
          <p:cNvPicPr/>
          <p:nvPr/>
        </p:nvPicPr>
        <p:blipFill>
          <a:blip r:embed="rId2"/>
          <a:stretch/>
        </p:blipFill>
        <p:spPr>
          <a:xfrm>
            <a:off x="324000" y="2133720"/>
            <a:ext cx="2592360" cy="23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90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840" y="151920"/>
            <a:ext cx="73422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пособы отыскания метапредметного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324000" y="1143000"/>
            <a:ext cx="831996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i="1" lang="en-US" sz="1700" spc="-1" strike="noStrike">
                <a:solidFill>
                  <a:srgbClr val="000000"/>
                </a:solidFill>
                <a:latin typeface="Comic Sans MS"/>
              </a:rPr>
              <a:t>Анализ науки или исходной области деятельности -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реальные предметы и явления из соответствующей учебному предмету науке или области деятельности: например, в русском языке - это устная речь как реальный процесс с его элементами; звуками, словами и т. п., тексты произведений как материализованные объекты; в физике — физические явления, вещества в различных состояниях, фундаментальные поля и взаимодействия, элементарные частицы; в химии — вещества и процессы их превращения; в живописи — красота и гармония как объективная реальность; в географии — предметы и события  планетарного, регионального и местного значения и т. д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i="1" lang="en-US" sz="1700" spc="-1" strike="noStrike">
                <a:solidFill>
                  <a:srgbClr val="000000"/>
                </a:solidFill>
                <a:latin typeface="Comic Sans MS"/>
              </a:rPr>
              <a:t>Анализ учебного предмета -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соответствующие ключевым методологическим элементам учебных курсов объекты реальной действительности: в курсе географии 6-го класса одной из ключевых тем традиционно считается «атмосфера» — идеальная конструкция; реальным же образовательным объектом здесь выступают природные я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i="1" lang="en-US" sz="1700" spc="-1" strike="noStrike">
                <a:solidFill>
                  <a:srgbClr val="000000"/>
                </a:solidFill>
                <a:latin typeface="Comic Sans MS"/>
              </a:rPr>
              <a:t>Рефлексивный анализ учебной деятельности – 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проблемы, вопросы, идеи, возникающие непосредственно в учебной деятельности школьни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826920" y="333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40000"/>
                </a:solidFill>
                <a:latin typeface="Arial"/>
                <a:ea typeface="Arial"/>
              </a:rPr>
              <a:t>Ориентация курса </a:t>
            </a:r>
            <a:r>
              <a:rPr b="1" lang="en-US" sz="3000" spc="-1" strike="noStrike">
                <a:solidFill>
                  <a:srgbClr val="740000"/>
                </a:solidFill>
                <a:latin typeface="Arial"/>
                <a:ea typeface="Arial"/>
              </a:rPr>
              <a:t> </a:t>
            </a:r>
            <a:r>
              <a:rPr b="1" lang="ru-RU" sz="3000" spc="-1" strike="noStrike">
                <a:solidFill>
                  <a:srgbClr val="740000"/>
                </a:solidFill>
                <a:latin typeface="Arial"/>
                <a:ea typeface="Arial"/>
              </a:rPr>
              <a:t>географ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40000"/>
                </a:solidFill>
                <a:latin typeface="Arial"/>
                <a:ea typeface="Arial"/>
              </a:rPr>
              <a:t>на планируемые результаты обучения</a:t>
            </a:r>
            <a:r>
              <a:rPr b="1" lang="ru-RU" sz="2800" spc="-1" strike="noStrike">
                <a:solidFill>
                  <a:srgbClr val="74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низ 17"/>
          <p:cNvSpPr/>
          <p:nvPr/>
        </p:nvSpPr>
        <p:spPr>
          <a:xfrm>
            <a:off x="1763640" y="2133720"/>
            <a:ext cx="214560" cy="35712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cccc0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AutoShape 29"/>
          <p:cNvGrpSpPr/>
          <p:nvPr/>
        </p:nvGrpSpPr>
        <p:grpSpPr>
          <a:xfrm>
            <a:off x="530280" y="1542960"/>
            <a:ext cx="2689200" cy="603360"/>
            <a:chOff x="530280" y="1542960"/>
            <a:chExt cx="2689200" cy="603360"/>
          </a:xfrm>
        </p:grpSpPr>
        <p:pic>
          <p:nvPicPr>
            <p:cNvPr id="67" name="AutoShape 29" descr=""/>
            <p:cNvPicPr/>
            <p:nvPr/>
          </p:nvPicPr>
          <p:blipFill>
            <a:blip r:embed="rId1"/>
            <a:stretch/>
          </p:blipFill>
          <p:spPr>
            <a:xfrm>
              <a:off x="530280" y="1542960"/>
              <a:ext cx="26892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68440" y="1585800"/>
              <a:ext cx="26064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00"/>
                  </a:solidFill>
                  <a:latin typeface="Arial"/>
                  <a:ea typeface="Arial"/>
                </a:rPr>
                <a:t>ПРЕДМ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AutoShape 30"/>
          <p:cNvGrpSpPr/>
          <p:nvPr/>
        </p:nvGrpSpPr>
        <p:grpSpPr>
          <a:xfrm>
            <a:off x="3408480" y="1542960"/>
            <a:ext cx="2687400" cy="603360"/>
            <a:chOff x="3408480" y="1542960"/>
            <a:chExt cx="2687400" cy="603360"/>
          </a:xfrm>
        </p:grpSpPr>
        <p:pic>
          <p:nvPicPr>
            <p:cNvPr id="70" name="AutoShape 30" descr=""/>
            <p:cNvPicPr/>
            <p:nvPr/>
          </p:nvPicPr>
          <p:blipFill>
            <a:blip r:embed="rId2"/>
            <a:stretch/>
          </p:blipFill>
          <p:spPr>
            <a:xfrm>
              <a:off x="3408480" y="1542960"/>
              <a:ext cx="26874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448080" y="1585800"/>
              <a:ext cx="2606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00"/>
                  </a:solidFill>
                  <a:latin typeface="Arial"/>
                  <a:ea typeface="Arial"/>
                </a:rPr>
                <a:t>МЕТАПРЕДМ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AutoShape 31"/>
          <p:cNvGrpSpPr/>
          <p:nvPr/>
        </p:nvGrpSpPr>
        <p:grpSpPr>
          <a:xfrm>
            <a:off x="6291360" y="1542960"/>
            <a:ext cx="2687400" cy="603360"/>
            <a:chOff x="6291360" y="1542960"/>
            <a:chExt cx="2687400" cy="603360"/>
          </a:xfrm>
        </p:grpSpPr>
        <p:pic>
          <p:nvPicPr>
            <p:cNvPr id="73" name="AutoShape 31" descr=""/>
            <p:cNvPicPr/>
            <p:nvPr/>
          </p:nvPicPr>
          <p:blipFill>
            <a:blip r:embed="rId3"/>
            <a:stretch/>
          </p:blipFill>
          <p:spPr>
            <a:xfrm>
              <a:off x="6291360" y="1542960"/>
              <a:ext cx="26874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6329520" y="1585800"/>
              <a:ext cx="26064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00"/>
                  </a:solidFill>
                  <a:latin typeface="Arial"/>
                  <a:ea typeface="Arial"/>
                </a:rPr>
                <a:t>ЛИЧНОС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AutoShape 32"/>
          <p:cNvSpPr/>
          <p:nvPr/>
        </p:nvSpPr>
        <p:spPr>
          <a:xfrm>
            <a:off x="539640" y="2492280"/>
            <a:ext cx="26640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Образовательные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основа предме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низ 17"/>
          <p:cNvSpPr/>
          <p:nvPr/>
        </p:nvSpPr>
        <p:spPr>
          <a:xfrm>
            <a:off x="4643280" y="2133720"/>
            <a:ext cx="214560" cy="35712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cccc0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трелка вниз 17"/>
          <p:cNvSpPr/>
          <p:nvPr/>
        </p:nvSpPr>
        <p:spPr>
          <a:xfrm>
            <a:off x="7524720" y="2133720"/>
            <a:ext cx="214200" cy="35712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cccc00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7"/>
          <p:cNvSpPr/>
          <p:nvPr/>
        </p:nvSpPr>
        <p:spPr>
          <a:xfrm>
            <a:off x="539640" y="3573360"/>
            <a:ext cx="2664000" cy="122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Деятель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опыт приме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наний в учеб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8"/>
          <p:cNvSpPr/>
          <p:nvPr/>
        </p:nvSpPr>
        <p:spPr>
          <a:xfrm>
            <a:off x="468360" y="4941720"/>
            <a:ext cx="2735280" cy="16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Компетент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применение знани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мений в учеб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и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чевой практик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9"/>
          <p:cNvSpPr/>
          <p:nvPr/>
        </p:nvSpPr>
        <p:spPr>
          <a:xfrm>
            <a:off x="3492360" y="3573360"/>
            <a:ext cx="26640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Регуля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0"/>
          <p:cNvSpPr/>
          <p:nvPr/>
        </p:nvSpPr>
        <p:spPr>
          <a:xfrm>
            <a:off x="3492360" y="2492280"/>
            <a:ext cx="26640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Коммуник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1"/>
          <p:cNvSpPr/>
          <p:nvPr/>
        </p:nvSpPr>
        <p:spPr>
          <a:xfrm>
            <a:off x="3500280" y="4857840"/>
            <a:ext cx="266400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Познав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2"/>
          <p:cNvSpPr/>
          <p:nvPr/>
        </p:nvSpPr>
        <p:spPr>
          <a:xfrm>
            <a:off x="6372360" y="2492280"/>
            <a:ext cx="2663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Аксиологические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ценност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3"/>
          <p:cNvSpPr/>
          <p:nvPr/>
        </p:nvSpPr>
        <p:spPr>
          <a:xfrm>
            <a:off x="6429240" y="3573360"/>
            <a:ext cx="26067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Морально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э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4"/>
          <p:cNvSpPr/>
          <p:nvPr/>
        </p:nvSpPr>
        <p:spPr>
          <a:xfrm>
            <a:off x="6357960" y="4857840"/>
            <a:ext cx="2663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0000">
                  <a:alpha val="43137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Индивидуально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8317080" y="6093000"/>
            <a:ext cx="576000" cy="577800"/>
            <a:chOff x="8317080" y="6093000"/>
            <a:chExt cx="576000" cy="577800"/>
          </a:xfrm>
        </p:grpSpPr>
        <p:sp>
          <p:nvSpPr>
            <p:cNvPr id="87" name="Oval 4"/>
            <p:cNvSpPr/>
            <p:nvPr/>
          </p:nvSpPr>
          <p:spPr>
            <a:xfrm>
              <a:off x="8342640" y="6108480"/>
              <a:ext cx="524520" cy="527040"/>
            </a:xfrm>
            <a:prstGeom prst="ellipse">
              <a:avLst/>
            </a:prstGeom>
            <a:gradFill rotWithShape="0">
              <a:gsLst>
                <a:gs pos="0">
                  <a:srgbClr val="a50021"/>
                </a:gs>
                <a:gs pos="50000">
                  <a:srgbClr val="ffffff"/>
                </a:gs>
                <a:gs pos="100000">
                  <a:srgbClr val="a500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Object 5" descr=""/>
            <p:cNvPicPr/>
            <p:nvPr/>
          </p:nvPicPr>
          <p:blipFill>
            <a:blip r:embed="rId4"/>
            <a:stretch/>
          </p:blipFill>
          <p:spPr>
            <a:xfrm>
              <a:off x="8317080" y="6093000"/>
              <a:ext cx="57600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50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5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7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000080" y="21420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862360" y="5516640"/>
            <a:ext cx="628164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13100"/>
                </a:solidFill>
                <a:latin typeface="Times New Roman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d0000"/>
                </a:solidFill>
                <a:latin typeface="Times New Roman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d0000"/>
                </a:solidFill>
                <a:latin typeface="Times New Roman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9"/>
          <p:cNvSpPr/>
          <p:nvPr/>
        </p:nvSpPr>
        <p:spPr>
          <a:xfrm>
            <a:off x="468360" y="333360"/>
            <a:ext cx="80661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00000"/>
                </a:solidFill>
                <a:latin typeface="Arial"/>
                <a:ea typeface="Arial"/>
              </a:rPr>
              <a:t>Личностные  результаты  обучени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lang="en-US" sz="3300" spc="-1" strike="noStrike">
                <a:solidFill>
                  <a:srgbClr val="800000"/>
                </a:solidFill>
                <a:latin typeface="Arial"/>
                <a:ea typeface="Arial"/>
              </a:rPr>
              <a:t>географии  в  6 – 11 классах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0"/>
          <p:cNvSpPr/>
          <p:nvPr/>
        </p:nvSpPr>
        <p:spPr>
          <a:xfrm>
            <a:off x="250920" y="1700280"/>
            <a:ext cx="54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нимание  географии как одной из основных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национально-культурных ценностей российского общест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а также роли предмета как  основы успешной социализации л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250920" y="3176640"/>
            <a:ext cx="54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сознани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эстетической ценности географии</a:t>
            </a:r>
            <a:r>
              <a:rPr b="1" lang="en-US" sz="1800" spc="-1" strike="noStrike">
                <a:solidFill>
                  <a:srgbClr val="740000"/>
                </a:solidFill>
                <a:latin typeface="Arial"/>
                <a:ea typeface="Arial"/>
              </a:rPr>
              <a:t>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важительное отношение к родному краю, гордость  за нег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179280" y="422100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4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умение учиться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,</a:t>
            </a:r>
            <a:r>
              <a:rPr b="1" lang="en-US" sz="1800" spc="-1" strike="noStrike">
                <a:solidFill>
                  <a:srgbClr val="74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 получать знания в области  географ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овывать исследовательскую деятельность по предм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8317080" y="6093000"/>
            <a:ext cx="576000" cy="577800"/>
            <a:chOff x="8317080" y="6093000"/>
            <a:chExt cx="576000" cy="577800"/>
          </a:xfrm>
        </p:grpSpPr>
        <p:sp>
          <p:nvSpPr>
            <p:cNvPr id="96" name="Oval 4"/>
            <p:cNvSpPr/>
            <p:nvPr/>
          </p:nvSpPr>
          <p:spPr>
            <a:xfrm>
              <a:off x="8342640" y="6108480"/>
              <a:ext cx="524520" cy="527040"/>
            </a:xfrm>
            <a:prstGeom prst="ellipse">
              <a:avLst/>
            </a:prstGeom>
            <a:gradFill rotWithShape="0">
              <a:gsLst>
                <a:gs pos="0">
                  <a:srgbClr val="a50021"/>
                </a:gs>
                <a:gs pos="50000">
                  <a:srgbClr val="ffffff"/>
                </a:gs>
                <a:gs pos="100000">
                  <a:srgbClr val="a500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Object 5" descr=""/>
            <p:cNvPicPr/>
            <p:nvPr/>
          </p:nvPicPr>
          <p:blipFill>
            <a:blip r:embed="rId1"/>
            <a:stretch/>
          </p:blipFill>
          <p:spPr>
            <a:xfrm>
              <a:off x="8317080" y="6093000"/>
              <a:ext cx="576000" cy="57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Рисунок 12" descr="Мальчик у доски.jpg"/>
          <p:cNvPicPr/>
          <p:nvPr/>
        </p:nvPicPr>
        <p:blipFill>
          <a:blip r:embed="rId2"/>
          <a:stretch/>
        </p:blipFill>
        <p:spPr>
          <a:xfrm>
            <a:off x="5707080" y="2205000"/>
            <a:ext cx="325440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9:25:01Z</dcterms:created>
  <dc:creator>Сабуров</dc:creator>
  <dc:description/>
  <dc:language>en-US</dc:language>
  <cp:lastModifiedBy>6</cp:lastModifiedBy>
  <dcterms:modified xsi:type="dcterms:W3CDTF">2012-05-17T06:50:47Z</dcterms:modified>
  <cp:revision>83</cp:revision>
  <dc:subject/>
  <dc:title>Слайд 1</dc:title>
</cp:coreProperties>
</file>