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1A3-425A-4E43-822D-F97661BB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6C9-5BF7-4A17-BBFC-B1CD35F6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3F9-4D27-4792-ACE9-FDECE705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711-D666-4FAD-9689-180A36D2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8D3F-6EF4-4FFF-8D69-A77D2D96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466-81AE-40D6-9A65-90D1226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4F9-5025-451A-86AB-6BE7B9C0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C35-C1D9-487A-B618-1C86B2EA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26A-B51E-4AA5-9781-487B6393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3D1-81F3-4F1F-8F48-8BE0B79E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79D1-2DF2-41B7-B78A-BDBB60CA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1AA-B37F-42CD-B597-1D198A4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906A-46C2-48CB-B269-DE7D1D31EA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836640"/>
            <a:ext cx="74865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мское православие в годы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569440" cy="3529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рагмент занятия по истории «Советский тыл в годы Великой Отечественной вой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а: преподаватель истории БОУ ОО СПО «Омский технологический колледж Денисенко Лейл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400" y="500040"/>
            <a:ext cx="8258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офан Евгеньевич Токар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стоятель  Крестовоздвиженского Кафедрального Собора г.Омс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ился 11 октября 1883 года в г.Кургане Челябинской губернии. Закончил Сибирскую духовную Академию. В1924 году-секретарь Омского епархиального Епископа. После закрытия в городе Омске всех храмов работал швейцаром в области УНКВД по Омской области. Через четыре месяца освобожден. Дело прекращено за недостаточностью улик. Умер в послевоенные годы. Похоронен на Старо-Северном кладбище г.Омс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недикт Пляск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в миру- Василий Васильевич пляскин, 1900-1976гг.) Родился 24 марта 1900 года в г.Омске, в семье священника. С отличием закончил Омскую гимназию. Хотел поступить в Казанскую Духовную Академию, но в 1919 году был призван в белую армию. Дослужился до подпоручика. В 1927 году возвратился в г.Омск. Исполнял должность помощника епархиального секретаря и секретаря, одновременно прислуживая Омским владыкам в качестве иподьякона. В1930 году принял монашеский постриг с именем Венедикта. Получил назначение в Знаменскую церковь г.Омска в качестве иеромонаха. С 1936 года- игумен. Был арестован до 1941 года находился в заключении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началом Великой Отечественной Войны ушел на фронт. В 1943 году тяжело ранен, после лечения в госпитале демобилизирован инвалидом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уппы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 1944 года-настоятель Никольской церкви, затем священник Крестовоздвиженского Кафедрального собора. С 1945 года – благочинный Омских церквей. В этом-же году был возведен в сан архимандрита. В 1946 году-хиротонисан Епископ Хабаровского и Владивостокского. С 1948 года назначен епископом Петрозаводским и Олонец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4 марта 1949 года находился на покое. Постоянно проживал в г. Омске. По определению Священного Синода трижды временно управлял Омско- Тюменской Епархией(01.09.1955-22.11.1956; 13.05.1958- 16.07.1959; 03.04.1961-13.06.1962). Умер 30 апреля 1976 года. Похоронен на Старо-Восточном кладбище г. Ом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428760"/>
            <a:ext cx="4971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4100" spc="-1" strike="noStrike">
                <a:solidFill>
                  <a:srgbClr val="c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плечи советского народа легла основная тяжесть войны. Советский Союз сыграл решающую роль в победоносном завершении второй мировой войны, в разгроме фашистской Германии и милитаристской Японии, в освобождении порабощенных народов. Авторитет Советского государства на международной арене неизмеримо выро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429160" y="857160"/>
            <a:ext cx="349092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2920" y="285840"/>
            <a:ext cx="8786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итч и паства вновь открытых церквей, помня благовение Митрополита Сергия «…Пожертвованиями содействовать нашим доблестным защитникам в победе над коварным врагом», молитвенно и денежно вносили свой вклад в дело Великой Побе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71680" y="3357720"/>
          <a:ext cx="8286480" cy="3306600"/>
        </p:xfrm>
        <a:graphic>
          <a:graphicData uri="http://schemas.openxmlformats.org/drawingml/2006/table">
            <a:tbl>
              <a:tblPr/>
              <a:tblGrid>
                <a:gridCol w="2000160"/>
                <a:gridCol w="1314360"/>
                <a:gridCol w="1657440"/>
                <a:gridCol w="1657440"/>
                <a:gridCol w="1657080"/>
              </a:tblGrid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о в фонд обор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о вещевых подар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о помощь ране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стовоздвиженский Кафедральный со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1943-01.10.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кольская церковь Ленинского района г.Ом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ец 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 _ _ _ _ _ _ _ 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_ _ _ _ _ _ _ _ 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76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общецерковный счет Омского Отделения Госбанка в 1944 году от церквей г.Омска поступило 224336 рублей. Сбор вещевых подарков производился к праздникам. В вещевые подарки входили: полотенца, платки, кисеты, табак, одеколон, шерстяные нитки, варежки и проч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оветских благотворительных концертах в омских эвакоспиталях от духовенства участвовал церковный хо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рковным Советом Крестовоздвиженского Кафедрального собора в начале мая 1944 года лично И.В.Сталину была направлена телеграм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М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ква. Кремль. Верховному Главнокомандующему Маршалу Иосифу Виссарионовичу Сталин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годы героической борьбы нашей Родины с немецкими варварами мы, духовенство и верующие г.Омска Патриаршей Правоставной русской церкви, одушевленные единым с нашей доблестной Красной Армией стремление к скорейшей Победе над кровожадным врагом, вносим свою скромную помощь в великое дело обороны нашей Родины и просим Вас принять от нас на бронетанковую колону 100000 рублей. Молим Господа, желаем сердечно вам, дорогой Иосиф Виссарионович, многолетнего здоровья и полнейшего успеха в Вашем мудром руководстве нашей славной Красной Армии, в достижении скорейшей победы над враг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стоятель протоиерей Токарев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едседатель церковного совета Иван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ветная телеграмма И.В.Сталина от 15 мая 1944 г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мск. Настоятелю протоиерею Токаре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едателю церковного совета Ивано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шу передать духовенству и верующим г.Омска Патриаршей Православной русской церкви, собравшим 100000 рублей на строительство танковой колонны, мой привет и благодарность Красной Ар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.Ст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8584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енные и первые послевоенные годы духовенство прихожане омских церквей оказывали помощь сиротам и инвалид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ведения о посещаемости омских храмов прихожанами в 1945-1946 год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00040" y="3500280"/>
          <a:ext cx="8286840" cy="3117960"/>
        </p:xfrm>
        <a:graphic>
          <a:graphicData uri="http://schemas.openxmlformats.org/drawingml/2006/table">
            <a:tbl>
              <a:tblPr/>
              <a:tblGrid>
                <a:gridCol w="2000160"/>
                <a:gridCol w="1314720"/>
                <a:gridCol w="1657080"/>
                <a:gridCol w="1657440"/>
                <a:gridCol w="1657440"/>
              </a:tblGrid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ещаемость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пе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стовоздвиженский Кафедральный собор г.Ом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-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кольская церковь г.Ом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-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42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подсчетам Московской Патриархии за 1946 год Омско-Тарская Епархия по сбору пожертвований занимала 1е место в Советском Союзе. Среднии доход церквей в Омской области был равен 998 тыс. руб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ведения о доходности приходов и духовенства Омской области в 1945-1946 год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28760" y="3357720"/>
          <a:ext cx="8143920" cy="3117600"/>
        </p:xfrm>
        <a:graphic>
          <a:graphicData uri="http://schemas.openxmlformats.org/drawingml/2006/table">
            <a:tbl>
              <a:tblPr/>
              <a:tblGrid>
                <a:gridCol w="1928520"/>
                <a:gridCol w="3000600"/>
                <a:gridCol w="3214800"/>
              </a:tblGrid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ность хр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н.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уховенства за кварта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стовоздвиженский Кафедральный соб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кольская церковь г.Ом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214880" y="428760"/>
            <a:ext cx="44719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ладыка Варфолом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ff0000"/>
                </a:solidFill>
                <a:latin typeface="Calibri"/>
              </a:rPr>
              <a:t>в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миру Сергей Дмитриевич Городцев, 1866-1956 гг.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ервый Архипастырь Епископ Омский 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юменский. Получил духовное образование в Санкт-Петербургский Духовной Академии. Удостоен степени магистра богословия. В 1920-х  годах арестован. Наказание отбывал на Соловках. После смерти жены стал мантийным монахом. С 1942 года Епископ Можайский, викарий Московской Епархии. В этом же году возведен в сан архиепископа. С 1943 года пребывал на Новосибирской и Барнаульской кафедре, духовенства оформлял Омскую и Иркутскую паству. В 1947-1948 годах временно Управляющий Владивостокой епархией. С 1949 года-Митрополит. В 1950-1952 годах- временно управлял Семипалатинской епархией. Почил 1 июня 1956 год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Игорь\Pictures\svyati8.jpg"/>
          <p:cNvPicPr/>
          <p:nvPr/>
        </p:nvPicPr>
        <p:blipFill>
          <a:blip r:embed="rId1"/>
          <a:stretch/>
        </p:blipFill>
        <p:spPr>
          <a:xfrm>
            <a:off x="428760" y="2000160"/>
            <a:ext cx="4071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2:40:17Z</dcterms:created>
  <dc:creator>Игорь</dc:creator>
  <dc:description/>
  <dc:language>en-US</dc:language>
  <cp:lastModifiedBy>1</cp:lastModifiedBy>
  <dcterms:modified xsi:type="dcterms:W3CDTF">2012-06-06T10:24:08Z</dcterms:modified>
  <cp:revision>20</cp:revision>
  <dc:subject/>
  <dc:title>Слайд 1</dc:title>
</cp:coreProperties>
</file>