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D28A1-8923-485F-99E0-1F9E241C5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89606-3E54-486B-B07B-57EC6E95E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4129C-12F5-41A4-8646-D21FC2545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28025-CBB0-4912-AC2D-9430109FA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CE13C-2FCC-453A-A5E1-98DACED0A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71A26-A26D-446E-85E6-3DE0510F6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5BAA2-329D-4B44-A277-7440D380E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1B2D5-852E-424C-B827-F35176B8F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E0469-1F06-4D80-BFD3-1DDF2E4CC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B49D4-4766-4725-B58B-DC8EB2AAF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1F25F-3E72-46D6-9671-450DAA5E8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2E988-DE4B-458E-B432-3344E9870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C769F-8908-454F-AEDE-F981F8551CB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71640" y="836640"/>
            <a:ext cx="7486560" cy="17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мское православие в годы войн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95280" y="2420640"/>
            <a:ext cx="8569440" cy="352908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Фрагмент занятия по истории «Советский тыл в годы Великой Отечественной войны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Подготовила: преподаватель истории БОУ ОО СПО «Омский технологический колледж Денисенко Лейла Владимиров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428400" y="500040"/>
            <a:ext cx="825804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Феофан Евгеньевич Токаре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стоятель  Крестовоздвиженского Кафедрального Собора г.Омска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одился 11 октября 1883 года в г.Кургане Челябинской губернии. Закончил Сибирскую духовную Академию. В1924 году-секретарь Омского епархиального Епископа. После закрытия в городе Омске всех храмов работал швейцаром в области УНКВД по Омской области. Через четыре месяца освобожден. Дело прекращено за недостаточностью улик. Умер в послевоенные годы. Похоронен на Старо-Северном кладбище г.Омск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енедикт Пляски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(в миру- Василий Васильевич пляскин, 1900-1976гг.) Родился 24 марта 1900 года в г.Омске, в семье священника. С отличием закончил Омскую гимназию. Хотел поступить в Казанскую Духовную Академию, но в 1919 году был призван в белую армию. Дослужился до подпоручика. В 1927 году возвратился в г.Омск. Исполнял должность помощника епархиального секретаря и секретаря, одновременно прислуживая Омским владыкам в качестве иподьякона. В1930 году принял монашеский постриг с именем Венедикта. Получил назначение в Знаменскую церковь г.Омска в качестве иеромонаха. С 1936 года- игумен. Был арестован до 1941 года находился в заключении.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 началом Великой Отечественной Войны ушел на фронт. В 1943 году тяжело ранен, после лечения в госпитале демобилизирован инвалидом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I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группы.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С 1944 года-настоятель Никольской церкви, затем священник Крестовоздвиженского Кафедрального собора. С 1945 года – благочинный Омских церквей. В этом-же году был возведен в сан архимандрита. В 1946 году-хиротонисан Епископ Хабаровского и Владивостокского. С 1948 года назначен епископом Петрозаводским и Олонецким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 4 марта 1949 года находился на покое. Постоянно проживал в г. Омске. По определению Священного Синода трижды временно управлял Омско- Тюменской Епархией(01.09.1955-22.11.1956; 13.05.1958- 16.07.1959; 03.04.1961-13.06.1962). Умер 30 апреля 1976 года. Похоронен на Старо-Восточном кладбище г. Омск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456840" y="428760"/>
            <a:ext cx="4971960" cy="60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4100" spc="-1" strike="noStrike">
                <a:solidFill>
                  <a:srgbClr val="c00000"/>
                </a:solidFill>
                <a:latin typeface="Calibri"/>
              </a:rPr>
              <a:t>Н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а плечи советского народа легла основная тяжесть войны. Советский Союз сыграл решающую роль в победоносном завершении второй мировой войны, в разгроме фашистской Германии и милитаристской Японии, в освобождении порабощенных народов. Авторитет Советского государства на международной арене неизмеримо вырос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3" descr=""/>
          <p:cNvPicPr/>
          <p:nvPr/>
        </p:nvPicPr>
        <p:blipFill>
          <a:blip r:embed="rId1"/>
          <a:stretch/>
        </p:blipFill>
        <p:spPr>
          <a:xfrm>
            <a:off x="5429160" y="857160"/>
            <a:ext cx="3490920" cy="51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142920" y="285840"/>
            <a:ext cx="8786880" cy="32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4000" spc="-1" strike="noStrike">
                <a:solidFill>
                  <a:srgbClr val="c00000"/>
                </a:solidFill>
                <a:latin typeface="Calibri"/>
              </a:rPr>
              <a:t>П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итч и паства вновь открытых церквей, помня благовение Митрополита Сергия «…Пожертвованиями содействовать нашим доблестным защитникам в победе над коварным врагом», молитвенно и денежно вносили свой вклад в дело Великой Побед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571680" y="3357720"/>
          <a:ext cx="8286480" cy="3306600"/>
        </p:xfrm>
        <a:graphic>
          <a:graphicData uri="http://schemas.openxmlformats.org/drawingml/2006/table">
            <a:tbl>
              <a:tblPr/>
              <a:tblGrid>
                <a:gridCol w="2000160"/>
                <a:gridCol w="1314360"/>
                <a:gridCol w="1657440"/>
                <a:gridCol w="1657440"/>
                <a:gridCol w="1657080"/>
              </a:tblGrid>
              <a:tr h="92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вание храм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ерио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еречисленно в фонд оборон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еречисленно вещевых подарк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еречисленно помощь ранены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рестовоздвиженский Кафедральный собо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чало 1943-01.10.19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5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икольская церковь Ленинского района г.Омс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нец 19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_ _ _ _ _ _ _ _ _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_ _ _ _ _ _ _ _ _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428760" y="285840"/>
            <a:ext cx="822960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4000" spc="-1" strike="noStrike">
                <a:solidFill>
                  <a:srgbClr val="c00000"/>
                </a:solidFill>
                <a:latin typeface="Calibri"/>
              </a:rPr>
              <a:t>Н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 общецерковный счет Омского Отделения Госбанка в 1944 году от церквей г.Омска поступило 224336 рублей. Сбор вещевых подарков производился к праздникам. В вещевые подарки входили: полотенца, платки, кисеты, табак, одеколон, шерстяные нитки, варежки и проче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 советских благотворительных концертах в омских эвакоспиталях от духовенства участвовал церковный хор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Церковным Советом Крестовоздвиженского Кафедрального собора в начале мая 1944 года лично И.В.Сталину была направлена телеграмма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457200" y="285840"/>
            <a:ext cx="822960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4000" spc="-1" strike="noStrike">
                <a:solidFill>
                  <a:srgbClr val="c00000"/>
                </a:solidFill>
                <a:latin typeface="Calibri"/>
              </a:rPr>
              <a:t>М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осква. Кремль. Верховному Главнокомандующему Маршалу Иосифу Виссарионовичу Сталину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 годы героической борьбы нашей Родины с немецкими варварами мы, духовенство и верующие г.Омска Патриаршей Правоставной русской церкви, одушевленные единым с нашей доблестной Красной Армией стремление к скорейшей Победе над кровожадным врагом, вносим свою скромную помощь в великое дело обороны нашей Родины и просим Вас принять от нас на бронетанковую колону 100000 рублей. Молим Господа, желаем сердечно вам, дорогой Иосиф Виссарионович, многолетнего здоровья и полнейшего успеха в Вашем мудром руководстве нашей славной Красной Армии, в достижении скорейшей победы над врагом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Настоятель протоиерей Токарев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Председатель церковного совета Иванов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457200" y="357120"/>
            <a:ext cx="822960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alibri"/>
              </a:rPr>
              <a:t>О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тветная телеграмма И.В.Сталина от 15 мая 1944 года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мск. Настоятелю протоиерею Токарев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едседателю церковного совета Иванов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шу передать духовенству и верующим г.Омска Патриаршей Православной русской церкви, собравшим 100000 рублей на строительство танковой колонны, мой привет и благодарность Красной Арми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И.Стали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57200" y="285840"/>
            <a:ext cx="8229600" cy="32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4000" spc="-1" strike="noStrike">
                <a:solidFill>
                  <a:srgbClr val="c00000"/>
                </a:solidFill>
                <a:latin typeface="Calibri"/>
              </a:rPr>
              <a:t>В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военные и первые послевоенные годы духовенство прихожане омских церквей оказывали помощь сиротам и инвалида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Сведения о посещаемости омских храмов прихожанами в 1945-1946 года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500040" y="3500280"/>
          <a:ext cx="8286840" cy="3117960"/>
        </p:xfrm>
        <a:graphic>
          <a:graphicData uri="http://schemas.openxmlformats.org/drawingml/2006/table">
            <a:tbl>
              <a:tblPr/>
              <a:tblGrid>
                <a:gridCol w="2000160"/>
                <a:gridCol w="1314720"/>
                <a:gridCol w="1657080"/>
                <a:gridCol w="1657440"/>
                <a:gridCol w="1657440"/>
              </a:tblGrid>
              <a:tr h="92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вание храм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сещаемость храм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рещ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енч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тпев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рестовоздвиженский Кафедральный собор г.Омс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0-4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икольская церковь г.Омс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0-4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457200" y="14256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 подсчетам Московской Патриархии за 1946 год Омско-Тарская Епархия по сбору пожертвований занимала 1е место в Советском Союзе. Среднии доход церквей в Омской области был равен 998 тыс. рубле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Сведения о доходности приходов и духовенства Омской области в 1945-1946 годах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428760" y="3357720"/>
          <a:ext cx="8143920" cy="3117600"/>
        </p:xfrm>
        <a:graphic>
          <a:graphicData uri="http://schemas.openxmlformats.org/drawingml/2006/table">
            <a:tbl>
              <a:tblPr/>
              <a:tblGrid>
                <a:gridCol w="1928520"/>
                <a:gridCol w="3000600"/>
                <a:gridCol w="3214800"/>
              </a:tblGrid>
              <a:tr h="92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вание храм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ходность храм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лн.рубл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уховенства за квартал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ыс. рубл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рестовоздвиженский Кафедральный собо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икольская церковь г.Омс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4214880" y="428760"/>
            <a:ext cx="4471920" cy="59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Владыка Варфоломей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1700" spc="-1" strike="noStrike">
                <a:solidFill>
                  <a:srgbClr val="ff0000"/>
                </a:solidFill>
                <a:latin typeface="Calibri"/>
              </a:rPr>
              <a:t>в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 миру Сергей Дмитриевич Городцев, 1866-1956 гг.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Первый Архипастырь Епископ Омский и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Тюменский. Получил духовное образование в Санкт-Петербургский Духовной Академии. Удостоен степени магистра богословия. В 1920-х  годах арестован. Наказание отбывал на Соловках. После смерти жены стал мантийным монахом. С 1942 года Епископ Можайский, викарий Московской Епархии. В этом же году возведен в сан архиепископа. С 1943 года пребывал на Новосибирской и Барнаульской кафедре, духовенства оформлял Омскую и Иркутскую паству. В 1947-1948 годах временно Управляющий Владивостокой епархией. С 1949 года-Митрополит. В 1950-1952 годах- временно управлял Семипалатинской епархией. Почил 1 июня 1956 года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C:\Users\Игорь\Pictures\svyati8.jpg"/>
          <p:cNvPicPr/>
          <p:nvPr/>
        </p:nvPicPr>
        <p:blipFill>
          <a:blip r:embed="rId1"/>
          <a:stretch/>
        </p:blipFill>
        <p:spPr>
          <a:xfrm>
            <a:off x="428760" y="2000160"/>
            <a:ext cx="407196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0T12:40:17Z</dcterms:created>
  <dc:creator>Игорь</dc:creator>
  <dc:description/>
  <dc:language>en-US</dc:language>
  <cp:lastModifiedBy>1</cp:lastModifiedBy>
  <dcterms:modified xsi:type="dcterms:W3CDTF">2012-06-06T10:24:08Z</dcterms:modified>
  <cp:revision>20</cp:revision>
  <dc:subject/>
  <dc:title>Слайд 1</dc:title>
</cp:coreProperties>
</file>