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3BE-4785-43F7-BDA9-BE30A2A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48D-0375-4565-A33E-D77BF24C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112-DF20-46BF-9277-6A71A06B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876-AE5D-4756-8620-EF216357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151-B10B-4E33-BC67-FDF0783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6C6-70B7-45A6-B099-0A8B5FD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11C-B734-4FCE-B176-E8AF0A7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0C0-0CAC-409B-8B34-AD076C0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A50-7DDB-4196-A8CC-658281C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A70-1890-4B80-8C33-4DDD861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091-4923-4BE0-B25F-A9B5E91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E62-6787-4DCA-9958-CFE91AB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3BC-8CF4-40E4-B774-F4071755D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ff0066"/>
                </a:solidFill>
                <a:latin typeface="Arial"/>
              </a:rPr>
              <a:t>Память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ервичная диагностик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арандаш – небо             дым – ды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раска – корень               ноги – чер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молоко – дерево             рыба – пож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музей – ночь                    час – собака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тол – ливень                  цветок - лам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чки – мех                         кот - с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заяц – мыло                      булка -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чайник – закат                 кнопка -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5»  -  16-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4»  -  11-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3»  -   7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2»  -   4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476280"/>
          <a:ext cx="8229600" cy="564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549360"/>
          <a:ext cx="82072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49360"/>
                    <a:ext cx="8207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Знакомство с приёмом мнемотехни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507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ё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Ассоциации - образ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ы несвязанных между собой слов представить в виде образов-картинок, где два образа в одной картинке. Причём чем более нелепой и смешной окажется картинка, тем лучше вы её запомн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вторная диагностик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ук – кресло                Спичка -   овца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ебень – земля          Шляпа -    пчела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пас – клей              Пила - яичница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ол - луч                     Дождь -кровать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ница –  нога              Лист - 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хомор – диван         Кольцо - зая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йка –  трамвай          Дом -  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тинки –  самовар      Колокольчик –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333360"/>
          <a:ext cx="8229600" cy="5792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.М.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Сеченов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Основную роль в процессе обучения человека играет память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7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181080" y="404640"/>
          <a:ext cx="9074160" cy="59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81080" y="404640"/>
                    <a:ext cx="90741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333360"/>
          <a:ext cx="8229600" cy="5805360"/>
        </p:xfrm>
        <a:graphic>
          <a:graphicData uri="http://schemas.openxmlformats.org/drawingml/2006/table">
            <a:tbl>
              <a:tblPr/>
              <a:tblGrid>
                <a:gridCol w="1954080"/>
                <a:gridCol w="3024360"/>
                <a:gridCol w="3251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\ 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  \  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\ 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\  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\ 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\  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5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-252360" y="0"/>
          <a:ext cx="979308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0"/>
                    <a:ext cx="9793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ff33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ff33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 использованием приёмов мнемотехники продуктивность памяти увеличивается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c"/>
              </a:rPr>
              <a:t>Наши предложе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спользовать мнемотехн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торять запомин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ерез 15-20 мин –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 через 8-9 часов –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 через 24 часа - 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ерсидский царь К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лександр Македо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Юлий Цез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кадемик С.А.Чаплыг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6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4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cc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Arial"/>
              </a:rPr>
              <a:t>Академик Н.П.Дубини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изучить изменение объёма памяти с помощью специальных приёмов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амя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это способность головного моз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воспринимать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кружающую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йств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сохранять её в клетках моз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воспроизводить её по мере необходим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оцессы памя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поминание          сохранение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оспроизведе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аб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836640"/>
            <a:ext cx="934920" cy="1440000"/>
          </a:xfrm>
          <a:prstGeom prst="downArrow">
            <a:avLst>
              <a:gd name="adj1" fmla="val 50000"/>
              <a:gd name="adj2" fmla="val 38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836640"/>
            <a:ext cx="936720" cy="1368360"/>
          </a:xfrm>
          <a:prstGeom prst="downArrow">
            <a:avLst>
              <a:gd name="adj1" fmla="val 50000"/>
              <a:gd name="adj2" fmla="val 36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836640"/>
            <a:ext cx="431640" cy="2808360"/>
          </a:xfrm>
          <a:prstGeom prst="downArrow">
            <a:avLst>
              <a:gd name="adj1" fmla="val 50000"/>
              <a:gd name="adj2" fmla="val 1626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836640"/>
            <a:ext cx="504720" cy="4248000"/>
          </a:xfrm>
          <a:prstGeom prst="downArrow">
            <a:avLst>
              <a:gd name="adj1" fmla="val 50000"/>
              <a:gd name="adj2" fmla="val 210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43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Виды памяти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вигательная и эмоциональная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разная и словесно-логическ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зрительная  и   слухова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сязательная и обонятель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вкусова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  оператив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непроизвольная, произволь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ратковременна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олговременна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Практическая часть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17:03:26Z</dcterms:created>
  <dc:creator>XTreme</dc:creator>
  <dc:description/>
  <dc:language>en-US</dc:language>
  <cp:lastModifiedBy>XTreme</cp:lastModifiedBy>
  <dcterms:modified xsi:type="dcterms:W3CDTF">2010-02-24T17:03:28Z</dcterms:modified>
  <cp:revision>18</cp:revision>
  <dc:subject/>
  <dc:title>Виды игр:</dc:title>
</cp:coreProperties>
</file>