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png" ContentType="image/pn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A2E-02CB-4672-BB0E-202367F9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36E-62C9-448D-BC9E-C1BF72B5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823C-1A2E-4591-AE5D-60FC4F0F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888-B362-4E52-9C2B-0E65864F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71C-3F3B-4A8C-90E2-2050E7EB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D3FA-15F7-424E-9BDD-F4E4FCBD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2314-383F-4574-964A-FAD5E19D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DD27-EBD2-41D9-856F-FED32D1A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19BD-BB8E-4953-A70D-5504E8A2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E2C-AEE7-4FEC-AD20-74CE27EF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EC3-526F-4549-A816-DA463320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46AA-9D90-48EC-9B4F-6A11A0F9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58B6-B69C-4113-B2F4-DCE5D7AB1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0" spc="-1" strike="noStrike">
                <a:solidFill>
                  <a:srgbClr val="ff0066"/>
                </a:solidFill>
                <a:latin typeface="Arial"/>
              </a:rPr>
              <a:t>Память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Первичная диагностика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карандаш – небо             дым – ды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краска – корень               ноги – черн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молоко – дерево             рыба – пож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музей – ночь                    час – собака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стол – ливень                  цветок - ламп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очки – мех                         кот - са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заяц – мыло                      булка - ор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чайник – закат                 кнопка - во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На «5»  -  16-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На «4»  -  11-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На «3»  -   7-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На «2»  -   4-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476280"/>
          <a:ext cx="8229600" cy="5649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уе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зна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Х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3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2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2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3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Ф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2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68360" y="549360"/>
          <a:ext cx="8207280" cy="54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549360"/>
                    <a:ext cx="82072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Знакомство с приёмом мнемотехники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66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507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риё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Ассоциации - образ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ы несвязанных между собой слов представить в виде образов-картинок, где два образа в одной картинке. Причём чем более нелепой и смешной окажется картинка, тем лучше вы её запомни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Повторная диагностика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ук – кресло                Спичка -   овца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ебень – земля          Шляпа -    пчела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пас – клей              Пила - яичница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ол - луч                     Дождь -кровать.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ница –  нога              Лист -  о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ухомор – диван         Кольцо - зая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йка –  трамвай          Дом -  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тинки –  самовар      Колокольчик –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1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333360"/>
          <a:ext cx="8229600" cy="5792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уе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зна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Х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5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4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3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4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Ф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4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И.М.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Сеченов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«Основную роль в процессе обучения человека играет память»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7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-181080" y="404640"/>
          <a:ext cx="9074160" cy="590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81080" y="404640"/>
                    <a:ext cx="907416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333360"/>
          <a:ext cx="8229600" cy="5805360"/>
        </p:xfrm>
        <a:graphic>
          <a:graphicData uri="http://schemas.openxmlformats.org/drawingml/2006/table">
            <a:tbl>
              <a:tblPr/>
              <a:tblGrid>
                <a:gridCol w="1954080"/>
                <a:gridCol w="3024360"/>
                <a:gridCol w="3251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уе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зна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Х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 \ 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3»  \  «5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\  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2»  \  «4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\  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2»  \  «3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\ 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3»  \  «4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Ф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\  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2»  \  «4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94920" y="188640"/>
            <a:ext cx="8064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5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-252360" y="0"/>
          <a:ext cx="9793080" cy="666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52360" y="0"/>
                    <a:ext cx="979308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6ff33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38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6ff33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С использованием приёмов мнемотехники продуктивность памяти увеличивается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c"/>
              </a:rPr>
              <a:t>Наши предложения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спользовать мнемотехни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вторять запоминаем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через 15-20 мин – 2-3 р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- через 8-9 часов – 2-3 р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- через 24 часа -  2-3 р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5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98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98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98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98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98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ерсидский царь Ки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лександр Македон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Юлий Цеза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кадемик С.А.Чаплыг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600"/>
                            </p:stCondLst>
                            <p:childTnLst>
                              <p:par>
                                <p:cTn id="3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500"/>
                            </p:stCondLst>
                            <p:childTnLst>
                              <p:par>
                                <p:cTn id="4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400"/>
                            </p:stCondLst>
                            <p:childTnLst>
                              <p:par>
                                <p:cTn id="49" nodeType="afterEffect" fill="hold" presetClass="entr" presetID="49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99cc00"/>
            </a:gs>
            <a:gs pos="100000">
              <a:srgbClr val="ff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8000"/>
                </a:solidFill>
                <a:latin typeface="Arial"/>
              </a:rPr>
              <a:t>Академик Н.П.Дубини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изучить изменение объёма памяти с помощью специальных приёмов.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3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50000">
              <a:srgbClr val="ffffcc"/>
            </a:gs>
            <a:gs pos="100000">
              <a:srgbClr val="7575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Памят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это способность головного моз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- воспринимать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окружающую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         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действи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- сохранять её в клетках моз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- воспроизводить её по мере необходим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Процессы памя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Запоминание          сохранение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оспроизведение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забы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59640" y="836640"/>
            <a:ext cx="934920" cy="1440000"/>
          </a:xfrm>
          <a:prstGeom prst="downArrow">
            <a:avLst>
              <a:gd name="adj1" fmla="val 50000"/>
              <a:gd name="adj2" fmla="val 385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836640"/>
            <a:ext cx="936720" cy="1368360"/>
          </a:xfrm>
          <a:prstGeom prst="downArrow">
            <a:avLst>
              <a:gd name="adj1" fmla="val 50000"/>
              <a:gd name="adj2" fmla="val 365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0360" y="836640"/>
            <a:ext cx="431640" cy="2808360"/>
          </a:xfrm>
          <a:prstGeom prst="downArrow">
            <a:avLst>
              <a:gd name="adj1" fmla="val 50000"/>
              <a:gd name="adj2" fmla="val 1626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836640"/>
            <a:ext cx="504720" cy="4248000"/>
          </a:xfrm>
          <a:prstGeom prst="downArrow">
            <a:avLst>
              <a:gd name="adj1" fmla="val 50000"/>
              <a:gd name="adj2" fmla="val 2104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188640"/>
            <a:ext cx="84373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Виды памяти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двигательная и эмоциональная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образная и словесно-логическая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зрительная  и   слуховая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осязательная и обонятельная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вкусовая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   оперативная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непроизвольная, произвольная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кратковременная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долговременная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Практическая часть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5T17:03:26Z</dcterms:created>
  <dc:creator>XTreme</dc:creator>
  <dc:description/>
  <dc:language>en-US</dc:language>
  <cp:lastModifiedBy>XTreme</cp:lastModifiedBy>
  <dcterms:modified xsi:type="dcterms:W3CDTF">2010-02-24T17:03:28Z</dcterms:modified>
  <cp:revision>18</cp:revision>
  <dc:subject/>
  <dc:title>Виды игр:</dc:title>
</cp:coreProperties>
</file>