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A73B-9BD9-4868-A3CB-EFA442C81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8DEA-D63E-4262-A397-80D743C4A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EB59-0B96-43B9-9AE4-866689F84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92CE-2837-439A-A9E3-C41663B05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59FCA-FEF1-4A0C-B94E-557E637A4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193B9-FA11-431C-9083-5B051CDEB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1C2E3-FA7D-4407-B861-990603EB8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EF58E-EEFE-48EB-928D-358EE06B8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53D77-C3EF-47ED-8D0B-D5038D2DD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2A7D5-0D9A-4B73-AD23-611233DFE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273A4-0384-4F5B-B4B2-0EE335B6B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E44E-04C2-4448-A877-37AC9FC8D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305DA-E39F-4508-B18A-E1412FF37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D49C3-44F1-494A-8712-AA7FB2DA1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426E4-C458-4860-8D7E-86D7F9299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F26B7-901D-4F69-B816-157A17428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98AC4-7363-4CE3-9C25-61BAB91C7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ED36-80C8-4D59-8A10-CF0EC5F80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13A4-1A06-4152-94F3-9ECB0A3FF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8AAE-08EA-4150-BFD8-38E8F13DD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46B0-BCFE-4BF7-87E4-CC4336330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AC12-A910-4890-B2CA-5A9AFDAB3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F4BE-FE5D-4492-9CEC-DF776376B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0221-B6AA-4C36-8709-41E4298AD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414D4-74DB-4747-82EB-6237563CC8B9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57DB6-3B60-4DFC-AC9E-34A01F547DA6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23640" y="1197000"/>
            <a:ext cx="8459640" cy="251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99"/>
                </a:solidFill>
                <a:latin typeface="Arial"/>
              </a:rPr>
              <a:t>«Здоровый образ жизни»</a:t>
            </a:r>
            <a:br>
              <a:rPr sz="5400"/>
            </a:br>
            <a:r>
              <a:rPr b="0" lang="ru-RU" sz="54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402920" y="6021360"/>
            <a:ext cx="752148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99"/>
                </a:solidFill>
                <a:latin typeface="Verdana"/>
              </a:rPr>
              <a:t>Учитель физики ГБОУ школа №655 Пилипенко Н.К.,2012год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Алкоголизм и наркомания в жизни человека и общества</a:t>
            </a:r>
            <a:br>
              <a:rPr sz="3200"/>
            </a:b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468360" y="1197000"/>
            <a:ext cx="84963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Цел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Развитие у подростков осознанного неприятия наркотических средств, как способов воздействия на свою личност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Задач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▪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информировать подростков о негативном влиянии      алкоголя и наркотико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▪ 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воспитывать уважение к себе, чувство собственног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достоинств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▪ 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формировать уверенность, что здоровый образ жизн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делает человека свободным и независимым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▪ 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способность осознанию подростками наркоман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и алкоголизма как болезней, не только сжигающи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его как личност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4" descr="1238622570_alko27"/>
          <p:cNvPicPr/>
          <p:nvPr/>
        </p:nvPicPr>
        <p:blipFill>
          <a:blip r:embed="rId1"/>
          <a:stretch/>
        </p:blipFill>
        <p:spPr>
          <a:xfrm>
            <a:off x="1835280" y="1700280"/>
            <a:ext cx="5400720" cy="479736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9600" cy="1039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99"/>
                </a:solidFill>
                <a:latin typeface="Arial"/>
              </a:rPr>
              <a:t>Алкоголизм и наркомания в жизни человека и общества</a:t>
            </a: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s23682"/>
          <p:cNvPicPr/>
          <p:nvPr/>
        </p:nvPicPr>
        <p:blipFill>
          <a:blip r:embed="rId1"/>
          <a:stretch/>
        </p:blipFill>
        <p:spPr>
          <a:xfrm>
            <a:off x="1547640" y="333360"/>
            <a:ext cx="597708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000" y="173160"/>
            <a:ext cx="8077320" cy="109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Наркоман или алкоголик – это своего рода раб. Внешне он не в оковах, но мозг его лишен самостоятельности,  его хозяином является наркотик.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69" name="Picture 3" descr="drugs"/>
          <p:cNvPicPr/>
          <p:nvPr/>
        </p:nvPicPr>
        <p:blipFill>
          <a:blip r:embed="rId1"/>
          <a:stretch/>
        </p:blipFill>
        <p:spPr>
          <a:xfrm>
            <a:off x="179280" y="1484280"/>
            <a:ext cx="5435640" cy="49672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155349978"/>
          <p:cNvPicPr/>
          <p:nvPr/>
        </p:nvPicPr>
        <p:blipFill>
          <a:blip r:embed="rId2"/>
          <a:stretch/>
        </p:blipFill>
        <p:spPr>
          <a:xfrm>
            <a:off x="5796000" y="1628640"/>
            <a:ext cx="302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i-main-pic" descr="Картинка 64 из 23313"/>
          <p:cNvPicPr/>
          <p:nvPr/>
        </p:nvPicPr>
        <p:blipFill>
          <a:blip r:embed="rId1"/>
          <a:stretch/>
        </p:blipFill>
        <p:spPr>
          <a:xfrm>
            <a:off x="1908000" y="260280"/>
            <a:ext cx="590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10 золотых правил здоровьесбережения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8360" y="836640"/>
            <a:ext cx="82296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Verdana"/>
              </a:rPr>
              <a:t>Соблюдайте режим дня!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Verdana"/>
              </a:rPr>
              <a:t>Обращайте большое внимание на питание!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Verdana"/>
              </a:rPr>
              <a:t>Больше двигайтесь!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Verdana"/>
              </a:rPr>
              <a:t>Спите в прохладной комнате!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Verdana"/>
              </a:rPr>
              <a:t>Постоянно занимайтесь интеллектуальной деятельностью!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Verdana"/>
              </a:rPr>
              <a:t>Не злитесь!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Verdana"/>
              </a:rPr>
              <a:t>Гоните прочь уныние и хандру!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Verdana"/>
              </a:rPr>
              <a:t>Адекватно реагируйте на все проявления своего организма!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Verdana"/>
              </a:rPr>
              <a:t>Старайтесь получать как можно больше положительных эмоций!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Verdana"/>
              </a:rPr>
              <a:t>Желайте себе и окружающим только добра!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          </a:t>
            </a:r>
            <a:r>
              <a:rPr b="0" lang="ru-RU" sz="2800" spc="-1" strike="noStrike">
                <a:solidFill>
                  <a:srgbClr val="ffff99"/>
                </a:solidFill>
                <a:latin typeface="Verdana"/>
              </a:rPr>
              <a:t>Берегите свое здоровье!!!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3T06:13:12Z</dcterms:created>
  <dc:creator>Пилипенко Наталья</dc:creator>
  <dc:description/>
  <dc:language>en-US</dc:language>
  <cp:lastModifiedBy>USER</cp:lastModifiedBy>
  <dcterms:modified xsi:type="dcterms:W3CDTF">2012-05-07T13:37:49Z</dcterms:modified>
  <cp:revision>39</cp:revision>
  <dc:subject/>
  <dc:title>Слайд 1</dc:title>
</cp:coreProperties>
</file>