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C4C-BE40-48AC-A5C9-13F35E35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110-F328-42E7-8B1D-0D031C06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883-8C0E-41DB-B4D6-7D7BB5F4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6AC-C8C5-4FD9-89FF-B8B8B1F7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67D0-829E-4D37-863E-2EB2E0D1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503A-8ED6-4C34-AC3B-0A15F17F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541-D988-4EB4-B198-49389A5C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0709-968E-4C33-B890-3849A3B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EA4-9063-45DA-B326-E6CE0EB6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D018-6B52-49D9-8FF9-1DB4C122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48B3-6BC0-493F-9229-B85A052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DC2-0BCD-46DE-A8C2-28C01151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32A8-58BF-445A-AFDF-6FCBF772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DD94-266B-4C0E-AB9D-EE57045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CC2-838F-40AB-84F5-0ADC345A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1963-1178-416A-A8A7-579D0C1B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E259-576E-45EF-B901-4C10A8D7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EC0-B79A-4F34-B157-C6A4A524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490-9A95-4641-A2D2-2388A3B8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E6C-ACBB-4334-8A61-3717D994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E26-9F80-4A88-9B12-AB1BDE43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5F0-FF37-4781-97B9-E533BEF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F16-5771-4346-AA00-02EF18E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3B0-74CA-44A8-9381-C64A0EB9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625F-2FEC-46C5-96A7-269FE76E5B3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70D-4F69-4B8D-AF47-4AA10DAD6D6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45964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«Здоровый образ жизни»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02920" y="6021360"/>
            <a:ext cx="75214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Verdana"/>
              </a:rPr>
              <a:t>Учитель физики ГБОУ школа №655 Пилипенко Н.К.,2012г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Алкоголизм и наркомания в жизни человека и общества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8360" y="119700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Ц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звитие у подростков осознанного неприятия наркотических средств, как способов воздействия на свою л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формировать подростков о негативном влиянии      алкоголя и наркот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оспитывать уважение к себе, чувство соб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формировать уверенность, что здоровый образ жиз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елает человека свободным и независим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пособность осознанию подростками нарко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алкоголизма как болезней, не только сжигающ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го как л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8622570_alko27"/>
          <p:cNvPicPr/>
          <p:nvPr/>
        </p:nvPicPr>
        <p:blipFill>
          <a:blip r:embed="rId1"/>
          <a:stretch/>
        </p:blipFill>
        <p:spPr>
          <a:xfrm>
            <a:off x="1835280" y="1700280"/>
            <a:ext cx="5400720" cy="4797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99"/>
                </a:solidFill>
                <a:latin typeface="Arial"/>
              </a:rPr>
              <a:t>Алкоголизм и наркомания в жизни человека и общества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s23682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173160"/>
            <a:ext cx="807732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ркоман или алкоголик – это своего рода раб. Внешне он не в оковах, но мозг его лишен самостоятельности,  его хозяином является наркотик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Picture 3" descr="drugs"/>
          <p:cNvPicPr/>
          <p:nvPr/>
        </p:nvPicPr>
        <p:blipFill>
          <a:blip r:embed="rId1"/>
          <a:stretch/>
        </p:blipFill>
        <p:spPr>
          <a:xfrm>
            <a:off x="179280" y="1484280"/>
            <a:ext cx="5435640" cy="496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155349978"/>
          <p:cNvPicPr/>
          <p:nvPr/>
        </p:nvPicPr>
        <p:blipFill>
          <a:blip r:embed="rId2"/>
          <a:stretch/>
        </p:blipFill>
        <p:spPr>
          <a:xfrm>
            <a:off x="5796000" y="1628640"/>
            <a:ext cx="302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-main-pic" descr="Картинка 64 из 23313"/>
          <p:cNvPicPr/>
          <p:nvPr/>
        </p:nvPicPr>
        <p:blipFill>
          <a:blip r:embed="rId1"/>
          <a:stretch/>
        </p:blipFill>
        <p:spPr>
          <a:xfrm>
            <a:off x="1908000" y="260280"/>
            <a:ext cx="59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10 золотых правил здоровьесбереж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Соблюдайте режим дня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Обращайте большое внимание на питание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Больше двигайтесь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Спите в прохладной комнате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Постоянно занимайтесь интеллектуальной деятельностью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Не злитесь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Гоните прочь уныние и хандру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Адекватно реагируйте на все проявления своего организм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Старайтесь получать как можно больше положительных эмоций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Желайте себе и окружающим только доб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ffff99"/>
                </a:solidFill>
                <a:latin typeface="Verdana"/>
              </a:rPr>
              <a:t>Берегите свое здоровье!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6:13:12Z</dcterms:created>
  <dc:creator>Пилипенко Наталья</dc:creator>
  <dc:description/>
  <dc:language>en-US</dc:language>
  <cp:lastModifiedBy>USER</cp:lastModifiedBy>
  <dcterms:modified xsi:type="dcterms:W3CDTF">2012-05-07T13:37:49Z</dcterms:modified>
  <cp:revision>39</cp:revision>
  <dc:subject/>
  <dc:title>Слайд 1</dc:title>
</cp:coreProperties>
</file>