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6.gif" ContentType="image/gif"/>
  <Override PartName="/ppt/media/image1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7.png" ContentType="image/png"/>
  <Override PartName="/ppt/media/laser.wav" ContentType="audio/x-wav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D16D-6B9A-48BB-B333-D471703C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E41-428F-429E-A2B5-D311A150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9CF-DD0B-4FCB-89E8-E275E9DD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F48-C300-4626-8C33-3FCB839D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06C-D01D-4B0A-8F9F-7011D918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A2D-287E-47AD-A143-0CBAE6BA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82F-2FAA-45E5-9034-C4C64B94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B77-7947-448A-A188-06845E6D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A92-D657-4F9D-BE3A-D0A34227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964-077E-44CD-9A83-B6660C07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54C-4551-4499-B6AE-928054F3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DCD-5A85-4523-B4FB-A2B085DD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93B4-FF86-4E11-83B3-7F12E32C95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жгалиева Асия Амангельдеев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ниципальное казенное общеобразовательное учр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редняя общеобразовательная школа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. Мирный, Саратовской области, Дергачевского рай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2781000"/>
            <a:ext cx="8496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В здоровом теле – здоровый ду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Мероприятие в рамках акц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доровый образ жизни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ля учащихся 5-7 класс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+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-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Й ОБРАЗ ЖИЗ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i="1" lang="ru-RU" sz="4800" spc="-1" strike="noStrike">
                <a:solidFill>
                  <a:srgbClr val="ff0066"/>
                </a:solidFill>
                <a:latin typeface="Times New Roman"/>
              </a:rPr>
              <a:t> СТРЕСС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ЫЙ ОБРАЗ ЖИЗНИ                         СТР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Times New Roman"/>
              </a:rPr>
              <a:t>ХОРОШЕЕ НА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15_01"/>
          <p:cNvPicPr/>
          <p:nvPr/>
        </p:nvPicPr>
        <p:blipFill>
          <a:blip r:embed="rId1"/>
          <a:stretch/>
        </p:blipFill>
        <p:spPr>
          <a:xfrm>
            <a:off x="826920" y="671400"/>
            <a:ext cx="7490160" cy="51372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  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ЫЙ ОБРАЗ ЖИЗНИ                         СТР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РОШЕЕ НАСТРО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Times New Roman"/>
              </a:rPr>
              <a:t>СПОР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Pitan1"/>
          <p:cNvPicPr/>
          <p:nvPr/>
        </p:nvPicPr>
        <p:blipFill>
          <a:blip r:embed="rId1"/>
          <a:stretch/>
        </p:blipFill>
        <p:spPr>
          <a:xfrm>
            <a:off x="611280" y="476280"/>
            <a:ext cx="8137440" cy="52563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  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ЫЙ ОБРАЗ ЖИЗНИ                         СТР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РОШЕЕ НАСТРО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Times New Roman"/>
              </a:rPr>
              <a:t>ПИТ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  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ЫЙ ОБРАЗ ЖИЗНИ                         СТР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РОШЕЕ НАСТРОЕНИЕ                        </a:t>
            </a: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УР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РТ                                        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ТАНИЕ  …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Times New Roman"/>
              </a:rPr>
              <a:t>ЧТО ЖДЕТ ТЕХ,</a:t>
            </a:r>
            <a:br>
              <a:rPr sz="4000"/>
            </a:br>
            <a:r>
              <a:rPr b="1" lang="ru-RU" sz="4000" spc="-1" strike="noStrike">
                <a:solidFill>
                  <a:srgbClr val="ff33cc"/>
                </a:solidFill>
                <a:latin typeface="Times New Roman"/>
              </a:rPr>
              <a:t> КТО КУРИТ?</a:t>
            </a:r>
            <a:br>
              <a:rPr sz="4000"/>
            </a:br>
            <a:r>
              <a:rPr b="1" lang="ru-RU" sz="4400" spc="-1" strike="noStrike">
                <a:solidFill>
                  <a:srgbClr val="ff33cc"/>
                </a:solidFill>
                <a:latin typeface="Times New Roman"/>
              </a:rPr>
              <a:t>Болезни органов дыхания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Р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Грип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Бронх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оспаление легк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Аст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уберкул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Рак (губ, гортани, легких и других органов) Болезни органов дых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 табачном дыме содержитс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икотин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ж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мол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Оксид мышья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глекислый г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Муравьи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Уксусная кисло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Формальдеги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мми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ероводор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3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3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3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3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3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3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3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3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3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557_7"/>
          <p:cNvPicPr/>
          <p:nvPr/>
        </p:nvPicPr>
        <p:blipFill>
          <a:blip r:embed="rId1"/>
          <a:stretch/>
        </p:blipFill>
        <p:spPr>
          <a:xfrm>
            <a:off x="2028960" y="189000"/>
            <a:ext cx="5086080" cy="64800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КЦ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ЗДОРОВЫЙ ОБРАЗ ЖИЗН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755640" y="2492280"/>
            <a:ext cx="7704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6 КЛАСС ПРЕДСТАВЛЯЕТ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6000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C:\Documents and Settings\Администратор\Рабочий стол\ИНФОРМАТИКА\документы\город конкурс\самостоятельные\физкультура , СОЧ\БергерПГ\Информационные ресурсы\Картинки\Курящий.bmp"/>
          <p:cNvPicPr/>
          <p:nvPr/>
        </p:nvPicPr>
        <p:blipFill>
          <a:blip r:embed="rId1"/>
          <a:stretch/>
        </p:blipFill>
        <p:spPr>
          <a:xfrm>
            <a:off x="685800" y="2257560"/>
            <a:ext cx="3809880" cy="356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Наркомания - практически неизлечима"/>
          <p:cNvPicPr/>
          <p:nvPr/>
        </p:nvPicPr>
        <p:blipFill>
          <a:blip r:embed="rId2"/>
          <a:stretch/>
        </p:blipFill>
        <p:spPr>
          <a:xfrm>
            <a:off x="4643280" y="3357720"/>
            <a:ext cx="4289760" cy="20826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Times New Roman"/>
              </a:rPr>
              <a:t>Убойная сила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24360" y="3068280"/>
            <a:ext cx="49687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2 пачки сигарет содержат смертельную дозу никотина. Курильщика спасает, что эта доза вводится в организм не сразу, а дроб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5" descr="C:\Documents and Settings\Администратор\Рабочий стол\ира\ресурсы\sigar.jpg"/>
          <p:cNvPicPr/>
          <p:nvPr/>
        </p:nvPicPr>
        <p:blipFill>
          <a:blip r:embed="rId2"/>
          <a:stretch/>
        </p:blipFill>
        <p:spPr>
          <a:xfrm>
            <a:off x="250920" y="270828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+           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ЫЙ ОБРАЗ ЖИЗНИ                         СТРЕ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400" spc="-1" strike="noStrike">
                <a:solidFill>
                  <a:srgbClr val="ff0066"/>
                </a:solidFill>
                <a:latin typeface="Times New Roman"/>
              </a:rPr>
              <a:t>(ЗАКАЛ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ОРОШЕЕ НАСТРОЕНИЕ                            КУР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РТ                                                       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ТАНИЕ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495680" cy="44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УР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Наркомания - практически неизлечима"/>
          <p:cNvPicPr/>
          <p:nvPr/>
        </p:nvPicPr>
        <p:blipFill>
          <a:blip r:embed="rId1"/>
          <a:stretch/>
        </p:blipFill>
        <p:spPr>
          <a:xfrm>
            <a:off x="4788000" y="3500280"/>
            <a:ext cx="3809880" cy="18511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33995231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9310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ее здоровье - основа долгой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ливой и полноценной жиз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025" descr="C:\Documents and Settings\Администратор\Мои документы\Мои рисунки\-IMAGES-\SELECTED\PHOTOS\PEOPLES\PG1_P009.JPG"/>
          <p:cNvPicPr/>
          <p:nvPr/>
        </p:nvPicPr>
        <p:blipFill>
          <a:blip r:embed="rId1"/>
          <a:stretch/>
        </p:blipFill>
        <p:spPr>
          <a:xfrm>
            <a:off x="1235160" y="1981080"/>
            <a:ext cx="270972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C:\Documents and Settings\Администратор\Рабочий стол\ИНФОРМАТИКА\документы\город конкурс\самостоятельные\физкультура , СОЧ\ФизкультураЖиряева Рахиля Рашитовна\Информационные ресурсы\Аэробика\02060014_s.jpg"/>
          <p:cNvPicPr/>
          <p:nvPr/>
        </p:nvPicPr>
        <p:blipFill>
          <a:blip r:embed="rId2"/>
          <a:stretch/>
        </p:blipFill>
        <p:spPr>
          <a:xfrm>
            <a:off x="4572000" y="198900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imes New Roman"/>
              </a:rPr>
              <a:t>6 класс предупреждает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1905120"/>
            <a:ext cx="4105440" cy="39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т во что могут превратиться ваши зубы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C:\Documents and Settings\User\Рабочий стол\Чихадзинская, Кореева\ресурсы\smoking_facebig.jpg"/>
          <p:cNvPicPr/>
          <p:nvPr/>
        </p:nvPicPr>
        <p:blipFill>
          <a:blip r:embed="rId2"/>
          <a:stretch/>
        </p:blipFill>
        <p:spPr>
          <a:xfrm>
            <a:off x="5334120" y="2060640"/>
            <a:ext cx="3809880" cy="31050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15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Без комментариев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Человек рождается на свет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Чтоб творить, дерзать – и не иначе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Чтоб оставить в жизни добрый след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И решить все трудные задачи.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Человек рождается на свет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Для чего? Ищите свой ответ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samsonova-kashkenova-xasanova"/>
          <p:cNvPicPr/>
          <p:nvPr/>
        </p:nvPicPr>
        <p:blipFill>
          <a:blip r:embed="rId1"/>
          <a:stretch/>
        </p:blipFill>
        <p:spPr>
          <a:xfrm>
            <a:off x="2016000" y="189000"/>
            <a:ext cx="5230800" cy="633564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404280"/>
            <a:ext cx="734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 ЗДОРОВОМ ТЕЛЕ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ДОРОВЫЙ ДУ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1258920" y="333360"/>
            <a:ext cx="6626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УЛА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Я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6000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9462c8c0a6fbe0e59c11352f221df22a"/>
          <p:cNvPicPr/>
          <p:nvPr/>
        </p:nvPicPr>
        <p:blipFill>
          <a:blip r:embed="rId1"/>
          <a:stretch/>
        </p:blipFill>
        <p:spPr>
          <a:xfrm>
            <a:off x="0" y="0"/>
            <a:ext cx="507672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basketball"/>
          <p:cNvPicPr/>
          <p:nvPr/>
        </p:nvPicPr>
        <p:blipFill>
          <a:blip r:embed="rId2"/>
          <a:stretch/>
        </p:blipFill>
        <p:spPr>
          <a:xfrm>
            <a:off x="4284720" y="3213000"/>
            <a:ext cx="4859280" cy="36450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fc0ada9accf2"/>
          <p:cNvPicPr/>
          <p:nvPr/>
        </p:nvPicPr>
        <p:blipFill>
          <a:blip r:embed="rId1"/>
          <a:stretch/>
        </p:blipFill>
        <p:spPr>
          <a:xfrm>
            <a:off x="1332000" y="260280"/>
            <a:ext cx="6330960" cy="63817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pic"/>
          <p:cNvPicPr/>
          <p:nvPr/>
        </p:nvPicPr>
        <p:blipFill>
          <a:blip r:embed="rId1"/>
          <a:stretch/>
        </p:blipFill>
        <p:spPr>
          <a:xfrm>
            <a:off x="2916360" y="1628640"/>
            <a:ext cx="3390840" cy="352908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тернет источник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92120" y="392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349280" y="2060640"/>
            <a:ext cx="6443640" cy="27367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14800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ый опыт показывает,  что заботиться о своём здоровье люди обычно начинают только после того, как недуг даст о себе зна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25" descr="C:\Documents and Settings\Администратор\Мои документы\Мои рисунки\-IMAGES-\SELECTED\PHOTOS\PEOPLES\PG1_P033.JPG"/>
          <p:cNvPicPr/>
          <p:nvPr/>
        </p:nvPicPr>
        <p:blipFill>
          <a:blip r:embed="rId1"/>
          <a:stretch/>
        </p:blipFill>
        <p:spPr>
          <a:xfrm>
            <a:off x="250920" y="1731960"/>
            <a:ext cx="4752720" cy="338292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403280" y="765000"/>
            <a:ext cx="633744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КОЕ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ОРОВЬЕ?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6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 1940 года считалось, что здоровье – это отсутствие болезне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765000"/>
            <a:ext cx="7416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1940 года считалось, что здоровье – это отсутствие болез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ДОРОВЬЕ – ЭТО СОСТОЯНИЕ ФИЗИЧЕСКОГО, ПСИХИЧЕСКОГО И СОЦИАЛЬНОГО БЛАГОПОЛУЧ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6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12"/>
          <p:cNvPicPr/>
          <p:nvPr/>
        </p:nvPicPr>
        <p:blipFill>
          <a:blip r:embed="rId1"/>
          <a:stretch/>
        </p:blipFill>
        <p:spPr>
          <a:xfrm>
            <a:off x="1476360" y="519120"/>
            <a:ext cx="6191280" cy="581976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8472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УЛА ЗДОРОВЬ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ФАКТОР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br>
              <a:rPr sz="5400"/>
            </a:b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АКТИВНЫЙ </a:t>
            </a:r>
            <a:br>
              <a:rPr sz="2800"/>
            </a:br>
            <a:r>
              <a:rPr b="0" i="1" lang="ru-RU" sz="2800" spc="-1" strike="noStrike">
                <a:solidFill>
                  <a:srgbClr val="ff0066"/>
                </a:solidFill>
                <a:latin typeface="Times New Roman"/>
              </a:rPr>
              <a:t>ОБРАЗ ЖИЗНИ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Forest Gump.mid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C:\Documents and Settings\Администратор\Рабочий стол\ИНФОРМАТИКА\документы\город конкурс\самостоятельные\физкультура , СОЧ\ФизкультураЖиряева Рахиля Рашитовна\Информационные ресурсы\Аэробика\01080003_s.jpg"/>
          <p:cNvPicPr/>
          <p:nvPr/>
        </p:nvPicPr>
        <p:blipFill>
          <a:blip r:embed="rId2"/>
          <a:stretch/>
        </p:blipFill>
        <p:spPr>
          <a:xfrm>
            <a:off x="684360" y="33577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" descr="C:\Documents and Settings\Администратор\Рабочий стол\ИНФОРМАТИКА\документы\город конкурс\самостоятельные\физкультура , СОЧ\ФизкультураЖиряева Рахиля Рашитовна\Информационные ресурсы\для вас!!!\4.jpg"/>
          <p:cNvPicPr/>
          <p:nvPr/>
        </p:nvPicPr>
        <p:blipFill>
          <a:blip r:embed="rId3"/>
          <a:stretch/>
        </p:blipFill>
        <p:spPr>
          <a:xfrm>
            <a:off x="4932360" y="2060640"/>
            <a:ext cx="3049560" cy="41148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ТАШКА</cp:lastModifiedBy>
  <dcterms:modified xsi:type="dcterms:W3CDTF">2012-05-11T09:57:4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610000000000001023620</vt:lpwstr>
  </property>
</Properties>
</file>