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1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7.png" ContentType="image/png"/>
  <Override PartName="/ppt/media/laser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65F-EFDB-4AB3-9F16-401115DA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F82-1606-4BA7-B06D-437D1630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F50-FA93-4993-87C4-C6578AC2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DA9-E1E6-4046-A284-7C65F199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BAC-FD78-484A-8464-45AB50B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74A-7ED7-4FC5-A423-DE57C9C7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74D-126A-4EA5-A04E-8001CD61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4A0-60CD-4CF5-B5D0-ABA244A4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B6A-6D48-4C52-945B-4A53E49C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3D5-7896-464E-8747-0F77204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64D-5EEA-4D73-891C-5EB98BB3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64C-E2DB-482F-AE18-06AEF29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180-FC22-4E2F-B81D-AEA837B307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жгалиева Асия Амангельдеев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казенное обще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. Мирный, Саратовской области, Дергачевского рай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78100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В здоровом теле – здоровый ду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Мероприятие в рамках а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доровый образ жизн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учащихся 5-7 класс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+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-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Й ОБРАЗ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4800" spc="-1" strike="noStrike">
                <a:solidFill>
                  <a:srgbClr val="ff0066"/>
                </a:solidFill>
                <a:latin typeface="Times New Roman"/>
              </a:rPr>
              <a:t> СТРЕСС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Times New Roman"/>
              </a:rPr>
              <a:t>ХОРОШЕЕ НА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15_01"/>
          <p:cNvPicPr/>
          <p:nvPr/>
        </p:nvPicPr>
        <p:blipFill>
          <a:blip r:embed="rId1"/>
          <a:stretch/>
        </p:blipFill>
        <p:spPr>
          <a:xfrm>
            <a:off x="826920" y="671400"/>
            <a:ext cx="7490160" cy="51372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Pitan1"/>
          <p:cNvPicPr/>
          <p:nvPr/>
        </p:nvPicPr>
        <p:blipFill>
          <a:blip r:embed="rId1"/>
          <a:stretch/>
        </p:blipFill>
        <p:spPr>
          <a:xfrm>
            <a:off x="611280" y="476280"/>
            <a:ext cx="8137440" cy="5256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ПИТ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                     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                  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ТАНИЕ  …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Times New Roman"/>
              </a:rPr>
              <a:t>ЧТО ЖДЕТ ТЕХ,</a:t>
            </a:r>
            <a:br>
              <a:rPr sz="4000"/>
            </a:br>
            <a:r>
              <a:rPr b="1" lang="ru-RU" sz="4000" spc="-1" strike="noStrike">
                <a:solidFill>
                  <a:srgbClr val="ff33cc"/>
                </a:solidFill>
                <a:latin typeface="Times New Roman"/>
              </a:rPr>
              <a:t> КТО КУРИТ?</a:t>
            </a:r>
            <a:br>
              <a:rPr sz="4000"/>
            </a:b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Болезни органов дых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Р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рип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Бронх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оспаление лег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ст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уберкул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Рак (губ, гортани, легких и других органов) Болезни органов дых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 табачном дыме содержитс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икотин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ж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м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ксид мышья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глекислый г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ксусная кисло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Формальдеги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роводор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3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3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3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3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3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3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3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557_7"/>
          <p:cNvPicPr/>
          <p:nvPr/>
        </p:nvPicPr>
        <p:blipFill>
          <a:blip r:embed="rId1"/>
          <a:stretch/>
        </p:blipFill>
        <p:spPr>
          <a:xfrm>
            <a:off x="2028960" y="189000"/>
            <a:ext cx="5086080" cy="6480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ЗДОРОВЫЙ ОБРАЗ ЖИЗН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755640" y="2492280"/>
            <a:ext cx="770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 КЛАСС ПРЕДСТАВЛЯЕТ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6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:\Documents and Settings\Администратор\Рабочий стол\ИНФОРМАТИКА\документы\город конкурс\самостоятельные\физкультура , СОЧ\БергерПГ\Информационные ресурсы\Картинки\Курящий.bmp"/>
          <p:cNvPicPr/>
          <p:nvPr/>
        </p:nvPicPr>
        <p:blipFill>
          <a:blip r:embed="rId1"/>
          <a:stretch/>
        </p:blipFill>
        <p:spPr>
          <a:xfrm>
            <a:off x="685800" y="2257560"/>
            <a:ext cx="3809880" cy="356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Наркомания - практически неизлечима"/>
          <p:cNvPicPr/>
          <p:nvPr/>
        </p:nvPicPr>
        <p:blipFill>
          <a:blip r:embed="rId2"/>
          <a:stretch/>
        </p:blipFill>
        <p:spPr>
          <a:xfrm>
            <a:off x="4643280" y="3357720"/>
            <a:ext cx="4289760" cy="20826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Убойная сила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24360" y="3068280"/>
            <a:ext cx="49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2 пачки сигарет содержат смертельную дозу никотина. Курильщика спасает, что эта доза вводится в организм не сразу, а дроб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5" descr="C:\Documents and Settings\Администратор\Рабочий стол\ира\ресурсы\sigar.jpg"/>
          <p:cNvPicPr/>
          <p:nvPr/>
        </p:nvPicPr>
        <p:blipFill>
          <a:blip r:embed="rId2"/>
          <a:stretch/>
        </p:blipFill>
        <p:spPr>
          <a:xfrm>
            <a:off x="250920" y="270828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(ЗАКАЛ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                            КУ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                 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ТАНИЕ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4956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Наркомания - практически неизлечима"/>
          <p:cNvPicPr/>
          <p:nvPr/>
        </p:nvPicPr>
        <p:blipFill>
          <a:blip r:embed="rId1"/>
          <a:stretch/>
        </p:blipFill>
        <p:spPr>
          <a:xfrm>
            <a:off x="4788000" y="3500280"/>
            <a:ext cx="3809880" cy="18511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3995231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931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здоровье - основа долго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ой и полноценной жиз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25" descr="C:\Documents and Settings\Администратор\Мои документы\Мои рисунки\-IMAGES-\SELECTED\PHOTOS\PEOPLES\PG1_P009.JPG"/>
          <p:cNvPicPr/>
          <p:nvPr/>
        </p:nvPicPr>
        <p:blipFill>
          <a:blip r:embed="rId1"/>
          <a:stretch/>
        </p:blipFill>
        <p:spPr>
          <a:xfrm>
            <a:off x="1235160" y="1981080"/>
            <a:ext cx="270972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C:\Documents and Settings\Администратор\Рабочий стол\ИНФОРМАТИКА\документы\город конкурс\самостоятельные\физкультура , СОЧ\ФизкультураЖиряева Рахиля Рашитовна\Информационные ресурсы\Аэробика\02060014_s.jpg"/>
          <p:cNvPicPr/>
          <p:nvPr/>
        </p:nvPicPr>
        <p:blipFill>
          <a:blip r:embed="rId2"/>
          <a:stretch/>
        </p:blipFill>
        <p:spPr>
          <a:xfrm>
            <a:off x="4572000" y="19890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6 класс предупреждает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410544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т во что могут превратиться ваши зубы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C:\Documents and Settings\User\Рабочий стол\Чихадзинская, Кореева\ресурсы\smoking_facebig.jpg"/>
          <p:cNvPicPr/>
          <p:nvPr/>
        </p:nvPicPr>
        <p:blipFill>
          <a:blip r:embed="rId2"/>
          <a:stretch/>
        </p:blipFill>
        <p:spPr>
          <a:xfrm>
            <a:off x="5334120" y="2060640"/>
            <a:ext cx="3809880" cy="3105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5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Без комментариев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еловек рождается на свет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тоб творить, дерзать – и не иначе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тоб оставить в жизни добрый след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 решить все трудные задачи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еловек рождается на свет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ля чего? Ищите свой отв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amsonova-kashkenova-xasanova"/>
          <p:cNvPicPr/>
          <p:nvPr/>
        </p:nvPicPr>
        <p:blipFill>
          <a:blip r:embed="rId1"/>
          <a:stretch/>
        </p:blipFill>
        <p:spPr>
          <a:xfrm>
            <a:off x="2016000" y="189000"/>
            <a:ext cx="5230800" cy="63356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40428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ЗДОРОВОМ ТЕЛ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ДОРОВЫЙ ДУ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1258920" y="333360"/>
            <a:ext cx="6626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600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9462c8c0a6fbe0e59c11352f221df22a"/>
          <p:cNvPicPr/>
          <p:nvPr/>
        </p:nvPicPr>
        <p:blipFill>
          <a:blip r:embed="rId1"/>
          <a:stretch/>
        </p:blipFill>
        <p:spPr>
          <a:xfrm>
            <a:off x="0" y="0"/>
            <a:ext cx="507672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basketball"/>
          <p:cNvPicPr/>
          <p:nvPr/>
        </p:nvPicPr>
        <p:blipFill>
          <a:blip r:embed="rId2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fc0ada9accf2"/>
          <p:cNvPicPr/>
          <p:nvPr/>
        </p:nvPicPr>
        <p:blipFill>
          <a:blip r:embed="rId1"/>
          <a:stretch/>
        </p:blipFill>
        <p:spPr>
          <a:xfrm>
            <a:off x="1332000" y="260280"/>
            <a:ext cx="6330960" cy="63817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ic"/>
          <p:cNvPicPr/>
          <p:nvPr/>
        </p:nvPicPr>
        <p:blipFill>
          <a:blip r:embed="rId1"/>
          <a:stretch/>
        </p:blipFill>
        <p:spPr>
          <a:xfrm>
            <a:off x="2916360" y="1628640"/>
            <a:ext cx="3390840" cy="352908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тернет источни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92120" y="392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49280" y="2060640"/>
            <a:ext cx="6443640" cy="27367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800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опыт показывает,  что заботиться о своём здоровье люди обычно начинают только после того, как недуг даст о себе зна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5" descr="C:\Documents and Settings\Администратор\Мои документы\Мои рисунки\-IMAGES-\SELECTED\PHOTOS\PEOPLES\PG1_P033.JPG"/>
          <p:cNvPicPr/>
          <p:nvPr/>
        </p:nvPicPr>
        <p:blipFill>
          <a:blip r:embed="rId1"/>
          <a:stretch/>
        </p:blipFill>
        <p:spPr>
          <a:xfrm>
            <a:off x="250920" y="1731960"/>
            <a:ext cx="4752720" cy="33829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403280" y="765000"/>
            <a:ext cx="63374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6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 1940 года считалось, что здоровье – это отсутствие болезне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7416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1940 года считалось, что здоровье – это отсутствие болез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ДОРОВЬЕ – ЭТО СОСТОЯНИЕ ФИЗИЧЕСКОГО, ПСИХИЧЕСКОГО И СОЦИАЛЬНОГО БЛАГОПОЛУЧ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12"/>
          <p:cNvPicPr/>
          <p:nvPr/>
        </p:nvPicPr>
        <p:blipFill>
          <a:blip r:embed="rId1"/>
          <a:stretch/>
        </p:blipFill>
        <p:spPr>
          <a:xfrm>
            <a:off x="1476360" y="519120"/>
            <a:ext cx="6191280" cy="58197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472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ФАКТО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br>
              <a:rPr sz="5400"/>
            </a:b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АКТИВНЫЙ </a:t>
            </a:r>
            <a:br>
              <a:rPr sz="2800"/>
            </a:b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ОБРАЗ ЖИЗН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orest Gump.mid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C:\Documents and Settings\Администратор\Рабочий стол\ИНФОРМАТИКА\документы\город конкурс\самостоятельные\физкультура , СОЧ\ФизкультураЖиряева Рахиля Рашитовна\Информационные ресурсы\Аэробика\01080003_s.jpg"/>
          <p:cNvPicPr/>
          <p:nvPr/>
        </p:nvPicPr>
        <p:blipFill>
          <a:blip r:embed="rId2"/>
          <a:stretch/>
        </p:blipFill>
        <p:spPr>
          <a:xfrm>
            <a:off x="68436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C:\Documents and Settings\Администратор\Рабочий стол\ИНФОРМАТИКА\документы\город конкурс\самостоятельные\физкультура , СОЧ\ФизкультураЖиряева Рахиля Рашитовна\Информационные ресурсы\для вас!!!\4.jpg"/>
          <p:cNvPicPr/>
          <p:nvPr/>
        </p:nvPicPr>
        <p:blipFill>
          <a:blip r:embed="rId3"/>
          <a:stretch/>
        </p:blipFill>
        <p:spPr>
          <a:xfrm>
            <a:off x="4932360" y="2060640"/>
            <a:ext cx="304956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ТАШКА</cp:lastModifiedBy>
  <dcterms:modified xsi:type="dcterms:W3CDTF">2012-05-11T09:57:4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0000000000001023620</vt:lpwstr>
  </property>
</Properties>
</file>