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9E4-C055-4E68-A969-667E1718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3D8-7080-4A57-93B1-6A9E7209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74376-4F02-4844-B64E-C9FF9D92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A935D-153B-4A5D-B5B4-4B2899F8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6F376-9CAA-43A7-8C3E-08FAECAE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C2C26-F4B2-4F34-8BA5-1E7AC4C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745E0-D788-4EC0-8881-3FB4BA9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3CB46-0697-4318-A33B-4956CD41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02352-CEBE-4EB3-8F97-DDF91E5F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93242-1793-4952-B833-EAF80DDD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E65BF-C8AF-46AE-A307-8D9A8682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6F1F2-ACA0-4B70-85E4-21E563CA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192-47B1-48DE-A82E-3B7B809B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AFEBC-FE17-4E98-8F50-4C26D83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6EE72-CAC6-4879-A2F0-53E79E25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5C8EB-634D-49DB-B44C-5A41F40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218E2-CE3F-4634-B22C-2EB92C11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8D6C9-8D09-4316-90C8-A1DA65A2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7CAEC-F163-4331-8DC2-26AA45E9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CEB7C-741D-41D7-A338-32CAA20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F8E71-5FD0-483A-A007-C61D3B8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19DC-1831-4DC3-8A56-7D257DE5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8462E-6D7F-4529-B37D-D8CC0378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D5D-263F-494F-A4FE-886A4CCE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B8D8-79A3-457B-84D7-EF3292C2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C5FBC-DFEE-48BD-A407-952C080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C89A8-3411-4DA7-AC2A-D169D75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3BDAE-2F4B-4B73-879A-ECA6581F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209F5-9CC8-41D7-AD22-F5AC4BF6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2AC1F-D899-4EE4-98E5-238FDA0D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C7D5E-6270-44E8-AB7F-71C8BBD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185D-8B27-44CD-BC32-60CCA8E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DD5FE-4012-4A5F-99B0-A6728A2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3F53B-81C6-40ED-A03E-94CB62B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C54A-EC6E-4749-BCDE-ACB5DD85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E7F1-E06A-442D-BDE1-9FB7746C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BF034-79A6-4215-8F45-2053E2DD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D5DC9-40C1-4798-91DF-9BA8ED4A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0B773-D29E-4836-889D-79702DBE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B4F56-3C10-4016-845A-71ECE421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D004C-FD6C-4A5B-8716-F0B5B2DA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C56EF-66EA-4352-B3C2-49E7BDA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07F34-E0EF-48D6-BE49-7BB5C983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2928F-AED6-46D3-B901-D9E7C9FE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8742E-8EC1-4E86-A3C1-24A52C37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9FB4-C044-4E11-BAEF-50594D27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3A44B-5E88-4099-AE41-33C989CF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9EC5-F7D6-4716-B6A6-71152BE3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AFBC7-FEA1-4E18-82AF-49379B77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97B6F-28C4-44A5-951C-70B00996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19E2C-3ACB-49FF-AE04-791E9F0C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FA9C-93A4-496C-9FD3-B81DCA30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CC1-013F-4138-927C-AEE8A418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DE84-BC74-4403-B703-1D2372E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49C1-F857-4BD6-88A1-BCE63C7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7236-F1D1-4285-87A0-98925D1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D34-03BF-4E1B-9B05-C648B0D9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8F8D-F568-41DF-8B44-BCB995C4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070C-99EB-4D11-9C36-5C91F9B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216D-8DCA-481F-AACD-D165A4EE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49D8-3701-40EC-9D08-04394DCE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273-731A-47A8-9FDF-AB613385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091E-B24E-4560-88E9-28605B30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1C9E-9EF2-4D4C-AF31-519B16AF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4A69-006A-49C7-BDE0-CA30C60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549AD-4B99-4798-A22B-8868CE9C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F651-4203-45CC-81E8-B4D630FE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E85-CB47-445E-A4D9-0FBDD431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D02E-329F-4380-9E0F-F132EDA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CC0F-A39A-49F8-8CF6-B9BC7E6E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3578-14B8-4535-B042-1DBEB46A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16FA0-6E7B-44B3-BC91-8DFFA96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EE41-8136-40A5-B262-F68DD81C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1E3C0-2AEF-4F92-A05E-60411616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792CA-9345-4E36-AEFA-0749015A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0FAE-B704-4687-954B-525DFF60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8454-D24B-44D7-95E0-6126D692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F4E5-D223-431C-B039-CF97A14F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EA4E-EAD0-4108-ACC0-7951360F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80C3-4693-403D-9FCA-2A5A9C80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6E5F-FDAE-407E-9CE4-0EA5F30D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779A-E189-4140-AD7B-EA7D8F87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2EB5E-65B7-48D6-9912-C6732AD8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EB0F7-DC4F-468D-8581-B8F300FD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B077-FAD5-4035-9CD5-B7F9DC6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D127-6D0C-48A2-A3F2-4509EB94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1B36-80F9-4EA2-B5F3-FD0946DE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8856-71CB-45B0-B805-6055485D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C938-EA76-4AD5-862E-2AEF027B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546-1DFF-4868-8CB1-E44BE787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408B-5B19-49A8-9D5C-8D6546D3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9E65F-E568-473E-BF16-5E650E3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3AA2-60DC-40D0-B27D-DBB5A1C9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C2FB1-7E2D-45CD-B802-E48C7807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5E8F-C1B9-4BEB-BE7A-9F68AB00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5D0D-A3D0-4BB0-8B64-49CE7F4E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F643A-128D-4039-9C78-B2645DE3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26294-E2F3-4A78-8770-6FE9E4DB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7475-BEAD-4393-AD3A-777327F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05FF9-6DCE-4438-A3FB-FABD4E23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9A1-0010-41E4-817C-30EA20E0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F3C78-BA1A-4719-B13F-D6D2305E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70E5F-52E1-4AF4-B75F-AD00D13D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F1C5-A288-4D3D-A0C5-7BEFB1D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D90C7-A6FB-4A33-AF46-B51C3DEE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1893B-FE4D-4A04-BC31-3FAA02DE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91A8-9D44-4160-BA9A-A28226F7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962A-6D1A-43E5-B669-E4EC7269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219F0-6518-48DC-8874-920AF0F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9E0A-35A7-41F6-9596-55BB9E7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849CE-7E19-4A72-AA5C-E6EF544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8D4-945A-45FB-BE77-E918C900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E0891-A18D-4134-B867-682A3890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111C5-E213-4195-9A12-027237E5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7CBA5-A838-4001-BC35-A233B614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7A932-3D7C-403B-96AD-CA9ECDBC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2446C-585F-40D1-93C4-11558EA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BCABF-1751-4452-824A-DEDA1AA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C31E5-4656-4195-84BF-388BFFA9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3D36-051D-4F04-BD65-65014CB5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A80CA-0F9F-45DC-84E1-5D65F7C4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AFBB-A4C8-4793-9242-1DFF4D8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C98-CF8C-40B4-AEA1-2FA1D814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B8E3-6238-4F0D-9E3D-32E868A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4AE72-C141-4353-BF03-8CFAADAC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F2C9E-1B27-4945-AAF9-FBE149B2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18C8-5F74-40C1-9CC1-F9D8E7E6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482D1-73CA-4933-AC43-3AB4D81B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2C62C-B6F3-48A6-B993-51FFE77B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7388-F184-4C46-9E7C-93F4DE54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62BA-1732-45B4-BEE6-8E1110F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BB750-6E35-4176-B659-AF612CF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B48B-7DE9-4ECD-BBC3-AFB26174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253-1AF5-472E-9C08-94362FD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F7EA3-549D-4AB3-A4E8-B05F1890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91DEF-3DC6-486E-B282-14CC0E46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EB878-51DB-4B96-860A-FD9CE9FE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8ED8-B16D-43EB-BDD1-D8F5018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E8E1E-885E-4E24-8E20-B2F5003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96AA-6D48-499E-A0E2-8349AA96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1A9DA-EE9C-4033-9C01-B910EE1A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50BC8-19BC-4045-AACE-406D0BD3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C92E-4530-4FF8-AE23-D1CD6167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7C293-D7AB-4F78-AB6F-00927617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3119-0BFA-45F3-9642-A09D1DAA6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D70D-79D9-4D29-9EB6-152CC04298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EA4D-0D89-479D-B335-BF5E6B2BFB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10FB-41C6-447F-B255-B5A0C070D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C809-E918-43CD-8026-826F9208D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70A-8E26-48F9-9150-D811C93CC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9741-0370-4FC0-9079-D8382F8CF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44DB-4510-4081-9FE3-5850823A29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3A5F-8D5D-4F59-8DDA-DB7113D0F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448E-7451-4095-AA04-B096AA761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5A69-33B8-48F2-89FF-098628E66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6"/>
          <p:cNvSpPr/>
          <p:nvPr/>
        </p:nvSpPr>
        <p:spPr>
          <a:xfrm>
            <a:off x="357120" y="428760"/>
            <a:ext cx="83581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2" descr="C:\Documents and Settings\Admin\Рабочий стол\новые фоны\ПДД\d29ea7e7ccb3.jpg"/>
          <p:cNvPicPr/>
          <p:nvPr/>
        </p:nvPicPr>
        <p:blipFill>
          <a:blip r:embed="rId3"/>
          <a:stretch/>
        </p:blipFill>
        <p:spPr>
          <a:xfrm>
            <a:off x="142920" y="44290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0748-22DF-496B-9055-367186478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Профилактика детского 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дорожно-транспортного травматиз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гото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менова Елен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ОУ «СОШ№1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.п.Крест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 забывайте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ители должны быть примером для детей в      соблюдении правил дорожного дви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4" descr="C09-33"/>
          <p:cNvPicPr/>
          <p:nvPr/>
        </p:nvPicPr>
        <p:blipFill>
          <a:blip r:embed="rId2"/>
          <a:stretch/>
        </p:blipFill>
        <p:spPr>
          <a:xfrm>
            <a:off x="4643280" y="2565360"/>
            <a:ext cx="2576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чный пример – самая доходчивая форма обу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Сохранить наше будущее, наших детей, обеспечить им здоровье и жизнь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главная наша задач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2" descr="C:\Documents and Settings\Пользователь\Мои документы\HPIM0705.JPG"/>
          <p:cNvPicPr/>
          <p:nvPr/>
        </p:nvPicPr>
        <p:blipFill>
          <a:blip r:embed="rId2"/>
          <a:stretch/>
        </p:blipFill>
        <p:spPr>
          <a:xfrm>
            <a:off x="2556000" y="3645000"/>
            <a:ext cx="35287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ая задача в работе школ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у учащихся устойчивых навыков безопасного поведения на улицах и дорог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5" descr="C09-32"/>
          <p:cNvPicPr/>
          <p:nvPr/>
        </p:nvPicPr>
        <p:blipFill>
          <a:blip r:embed="rId2"/>
          <a:stretch/>
        </p:blipFill>
        <p:spPr>
          <a:xfrm>
            <a:off x="3348000" y="2349360"/>
            <a:ext cx="3078360" cy="3810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год 1 сентября за парты не садится буквально целая школа: это дети, погибшие в автоавариях. К началу учебного года на больничных койках лежит, по скромным подсчетам, численность учеников 15 шко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3816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вгоро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ДТП, в которых погибли 4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83 получили ра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бщем снижении числа аварий (на 12,1 % по сравнению с прошлым годом) количество погибших детей возросло на 33, 3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ьшее количество ДТП более 52% происходит с учащимися в возрасте от 7 до 14 л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ичные навыки безопасного поведения ребенка на улице должны сознательно прививаться семь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39909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чиной дорожно-транспортных происшествий являются и сами дети, которые знают о правилах дорожной безопасности, но не спешат их выполня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50925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ципы обучения основам безопасности движ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истематич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гляд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132000" y="3429000"/>
            <a:ext cx="36673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обенности психофизиологического развития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рел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пособность правильно оценивать обстанов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ыстрое образование условных рефлексов и быстрое их исчезнов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емление подражать взрослы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еоценка своих возможност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ецифичность реакции на приближающийся автомоб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МЯТКА ДЛЯ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аш ребенок должен играть только во дворе под вашим  наблюдением и знать: на дорогу выходить нельзя!                                                                                                        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запугивайте ребенка, а наблюдайте вместе с ним, используя ситуации на дороге, улице, во  дворе, объясняйте, что происходит с транспортом, пешеход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 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вивайте у ребенка зрительную память, внимание. Для этого создавайте игровые ситуации дома. Закрепляйте в рисунках впечатления от увиденн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ускоряйте шаг и не бегите вместе с ребенком на остановку нужного маршрутного транспорта. Объясните ребенку, что это опасно, лучше подождать следующий автобус (троллейбус) и т. 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остановках маршрутного транспорта держите ребенка крепко за руку. Нередки случаи, когда ребенок вырывается и выбегает на проезжую ча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еходите проезжую часть только на пешеходных переход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 обходите маршрутный транспорт спереди или сзад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сли поблизости нет пешеходного перехода, дождитесь, когда транспорт отъедет подальше, и переходите дорогу в том месте, где она хорошо просматривается в обе сторон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 высадке из автобуса, троллейбуса, трамвая, такси выходите первыми. В                                             противном случае ребенок может упасть или выбежать на проезжую часть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0:50:27Z</dcterms:created>
  <dc:creator>user</dc:creator>
  <dc:description/>
  <dc:language>en-US</dc:language>
  <cp:lastModifiedBy>User</cp:lastModifiedBy>
  <dcterms:modified xsi:type="dcterms:W3CDTF">2012-06-05T19:32:38Z</dcterms:modified>
  <cp:revision>5</cp:revision>
  <dc:subject/>
  <dc:title>Слайд 1</dc:title>
</cp:coreProperties>
</file>