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FA2-A782-4A05-AD8E-C95786CC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B02-7EC9-4597-8D53-5466DD55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8743C-17BD-4B82-BEFC-F3C370AC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44351-0FF5-4735-B192-7C5819A9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B9394-7103-4305-A881-ADE2C898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5B1A2-AD72-4C5C-868C-123DE8CD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FF0BD-F9E4-4A3C-9621-F9095EEE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E73F0-DB63-44B6-9C87-D7E550D4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9B875-4B4F-4F61-8038-88618FCF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1F8E7-8616-4EFE-BE72-CE1E4AED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CCB30-6947-41E8-BDCE-E010EB54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376A0-890C-4EE9-842B-E069DDEE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40A-07C2-4037-BBA6-99EF2F62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E08BF-BD6A-474D-BA18-055064E1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1D922-4426-4A4E-8BD8-703596D1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5C88D-FD97-400E-A469-B76F455A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A9F62-6081-4839-8192-46BDFE16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11B7F-BAF9-4F18-9F75-DFFCB541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1F110-EF4B-4C70-BD16-E6A49C54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5C151-A290-4940-B1AA-55C5D371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A700D-14A9-43D1-8B49-1FC013C8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DB725-02DF-44C5-BCB4-98D630A4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A0707-94D5-40FC-B25B-BF34634F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BD6-9EE5-4786-81C1-05614761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3E8A9-4F2D-42CB-9BBE-501F65A6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F47FD-502F-4E19-9512-C9A22EE6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12E3A-A9B9-4FB7-AE17-3CE474A9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1B01D-A6D3-407C-AF7A-B1AF1C88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51121-22ED-4DA7-8DE4-102D14FD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3E817-ADD6-4892-AFB6-5B43DFEB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964F7-D3C2-453E-9025-2D3A06A0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92579-4D36-46CA-BE10-03E3D445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8DAA7-C3DF-4CD3-AC49-E27B1B9B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9279D-6D40-498B-8867-1FE49680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6EF5-59AC-432D-B49C-71848E08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F6968-8721-4568-926A-33095D32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20AD8-3636-471D-95B4-B49506B8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A2D26-E672-42A0-9456-8EFE6CB8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C45F1-EE90-4591-BE41-D369108F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44523-017F-4E3C-B4A2-0D19FB93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0B199-F86E-48DF-BC74-366EB71E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05136-9BC3-4B98-9505-72663635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C006E-F9A3-4AB7-AEE4-D68B4CC1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0CD5A-F9AB-4CF0-BE55-280BB399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6D085-46CE-4851-A086-AC2710A5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037E-80D4-4B5D-9B7D-DAC5226C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9CD58-11E2-4AF5-A876-DF85AEEC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2FDB8-B788-495E-8AA2-E32041A8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80C79-ED30-406B-AA24-561FCBDA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8E7B9-EEF7-4905-B6F6-C3A8B3C2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A4437-1D1D-4AE6-9F2D-0E323F6D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8528-D62F-4119-8E63-E79826C3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461A-DA13-4913-BC89-F13B51E1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A4DE-9F6C-4C18-B2F3-CEB5D9E6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A334-BAC9-47FE-9E2A-5A669122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4545-6EC6-4728-851F-091F0ED4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519-7A5E-4AB3-AC06-A79DA67D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C436-CF34-491B-8E0C-E25AB69D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6653-56B3-419E-B914-29C0444E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CFA2-2868-463F-9510-A5B39E31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CD71-20CE-448C-B26D-257D1FB0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C7CC-E974-458A-BF4C-22570A14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2430-925B-4DCC-BC70-AC73F78D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D9334-D2DB-4022-BC50-C6792FDF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7A371-C73A-4513-A632-48ADBAA9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B517-FDEE-4F42-A783-84E92C32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B12A3-3A46-4E42-B0BB-997EE1F0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1D3-513F-459F-8528-68DF0449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5B376-2BF1-4DBE-AB89-28AF99B6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3413-2EC8-4232-AD47-6B1CE401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0A1CC-2B5F-42A5-8D00-259A39B8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97F52-5F28-4D51-B4EA-6CD4F39E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DA977-4562-4C3B-9699-36DB3EF0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77370-21BD-4812-8F89-0927E1BC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4095A-16D4-4B92-8B9E-4664F688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9B41E-B5D1-4732-85C4-34A1CB5A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E8D3E-B69C-4E61-AA1B-4E681878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7E662-BD5F-403E-8BFA-1CBCE0DD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248-847B-4A51-BA26-55E946E3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3B07B-DC77-4A24-8B7E-940E1D64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0FDD-5526-4C6B-927D-C8460858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C7C2C-3A91-4A4B-91B4-414698D1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1AC53-E894-4643-8EE3-8FC3127E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39AAC-0CD9-422A-8F21-A59743F5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C8A9B-4791-4E0A-A85E-AA1FF4B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6CA1E-AF9D-4FB1-BE55-ECD9BA44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8445D-A475-4222-8F5E-84AF929D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3C6B5-0C3E-49FC-99BC-614CC147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3191E-0956-4A10-BFE3-B9632BE6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078-2111-47ED-990C-2C5C5F52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25166-E089-4754-9C2F-E93E7F39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2630F-DA85-492E-9D29-B6807193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50970-AFCB-4723-8DC8-C2E412CA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33C91-C9F4-473A-B3DE-783AC061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AD1F9-D0E1-4F65-832E-038D5C50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94FEE-111C-4895-BA32-6D0584E1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15BCF-6381-4C7C-AE1F-DF26268F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C0A90-15D1-4927-A44F-BC59D262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FAAE4-1747-41E6-9789-46FE9A73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87707-6C35-4B49-8D5E-42289BC1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916-01F3-40E6-AC00-0499C162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03E0C-F1C2-4FBA-ABA1-008484FE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9AE79-C519-4411-A96A-459B2236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A0BCD-0645-4F34-B70B-3624FC77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8889B-D465-46B2-B781-E11E4DEE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49791-1190-45AB-B3C7-C64F60F3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B5FF2-3445-4E2E-BCBD-51A1EA35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D5292-2478-49D5-89FE-ABDCF9D6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B37FF-9D45-463F-A921-725B7B5A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3613D-826B-440A-BF3D-107BCC88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BBCDD-9A12-4CD9-81DB-5B293BE9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92D-BBE9-4B22-9CAE-320D2002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4BF47-CCD2-4585-921C-56FEE259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3DCD3-B168-44E3-8104-37394642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4A1A8-89E6-4DD0-AEE5-098247F9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22393-37C2-46F2-80C7-300EB8ED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AB6F0-1444-43B4-B7F4-B8D81783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EF8D9-9B7C-40A7-AAC3-EE52FDB3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F27C7-CC8D-445C-B3D3-D37E6382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AE885-BFA9-415A-AD53-A1A17FFD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EDE05-1436-436D-B1CB-323A93B1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966BE-FF7E-4DAE-B1A3-EED6AE39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BD3-FBC9-453D-8DA2-7FDA1908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EFE0F-CDAE-4418-AD2F-EDD92025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2C6BE-2B44-4AE0-AFBF-B317E52F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3B1A8-1FAF-4EFF-8F0C-C2333EEC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740E8-07A6-4479-9778-F0344551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8252A-2BFB-4E45-B353-5370C3BB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12B96-6679-4725-B0E6-FDDB5BC1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48E65-359C-4D3D-A0C6-B72AB36E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C1FB2-0115-4EF3-9DD2-BA75B551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570B4-E1E7-4D2B-B486-6CE54986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E60A0-8E6D-4896-8F40-A2F6453A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282-0DAF-4CEC-8AB9-1B372504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50BCD-E707-4221-85E5-2F3B9BB6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770FD-7E3F-49AD-BB32-E70F45F9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967F2-B1B4-44EE-80D6-11D2A951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74E75-ADFE-44A5-A8A7-F57D7FFF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C232A-CB1E-4BAB-8F26-89726AB3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60187-95A7-4956-A163-68E17459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5ECDC-44CC-47C0-9821-3534A144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19F07-0AD6-45C7-A3BB-1DA4566D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26C58-4213-47A7-94C3-F381D69C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2C466-7394-4737-8CAE-F86A4E04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0E73-59F3-4AA4-AB53-B66CED149D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9E81-97EA-4EF5-8F99-167B4C666F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11C7-58AE-404E-BE0A-DE6499C139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A9DD-1177-4E04-B82B-04C32102F6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F925-5DB6-4F05-A6E5-D8DBB3FEFB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2162-D8EC-41B8-B822-8E5E6DF6B8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63EB-D670-4680-9B4E-C29D0C8250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F0CD-004F-4F06-8147-11DB00D05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2B28-BA93-4A0B-AA94-CEFCE6BE8C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89A8-5E17-4BA6-B078-2D61E6378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8270-C81D-4FEF-9C8E-CEE9BE7A09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6267-1797-48A6-82FB-E3900D7752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Профилактика детского 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дорожно-транспортного травматизм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менова Елен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МОУ «СОШ№1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.п.Крест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забывайте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дители должны быть примером для детей в      соблюдении правил дорожного дви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4" descr="C09-33"/>
          <p:cNvPicPr/>
          <p:nvPr/>
        </p:nvPicPr>
        <p:blipFill>
          <a:blip r:embed="rId2"/>
          <a:stretch/>
        </p:blipFill>
        <p:spPr>
          <a:xfrm>
            <a:off x="4643280" y="2565360"/>
            <a:ext cx="2576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чный пример – самая доходчивая форма об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Сохранить наше будущее, наших детей, обеспечить им здоровье и жизнь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главная наша задач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2" descr="C:\Documents and Settings\Пользователь\Мои документы\HPIM0705.JPG"/>
          <p:cNvPicPr/>
          <p:nvPr/>
        </p:nvPicPr>
        <p:blipFill>
          <a:blip r:embed="rId2"/>
          <a:stretch/>
        </p:blipFill>
        <p:spPr>
          <a:xfrm>
            <a:off x="2556000" y="3645000"/>
            <a:ext cx="35287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новная задача в работе школ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у учащихся устойчивых навыков безопасного поведения на улицах и дорог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5" descr="C09-32"/>
          <p:cNvPicPr/>
          <p:nvPr/>
        </p:nvPicPr>
        <p:blipFill>
          <a:blip r:embed="rId2"/>
          <a:stretch/>
        </p:blipFill>
        <p:spPr>
          <a:xfrm>
            <a:off x="3348000" y="2349360"/>
            <a:ext cx="3078360" cy="381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год 1 сентября за парты не садится буквально целая школа: это дети, погибшие в автоавариях. К началу учебного года на больничных койках лежит, по скромным подсчетам, численность учеников 15 шко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2556000" y="2781360"/>
            <a:ext cx="38163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вгород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ДТП, в которых погибли 4 ребе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83 получили ра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общем снижении числа аварий (на 12,1 % по сравнению с прошлым годом) количество погибших детей возросло на 33, 3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ибольшее количество ДТП более 52% происходит с учащимися в возрасте от 7 до 14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ичные навыки безопасного поведения ребенка на улице должны сознательно прививаться семь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2700360" y="1628640"/>
            <a:ext cx="399096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чиной дорожно-транспортных происшествий являются и сами дети, которые знают о правилах дорожной безопасности, но не спешат их выполня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50925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нципы обучения основам безопасности дви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стематич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ледовате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гляд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3132000" y="3429000"/>
            <a:ext cx="36673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обенности психофизиологического развития дет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зрел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способность правильно оценивать обстанов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ыстрое образование условных рефлексов и быстрое их исчезнов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емление подражать взрослы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оценка своих возмож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ецифичность реакции на приближающийся автомоби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АМЯТКА ДЛЯ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аш ребенок должен играть только во дворе под вашим  наблюдением и знать: на дорогу выходить нельзя!                                                                                                        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 запугивайте ребенка, а наблюдайте вместе с ним, используя ситуации на дороге, улице, во  дворе, объясняйте, что происходит с транспортом, пешеход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 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вайте у ребенка зрительную память, внимание. Для этого создавайте игровые ситуации дома. Закрепляйте в рисунках впечатления от увиденно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 ускоряйте шаг и не бегите вместе с ребенком на остановку нужного маршрутного транспорта. Объясните ребенку, что это опасно, лучше подождать следующий автобус (троллейбус) и т. 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 остановках маршрутного транспорта держите ребенка крепко за руку. Нередки случаи, когда ребенок вырывается и выбегает на проезжую ча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ереходите проезжую часть только на пешеходных переход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 обходите маршрутный транспорт спереди или сзад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сли поблизости нет пешеходного перехода, дождитесь, когда транспорт отъедет подальше, и переходите дорогу в том месте, где она хорошо просматривается в обе сторон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и высадке из автобуса, троллейбуса, трамвая, такси выходите первыми. В                                             противном случае ребенок может упасть или выбежать на проезжую часть дорог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0:50:27Z</dcterms:created>
  <dc:creator>user</dc:creator>
  <dc:description/>
  <dc:language>en-US</dc:language>
  <cp:lastModifiedBy>User</cp:lastModifiedBy>
  <dcterms:modified xsi:type="dcterms:W3CDTF">2012-06-05T19:32:38Z</dcterms:modified>
  <cp:revision>5</cp:revision>
  <dc:subject/>
  <dc:title>Слайд 1</dc:title>
</cp:coreProperties>
</file>