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7.jpeg" ContentType="image/jpeg"/>
  <Override PartName="/ppt/media/image11.png" ContentType="image/png"/>
  <Override PartName="/ppt/media/image1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2EEF-232D-4873-8E62-F75012099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3299-41ED-4233-84B2-CFE882EE4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EE06-9F45-4B89-81E8-DF51FD941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2CFE-C4CB-42CE-804D-2026D75BC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76E20-CD92-4780-AB9A-58C6F6981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CEDD1-680A-492A-B78A-AEEE2E8E4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9C089-968A-4C89-8620-76B1D7685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AA38D-DB5E-48FE-86AF-C3F6B0EDF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9366F-DD5C-454A-8988-97510EA40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580B0-1FD3-4B79-843B-56DB3D278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2EF2B-F453-4EBE-8855-BB92785A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42B1-6B50-48D7-AE52-BDCD6E95F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3C7DF-9DBD-4848-ABEE-0804E4B8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57939-966A-40B3-80A0-77522B3A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A46ED-619E-4C25-8BFC-86B48CB70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F1568-C08B-4E29-8541-063E21B04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5D12B-6AC3-4E8E-8619-6E67347A2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BEAD-4282-4542-8370-F57DA4955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B8DF-ACF2-4B55-B155-6F241A7F9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B9BA-0815-4391-9EE8-06B89EA7D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4923-7274-4C1E-A7E3-8C67F6282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ECDB-FD2E-4C35-A5C7-47D7D36A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CBAB-D40E-4287-8EF6-0880D3BC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CF1A-C921-477A-966B-AE9A798D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EB5C0-3E95-4A85-949B-B71A5B5A2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4D22F-A1B0-4179-9DF6-0CB8D7E1860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400" spc="-1" strike="noStrike">
                <a:solidFill>
                  <a:srgbClr val="ffffb7"/>
                </a:solidFill>
                <a:latin typeface="Georgia"/>
              </a:rPr>
              <a:t>Развитие зрительной </a:t>
            </a:r>
            <a:br>
              <a:rPr sz="4400"/>
            </a:br>
            <a:r>
              <a:rPr b="1" i="1" lang="en-US" sz="4400" spc="-1" strike="noStrike">
                <a:solidFill>
                  <a:srgbClr val="ffffb7"/>
                </a:solidFill>
                <a:latin typeface="Georgia"/>
              </a:rPr>
              <a:t>памяти </a:t>
            </a:r>
            <a:br>
              <a:rPr sz="4400"/>
            </a:br>
            <a:r>
              <a:rPr b="1" i="1" lang="en-US" sz="4400" spc="-1" strike="noStrike">
                <a:solidFill>
                  <a:srgbClr val="ffffb7"/>
                </a:solidFill>
                <a:latin typeface="Georgia"/>
              </a:rPr>
              <a:t>и коррекция её недостатков у дошкольников </a:t>
            </a:r>
            <a:br>
              <a:rPr sz="4400"/>
            </a:br>
            <a:r>
              <a:rPr b="1" i="1" lang="en-US" sz="4400" spc="-1" strike="noStrike">
                <a:solidFill>
                  <a:srgbClr val="ffffb7"/>
                </a:solidFill>
                <a:latin typeface="Georgia"/>
              </a:rPr>
              <a:t>и младших </a:t>
            </a:r>
            <a:br>
              <a:rPr sz="4400"/>
            </a:br>
            <a:r>
              <a:rPr b="1" i="1" lang="en-US" sz="4400" spc="-1" strike="noStrike">
                <a:solidFill>
                  <a:srgbClr val="ffffb7"/>
                </a:solidFill>
                <a:latin typeface="Georgia"/>
              </a:rPr>
              <a:t>школьников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4190760"/>
            <a:ext cx="80074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b7"/>
                </a:solidFill>
                <a:latin typeface="Georgia"/>
              </a:rPr>
              <a:t>«Определи, что неправильно нарисовал художник?»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1" name="Picture 6" descr="P1050482"/>
          <p:cNvPicPr/>
          <p:nvPr/>
        </p:nvPicPr>
        <p:blipFill>
          <a:blip r:embed="rId1"/>
          <a:stretch/>
        </p:blipFill>
        <p:spPr>
          <a:xfrm>
            <a:off x="2362320" y="1905120"/>
            <a:ext cx="4876560" cy="3276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b7"/>
                </a:solidFill>
                <a:latin typeface="Georgia"/>
              </a:rPr>
              <a:t>«На что это похоже?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3" name="Picture 6" descr="P1050491"/>
          <p:cNvPicPr/>
          <p:nvPr/>
        </p:nvPicPr>
        <p:blipFill>
          <a:blip r:embed="rId1"/>
          <a:stretch/>
        </p:blipFill>
        <p:spPr>
          <a:xfrm>
            <a:off x="1828800" y="1905120"/>
            <a:ext cx="5867280" cy="35049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b7"/>
                </a:solidFill>
                <a:latin typeface="Georgia"/>
              </a:rPr>
              <a:t>«Помнишь ли ты?..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5" name="Picture 6" descr="P1050485"/>
          <p:cNvPicPr/>
          <p:nvPr/>
        </p:nvPicPr>
        <p:blipFill>
          <a:blip r:embed="rId1"/>
          <a:stretch/>
        </p:blipFill>
        <p:spPr>
          <a:xfrm>
            <a:off x="2895480" y="1905120"/>
            <a:ext cx="3962520" cy="41907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b7"/>
                </a:solidFill>
                <a:latin typeface="Georgia"/>
              </a:rPr>
              <a:t>Игры – головоломки на воссоздание из геометрических фигур образных изображений. (Танграм)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7" name="Рисунок 6" descr="C:\Documents and Settings\Admin\Рабочий стол\картинки\iCAS82JTE.jpg"/>
          <p:cNvPicPr/>
          <p:nvPr/>
        </p:nvPicPr>
        <p:blipFill>
          <a:blip r:embed="rId1"/>
          <a:stretch/>
        </p:blipFill>
        <p:spPr>
          <a:xfrm>
            <a:off x="914400" y="1828800"/>
            <a:ext cx="2743200" cy="358128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7" descr="C:\Documents and Settings\Admin\Рабочий стол\картинки\tangram_games[1].jpg"/>
          <p:cNvPicPr/>
          <p:nvPr/>
        </p:nvPicPr>
        <p:blipFill>
          <a:blip r:embed="rId2"/>
          <a:stretch/>
        </p:blipFill>
        <p:spPr>
          <a:xfrm>
            <a:off x="5562720" y="1905120"/>
            <a:ext cx="2819160" cy="3429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b7"/>
                </a:solidFill>
                <a:latin typeface="Georgia"/>
              </a:rPr>
              <a:t>«Какие буквы </a:t>
            </a:r>
            <a:br>
              <a:rPr sz="4400"/>
            </a:br>
            <a:r>
              <a:rPr b="1" i="1" lang="en-US" sz="4400" spc="-1" strike="noStrike">
                <a:solidFill>
                  <a:srgbClr val="ffffb7"/>
                </a:solidFill>
                <a:latin typeface="Georgia"/>
              </a:rPr>
              <a:t>изменили своё место?»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133360" y="1905120"/>
            <a:ext cx="5257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   М   О   В     И    Д    А   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  М   В    Р     И    Д    А   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019560" y="1904760"/>
            <a:ext cx="2825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b7"/>
                </a:solidFill>
                <a:latin typeface="Georgia"/>
              </a:rPr>
              <a:t>«Запомни картинки».</a:t>
            </a: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3" name="Рисунок 3" descr="C:\Documents and Settings\Admin\Рабочий стол\картинки\iCAJHFK6D.jpg"/>
          <p:cNvPicPr/>
          <p:nvPr/>
        </p:nvPicPr>
        <p:blipFill>
          <a:blip r:embed="rId1"/>
          <a:stretch/>
        </p:blipFill>
        <p:spPr>
          <a:xfrm>
            <a:off x="762120" y="2057400"/>
            <a:ext cx="1600200" cy="167652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1" descr="J:\картинка1\_gorizont.jpg"/>
          <p:cNvPicPr/>
          <p:nvPr/>
        </p:nvPicPr>
        <p:blipFill>
          <a:blip r:embed="rId2"/>
          <a:stretch/>
        </p:blipFill>
        <p:spPr>
          <a:xfrm>
            <a:off x="2705040" y="2019240"/>
            <a:ext cx="1676520" cy="175284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2" descr="C:\Documents and Settings\Admin\Рабочий стол\картинки\iCA3J1XPI.jpg"/>
          <p:cNvPicPr/>
          <p:nvPr/>
        </p:nvPicPr>
        <p:blipFill>
          <a:blip r:embed="rId3"/>
          <a:stretch/>
        </p:blipFill>
        <p:spPr>
          <a:xfrm>
            <a:off x="4876920" y="2057400"/>
            <a:ext cx="1657080" cy="167652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3" descr="J:\картинка1\i.jpg"/>
          <p:cNvPicPr/>
          <p:nvPr/>
        </p:nvPicPr>
        <p:blipFill>
          <a:blip r:embed="rId4"/>
          <a:stretch/>
        </p:blipFill>
        <p:spPr>
          <a:xfrm>
            <a:off x="7010280" y="2057400"/>
            <a:ext cx="1524240" cy="16765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837720" y="1066680"/>
            <a:ext cx="80074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Нет сомнения в том, что заинтересованность ребенка в школьных занятиях, его активная позиция, высокая познавательная мотивация являются необходимыми условиями развит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зрительной памят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Опыт работы в данном направлении положительно влияет на формирование интереса детей к знаниям в школ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486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fffe00"/>
                </a:solidFill>
                <a:latin typeface="Georgia"/>
              </a:rPr>
              <a:t>Память</a:t>
            </a:r>
            <a:r>
              <a:rPr b="1" i="1" lang="en-US" sz="2800" spc="-1" strike="noStrike">
                <a:solidFill>
                  <a:srgbClr val="fffe00"/>
                </a:solidFill>
                <a:latin typeface="Georgia"/>
              </a:rPr>
              <a:t> </a:t>
            </a:r>
            <a:r>
              <a:rPr b="1" i="1" lang="en-US" sz="2800" spc="-1" strike="noStrike">
                <a:solidFill>
                  <a:srgbClr val="ffffb7"/>
                </a:solidFill>
                <a:latin typeface="Georgia"/>
              </a:rPr>
              <a:t>— это процессы организации и </a:t>
            </a:r>
            <a:br>
              <a:rPr sz="2800"/>
            </a:br>
            <a:r>
              <a:rPr b="1" i="1" lang="en-US" sz="2800" spc="-1" strike="noStrike">
                <a:solidFill>
                  <a:srgbClr val="ffffb7"/>
                </a:solidFill>
                <a:latin typeface="Georgia"/>
              </a:rPr>
              <a:t>сохранения прошлого опыта, </a:t>
            </a:r>
            <a:br>
              <a:rPr sz="2800"/>
            </a:br>
            <a:r>
              <a:rPr b="1" i="1" lang="en-US" sz="2800" spc="-1" strike="noStrike">
                <a:solidFill>
                  <a:srgbClr val="ffffb7"/>
                </a:solidFill>
                <a:latin typeface="Georgia"/>
              </a:rPr>
              <a:t>делающие возможным его повторное использование в деятельности или возвращение в сферу сознания.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Память</a:t>
            </a:r>
            <a:r>
              <a:rPr b="1" i="1" lang="en-US" sz="2800" spc="-1" strike="noStrike">
                <a:solidFill>
                  <a:srgbClr val="ffffb7"/>
                </a:solidFill>
                <a:latin typeface="Georgia"/>
              </a:rPr>
              <a:t> связывает прошлое субъекта с его настоящим и будущим </a:t>
            </a:r>
            <a:br>
              <a:rPr sz="2800"/>
            </a:br>
            <a:r>
              <a:rPr b="1" i="1" lang="en-US" sz="2800" spc="-1" strike="noStrike">
                <a:solidFill>
                  <a:srgbClr val="ffffb7"/>
                </a:solidFill>
                <a:latin typeface="Georgia"/>
              </a:rPr>
              <a:t>и является </a:t>
            </a:r>
            <a:br>
              <a:rPr sz="2800"/>
            </a:br>
            <a:r>
              <a:rPr b="1" i="1" lang="en-US" sz="2800" spc="-1" strike="noStrike" u="sng">
                <a:solidFill>
                  <a:srgbClr val="ffffb7"/>
                </a:solidFill>
                <a:uFillTx/>
                <a:latin typeface="Georgia"/>
              </a:rPr>
              <a:t>важнейшей познавательной функцией, лежащей в основе развития и обучения.</a:t>
            </a: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pSp>
        <p:nvGrpSpPr>
          <p:cNvPr id="102" name="Organization Chart 27"/>
          <p:cNvGrpSpPr/>
          <p:nvPr/>
        </p:nvGrpSpPr>
        <p:grpSpPr>
          <a:xfrm>
            <a:off x="841320" y="533520"/>
            <a:ext cx="8000280" cy="5941800"/>
            <a:chOff x="841320" y="533520"/>
            <a:chExt cx="8000280" cy="5941800"/>
          </a:xfrm>
        </p:grpSpPr>
        <p:cxnSp>
          <p:nvCxnSpPr>
            <p:cNvPr id="103" name="_s1028"/>
            <p:cNvCxnSpPr>
              <a:stCxn id="104" idx="0"/>
              <a:endCxn id="105" idx="2"/>
            </p:cNvCxnSpPr>
            <p:nvPr/>
          </p:nvCxnSpPr>
          <p:spPr>
            <a:xfrm flipV="1" rot="16200000">
              <a:off x="5646960" y="2103480"/>
              <a:ext cx="1189080" cy="2800800"/>
            </a:xfrm>
            <a:prstGeom prst="bentConnector3">
              <a:avLst>
                <a:gd name="adj1" fmla="val 1362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6" name="_s1029"/>
            <p:cNvCxnSpPr>
              <a:stCxn id="107" idx="0"/>
              <a:endCxn id="105" idx="2"/>
            </p:cNvCxnSpPr>
            <p:nvPr/>
          </p:nvCxnSpPr>
          <p:spPr>
            <a:xfrm flipV="1">
              <a:off x="4841640" y="2909520"/>
              <a:ext cx="3600" cy="11890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8" name="_s1030"/>
            <p:cNvCxnSpPr>
              <a:stCxn id="109" idx="0"/>
              <a:endCxn id="105" idx="2"/>
            </p:cNvCxnSpPr>
            <p:nvPr/>
          </p:nvCxnSpPr>
          <p:spPr>
            <a:xfrm flipH="1" flipV="1" rot="5400000">
              <a:off x="2846880" y="2103840"/>
              <a:ext cx="1189080" cy="2800800"/>
            </a:xfrm>
            <a:prstGeom prst="bentConnector3">
              <a:avLst>
                <a:gd name="adj1" fmla="val 13628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5" name="_s1031"/>
            <p:cNvSpPr/>
            <p:nvPr/>
          </p:nvSpPr>
          <p:spPr>
            <a:xfrm>
              <a:off x="3641400" y="533520"/>
              <a:ext cx="2400120" cy="237672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Bodoni MT Black"/>
                </a:rPr>
                <a:t>Недостаточная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Bodoni MT Black"/>
                </a:rPr>
                <a:t>сформированность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Bodoni MT Black"/>
                </a:rPr>
                <a:t>зрительной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Bodoni MT Black"/>
                </a:rPr>
                <a:t>памяти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Bodoni MT Black"/>
                </a:rPr>
                <a:t>отрицательно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Bodoni MT Black"/>
                </a:rPr>
                <a:t>влияет на: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_s1032"/>
            <p:cNvSpPr/>
            <p:nvPr/>
          </p:nvSpPr>
          <p:spPr>
            <a:xfrm>
              <a:off x="841320" y="4098600"/>
              <a:ext cx="2400120" cy="237672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Формирование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зрительного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образа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буквы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033"/>
            <p:cNvSpPr/>
            <p:nvPr/>
          </p:nvSpPr>
          <p:spPr>
            <a:xfrm>
              <a:off x="3641400" y="4098600"/>
              <a:ext cx="2400120" cy="237672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Пространственное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расположение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элементов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букв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_s1034"/>
            <p:cNvSpPr/>
            <p:nvPr/>
          </p:nvSpPr>
          <p:spPr>
            <a:xfrm>
              <a:off x="6441480" y="4098600"/>
              <a:ext cx="2400120" cy="237672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Формирование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правильной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траектории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движений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при выполнении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графического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элемента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685800"/>
            <a:ext cx="8007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Запоминание 2-6 изображений предметов, цифр, букв, слов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Узнавание их среди большего числа аналогичных изображений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Формирования процесса узнавания</a:t>
            </a:r>
            <a:r>
              <a:rPr b="0" lang="en-US" sz="36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pSp>
        <p:nvGrpSpPr>
          <p:cNvPr id="113" name="Diagram 6"/>
          <p:cNvGrpSpPr/>
          <p:nvPr/>
        </p:nvGrpSpPr>
        <p:grpSpPr>
          <a:xfrm>
            <a:off x="2107800" y="977040"/>
            <a:ext cx="4629240" cy="4750560"/>
            <a:chOff x="2107800" y="977040"/>
            <a:chExt cx="4629240" cy="4750560"/>
          </a:xfrm>
        </p:grpSpPr>
        <p:sp>
          <p:nvSpPr>
            <p:cNvPr id="114" name="_s2052"/>
            <p:cNvSpPr/>
            <p:nvPr/>
          </p:nvSpPr>
          <p:spPr>
            <a:xfrm flipV="1">
              <a:off x="3959640" y="976680"/>
              <a:ext cx="925920" cy="949320"/>
            </a:xfrm>
            <a:custGeom>
              <a:avLst/>
              <a:gdLst>
                <a:gd name="textAreaLeft" fmla="*/ 332280 w 925920"/>
                <a:gd name="textAreaRight" fmla="*/ 593640 w 925920"/>
                <a:gd name="textAreaTop" fmla="*/ 340560 h 949320"/>
                <a:gd name="textAreaBottom" fmla="*/ 608760 h 94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99cc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ffffff"/>
                  </a:solidFill>
                  <a:latin typeface="Georgia"/>
                </a:rPr>
                <a:t>Схематические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ffffff"/>
                  </a:solidFill>
                  <a:latin typeface="Georgia"/>
                </a:rPr>
                <a:t>изображения,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ffffff"/>
                  </a:solidFill>
                  <a:latin typeface="Times New Roman"/>
                </a:rPr>
                <a:t>чертежи.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_s2053"/>
            <p:cNvSpPr/>
            <p:nvPr/>
          </p:nvSpPr>
          <p:spPr>
            <a:xfrm flipV="1">
              <a:off x="3496680" y="1927080"/>
              <a:ext cx="1851840" cy="951840"/>
            </a:xfrm>
            <a:custGeom>
              <a:avLst/>
              <a:gdLst>
                <a:gd name="textAreaLeft" fmla="*/ 407160 w 1851840"/>
                <a:gd name="textAreaRight" fmla="*/ 1444680 w 1851840"/>
                <a:gd name="textAreaTop" fmla="*/ 209160 h 951840"/>
                <a:gd name="textAreaBottom" fmla="*/ 742680 h 951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cc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ffffff"/>
                  </a:solidFill>
                  <a:latin typeface="Georgia"/>
                </a:rPr>
                <a:t>Цветные и чёрно-белые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ffffff"/>
                  </a:solidFill>
                  <a:latin typeface="Georgia"/>
                </a:rPr>
                <a:t>предметные и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ffffff"/>
                  </a:solidFill>
                  <a:latin typeface="Georgia"/>
                </a:rPr>
                <a:t>сюжетные картинки.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2054"/>
            <p:cNvSpPr/>
            <p:nvPr/>
          </p:nvSpPr>
          <p:spPr>
            <a:xfrm flipV="1">
              <a:off x="3033720" y="2877840"/>
              <a:ext cx="2777760" cy="949320"/>
            </a:xfrm>
            <a:custGeom>
              <a:avLst/>
              <a:gdLst>
                <a:gd name="textAreaLeft" fmla="*/ 482040 w 2777760"/>
                <a:gd name="textAreaRight" fmla="*/ 2295720 w 2777760"/>
                <a:gd name="textAreaTop" fmla="*/ 164520 h 949320"/>
                <a:gd name="textAreaBottom" fmla="*/ 784800 h 94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99cc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ffffff"/>
                  </a:solidFill>
                  <a:latin typeface="Georgia"/>
                </a:rPr>
                <a:t>Игры, упражнения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ffffff"/>
                  </a:solidFill>
                  <a:latin typeface="Georgia"/>
                </a:rPr>
                <a:t>с использованием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ffffff"/>
                  </a:solidFill>
                  <a:latin typeface="Georgia"/>
                </a:rPr>
                <a:t>реальных предметов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_s2055"/>
            <p:cNvSpPr/>
            <p:nvPr/>
          </p:nvSpPr>
          <p:spPr>
            <a:xfrm flipV="1">
              <a:off x="2570760" y="3827520"/>
              <a:ext cx="3703320" cy="949320"/>
            </a:xfrm>
            <a:custGeom>
              <a:avLst/>
              <a:gdLst>
                <a:gd name="textAreaLeft" fmla="*/ 556920 w 3703320"/>
                <a:gd name="textAreaRight" fmla="*/ 3146400 w 3703320"/>
                <a:gd name="textAreaTop" fmla="*/ 142560 h 949320"/>
                <a:gd name="textAreaBottom" fmla="*/ 806760 h 94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99cc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ff00"/>
                  </a:solidFill>
                  <a:latin typeface="Arial"/>
                </a:rPr>
                <a:t>Техника зрительного запоминания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_s2056"/>
            <p:cNvSpPr/>
            <p:nvPr/>
          </p:nvSpPr>
          <p:spPr>
            <a:xfrm flipV="1">
              <a:off x="2107800" y="4777920"/>
              <a:ext cx="4629240" cy="949680"/>
            </a:xfrm>
            <a:custGeom>
              <a:avLst/>
              <a:gdLst>
                <a:gd name="textAreaLeft" fmla="*/ 632160 w 4629240"/>
                <a:gd name="textAreaRight" fmla="*/ 3997080 w 4629240"/>
                <a:gd name="textAreaTop" fmla="*/ 129600 h 949680"/>
                <a:gd name="textAreaBottom" fmla="*/ 820080 h 94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99cc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37720" y="456840"/>
            <a:ext cx="8007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В целях совершенствова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зрительной памят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мы используе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в работе с детьм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дошкольного возраст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следующ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вид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коррекционно-развивающи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заданий и упражнений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b7"/>
                </a:solidFill>
                <a:latin typeface="Georgia"/>
              </a:rPr>
              <a:t>«Запоминание визуально представленного ряда, </a:t>
            </a:r>
            <a:br>
              <a:rPr sz="2800"/>
            </a:br>
            <a:r>
              <a:rPr b="1" i="1" lang="en-US" sz="2800" spc="-1" strike="noStrike">
                <a:solidFill>
                  <a:srgbClr val="ffffb7"/>
                </a:solidFill>
                <a:latin typeface="Georgia"/>
              </a:rPr>
              <a:t>восстановление деформированного                         ряда предметов».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2" name="Picture 7" descr="P1050489"/>
          <p:cNvPicPr/>
          <p:nvPr/>
        </p:nvPicPr>
        <p:blipFill>
          <a:blip r:embed="rId1"/>
          <a:stretch/>
        </p:blipFill>
        <p:spPr>
          <a:xfrm>
            <a:off x="1981080" y="2819520"/>
            <a:ext cx="4876920" cy="3276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51745259"/>
          <p:cNvPicPr/>
          <p:nvPr/>
        </p:nvPicPr>
        <p:blipFill>
          <a:blip r:embed="rId1"/>
          <a:stretch/>
        </p:blipFill>
        <p:spPr>
          <a:xfrm>
            <a:off x="7848720" y="914400"/>
            <a:ext cx="1295280" cy="8953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b7"/>
                </a:solidFill>
                <a:latin typeface="Georgia"/>
              </a:rPr>
              <a:t>«Узнавание силуэтных изображений предмета»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Содержимое 3" descr="http://i.u-mama.ru/files/i/img/news/00001_622.jpg"/>
          <p:cNvPicPr/>
          <p:nvPr/>
        </p:nvPicPr>
        <p:blipFill>
          <a:blip r:embed="rId2"/>
          <a:stretch/>
        </p:blipFill>
        <p:spPr>
          <a:xfrm>
            <a:off x="2590920" y="1752480"/>
            <a:ext cx="4876560" cy="32004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b7"/>
                </a:solidFill>
                <a:latin typeface="Georgia"/>
              </a:rPr>
              <a:t>«Нахождение  знакомых геометрических фигур»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9" name="Picture 4" descr="P1050480"/>
          <p:cNvPicPr/>
          <p:nvPr/>
        </p:nvPicPr>
        <p:blipFill>
          <a:blip r:embed="rId1"/>
          <a:stretch/>
        </p:blipFill>
        <p:spPr>
          <a:xfrm>
            <a:off x="3581280" y="1905120"/>
            <a:ext cx="3733920" cy="28954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8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я</cp:lastModifiedBy>
  <dcterms:modified xsi:type="dcterms:W3CDTF">2012-06-05T17:49:32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