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55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48.jpeg" ContentType="image/jpeg"/>
  <Override PartName="/ppt/media/image53.png" ContentType="image/png"/>
  <Override PartName="/ppt/media/image56.png" ContentType="image/pn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2FD2-AB15-4867-AB41-781BE284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1DA-9B4C-4980-8B3A-4FA1BBB7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A64-1E18-4BB7-9CD8-92C7907F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8E3-9DCE-4C72-B35B-07E89927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16A7-DE11-4CEA-91C9-6701222F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BCEE-45C6-4252-A482-44AE5751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E6F1-C063-40CF-99EE-B75813BE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7762-D4F4-4460-8924-F368136F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318B-D047-4C1E-A536-3BC2FDF3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5405-D066-45D4-B603-C5223971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18D3-F379-4D0D-96B8-CE434C85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009-A0D2-48B2-92B5-2C3FF27C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A0BF-0EA3-4632-8967-5D7A887B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06CF-0D97-4344-823C-442D726B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BE26-6A4D-4CD8-ACBA-E8FC0FF6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2BF6-8A9B-4CF1-89AE-819786F8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6D8F-0752-4FBE-AEFB-8CDE7C91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2A0-CF8E-430E-A257-815FCAB0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986-8D7C-4570-9BB9-AE35A491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EC3-ECC6-4C18-9906-7051F109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6C0-AF08-46DA-89C7-849C6859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DCD-7173-46FF-BC1B-57F8D3E6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B56-EB88-42EF-98D4-5D2710F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B55-D45F-4FE5-B1CC-5CB788B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CBE1-E018-40A0-A04A-E9160D6EA4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A200-29EB-4960-811F-CBD708A99F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26920" y="836640"/>
            <a:ext cx="770580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alatino Linotype"/>
              </a:rPr>
              <a:t>Толерантность.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alatino Linotype"/>
              <a:ea typeface="Palatino Linotyp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47640" y="2565360"/>
            <a:ext cx="626436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dern No. 20"/>
              </a:rPr>
              <a:t>Что это такое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dern No. 20"/>
              <a:ea typeface="Modern No. 20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680000" cy="3519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588000" y="260280"/>
            <a:ext cx="2370240" cy="3672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3586320" cy="2692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3348000" y="476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4067280" y="2060640"/>
            <a:ext cx="2806560" cy="4400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179280" y="1628640"/>
            <a:ext cx="4165560" cy="31244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290000" cy="46656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885080" cy="60357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476360" y="419040"/>
            <a:ext cx="6626160" cy="64389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43280" y="2637000"/>
            <a:ext cx="32414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03640" y="2924280"/>
            <a:ext cx="2724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erlin Sans FB"/>
              </a:rPr>
              <a:t>Толерант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erlin Sans FB"/>
              <a:ea typeface="Berlin Sans FB"/>
            </a:endParaRPr>
          </a:p>
        </p:txBody>
      </p:sp>
      <p:sp>
        <p:nvSpPr>
          <p:cNvPr id="269" name=""/>
          <p:cNvSpPr/>
          <p:nvPr/>
        </p:nvSpPr>
        <p:spPr>
          <a:xfrm>
            <a:off x="4500720" y="1125360"/>
            <a:ext cx="0" cy="14400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3860640"/>
            <a:ext cx="0" cy="13687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27640" y="321300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156360" y="1341360"/>
            <a:ext cx="1079640" cy="1727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429000"/>
            <a:ext cx="1008000" cy="136836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0920" y="3141720"/>
            <a:ext cx="64944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331640" y="1267920"/>
            <a:ext cx="1439640" cy="17290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834920" y="3357720"/>
            <a:ext cx="936360" cy="15112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80000" y="54936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35280" y="530064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7280" y="404640"/>
            <a:ext cx="20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важение пр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руг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91400" y="2852640"/>
            <a:ext cx="23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трудничеств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ух партнё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00720" y="4797360"/>
            <a:ext cx="251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ва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стоин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3120" y="2847960"/>
            <a:ext cx="18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3320" y="4941720"/>
            <a:ext cx="27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нятие друг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им, какой он е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4960" y="189000"/>
            <a:ext cx="30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ерпимость к чу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нениям, верования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вед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187280" y="189000"/>
            <a:ext cx="640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 Schoolbook"/>
              </a:rPr>
              <a:t>Толерант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286" name=""/>
          <p:cNvSpPr/>
          <p:nvPr/>
        </p:nvSpPr>
        <p:spPr>
          <a:xfrm>
            <a:off x="220680" y="1125360"/>
            <a:ext cx="8043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cc33"/>
                </a:solidFill>
                <a:uFillTx/>
                <a:latin typeface="Arial"/>
              </a:rPr>
              <a:t>Испанский язык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способность признавать отличные от сво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бственных идеи или мн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cc33"/>
                </a:solidFill>
                <a:uFillTx/>
                <a:latin typeface="Arial"/>
              </a:rPr>
              <a:t>Французский язык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отношение, при котором допускается, ч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огут думать или поступать иначе, нежели 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4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80"/>
                            </p:stCondLst>
                            <p:childTnLst>
                              <p:par>
                                <p:cTn id="4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cc33"/>
                </a:solidFill>
                <a:uFillTx/>
                <a:latin typeface="Arial"/>
              </a:rPr>
              <a:t>Английский язык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готовность быть терпимым, снисходитель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cc33"/>
                </a:solidFill>
                <a:uFillTx/>
                <a:latin typeface="Arial"/>
              </a:rPr>
              <a:t>Китайский язык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позволять, принимать, быть по отношению к  другим великодуш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cc33"/>
                </a:solidFill>
                <a:uFillTx/>
                <a:latin typeface="Arial"/>
              </a:rPr>
              <a:t>Арабский язык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прощение, снисходительность, мягкость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осердие, благосклонность, терпение, расположенностьк друг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cc33"/>
                </a:solidFill>
                <a:uFillTx/>
                <a:latin typeface="Arial"/>
              </a:rPr>
              <a:t>Русский язык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способность терпеть что-то или кого-то (быть выдержанным, выносливым, уметь мириться с существованием кого-либо, чего-либо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050920" y="260280"/>
            <a:ext cx="47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чност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83440" y="949320"/>
            <a:ext cx="24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Толера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988880" y="94932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нтолеран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1125360"/>
            <a:ext cx="0" cy="460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000" y="2157480"/>
            <a:ext cx="44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Уважение мнения друг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Доброжела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Желание что-либо дела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вмес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Понимание и приня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Чутк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любозна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Снисх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ff"/>
                </a:solidFill>
                <a:latin typeface="Arial"/>
              </a:rPr>
              <a:t>Доверие, гума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30520" y="2133720"/>
            <a:ext cx="4577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поним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гнор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го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терп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ражение пренебре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драж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внодуш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и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мотивированная аг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81160" y="290520"/>
            <a:ext cx="7386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lonna MT"/>
              </a:rPr>
              <a:t>Интолерантный путь</a:t>
            </a:r>
            <a:r>
              <a:rPr b="1" lang="ru-RU" sz="3200" spc="-1" strike="noStrike">
                <a:solidFill>
                  <a:srgbClr val="ffffff"/>
                </a:solidFill>
                <a:latin typeface="Colonna MT"/>
              </a:rPr>
              <a:t> – представление человека о сво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lonna MT"/>
              </a:rPr>
              <a:t>исключительности низкий уровень воспитанности, чув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lonna MT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lonna MT"/>
              </a:rPr>
              <a:t>дискомфорта, существования в окружающей его действительности, желание власти, неприятие противополож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lonna MT"/>
              </a:rPr>
              <a:t>ных взглядов, традиций, обычае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8200" y="300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24000" y="476280"/>
            <a:ext cx="81151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«Теперь, когда мы научились лет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по воздуху, как птицы, плавать п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водой, как рыбы, нам не хвата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              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только одног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научиться жить на земл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                 </a:t>
            </a: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как люди»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   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Century Schoolbook"/>
              </a:rPr>
              <a:t>Б. Ш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252072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4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44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2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8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96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36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76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Толерант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путь человека, хорошо знающего себ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фортно чувствующего себя в окружающей сред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имающегодругих людей, и готового всегда прийти на помощь, человека с доброжелательным отношением 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ым культурам, взглядам, тради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13906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2195640" y="0"/>
            <a:ext cx="2232000" cy="1371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2160360" cy="1327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6732720" y="0"/>
            <a:ext cx="2200320" cy="13906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395280" y="206064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fornian FB"/>
              </a:rPr>
              <a:t>Любов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700360" y="3573360"/>
            <a:ext cx="4319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fornian FB"/>
              </a:rPr>
              <a:t>Прощ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924360" y="5229360"/>
            <a:ext cx="4464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alifornian FB"/>
              </a:rPr>
              <a:t>Терпе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alifornian FB"/>
              <a:ea typeface="Californian FB"/>
            </a:endParaRPr>
          </a:p>
        </p:txBody>
      </p:sp>
    </p:spTree>
  </p:cSld>
  <p:transition spd="med">
    <p:wheel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59120" y="95400"/>
            <a:ext cx="708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Международные соглаш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в которых раскрываю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основные понятия и принципы толерант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2920" y="1514520"/>
            <a:ext cx="912096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кларация принципов толерантности ЮНЕСК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еобщая декларация прав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ждународный пакт о гражданских и политическ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ав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 Международная конвенция о ликвидации всех фор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овой дискримин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нвенция о предупреждении преступления геноцида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казании за не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нвенция о правах ребё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кларация о ликвидации всех форм нетерпимости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искриминации на основе религиозных уб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екларация о правах лиц, принадлежащих к националь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ли этническим, религиозным или языковым меньшинств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11280" y="189000"/>
            <a:ext cx="78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Engravers MT"/>
              </a:rPr>
              <a:t>Все люди на планете Земля разн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2736720" cy="182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036520" cy="3041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2268360" y="299736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700360" y="836640"/>
            <a:ext cx="3035160" cy="2276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rcRect l="0" t="0" r="0" b="13119"/>
          <a:stretch/>
        </p:blipFill>
        <p:spPr>
          <a:xfrm>
            <a:off x="5508720" y="3860640"/>
            <a:ext cx="3381120" cy="2003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5796000" y="2205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250920" y="4221000"/>
            <a:ext cx="2031840" cy="1524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3203640" y="486900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332000" y="765000"/>
            <a:ext cx="6337080" cy="48261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2808360" cy="396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4032000" cy="255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27640" y="4149720"/>
            <a:ext cx="4319640" cy="244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5940360" y="189000"/>
            <a:ext cx="3054240" cy="3894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3419640" y="115920"/>
            <a:ext cx="2095200" cy="157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3492360" y="2205000"/>
            <a:ext cx="2089440" cy="1525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627280" y="1125360"/>
            <a:ext cx="1671840" cy="1981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3059280" y="4221000"/>
            <a:ext cx="1954080" cy="198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5003640" y="476280"/>
            <a:ext cx="3627720" cy="2417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4500720" y="1413000"/>
            <a:ext cx="1390320" cy="1944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5219640" y="4292640"/>
            <a:ext cx="3382920" cy="2087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6948360" y="3141720"/>
            <a:ext cx="1836720" cy="18716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319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3443400" cy="258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148360" y="333360"/>
            <a:ext cx="3154320" cy="2365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435640" y="1773360"/>
            <a:ext cx="3433680" cy="25747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4643280" y="3568680"/>
            <a:ext cx="3953160" cy="2654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1763640" y="3645000"/>
            <a:ext cx="3878280" cy="29080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53080" cy="3560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427640" y="692280"/>
            <a:ext cx="4575240" cy="2990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3679920" cy="2719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3152880" cy="28368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68360" cy="2376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479760" cy="2359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203640" y="907920"/>
            <a:ext cx="3076560" cy="2051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5867280" y="1773360"/>
            <a:ext cx="2916360" cy="2916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5292720" y="4149720"/>
            <a:ext cx="3681360" cy="2454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611280" y="436572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468360" y="2997360"/>
            <a:ext cx="3144960" cy="2358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2916360" y="2492280"/>
            <a:ext cx="3367080" cy="2716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3780000" y="4292640"/>
            <a:ext cx="2881080" cy="2374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10:22Z</dcterms:created>
  <dc:creator>ЛЕША</dc:creator>
  <dc:description/>
  <dc:language>en-US</dc:language>
  <cp:lastModifiedBy>1</cp:lastModifiedBy>
  <dcterms:modified xsi:type="dcterms:W3CDTF">2012-06-05T11:58:41Z</dcterms:modified>
  <cp:revision>8</cp:revision>
  <dc:subject/>
  <dc:title>Слайд 1</dc:title>
</cp:coreProperties>
</file>