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4F0-5029-4621-AACA-3B41B16B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49B-6FCB-4AD7-A4F0-0DEABF8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6B3-6ECF-4638-BA82-7182CD4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520-B7F3-4D07-9CCA-9493372C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BD84-4C14-447E-A8EA-220FE45B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345-800E-4846-AE54-7ED8A07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79E9-CAF8-468D-96F2-3B38B2E7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D7E-7399-4F2A-BB4E-D89923C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2E3D-CFBD-42B1-9656-2C41E21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C2D3-3106-4FF5-A45E-BC2B4877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820-E3D6-4383-B9A0-34E47F9A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102-1A63-417E-A3C6-88ECD84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38E-7F4A-4E21-B311-A33128D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55A8-9CDE-4609-92B8-D09B59D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B85E-A069-4817-9850-DC06E3A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05E6-4DFB-4D16-B714-53FB7059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CE4-F3AA-46AC-AC3A-B2B0C3ED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D9C-3FCD-48DC-B6F7-0D2D3951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295-2493-41E5-9B42-22E0A1BC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D3A-1DBB-4B5F-AE94-213859F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26A-75E4-4658-AD4F-7EE17B3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880-5DF6-472B-99CC-C4D6FD9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012-04BC-4EF6-B835-DEFD0D6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1AF-3CC7-43E2-843F-65A6AEA2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337-B93A-431A-BBBB-143E39170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016F-5EF5-4123-9149-D6B8944FD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920" y="836640"/>
            <a:ext cx="7705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Толерант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47640" y="2565360"/>
            <a:ext cx="62643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dern No. 20"/>
              </a:rPr>
              <a:t>Что это тако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dern No. 20"/>
              <a:ea typeface="Modern No. 20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80000" cy="3519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370240" cy="3672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3586320" cy="2692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3348000" y="476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2806560" cy="4400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179280" y="162864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290000" cy="4665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5080" cy="6035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76360" y="419040"/>
            <a:ext cx="6626160" cy="6438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Толерант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86" name=""/>
          <p:cNvSpPr/>
          <p:nvPr/>
        </p:nvSpPr>
        <p:spPr>
          <a:xfrm>
            <a:off x="220680" y="1125360"/>
            <a:ext cx="804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Испан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способность признавать отличные от сво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бственных идеи или мн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Француз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тношение, при котором допускается,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гут думать или поступать иначе, нежели 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4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"/>
              </a:rPr>
              <a:t>Англий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готовность быть терпимым, снисходитель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"/>
              </a:rPr>
              <a:t>Китай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позволять, принимать, быть по отношению к  другим великодуш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cc33"/>
                </a:solidFill>
                <a:uFillTx/>
                <a:latin typeface="Arial"/>
              </a:rPr>
              <a:t>Арабский язык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рощение, снисходительность, мягк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осердие, благосклонность, терпение, расположенностьк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cc33"/>
                </a:solidFill>
                <a:uFillTx/>
                <a:latin typeface="Arial"/>
              </a:rPr>
              <a:t>Русский язык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пособность терпеть что-то или кого-то (быть выдержанным, выносливым, уметь мириться с существованием кого-либо, чего-либ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000" y="2157480"/>
            <a:ext cx="44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Чутк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любозн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81160" y="290520"/>
            <a:ext cx="7386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исключительности низкий уровень воспитанности, 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дискомфорта, существования в окружающей его действительности, желание власти, неприятие противополож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ных взглядов, традиций, обы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8200" y="300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</a:t>
            </a: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52072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4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44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8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9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7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олерант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путь человека, хорошо знающего себ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фортно чувствующего себя в окружающей сред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имающегодругих людей, и готового всегда прийти на помощь, человека с доброжелательным отношением 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ым культурам, взглядам, тради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1390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2232000" cy="1371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2160360" cy="1327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732720" y="0"/>
            <a:ext cx="2200320" cy="1390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395280" y="206064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Любов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700360" y="357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Прощ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24360" y="5229360"/>
            <a:ext cx="446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Терп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</p:spTree>
  </p:cSld>
  <p:transition spd="med">
    <p:wheel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59120" y="95400"/>
            <a:ext cx="708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Международные соглаш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в которых раскр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основные понятия и принципы толеран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2920" y="1514520"/>
            <a:ext cx="91209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принципов толерантности ЮНЕС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политичес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Международная конвенция о ликвидации всех фор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овой дискримин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венция о предупреждении преступления геноцид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казании за н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венция о правах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о ликвидации всех форм нетерпим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скриминации на основе религиозных уб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о правах лиц, принадлежащих к националь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ли этническим, религиозным или языковым меньшинств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036520" cy="3041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700360" y="836640"/>
            <a:ext cx="3035160" cy="227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0" t="0" r="0" b="13119"/>
          <a:stretch/>
        </p:blipFill>
        <p:spPr>
          <a:xfrm>
            <a:off x="5508720" y="3860640"/>
            <a:ext cx="3381120" cy="2003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796000" y="2205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50920" y="42210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0364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765000"/>
            <a:ext cx="6337080" cy="4826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4032000" cy="255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940360" y="189000"/>
            <a:ext cx="3054240" cy="3894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419640" y="1159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492360" y="2205000"/>
            <a:ext cx="208944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1671840" cy="1981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59280" y="4221000"/>
            <a:ext cx="1954080" cy="198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003640" y="476280"/>
            <a:ext cx="3627720" cy="2417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4500720" y="1413000"/>
            <a:ext cx="1390320" cy="194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219640" y="4292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948360" y="3141720"/>
            <a:ext cx="1836720" cy="187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319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3443400" cy="258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154320" cy="2365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435640" y="177336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643280" y="3568680"/>
            <a:ext cx="3953160" cy="2654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763640" y="3645000"/>
            <a:ext cx="3878280" cy="2908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3080" cy="3560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427640" y="692280"/>
            <a:ext cx="4575240" cy="2990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3679920" cy="2719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3152880" cy="2836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479760" cy="235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203640" y="907920"/>
            <a:ext cx="3076560" cy="2051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2916360" cy="2916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292720" y="4149720"/>
            <a:ext cx="3681360" cy="2454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11280" y="4365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68360" y="2997360"/>
            <a:ext cx="3144960" cy="2358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2916360" y="2492280"/>
            <a:ext cx="3367080" cy="271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3780000" y="4292640"/>
            <a:ext cx="288108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0:22Z</dcterms:created>
  <dc:creator>ЛЕША</dc:creator>
  <dc:description/>
  <dc:language>en-US</dc:language>
  <cp:lastModifiedBy>1</cp:lastModifiedBy>
  <dcterms:modified xsi:type="dcterms:W3CDTF">2012-06-05T11:58:41Z</dcterms:modified>
  <cp:revision>8</cp:revision>
  <dc:subject/>
  <dc:title>Слайд 1</dc:title>
</cp:coreProperties>
</file>