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238-F3A8-409D-8214-F070EABB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9CA-A676-4475-857C-B259BE4A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FA7-278B-4C9D-BDAB-ED0376FF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51C-783F-470E-ACF9-E5B5CBF5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2251-7857-4304-9CAA-73E61DD6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55CD-2BB4-4ACA-9E81-769E86E1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816-3A5C-4FFD-A4C9-4163D58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68E-8F77-49A4-A7B0-07CD6109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545D-B768-466E-B7DB-8E6CC69B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F2A-30A9-4B7B-A22F-E99CEB06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C12E-002F-495E-8D76-A39578F6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8EF-1DA1-4A2B-B92C-DF928342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3018-ABBE-436C-B76A-584497D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8D1D-7B5D-4081-97F9-BCC7F8E1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2B04-78B1-4B14-83EE-FB9D7F1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B90-A9BE-4557-80C8-4B59476B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E1AF-8878-4B52-8AE1-B5F44277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9E2F-3EDB-4A61-BD2B-2A1AF73A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4DD8-2ABD-484D-A5E9-E0B7F336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2C2C-95F6-4594-BD9A-8A5FD21F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8A49-A10D-4AE3-A68C-D1588A7F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DA96-36C7-4624-A991-42070BFC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398-D276-4C3D-898D-9C64D8B3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FC5F2-C114-4130-BE2C-DFCBB57A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9EC9F-6BA0-4F10-9EF1-B5397B0E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ECEA-FBC9-40A7-B4A0-063857AE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3BAA-B577-409E-A0F4-C2A9A79E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2A1D-8074-4CB3-A5D6-DB120907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B9E7-277B-41DC-AF67-49DAAC8A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616B-8EC2-4A4B-9824-9F04F551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7B2-EC91-4FAB-8489-9CC653E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044-191F-4E4D-A950-414E165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493-1302-493F-9842-97D627C1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CEB-B83F-468B-8B49-B609A12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32F-DA7B-4020-8913-B8155600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F5D-5ACE-48E6-BF3F-FF62CD4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F4CC-1ED9-4FA7-AE35-6EC5E11CEF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AE8-A1C3-4CC7-8ABE-20DCA5409B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E5C5-6544-4652-AB8F-CF4B16CFA2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Экономика России в ¼ </a:t>
            </a: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XVIII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 ве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6, читать, вопросы 1,2,5, пересказ, словарь, Р/Т № 2,5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1116000" y="5157720"/>
            <a:ext cx="2158920" cy="792360"/>
            <a:chOff x="1116000" y="5157720"/>
            <a:chExt cx="2158920" cy="792360"/>
          </a:xfrm>
        </p:grpSpPr>
        <p:sp>
          <p:nvSpPr>
            <p:cNvPr id="188" name="Rectangle 3"/>
            <p:cNvSpPr/>
            <p:nvPr/>
          </p:nvSpPr>
          <p:spPr>
            <a:xfrm>
              <a:off x="1116000" y="5157720"/>
              <a:ext cx="2158920" cy="792360"/>
            </a:xfrm>
            <a:prstGeom prst="rect">
              <a:avLst/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1311840" y="5229360"/>
              <a:ext cx="189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текциониз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 мерканти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5"/>
          <p:cNvGrpSpPr/>
          <p:nvPr/>
        </p:nvGrpSpPr>
        <p:grpSpPr>
          <a:xfrm>
            <a:off x="3419640" y="5229360"/>
            <a:ext cx="2447640" cy="431640"/>
            <a:chOff x="3419640" y="5229360"/>
            <a:chExt cx="2447640" cy="431640"/>
          </a:xfrm>
        </p:grpSpPr>
        <p:sp>
          <p:nvSpPr>
            <p:cNvPr id="191" name="Rectangle 6"/>
            <p:cNvSpPr/>
            <p:nvPr/>
          </p:nvSpPr>
          <p:spPr>
            <a:xfrm>
              <a:off x="3419640" y="5229360"/>
              <a:ext cx="2447640" cy="431640"/>
            </a:xfrm>
            <a:prstGeom prst="rect">
              <a:avLst/>
            </a:prstGeom>
            <a:solidFill>
              <a:srgbClr val="f1f1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9640" y="522936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льское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озя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8"/>
          <p:cNvSpPr/>
          <p:nvPr/>
        </p:nvSpPr>
        <p:spPr>
          <a:xfrm>
            <a:off x="1476360" y="189000"/>
            <a:ext cx="6264360" cy="1008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при Петр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900000" y="1413000"/>
            <a:ext cx="230508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300720" y="1413000"/>
            <a:ext cx="237672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и и пови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708360" y="1413000"/>
            <a:ext cx="2087640" cy="576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1042920" y="3933720"/>
            <a:ext cx="2158920" cy="86364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и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ес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3851280" y="2708280"/>
            <a:ext cx="2087640" cy="7192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/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3708360" y="3860640"/>
            <a:ext cx="2282760" cy="79056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ий ры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ярм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5"/>
          <p:cNvSpPr/>
          <p:nvPr/>
        </p:nvSpPr>
        <p:spPr>
          <a:xfrm>
            <a:off x="6443640" y="2349360"/>
            <a:ext cx="2376360" cy="7192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говая ре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6"/>
          <p:cNvSpPr/>
          <p:nvPr/>
        </p:nvSpPr>
        <p:spPr>
          <a:xfrm>
            <a:off x="6443640" y="3645000"/>
            <a:ext cx="2448000" cy="108108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пись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еви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7"/>
          <p:cNvSpPr/>
          <p:nvPr/>
        </p:nvSpPr>
        <p:spPr>
          <a:xfrm>
            <a:off x="6156360" y="5084640"/>
            <a:ext cx="2808360" cy="648000"/>
          </a:xfrm>
          <a:prstGeom prst="rect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естье = вот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ние новы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8"/>
          <p:cNvSpPr/>
          <p:nvPr/>
        </p:nvSpPr>
        <p:spPr>
          <a:xfrm>
            <a:off x="971640" y="2781360"/>
            <a:ext cx="2158920" cy="720720"/>
          </a:xfrm>
          <a:prstGeom prst="ellipse">
            <a:avLst/>
          </a:prstGeom>
          <a:solidFill>
            <a:srgbClr val="f1f1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уфа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9"/>
          <p:cNvSpPr/>
          <p:nvPr/>
        </p:nvSpPr>
        <p:spPr>
          <a:xfrm>
            <a:off x="219564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"/>
          <p:cNvSpPr/>
          <p:nvPr/>
        </p:nvSpPr>
        <p:spPr>
          <a:xfrm>
            <a:off x="48499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750240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205092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2068560" y="47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485928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4859280" y="342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7"/>
          <p:cNvSpPr/>
          <p:nvPr/>
        </p:nvSpPr>
        <p:spPr>
          <a:xfrm flipH="1">
            <a:off x="7624440" y="1989000"/>
            <a:ext cx="46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7596360" y="3068640"/>
            <a:ext cx="0" cy="57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3492360" y="1197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5867280" y="537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33344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800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20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6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/Т страница 46, № 1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льные стороны эконом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громные природные запа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71960" y="182736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ые стороны эконом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хватка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производства промышленн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 мануфак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700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/х по-стар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ag00029_"/>
          <p:cNvPicPr/>
          <p:nvPr/>
        </p:nvPicPr>
        <p:blipFill>
          <a:blip r:embed="rId1"/>
          <a:stretch/>
        </p:blipFill>
        <p:spPr>
          <a:xfrm>
            <a:off x="142920" y="142920"/>
            <a:ext cx="1154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ричины отставания России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опытка улучшения феодального строя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по-старинке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2142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опишите предложение и дополните схему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400" y="1827360"/>
            <a:ext cx="453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авной особенностью экономической политики Петра было ……………………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Organization Chart 2"/>
          <p:cNvGrpSpPr/>
          <p:nvPr/>
        </p:nvGrpSpPr>
        <p:grpSpPr>
          <a:xfrm>
            <a:off x="5094360" y="1827360"/>
            <a:ext cx="3588480" cy="4114080"/>
            <a:chOff x="5094360" y="1827360"/>
            <a:chExt cx="3588480" cy="4114080"/>
          </a:xfrm>
        </p:grpSpPr>
        <p:cxnSp>
          <p:nvCxnSpPr>
            <p:cNvPr id="160" name="_s1028"/>
            <p:cNvCxnSpPr>
              <a:stCxn id="161" idx="0"/>
              <a:endCxn id="162" idx="1"/>
            </p:cNvCxnSpPr>
            <p:nvPr/>
          </p:nvCxnSpPr>
          <p:spPr>
            <a:xfrm rot="10800000">
              <a:off x="6170760" y="2855160"/>
              <a:ext cx="358920" cy="257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29"/>
            <p:cNvCxnSpPr>
              <a:stCxn id="164" idx="0"/>
              <a:endCxn id="162" idx="0"/>
            </p:cNvCxnSpPr>
            <p:nvPr/>
          </p:nvCxnSpPr>
          <p:spPr>
            <a:xfrm rot="10800000">
              <a:off x="6170760" y="2855160"/>
              <a:ext cx="358920" cy="102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0"/>
            <p:cNvSpPr/>
            <p:nvPr/>
          </p:nvSpPr>
          <p:spPr>
            <a:xfrm>
              <a:off x="5094360" y="18273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1f1f7"/>
                </a:gs>
                <a:gs pos="50000">
                  <a:srgbClr val="eaeaea"/>
                </a:gs>
                <a:gs pos="100000">
                  <a:srgbClr val="f1f1f7"/>
                </a:gs>
              </a:gsLst>
              <a:lin ang="8100000"/>
            </a:gradFill>
            <a:ln w="3240">
              <a:solidFill>
                <a:srgbClr val="f1f1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оно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1"/>
            <p:cNvSpPr/>
            <p:nvPr/>
          </p:nvSpPr>
          <p:spPr>
            <a:xfrm>
              <a:off x="6529680" y="33699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6529680" y="491292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Picture 1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2430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Допишите предложение и дополните схему: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182736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особенностью экономической политики Петра было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иление государственного вмеш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rganization Chart 2"/>
          <p:cNvGrpSpPr/>
          <p:nvPr/>
        </p:nvGrpSpPr>
        <p:grpSpPr>
          <a:xfrm>
            <a:off x="5094360" y="1827360"/>
            <a:ext cx="3588480" cy="4114080"/>
            <a:chOff x="5094360" y="1827360"/>
            <a:chExt cx="3588480" cy="4114080"/>
          </a:xfrm>
        </p:grpSpPr>
        <p:cxnSp>
          <p:nvCxnSpPr>
            <p:cNvPr id="169" name="_s2052"/>
            <p:cNvCxnSpPr>
              <a:stCxn id="170" idx="0"/>
              <a:endCxn id="171" idx="1"/>
            </p:cNvCxnSpPr>
            <p:nvPr/>
          </p:nvCxnSpPr>
          <p:spPr>
            <a:xfrm rot="10800000">
              <a:off x="6170760" y="2855160"/>
              <a:ext cx="358920" cy="257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0"/>
            </p:cNvCxnSpPr>
            <p:nvPr/>
          </p:nvCxnSpPr>
          <p:spPr>
            <a:xfrm rot="10800000">
              <a:off x="6170760" y="2855160"/>
              <a:ext cx="358920" cy="102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1" name="_s2054"/>
            <p:cNvSpPr/>
            <p:nvPr/>
          </p:nvSpPr>
          <p:spPr>
            <a:xfrm>
              <a:off x="5094360" y="18273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1f1f7"/>
                </a:gs>
                <a:gs pos="50000">
                  <a:srgbClr val="eaeaea"/>
                </a:gs>
                <a:gs pos="100000">
                  <a:srgbClr val="f1f1f7"/>
                </a:gs>
              </a:gsLst>
              <a:lin ang="8100000"/>
            </a:gradFill>
            <a:ln w="3240">
              <a:solidFill>
                <a:srgbClr val="f1f1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экономическ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лит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2055"/>
            <p:cNvSpPr/>
            <p:nvPr/>
          </p:nvSpPr>
          <p:spPr>
            <a:xfrm>
              <a:off x="6529680" y="336996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текцио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056"/>
            <p:cNvSpPr/>
            <p:nvPr/>
          </p:nvSpPr>
          <p:spPr>
            <a:xfrm>
              <a:off x="6529680" y="4912920"/>
              <a:ext cx="2153160" cy="1028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8c8cb4"/>
                </a:gs>
                <a:gs pos="50000">
                  <a:srgbClr val="eaeaea"/>
                </a:gs>
                <a:gs pos="100000">
                  <a:srgbClr val="8c8cb4"/>
                </a:gs>
              </a:gsLst>
              <a:lin ang="8100000"/>
            </a:gradFill>
            <a:ln w="3240">
              <a:solidFill>
                <a:srgbClr val="8c8c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ркантил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ловарь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текционизм – поддержка развития отечественной промышленности и вывоза товаров за границ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ловарь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еркантилизм – преобладание вывоза товаров из страны над ввозом с целью накопления денежных средств внутри стра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ag00029_"/>
          <p:cNvPicPr/>
          <p:nvPr/>
        </p:nvPicPr>
        <p:blipFill>
          <a:blip r:embed="rId1"/>
          <a:stretch/>
        </p:blipFill>
        <p:spPr>
          <a:xfrm>
            <a:off x="0" y="209520"/>
            <a:ext cx="14288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6,-116,-11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делайте выводы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Конец </a:t>
            </a: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века – 30 мануфактур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Arial"/>
              </a:rPr>
              <a:t>1725 год – более 200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ag00317_"/>
          <p:cNvPicPr/>
          <p:nvPr/>
        </p:nvPicPr>
        <p:blipFill>
          <a:blip r:embed="rId1"/>
          <a:stretch/>
        </p:blipFill>
        <p:spPr>
          <a:xfrm>
            <a:off x="179280" y="333360"/>
            <a:ext cx="11210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/Т страница 47, № 3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370160" y="1827360"/>
          <a:ext cx="7313400" cy="41148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м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вози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вози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14" descr="ag00029_"/>
          <p:cNvPicPr/>
          <p:nvPr/>
        </p:nvPicPr>
        <p:blipFill>
          <a:blip r:embed="rId1"/>
          <a:stretch/>
        </p:blipFill>
        <p:spPr>
          <a:xfrm>
            <a:off x="0" y="357120"/>
            <a:ext cx="124308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2:12Z</dcterms:created>
  <dc:creator>Гульнара</dc:creator>
  <dc:description/>
  <dc:language>en-US</dc:language>
  <cp:lastModifiedBy>Алик</cp:lastModifiedBy>
  <dcterms:modified xsi:type="dcterms:W3CDTF">2012-02-25T04:50:42Z</dcterms:modified>
  <cp:revision>20</cp:revision>
  <dc:subject/>
  <dc:title>Предпосылки петровских преобразований</dc:title>
</cp:coreProperties>
</file>