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gif" ContentType="image/gif"/>
  <Override PartName="/ppt/media/image27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26-0D18-4474-88FF-870FCFCC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88F-3BD1-4DF6-BBC7-E03FC55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CE3-0AE2-4C6E-9B84-34B76CAF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AF1-B5F5-4980-83DF-3E15494C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05E7-F3C3-4634-B9F5-1DEBA883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61D4-29AA-4F8A-8BDE-ED3C20CF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0951-E0FA-43AD-821C-AEB55CC6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47AC-86DC-43C9-BA90-B40E6BC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AECA-757A-4FA7-A2CB-13036D52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6C24-1C09-46EC-B280-7107CAB0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A860-946D-4E62-B112-D49FFB1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C1A1-B000-414D-B73C-EF4127A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D227-4E45-49BA-852D-6AFAE56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6229-B8AF-451B-BCC1-C6FB172C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010B-29C1-4EBB-BBA7-9ED1B72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FA91-A13D-4233-A860-04B3E984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AAB2-708E-4D1A-A070-64104312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BB0-A296-49D6-8E02-AB6437D4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BD3E-5C51-45DB-9F7A-5992B91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42B-321D-48FC-A894-CFC0D470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DE8-556E-4580-B5DF-7D91B8E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A79-8B76-4BF8-A2EC-AAE6ADC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1C7-59A1-4BFB-ACB3-969D6503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ECB-D65A-4BF2-901C-CDC7BD03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B429-F9C3-4927-A397-D1E1EB38F1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535-A15A-49F6-9AE7-0EA6326627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Изменения в культуре и быте в ¼ 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XVIII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века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859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8-19, вопросы 1,3,5, пересказ, Р/Т № 3-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IL3-034"/>
          <p:cNvPicPr/>
          <p:nvPr/>
        </p:nvPicPr>
        <p:blipFill>
          <a:blip r:embed="rId1"/>
          <a:stretch/>
        </p:blipFill>
        <p:spPr>
          <a:xfrm>
            <a:off x="1258920" y="189000"/>
            <a:ext cx="5905440" cy="6553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9280" y="5229360"/>
            <a:ext cx="410544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бинеты учё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spb39"/>
          <p:cNvPicPr/>
          <p:nvPr/>
        </p:nvPicPr>
        <p:blipFill>
          <a:blip r:embed="rId1"/>
          <a:stretch/>
        </p:blipFill>
        <p:spPr>
          <a:xfrm>
            <a:off x="468360" y="3538440"/>
            <a:ext cx="4032360" cy="301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spb40"/>
          <p:cNvPicPr/>
          <p:nvPr/>
        </p:nvPicPr>
        <p:blipFill>
          <a:blip r:embed="rId2"/>
          <a:stretch/>
        </p:blipFill>
        <p:spPr>
          <a:xfrm>
            <a:off x="5345280" y="333360"/>
            <a:ext cx="3284280" cy="4390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pb41"/>
          <p:cNvPicPr/>
          <p:nvPr/>
        </p:nvPicPr>
        <p:blipFill>
          <a:blip r:embed="rId3"/>
          <a:stretch/>
        </p:blipFill>
        <p:spPr>
          <a:xfrm>
            <a:off x="468360" y="333360"/>
            <a:ext cx="40543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тановление и развитие наук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14 г. Кунсткам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4623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95280" y="3573360"/>
            <a:ext cx="496908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узее хранились собрания минералов, этнографических и анатомических редкостей, медицинских препаратов, коллекции монет, земные и небесные глобу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4312"/>
          <p:cNvPicPr/>
          <p:nvPr/>
        </p:nvPicPr>
        <p:blipFill>
          <a:blip r:embed="rId1"/>
          <a:stretch/>
        </p:blipFill>
        <p:spPr>
          <a:xfrm>
            <a:off x="324000" y="260280"/>
            <a:ext cx="3889080" cy="292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4316"/>
          <p:cNvPicPr/>
          <p:nvPr/>
        </p:nvPicPr>
        <p:blipFill>
          <a:blip r:embed="rId2"/>
          <a:stretch/>
        </p:blipFill>
        <p:spPr>
          <a:xfrm>
            <a:off x="4932360" y="260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318"/>
          <p:cNvPicPr/>
          <p:nvPr/>
        </p:nvPicPr>
        <p:blipFill>
          <a:blip r:embed="rId3"/>
          <a:stretch/>
        </p:blipFill>
        <p:spPr>
          <a:xfrm>
            <a:off x="324000" y="357516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050560" y="6153120"/>
            <a:ext cx="5194440" cy="7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DS Russia Demo"/>
              </a:rPr>
              <a:t>Библиот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822"/>
          <p:cNvPicPr/>
          <p:nvPr/>
        </p:nvPicPr>
        <p:blipFill>
          <a:blip r:embed="rId1"/>
          <a:stretch/>
        </p:blipFill>
        <p:spPr>
          <a:xfrm>
            <a:off x="1042920" y="476280"/>
            <a:ext cx="71341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5280" y="6021360"/>
            <a:ext cx="8507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24 г.  Академия наук и худож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img_12_27_0_0"/>
          <p:cNvPicPr/>
          <p:nvPr/>
        </p:nvPicPr>
        <p:blipFill>
          <a:blip r:embed="rId1"/>
          <a:stretch/>
        </p:blipFill>
        <p:spPr>
          <a:xfrm>
            <a:off x="826920" y="219240"/>
            <a:ext cx="76327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8920" y="188640"/>
            <a:ext cx="755964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1714г. рабочий Кончезерского медеплавильного завода Иван Ребоев  открыл источник минеральной 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 марта 1719 г. Петр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здал указ о создании первого в     России </a:t>
            </a:r>
            <a:r>
              <a:rPr b="1" i="1" lang="ru-RU" sz="1900" spc="-1" strike="noStrike">
                <a:solidFill>
                  <a:srgbClr val="ff0000"/>
                </a:solidFill>
                <a:latin typeface="Arial"/>
              </a:rPr>
              <a:t>курор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900" spc="-1" strike="noStrike">
                <a:solidFill>
                  <a:srgbClr val="000000"/>
                </a:solidFill>
                <a:latin typeface="DS Russia Demo"/>
              </a:rPr>
              <a:t>Марциальные вод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marzial"/>
          <p:cNvPicPr/>
          <p:nvPr/>
        </p:nvPicPr>
        <p:blipFill>
          <a:blip r:embed="rId1"/>
          <a:stretch/>
        </p:blipFill>
        <p:spPr>
          <a:xfrm>
            <a:off x="5130720" y="1773360"/>
            <a:ext cx="3673440" cy="489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marz5"/>
          <p:cNvPicPr/>
          <p:nvPr/>
        </p:nvPicPr>
        <p:blipFill>
          <a:blip r:embed="rId2"/>
          <a:stretch/>
        </p:blipFill>
        <p:spPr>
          <a:xfrm>
            <a:off x="684360" y="2924280"/>
            <a:ext cx="39589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-360" y="3524400"/>
            <a:ext cx="434196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720 г. Я.В.Брюс организовал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Навигацкую школу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Москве. В Сухаревой башне была оборудована первая в России обсерватор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image032"/>
          <p:cNvPicPr/>
          <p:nvPr/>
        </p:nvPicPr>
        <p:blipFill>
          <a:blip r:embed="rId1"/>
          <a:stretch/>
        </p:blipFill>
        <p:spPr>
          <a:xfrm>
            <a:off x="1042920" y="476280"/>
            <a:ext cx="2427480" cy="302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SUCHBACH"/>
          <p:cNvPicPr/>
          <p:nvPr/>
        </p:nvPicPr>
        <p:blipFill>
          <a:blip r:embed="rId2"/>
          <a:stretch/>
        </p:blipFill>
        <p:spPr>
          <a:xfrm>
            <a:off x="4565520" y="404640"/>
            <a:ext cx="42087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68360" y="6021000"/>
            <a:ext cx="7653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DS Russia Demo"/>
              </a:rPr>
              <a:t>«Арифметик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Магницкого. 1703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01-1"/>
          <p:cNvPicPr/>
          <p:nvPr/>
        </p:nvPicPr>
        <p:blipFill>
          <a:blip r:embed="rId1"/>
          <a:stretch/>
        </p:blipFill>
        <p:spPr>
          <a:xfrm>
            <a:off x="684360" y="404640"/>
            <a:ext cx="2427120" cy="3600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arithmet"/>
          <p:cNvPicPr/>
          <p:nvPr/>
        </p:nvPicPr>
        <p:blipFill>
          <a:blip r:embed="rId2"/>
          <a:stretch/>
        </p:blipFill>
        <p:spPr>
          <a:xfrm>
            <a:off x="4500720" y="260280"/>
            <a:ext cx="3768480" cy="56167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755640" y="407664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.Ф.Магниц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708360" y="5660640"/>
            <a:ext cx="52768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карные станки Нарт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77"/>
          <p:cNvPicPr/>
          <p:nvPr/>
        </p:nvPicPr>
        <p:blipFill>
          <a:blip r:embed="rId1"/>
          <a:stretch/>
        </p:blipFill>
        <p:spPr>
          <a:xfrm>
            <a:off x="3348000" y="404640"/>
            <a:ext cx="3417840" cy="3600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nartov_01"/>
          <p:cNvPicPr/>
          <p:nvPr/>
        </p:nvPicPr>
        <p:blipFill>
          <a:blip r:embed="rId2"/>
          <a:stretch/>
        </p:blipFill>
        <p:spPr>
          <a:xfrm>
            <a:off x="395280" y="33336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nartov-tool"/>
          <p:cNvPicPr/>
          <p:nvPr/>
        </p:nvPicPr>
        <p:blipFill>
          <a:blip r:embed="rId3"/>
          <a:stretch/>
        </p:blipFill>
        <p:spPr>
          <a:xfrm>
            <a:off x="7236000" y="1268280"/>
            <a:ext cx="1544400" cy="2403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420120" y="42354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А.К.На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Рисунок4"/>
          <p:cNvPicPr/>
          <p:nvPr/>
        </p:nvPicPr>
        <p:blipFill>
          <a:blip r:embed="rId4"/>
          <a:stretch/>
        </p:blipFill>
        <p:spPr>
          <a:xfrm>
            <a:off x="1979640" y="4365720"/>
            <a:ext cx="1603440" cy="2286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формы Петра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мия – Артиллерийские школы в Москве и Петербур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от – Навигацкая школа в Москве, Морская академия в Петербур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ость – Инженерная школа, медицинская шк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ие – Школа канцелярских служ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a3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029_"/>
          <p:cNvPicPr/>
          <p:nvPr/>
        </p:nvPicPr>
        <p:blipFill>
          <a:blip r:embed="rId1"/>
          <a:stretch/>
        </p:blipFill>
        <p:spPr>
          <a:xfrm>
            <a:off x="0" y="142920"/>
            <a:ext cx="14288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Из сочинений  Юрия Крижанича</a:t>
            </a:r>
            <a:endParaRPr b="1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Русаки носят тесную и длинную – до пят  -одежду и имеют вид будто мешками обшитых. Всякие вещи за неимением карманов, они закладывают за голенища сапог. Длинные и узкие рукава так стискивают руки, что человек с трудом мог себя умыть и одеть. Платье до пят мешает ногам ходить, а всадник в таком одеянии казался пнем, привязанным к коню. Из-за бород казались русаки лешаками. Покрой одежды – великий признак ума в народе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«Бородовые» деньг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4" name="Picture 4" descr="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81080" y="1557360"/>
            <a:ext cx="493560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Одежда бояр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4" descr="Рисунок1"/>
          <p:cNvPicPr/>
          <p:nvPr/>
        </p:nvPicPr>
        <p:blipFill>
          <a:blip r:embed="rId1"/>
          <a:stretch/>
        </p:blipFill>
        <p:spPr>
          <a:xfrm>
            <a:off x="1403280" y="1628640"/>
            <a:ext cx="6069240" cy="5129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ссамблеи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4" descr="8"/>
          <p:cNvPicPr/>
          <p:nvPr/>
        </p:nvPicPr>
        <p:blipFill>
          <a:blip r:embed="rId1"/>
          <a:stretch/>
        </p:blipFill>
        <p:spPr>
          <a:xfrm>
            <a:off x="1000080" y="1285920"/>
            <a:ext cx="7201080" cy="5403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Михаил Николаевич Погоди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Мы просыпаемся. Какой нынче день? 1 января 1848 года – Петр Великий велел считать годы от Рождества Христова и месяцы от января. Пора одеваться – наше платье сшито по фасону, данному Петром. Сукно выткано на фабрике, которую он завел, шерсть пострижена с овец, которых развел он. Попадается на глаза книга – Петр ввел в употребление этот шрифт. Приносят газеты – Петр их начал…за обедом блюда из картофеля вам вновь напомнят о нем. После обеда вы едете в гости – это ассамблея, заведенная им. Вы вздумаете путешествовать и будете везде хорошо приняты – Петр Великий поместил Россию в число европейских государств и начал внушать к ней почт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714 год – создание сети начальных школ («цифирные школы»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g00029_"/>
          <p:cNvPicPr/>
          <p:nvPr/>
        </p:nvPicPr>
        <p:blipFill>
          <a:blip r:embed="rId1"/>
          <a:stretch/>
        </p:blipFill>
        <p:spPr>
          <a:xfrm>
            <a:off x="0" y="285840"/>
            <a:ext cx="17510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Запишите дат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710 год – введение гражданской азбуки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76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873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Указ Петра </a:t>
            </a:r>
            <a:r>
              <a:rPr b="1" lang="en-US" sz="35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1" lang="ru-RU" sz="3500" spc="-1" strike="noStrike">
                <a:solidFill>
                  <a:srgbClr val="000000"/>
                </a:solidFill>
                <a:latin typeface="Arial Black"/>
              </a:rPr>
              <a:t> от 29 января 1710 года</a:t>
            </a:r>
            <a:endParaRPr b="1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lackadder ITC"/>
              </a:rPr>
              <a:t>Сими  литерами печатать исторические и мануфактурные книги. А которые вычеркнуты, их в этих книгах не использова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40428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ажданская азбу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image002"/>
          <p:cNvPicPr/>
          <p:nvPr/>
        </p:nvPicPr>
        <p:blipFill>
          <a:blip r:embed="rId1"/>
          <a:stretch/>
        </p:blipFill>
        <p:spPr>
          <a:xfrm>
            <a:off x="539640" y="1268280"/>
            <a:ext cx="3727440" cy="525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peter16e"/>
          <p:cNvPicPr/>
          <p:nvPr/>
        </p:nvPicPr>
        <p:blipFill>
          <a:blip r:embed="rId2"/>
          <a:stretch/>
        </p:blipFill>
        <p:spPr>
          <a:xfrm>
            <a:off x="4788000" y="1268280"/>
            <a:ext cx="3946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6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35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Объясните фразу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lackadder ITC"/>
              </a:rPr>
              <a:t>«…при Петре Великом не одни бояре и боярыни, но и буквы сбросили с себя широкие шубы и нарядились в летние одежды»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0000"/>
                </a:solidFill>
                <a:latin typeface="Blackadder ITC"/>
              </a:rPr>
              <a:t>М.В. Ломоносов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аука при Петре 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1905120"/>
          <a:ext cx="8139240" cy="4114800"/>
        </p:xfrm>
        <a:graphic>
          <a:graphicData uri="http://schemas.openxmlformats.org/drawingml/2006/table">
            <a:tbl>
              <a:tblPr/>
              <a:tblGrid>
                <a:gridCol w="2712960"/>
                <a:gridCol w="2637000"/>
                <a:gridCol w="27892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иж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ст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4" descr="ag00029_"/>
          <p:cNvPicPr/>
          <p:nvPr/>
        </p:nvPicPr>
        <p:blipFill>
          <a:blip r:embed="rId1"/>
          <a:stretch/>
        </p:blipFill>
        <p:spPr>
          <a:xfrm>
            <a:off x="214200" y="214200"/>
            <a:ext cx="130032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32:12Z</dcterms:created>
  <dc:creator>Гульнара</dc:creator>
  <dc:description/>
  <dc:language>en-US</dc:language>
  <cp:lastModifiedBy>Алик</cp:lastModifiedBy>
  <dcterms:modified xsi:type="dcterms:W3CDTF">2012-03-06T13:25:54Z</dcterms:modified>
  <cp:revision>20</cp:revision>
  <dc:subject/>
  <dc:title>Предпосылки петровских преобразований</dc:title>
</cp:coreProperties>
</file>