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8FE6-5ECB-49E5-B8CB-5DC47AE0A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15C7-3DAE-45D5-9C68-E0746191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2531-D463-4089-80CD-605D64CB7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28A7-7CCF-4E02-9B2D-FDE22CD78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3C204-1C25-4392-9E53-C9097EF2F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734A2-7287-4DCA-A106-065D528C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E626E-05EC-47CA-B691-CB7F6798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47104-CB41-444D-A5C2-25EE2B7B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B13CA-DD57-4C68-B3F6-D4A7C88D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19F4C-F600-4DD9-A788-B55DCF58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C5143-0622-4E11-9AD3-2E82A518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CBD5-A222-40CF-AF0C-84623DE4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42634-A11C-4541-A8F9-49AC1862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D860FD-DDBB-4FF1-AFE4-C7EE8AEB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B3AEA-AF4B-4818-8308-FB45BB57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9C90B-C91D-4334-93E6-A0CCF217E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B5AA7-F21B-4E9A-B495-10C83E7D3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15E8-9502-4AB7-AB67-C45BFA8D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FC7F-FD39-4780-AF92-AE0BAC1A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21B4-E169-4DC8-ABCB-B96EBFFB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9141-0E1D-473D-9138-60B18880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456D-A3CC-4C9D-B368-B7BE68F6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CAD9-C3D0-43EC-8DC1-BCDF0823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FD1D-74FA-4FCA-9CCA-9FF0EB2B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09F3-5E4D-4552-8B55-B948C5876AF8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9B27-C22F-4C0B-9E54-9C1645351871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a50021"/>
                </a:solidFill>
                <a:latin typeface="Tahoma"/>
              </a:rPr>
              <a:t>Выпускнице </a:t>
            </a:r>
            <a:br>
              <a:rPr sz="4400"/>
            </a:br>
            <a:r>
              <a:rPr b="0" lang="ru-RU" sz="4400" spc="-1" strike="noStrike">
                <a:solidFill>
                  <a:srgbClr val="a50021"/>
                </a:solidFill>
                <a:latin typeface="Tahoma"/>
              </a:rPr>
              <a:t>   2012 года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3200" spc="-1" strike="noStrike">
                <a:solidFill>
                  <a:srgbClr val="a50021"/>
                </a:solidFill>
                <a:latin typeface="Tahoma"/>
              </a:rPr>
              <a:t>МОБУДОД «Кузьмоловская ДШИ»</a:t>
            </a:r>
            <a:br>
              <a:rPr sz="3200"/>
            </a:b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000" y="907920"/>
            <a:ext cx="5398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Спасибо, музыка, за то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Что ты единственное чудо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Что ты душа, а не причуд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ahoma"/>
              </a:rPr>
              <a:t>Что для кого-то ты ничт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353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Тогда был солнечный сентябрь,</a:t>
            </a:r>
            <a:br>
              <a:rPr sz="2000"/>
            </a:b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Звучала музыка для нас,</a:t>
            </a:r>
            <a:br>
              <a:rPr sz="2000"/>
            </a:b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И в путь отправился корабль, И с ним наш дружный класс.</a:t>
            </a: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828800" y="19051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0320"/>
            <a:ext cx="4038480" cy="40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И полетели годы-листь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Срываясь, вырастая внов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И музыка писала кисть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ahoma"/>
              </a:rPr>
              <a:t>Портрет своих ученик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686800" y="1904760"/>
            <a:ext cx="71280" cy="8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Нас обучала звуков лира.</a:t>
            </a:r>
            <a:br>
              <a:rPr sz="4000"/>
            </a:b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Шопен нам вальсы напевал. 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131280" y="2205000"/>
            <a:ext cx="2838600" cy="3664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506840" y="1844280"/>
            <a:ext cx="69840" cy="71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495680" y="4038480"/>
            <a:ext cx="76320" cy="6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И, сокрушая грубость мира,</a:t>
            </a:r>
            <a:br>
              <a:rPr sz="4000"/>
            </a:b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Нас в красоту Чайковский звал.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916360" y="1989000"/>
            <a:ext cx="3622680" cy="4114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8682120" y="1916280"/>
            <a:ext cx="71280" cy="72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8686800" y="4038480"/>
            <a:ext cx="69840" cy="6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284720" y="691920"/>
            <a:ext cx="4402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ahoma"/>
              </a:rPr>
              <a:t>И вот сейчас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ahoma"/>
              </a:rPr>
              <a:t>чрез многи год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ahoma"/>
              </a:rPr>
              <a:t>Я говорю: "Спасибо", 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ahoma"/>
              </a:rPr>
              <a:t>Спасибо, музык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ahoma"/>
              </a:rPr>
              <a:t>что друг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ahoma"/>
              </a:rPr>
              <a:t>На свете не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ahoma"/>
              </a:rPr>
              <a:t>тебя верн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821040" cy="286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Что помогаешь мне в дороге</a:t>
            </a:r>
            <a:br>
              <a:rPr sz="4000"/>
            </a:b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Не сбиться, не пропасть в беде, 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987640" y="1989000"/>
            <a:ext cx="3500640" cy="4114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87360" y="6019560"/>
            <a:ext cx="69840" cy="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Что отгоняешь дня тревоги.</a:t>
            </a:r>
            <a:br>
              <a:rPr sz="4000"/>
            </a:b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Спасибо, музыка, тебе! 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435640" y="4005360"/>
            <a:ext cx="2876400" cy="2187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332000" y="1700280"/>
            <a:ext cx="2060640" cy="2060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8686800" y="1835280"/>
            <a:ext cx="69840" cy="69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375840" y="6019560"/>
            <a:ext cx="81000" cy="73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20:21:14Z</dcterms:created>
  <dc:creator>Аня</dc:creator>
  <dc:description/>
  <dc:language>en-US</dc:language>
  <cp:lastModifiedBy>рик</cp:lastModifiedBy>
  <dcterms:modified xsi:type="dcterms:W3CDTF">2012-06-06T20:30:42Z</dcterms:modified>
  <cp:revision>21</cp:revision>
  <dc:subject/>
  <dc:title>Выпускнице  2010 года  АНИСИМОВОЙ ПОЛИНЕ   МОУДОД «Кузьмоловская ДМШ» </dc:title>
</cp:coreProperties>
</file>