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640-CF4C-439B-8F05-AA503E39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33C-36A7-4264-AE6B-5D45CF0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CE9-3714-4D6E-BFDA-F36D0CCB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D64-35EC-4FE5-8977-E3C8AD7B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6EB9B-07C8-4420-9BF3-2C3B6EEA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CBB1-5C2B-434F-831F-878BCA5B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20A5F-C64B-458C-9FE5-548C4C0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802F2-97E2-4845-91CC-07F0E554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FF857-8D66-42F0-B687-323E256B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65BF2-567D-470C-BB5F-BCFF4A88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FB125-3821-4686-A1FA-40935B7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573-E046-4D2A-B46C-1ADC46DF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23000-55B6-4535-A2B8-97C713D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5ED73-4561-45FA-B3BB-0F5B914F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E200-4E9E-48F3-B92F-2190E6F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96AF-CE3F-41A9-BFE1-A71503E7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C16A-2AAD-4776-BF17-38FB5C56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864-9212-4F78-9DDE-91A1DE3A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061-04FC-407C-B4E6-7E99B4B2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7E9-FB39-40D9-BF31-B6F4523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6F1-1D4A-41D8-BC6F-DA3B506A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866-A6C4-4DFC-9226-6D125D2F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A13-F30E-489B-A8C9-544EDBA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3B2-E1FE-4107-891C-39A4A2BA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EA7-0DB0-4000-BEA2-8B1451FFFD9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6902-EA91-4E42-9CF0-C7850B71B99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Выпускнице 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   2012 год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МОБУДОД «Кузьмоловская ДШИ»</a:t>
            </a:r>
            <a:br>
              <a:rPr sz="3200"/>
            </a:b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Спасибо, музыка, за т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Что ты единственное чуд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Что ты душа, а не причу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Что для кого-то ты нич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Тогда был солнечный сентябрь,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Звучала музыка для нас,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И в путь отправился корабль, И с ним наш дружный класс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0320"/>
            <a:ext cx="403848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И полетели годы-листь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Срываясь, вырастая вн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И музыка писала кист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Портрет своих уче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86800" y="1904760"/>
            <a:ext cx="71280" cy="8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Нас обучала звуков лира.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Шопен нам вальсы напевал.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31280" y="2205000"/>
            <a:ext cx="2838600" cy="366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06840" y="184428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76320" cy="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И, сокрушая грубость мира,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Нас в красоту Чайковский звал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6226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682120" y="19162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686800" y="4038480"/>
            <a:ext cx="69840" cy="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720" y="691920"/>
            <a:ext cx="4402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И вот сейч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чрез многи го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Я говорю: "Спасибо", 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Спасибо, музы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что др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На свете н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тебя верн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82104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Что помогаешь мне в дороге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Не сбиться, не пропасть в беде,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87640" y="1989000"/>
            <a:ext cx="35006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7360" y="6019560"/>
            <a:ext cx="69840" cy="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Что отгоняешь дня тревоги.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Спасибо, музыка, тебе!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287640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2060640" cy="2060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686800" y="183528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5840" y="6019560"/>
            <a:ext cx="81000" cy="7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21:14Z</dcterms:created>
  <dc:creator>Аня</dc:creator>
  <dc:description/>
  <dc:language>en-US</dc:language>
  <cp:lastModifiedBy>рик</cp:lastModifiedBy>
  <dcterms:modified xsi:type="dcterms:W3CDTF">2012-06-06T20:30:42Z</dcterms:modified>
  <cp:revision>21</cp:revision>
  <dc:subject/>
  <dc:title>Выпускнице  2010 года  АНИСИМОВОЙ ПОЛИНЕ   МОУДОД «Кузьмоловская ДМШ» </dc:title>
</cp:coreProperties>
</file>