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24.png" ContentType="image/png"/>
  <Override PartName="/ppt/media/image18.jpeg" ContentType="image/jpeg"/>
  <Override PartName="/ppt/media/image3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4B8-E4FD-4FE9-A3DC-FCD2699B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06F-460E-4F43-AA29-32E6E149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CB4-FEE2-4284-A90E-CFBD0FC0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FCF-9B1D-4BC3-A9BD-9F028F1D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FDCA-6900-427B-B980-4960247C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BE91-D5E5-42AD-806F-DA1FA609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4199-AFC4-40DC-B9E8-83B06ACE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8A42-615C-40D9-A560-62700D3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B271-6B58-479B-9031-CA01724F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B260-B2AF-4AD9-ACBF-BBB8605C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4AA2-1DF3-4FC9-B137-8DAF76FA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839-711C-4BA2-9F18-717308F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DC7A-2694-4AAA-986A-09F4B52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5670-71F1-461A-AEA1-7640FD69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C402-797C-4FFB-844F-3A98EDC0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8E26-84EC-4577-9A02-5E5D7A0E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D6F2-E86D-4DE0-BF87-DFE31C1D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9DC-790D-4C32-A5B8-96279C10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2E4-9AD3-4006-A22D-5C473F2E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4BB-9623-47AA-8348-59EA49D4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058-870A-4C10-B105-B71F95A9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DED-DC46-4419-B231-F2EA5A82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2A2-44AC-4C37-953B-F0161753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3CE-AB68-4FE2-9C4B-D5BF1982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3A95-1ADA-4D8E-A964-881865D643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845-302E-4F9A-82AA-980DA891EB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newsru.com/pict/id/large/505782_20030114184639.gif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vt.net/Clt/Ani/Cho/Mam/Per/per020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zooclub.ru/fotogal/oboi/wild/43a.shtml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krylenko.com/gallery/thumb-big/73-AzovSwitzerland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395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333333"/>
                </a:solidFill>
                <a:latin typeface="Garamond"/>
              </a:rPr>
              <a:t>Пустыня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355640" y="4869000"/>
            <a:ext cx="456876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Ученица 2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уторин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219720"/>
            <a:ext cx="914400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Лучшие фото природы и животных, прикольные фото - Фото пустынь - fotolov.ru: Фото с пустынями_foto_desert_13 Лучшие фото животных, бесплатные фото природы"/>
          <p:cNvPicPr/>
          <p:nvPr/>
        </p:nvPicPr>
        <p:blipFill>
          <a:blip r:embed="rId2"/>
          <a:stretch/>
        </p:blipFill>
        <p:spPr>
          <a:xfrm>
            <a:off x="5219640" y="1341360"/>
            <a:ext cx="3672000" cy="2454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1238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Картинка 4 из 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2536920"/>
            <a:ext cx="4932360" cy="432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4005360"/>
            <a:ext cx="322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верблю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40464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c9e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81c9e"/>
                </a:solidFill>
                <a:latin typeface="Times New Roman"/>
              </a:rPr>
              <a:t>Из домашних животных  в зоне пустыня на 1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5276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Картинка 12 из 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692280"/>
            <a:ext cx="4098960" cy="424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46760" y="692280"/>
            <a:ext cx="3911400" cy="4321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537372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кулан                         джейр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040000" cy="3587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дикобраз, дикообраз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333360"/>
            <a:ext cx="3168360" cy="273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96000" y="3141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дикоб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3657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Умеет своих врагов насаживать на колючки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   Вдруг остановиться на бегу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а волк или лиса с разгона наткнутся на его иглы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5329080" cy="439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940360" y="155736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есча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5280" y="54482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Эти грызуны роют сложные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 разветвлённые  норы и живут в них группами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1305000" cy="924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659640" y="4221000"/>
            <a:ext cx="934920" cy="66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24360" y="5084640"/>
            <a:ext cx="1152360" cy="816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1513080" cy="1071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763640" y="981000"/>
            <a:ext cx="2016360" cy="142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067280" y="2060640"/>
            <a:ext cx="158436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egoe Script"/>
              </a:rPr>
              <a:t>Что такое пустыня?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9900"/>
                </a:solidFill>
                <a:uFillTx/>
                <a:latin typeface="Arial"/>
              </a:rPr>
              <a:t>Пустыни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– это жаркие и засушливые области Земл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05440" cy="280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4119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Великая пустыня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я большая пустыня в мире –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Сахар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на находится на северо-западе Африки. Когда-то там были луга, росли травы и часто выпадали дожди. Но климат стал суше, и постепенно Сахара превратилась в песчаную пусты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87640" y="3860640"/>
            <a:ext cx="38926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410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4076640" cy="4103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404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есчаные  пусты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333360"/>
            <a:ext cx="5960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04640"/>
            <a:ext cx="732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5589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счаные пустыни покрыты рыхлы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гко  развеваемым грунт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Растения пустыни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астения, растущие в пустынях, должны обходиться маленьким количеством 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которые растения в пустынях зацветают после дождя, живут очень недолго, и сохраняются до следующего дождя в виде семян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ругие растения имеют длинные корни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058840"/>
            <a:ext cx="4038480" cy="36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702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5021280" cy="4281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33336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Кактус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выживают пустынях,  потому что они запасают воду в своих стеблях. Вместо листьев у них острые колюч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94360" cy="5184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2602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тус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бывают разной формы, и иногда вырастают очень высок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1730-1.jpg"/>
          <p:cNvPicPr/>
          <p:nvPr/>
        </p:nvPicPr>
        <p:blipFill>
          <a:blip r:embed="rId1"/>
          <a:stretch/>
        </p:blipFill>
        <p:spPr>
          <a:xfrm>
            <a:off x="324000" y="765000"/>
            <a:ext cx="3600360" cy="388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16 из 1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692280"/>
            <a:ext cx="4465440" cy="4022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06400" y="5516640"/>
            <a:ext cx="57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ерекати - п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Животный  мир</a:t>
            </a:r>
            <a:r>
              <a:rPr b="0" lang="en-US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381c9e"/>
                </a:solidFill>
                <a:latin typeface="Arial"/>
              </a:rPr>
              <a:t>Животный мир пустынь богат и разнообразен</a:t>
            </a:r>
            <a:r>
              <a:rPr b="1" lang="en-US" sz="3000" spc="-1" strike="noStrike">
                <a:solidFill>
                  <a:srgbClr val="381c9e"/>
                </a:solidFill>
                <a:latin typeface="Arial"/>
              </a:rPr>
              <a:t>.</a:t>
            </a:r>
            <a:r>
              <a:rPr b="1" lang="ru-RU" sz="3000" spc="-1" strike="noStrike">
                <a:solidFill>
                  <a:srgbClr val="381c9e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3d зверушки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12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2100-7.jpg"/>
          <p:cNvPicPr/>
          <p:nvPr/>
        </p:nvPicPr>
        <p:blipFill>
          <a:blip r:embed="rId2"/>
          <a:stretch/>
        </p:blipFill>
        <p:spPr>
          <a:xfrm>
            <a:off x="539640" y="3284640"/>
            <a:ext cx="1946520" cy="254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2100-4.jpg"/>
          <p:cNvPicPr/>
          <p:nvPr/>
        </p:nvPicPr>
        <p:blipFill>
          <a:blip r:embed="rId3"/>
          <a:stretch/>
        </p:blipFill>
        <p:spPr>
          <a:xfrm>
            <a:off x="6012000" y="3357720"/>
            <a:ext cx="2570040" cy="2685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5950080"/>
            <a:ext cx="83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жук скарабей          стрела – зме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6:43:52Z</dcterms:created>
  <dc:creator>Домоседы</dc:creator>
  <dc:description/>
  <dc:language>en-US</dc:language>
  <cp:lastModifiedBy>Домоседы</cp:lastModifiedBy>
  <dcterms:modified xsi:type="dcterms:W3CDTF">2012-03-20T21:00:14Z</dcterms:modified>
  <cp:revision>3</cp:revision>
  <dc:subject/>
  <dc:title>Слайд 1</dc:title>
</cp:coreProperties>
</file>