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1.gif" ContentType="image/gif"/>
  <Override PartName="/ppt/media/image24.png" ContentType="image/png"/>
  <Override PartName="/ppt/media/image18.jpeg" ContentType="image/jpeg"/>
  <Override PartName="/ppt/media/image3.gif" ContentType="image/gi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768-78A7-4308-98B7-DD29BD0C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D23-E154-4E6D-BBF3-B76A5E36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9D7-F640-4715-BBF1-81452749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DC9-39D1-4929-BA82-A106F996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FF62-7838-4E3B-8E09-73C59A56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FD85-467E-4908-9A8C-9F34F5FF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4CFF-BED5-4BC0-B397-9FE91804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8CF6-C1A4-4AE5-B6A0-6D97CA10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B23A-B77E-4065-9F35-7C8779D7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B5D5-B107-4C47-9321-7139D728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DEE8-5F87-4241-8B0C-ED717F42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849-C5C3-492B-88AF-5B913182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375F-B493-4B93-8D73-FB3F6719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4C88-045E-4700-9044-304CC9B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6E69-BDA5-41A5-913E-CC7CD2C0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0F47-E7CE-477D-915A-644DC6BC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D002-0B08-4A83-8D5E-E45F415D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1FA-2793-4C38-8D53-B249592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56E-2F06-4C47-9CD1-1AD98A20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E32-0300-4AC7-8DEA-B24CDAB1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51F-B84E-4332-A098-17DF8204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DED-056A-43D2-8E33-4E8EEE4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47C-0760-4E5D-B148-1E34DAA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82B-A759-4AC7-BA3E-8D9457BD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202D-707B-4EF9-8F25-E7D7B050805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906E-117C-4E03-958B-49A43A9837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newsru.com/pict/id/large/505782_20030114184639.gif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vt.net/Clt/Ani/Cho/Mam/Per/per020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zooclub.ru/fotogal/oboi/wild/43a.shtml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krylenko.com/gallery/thumb-big/73-AzovSwitzerland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3957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333333"/>
                </a:solidFill>
                <a:latin typeface="Garamond"/>
              </a:rPr>
              <a:t>Пустыня</a:t>
            </a:r>
            <a:endParaRPr b="0" lang="en-US" sz="4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355640" y="4869000"/>
            <a:ext cx="4568760" cy="12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Ученица 2 «Б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Бутор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1972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Лучшие фото природы и животных, прикольные фото - Фото пустынь - fotolov.ru: Фото с пустынями_foto_desert_13 Лучшие фото животных, бесплатные фото природы"/>
          <p:cNvPicPr/>
          <p:nvPr/>
        </p:nvPicPr>
        <p:blipFill>
          <a:blip r:embed="rId2"/>
          <a:stretch/>
        </p:blipFill>
        <p:spPr>
          <a:xfrm>
            <a:off x="5219640" y="1341360"/>
            <a:ext cx="3672000" cy="245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203640" y="2205000"/>
            <a:ext cx="123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Картинка 4 из 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2536920"/>
            <a:ext cx="4932360" cy="4321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4005360"/>
            <a:ext cx="32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верблю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404640"/>
            <a:ext cx="51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1c9e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81c9e"/>
                </a:solidFill>
                <a:latin typeface="Times New Roman"/>
              </a:rPr>
              <a:t>Из домашних животных  в зоне пустыня на 1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35276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Картинка 12 из 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4098960" cy="424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46760" y="692280"/>
            <a:ext cx="3911400" cy="432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537372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кулан                         джейр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040000" cy="358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дикобраз, дикообраз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333360"/>
            <a:ext cx="3168360" cy="2736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96000" y="314172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дикоб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365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Умеет своих врагов насаживать на колючки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 Вдруг остановиться на бегу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а волк или лиса с разгона наткнутся на его иглы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53290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155736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есчан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5280" y="54482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Эти грызуны роют сложные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381c9e"/>
                </a:solidFill>
                <a:latin typeface="Times New Roman"/>
              </a:rPr>
              <a:t> разветвлённые  норы и живут в них группами</a:t>
            </a:r>
            <a:r>
              <a:rPr b="1" lang="en-US" sz="3200" spc="-1" strike="noStrike">
                <a:solidFill>
                  <a:srgbClr val="381c9e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1305000" cy="924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659640" y="4221000"/>
            <a:ext cx="934920" cy="66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24360" y="5084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1513080" cy="10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763640" y="981000"/>
            <a:ext cx="2016360" cy="142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067280" y="2060640"/>
            <a:ext cx="158436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egoe Script"/>
              </a:rPr>
              <a:t>Что такое пустыня?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9900"/>
                </a:solidFill>
                <a:uFillTx/>
                <a:latin typeface="Arial"/>
              </a:rPr>
              <a:t>Пустыни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– это жаркие и засушливые области Зем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05440" cy="280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59280" y="3429000"/>
            <a:ext cx="41194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Великая пустыня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ая большая пустыня в мире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ахар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на находится на северо-западе Африки. Когда-то там были луга, росли травы и часто выпадали дожди. Но климат стал суше, и постепенно Сахара превратилась в песчаную пусты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87640" y="3860640"/>
            <a:ext cx="38926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410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4076640" cy="4103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404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есчаные  пусты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333360"/>
            <a:ext cx="5960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04640"/>
            <a:ext cx="732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5589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счаные пустыни покрыты рыхлы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егко  развеваемым грунт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Растения пустыни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Растения, растущие в пустынях, должны обходиться маленьким количеством в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екоторые растения в пустынях зацветают после дождя, живут очень недолго, и сохраняются до следующего дождя в виде семян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ругие растения имеют длинные корни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058840"/>
            <a:ext cx="4038480" cy="36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702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021280" cy="4281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3333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Кактус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выживают пустынях,  потому что они запасают воду в своих стеблях. Вместо листьев у них острые колючк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9436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26028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ктус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бывают разной формы, и иногда вырастают очень высок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1730-1.jpg"/>
          <p:cNvPicPr/>
          <p:nvPr/>
        </p:nvPicPr>
        <p:blipFill>
          <a:blip r:embed="rId1"/>
          <a:stretch/>
        </p:blipFill>
        <p:spPr>
          <a:xfrm>
            <a:off x="324000" y="765000"/>
            <a:ext cx="3600360" cy="388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16 из 1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27640" y="692280"/>
            <a:ext cx="4465440" cy="4022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6400" y="5516640"/>
            <a:ext cx="574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перекати - п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aramond"/>
              </a:rPr>
              <a:t>Животный  мир</a:t>
            </a:r>
            <a:r>
              <a:rPr b="0" lang="en-US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000" spc="-1" strike="noStrike">
                <a:solidFill>
                  <a:srgbClr val="381c9e"/>
                </a:solidFill>
                <a:latin typeface="Arial"/>
              </a:rPr>
              <a:t>Животный мир пустынь богат и разнообразен</a:t>
            </a:r>
            <a:r>
              <a:rPr b="1" lang="en-US" sz="3000" spc="-1" strike="noStrike">
                <a:solidFill>
                  <a:srgbClr val="381c9e"/>
                </a:solidFill>
                <a:latin typeface="Arial"/>
              </a:rPr>
              <a:t>.</a:t>
            </a:r>
            <a:r>
              <a:rPr b="1" lang="ru-RU" sz="3000" spc="-1" strike="noStrike">
                <a:solidFill>
                  <a:srgbClr val="381c9e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3d зверушки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12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2100-7.jpg"/>
          <p:cNvPicPr/>
          <p:nvPr/>
        </p:nvPicPr>
        <p:blipFill>
          <a:blip r:embed="rId2"/>
          <a:stretch/>
        </p:blipFill>
        <p:spPr>
          <a:xfrm>
            <a:off x="539640" y="3284640"/>
            <a:ext cx="1946520" cy="2541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2100-4.jpg"/>
          <p:cNvPicPr/>
          <p:nvPr/>
        </p:nvPicPr>
        <p:blipFill>
          <a:blip r:embed="rId3"/>
          <a:stretch/>
        </p:blipFill>
        <p:spPr>
          <a:xfrm>
            <a:off x="6012000" y="3357720"/>
            <a:ext cx="2570040" cy="2685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5950080"/>
            <a:ext cx="83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жук скарабей          стрела – зме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6:43:52Z</dcterms:created>
  <dc:creator>Домоседы</dc:creator>
  <dc:description/>
  <dc:language>en-US</dc:language>
  <cp:lastModifiedBy>Домоседы</cp:lastModifiedBy>
  <dcterms:modified xsi:type="dcterms:W3CDTF">2012-03-20T21:00:14Z</dcterms:modified>
  <cp:revision>3</cp:revision>
  <dc:subject/>
  <dc:title>Слайд 1</dc:title>
</cp:coreProperties>
</file>