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gif" ContentType="image/gif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A626-3017-40FF-B70D-035F41E6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15E-656A-4359-994E-1104437B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DBE-FC60-4D9B-9ED4-5653ED32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4504-876E-4107-9B17-5F0F92E0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75F-63AE-4473-A41C-DABC3C18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48B-BF3F-43F7-96D5-5EBE58B6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9DF5-14EA-439B-BF71-8AB2649F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B14-AD71-4C2E-841F-C4E62489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9BA-FAF5-4385-B409-CC1A3383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E97-2E0E-47F4-94D9-F5925DE6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28BD-AC8C-417E-A7CD-BAAB312C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5E8-A9C3-4C9D-AEB0-E8507965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3072-1B57-4920-917B-41097D0447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mels_spinning_world_ha"/>
          <p:cNvPicPr/>
          <p:nvPr/>
        </p:nvPicPr>
        <p:blipFill>
          <a:blip r:embed="rId1"/>
          <a:stretch/>
        </p:blipFill>
        <p:spPr>
          <a:xfrm>
            <a:off x="1857240" y="6072120"/>
            <a:ext cx="393840" cy="428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boy_walking_lunchbox_ha"/>
          <p:cNvPicPr/>
          <p:nvPr/>
        </p:nvPicPr>
        <p:blipFill>
          <a:blip r:embed="rId2"/>
          <a:stretch/>
        </p:blipFill>
        <p:spPr>
          <a:xfrm>
            <a:off x="7215120" y="6000840"/>
            <a:ext cx="290520" cy="500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8720"/>
            <a:ext cx="8351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5229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Подготовила педагог- психолог МОУ гимназ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В.А. Латыш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324000" y="1341360"/>
            <a:ext cx="860076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лементы здоровьесбережения на урока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7" descr="Рисуноваык1"/>
          <p:cNvPicPr/>
          <p:nvPr/>
        </p:nvPicPr>
        <p:blipFill>
          <a:blip r:embed="rId3"/>
          <a:stretch/>
        </p:blipFill>
        <p:spPr>
          <a:xfrm>
            <a:off x="357120" y="428760"/>
            <a:ext cx="441360" cy="428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15273416_J0308953"/>
          <p:cNvPicPr/>
          <p:nvPr/>
        </p:nvPicPr>
        <p:blipFill>
          <a:blip r:embed="rId4"/>
          <a:stretch/>
        </p:blipFill>
        <p:spPr>
          <a:xfrm>
            <a:off x="7500960" y="1085760"/>
            <a:ext cx="357120" cy="271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IMG_1568"/>
          <p:cNvPicPr/>
          <p:nvPr/>
        </p:nvPicPr>
        <p:blipFill>
          <a:blip r:embed="rId5"/>
          <a:stretch/>
        </p:blipFill>
        <p:spPr>
          <a:xfrm>
            <a:off x="3643200" y="830160"/>
            <a:ext cx="500040" cy="320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ЭФФЕКТ НЕОЖИДАННОСТИ,</a:t>
            </a:r>
            <a:br>
              <a:rPr sz="6000"/>
            </a:b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ИНТРИГ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600" spc="-1" strike="noStrike">
                <a:solidFill>
                  <a:srgbClr val="009900"/>
                </a:solidFill>
                <a:latin typeface="Arial"/>
              </a:rPr>
              <a:t>НЕСТАНДАРТНЫЕ</a:t>
            </a:r>
            <a:br>
              <a:rPr sz="6600"/>
            </a:br>
            <a:r>
              <a:rPr b="1" lang="ru-RU" sz="6600" spc="-1" strike="noStrike">
                <a:solidFill>
                  <a:srgbClr val="009900"/>
                </a:solidFill>
                <a:latin typeface="Arial"/>
              </a:rPr>
              <a:t>ПРИВЕТСТВ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Египтяне и йеменц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иветствуют друг друга одним и тем же жестом, напоминающим отдание чести советскими военнослужащими с той лишь разницей, что в арабском жесте ладонь прикладывается ко лбу и поворачивается к тому, кого приветству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таец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режние времена, встречая другого, пожимал руку самому себе, в наше время он делает легкий поклон или кивок головой или пожимает руку, если приветствует иностранца (по западному образцу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Япо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и встрече словесное приветствие сопровождается церемониальным поклоном, глубина которого зависит от возраста и положения обеих стор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оре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иветствие нередко сопровождается церемониальным поклоном. Глубина поклона определяется социальным и возрастным статусом приветствующего и приветствуемого. Сейчас все большее распространение получает рукопожатие (особенно на Севере). Причем первым подает руку старший, мужчина — женщи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ранц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и встрече пожимают друг другу руки, затем прикладывают правую руку к сердцу (причем младший или ниже стоящий на социальной лестнице, если его не поприветствовали рукопожатием, только прикладывает руку к сердцу) — знак приветствия и глубокого уважения; на Среднем же Востоке почтение и глубокое уважение к высокопоставленному лицу выражают следующим образом: ладонью правой руки покрывают кисть левой руки, обе руки опущены вниз и прижаты к телу, которое слегка наклонено вперед, голова опуще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большинстве стран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атинской Америк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мимо рукопожатия при встрече можно наблюдать бурное выражение радости, объятия, особенно среди знакомых. Женщины обмениваются поцелуями в щеки, но при первом знакомстве — лишь рукопожат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Новой Зеланд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аори приветствуют друг друга, потираясь но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атиноамериканц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нимаю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Эскимос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знак приветствия ударяют знакомого кулаком по голове и плеч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Француз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уют друг друга в щ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амоанц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нюхивают друг дру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тел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Андаманских остров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адится к другому на колени, обнимает за шею и плач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Африк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иболее распространенным является рукопожатие, однако не следует сжимать руку вашего знакомого. Рукопожатие должно быть более слабым, чем это принято в США и Европе. Этим передается особое уважение к собеседнику. Если рукопожатие совершается двумя руками (левая рука поддерживает правую), оно означает отсутствие агрессивных намерений, расположение к собеседнику, подчеркивание социальной близости с 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ингапур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ветствие может быть и на западный манер — рукопожатие, и типичное для Китая — легкий поклон. В Таиланде не принято пожимать руки при встрече: руки складываются “домиком” перед грудью, и человек слегка кланяется. А вот на Филиппинах рукопожатие традиционно. Характерно рукопожатие среди мужчин и в Малайзии; но, приветствуя женщину, особенно немолодую, там делают легкий покл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аудовской Арав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если гостя приглашают домой, то после обмена рукопожатиями хозяин кладет гостю левую руку на правое плечо и целует в обе щеки. Если дома находится в этот момент жена хозяина, то вас с ней познакомят, держаться с ней надо приветливо, но сдержанно, здороваться с женщиной за руку не приня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Австрал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укопожатие довольно энергич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Инд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 приветствии и прощании мужчины часто обмениваются рукопожатиями. Женщине руку не пожимают. Приветствуя женщину-индуску, следует слегка поклониться, сложив руки перед грудью “домиком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европейц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нято при приветствии пожимать друг другу руку (сегодня это еще и свидетельство уважения), но и тут есть свои нюансы. Англичане в отличие от русских, очень редко подают друг другу руку при встрече (ограничиваются легким кивком головы вперед) и практически никогда не делают этого при прощании. Обниматься в Англии вообще не принято. Английские полицейские не приветствуют обращающихся к ним за информацией или помощью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Исп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ветствие кроме традиционного рукопожатия, типичного для деловых встреч, нередко сопровождается объятиями и громким выражением радости (у друзей и хороших знакомых); женщины целуют друг друга в щеку. Итальянцы любят пожимать руки и жестикулировать. Французы приветствуют друг друга легким рукопожатием или поцелу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Ш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укопожатие более характерно для официальных случаев, чем для повседневной жизни, а также используется как приветствие при знакомстве. Обычно рукопожатие не наблюдается между людьми, которые видят друг друга часто или знакомы по делам. Женщины обмениваются рукопожатием, если встречаются в первый раз, причем один из собеседников — почетный гость. Если знакомятся мужчина с женщиной, они могут пожимать или не пожимать друг другу руки, однако женщина протягивает руку первая. Иногда возникает неловкая пауза из-за того, что люди противоположного пола не знают, следует ли им здороваться за ру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стречаются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ва американц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е знают друг друга, то у них наблюдается такой момент приветствия, как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“вспышка бров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”; это движение является как бы сигналом приблизиться друг к другу, а не просто посмотреть и пройти ми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ычно приветствие начинается на расстоянии около 12 футов (но может быть и больше в безлюдных местах). Типичное повед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американц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алеком расстоянии: он машет рукой, поворачивается, здоровается, и приветствующие идут навстречу друг другу, затем протягивают руки для рукопожатия (если они друзья или знакомые), некоторые мужчины и женщины целуются, близкие знакомые или родственники, которые долго не виделись, обнимаются. Американец может улыбнуться незнакомому человеку, который случайно встретился с ним взглядом, подмигнуть знакомому (в городах и городках Юга и Запада, где люди в большей степени связаны друг с другом), кивнуть головой (в сельских районах). В американской культуре поцелуй как знак приветствия принят только в кругу семьи или очень близких друзей (но не между мужчинами), можно поцеловать женщину, которая стар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539640" y="2276640"/>
            <a:ext cx="820908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ОРОГОВОРКИ, ПОСЛОВ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47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Шла Саша по шоссе и сосала с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шит колпак не по-колпаковски; надо колпак переколпаковать, перевыколпак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Ехал грека через реку, видит грека – в реке рак. Сунул грека руку в реку, рак за руку греку – цап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Дворник дверь два дня держал, деревянный дом дрожал. Ветер дёргал в доме дверь, дворник думал – это зве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Рама рано розовеет, рама рада – солнце гре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На дворе трава, на траве дрова; не руби дрова на траве д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Карл украл у Клары кораллы, а Клара украла у Карла клар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Граф Пато играет в лото. Графиня Пато знает про то, что граф Пато играет в лото, а граф Пато не знает про то, что графиня Пато знает про то, что граф Пато играет в ло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Четыре чёрненьких чумазеньких чертёнка чертили чёрными чернилами чертё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Добр бобёр до своих бобр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Говорит попугай попугаю: "Я тебя, попугай, попугаю". Отвечает ему попугай: "Попугай, попугай, попугай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Татем у татя перекрадены утя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Во дворе четыре Сашки на траве играли в шашки. (Е. Дербенк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 У села ли села лиса, у опушки ли л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 Пашка ел суп, а кошки слопали каш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. Шёл спуск пушек с сопок и со ск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. Я бродил один у горки, собирал скорогово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185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403848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городе рос горо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за речкой – гре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ый наш козёл Ен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городе рвал горо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ечку рвал за ре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ыплята просят про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ыплятам на подно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носит просо Фро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косы Фроси в про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ёмный бор через задво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ли охотники Его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у каждого Его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закорке – по руж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у каждого Его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ёс охотничий на сворке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-ка, дети, повтор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раторочку мо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рассвете Ев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вил овсянку в ов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всей в ов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колено в ро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. Камейша (пер. с белорусского С. Пай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рок со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воих сороч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рок сор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сорясь, строч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рок сор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орочены в сро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зу поссорили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зу поссорили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зу поссори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рок соро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8567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Упражнения на развитие межполушарного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оздействия</a:t>
            </a:r>
            <a:r>
              <a:rPr b="0" lang="ru-RU" sz="48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 концентрации внимания, позитивного эмоционального настро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mel_blinking_ha"/>
          <p:cNvPicPr/>
          <p:nvPr/>
        </p:nvPicPr>
        <p:blipFill>
          <a:blip r:embed="rId1"/>
          <a:stretch/>
        </p:blipFill>
        <p:spPr>
          <a:xfrm>
            <a:off x="785880" y="5643720"/>
            <a:ext cx="633240" cy="5475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доровьесберегающую технологию можно рассматривать ка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чественную характеристику любой образовательной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принципов, приемов, методов педагогической деятельности с признаками здоровьесбережения, дополняющих традиционные технологии обучения и вос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ство психолого - педагогических, психофизиологических, организационных аспектов ведения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БТД"/>
          <p:cNvPicPr/>
          <p:nvPr/>
        </p:nvPicPr>
        <p:blipFill>
          <a:blip r:embed="rId1">
            <a:biLevel thresh="50000"/>
          </a:blip>
          <a:srcRect l="56855" t="43796" r="1262" b="28428"/>
          <a:stretch/>
        </p:blipFill>
        <p:spPr>
          <a:xfrm>
            <a:off x="4284720" y="4572000"/>
            <a:ext cx="620640" cy="368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16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788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Arial"/>
              </a:rPr>
              <a:t>Колечк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чередно и как можно быстрее ребенок перебирает пальцы рук, соединяя в кольцо с большим пальцем последовательно указательный, средний, и. т.д. Проба выполняется в прямом( от указательного пальца к мизинцу) и в обратном( от мизинца к указательному пальцу) порядке. В начале методика выполняется каждой рукой отдельно, затем в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72080" y="1600200"/>
            <a:ext cx="311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643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Лезг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537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складывает левую руку в кулак, большой палец отставляет в сторону, кул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орачивает пальцами к себе. Правой рукой прямой ладонью в горизонтальном положении прикасается к мизинцу левой. После этого одновременно меняет положение правой и левой рук в течение 6-8 смен позиций. Необходимо добиваться высокой скорости смены по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БТД 004"/>
          <p:cNvPicPr/>
          <p:nvPr/>
        </p:nvPicPr>
        <p:blipFill>
          <a:blip r:embed="rId1">
            <a:biLevel thresh="50000"/>
          </a:blip>
          <a:srcRect l="0" t="41595" r="57092" b="35330"/>
          <a:stretch/>
        </p:blipFill>
        <p:spPr>
          <a:xfrm>
            <a:off x="4857840" y="4143240"/>
            <a:ext cx="433440" cy="243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Кулак-ребро-ладо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БТД 003"/>
          <p:cNvPicPr/>
          <p:nvPr/>
        </p:nvPicPr>
        <p:blipFill>
          <a:blip r:embed="rId1">
            <a:biLevel thresh="50000"/>
            <a:lum contrast="30000"/>
          </a:blip>
          <a:srcRect l="13262" t="18353" r="43886" b="53497"/>
          <a:stretch/>
        </p:blipFill>
        <p:spPr>
          <a:xfrm>
            <a:off x="5786280" y="5357880"/>
            <a:ext cx="433440" cy="2858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5761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донь на плоскости, ладонь сжатая в кулак, ладонь ребром на плоскости, распрямленная ладонь. Дети выполняют пробу вместе с инструктором, затем по памяти в течение 8-10 повторений моторной программы. Проба выполняется сначала правой рукой, потом левой, затем двумя руками в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помогать себе командами( «кулак-ребро-ладонь»), произносимыми вслух или про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Arial"/>
              </a:rPr>
              <a:t>Зам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4956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рестить руки ладонями друг к другу, сцепить пальцы в замок, вывернуть руки к себе. Двигать пальцем, который укажет ведущий. Палец должен двигаться четко и точно. Прикасаться к пальцу нельзя. Последовательно в упражнении должны участвовать все пальцы обеих рук. В дальнейшем дети могут выполнять упражнения в па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БТД 006"/>
          <p:cNvPicPr/>
          <p:nvPr/>
        </p:nvPicPr>
        <p:blipFill>
          <a:blip r:embed="rId1">
            <a:biLevel thresh="50000"/>
            <a:lum contrast="60000"/>
          </a:blip>
          <a:srcRect l="0" t="23217" r="57040" b="47487"/>
          <a:stretch/>
        </p:blipFill>
        <p:spPr>
          <a:xfrm>
            <a:off x="5357880" y="4000680"/>
            <a:ext cx="384120" cy="220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Массаж ушных раков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ассировать мочки ушей, затем всю ушную раковину. В конце упражнения растереть уши ру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Ухо- н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вой рукой взяться за кончик носа, а правой- за противоположное ухо. Одновременно отпустить ухо и нос, хлопнуть в ладоши, поменять положение рук «с точностью до наоборо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99"/>
                </a:solidFill>
                <a:latin typeface="Arial"/>
              </a:rPr>
              <a:t>Ляг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ить руки на стол. Одна рука сжата в кулак, другая лежит на плоскости стола (ладошка). Одновременно менять положение рук. Усложнение упражнения состоит  в ускор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99"/>
                </a:solidFill>
                <a:latin typeface="Arial"/>
              </a:rPr>
              <a:t>Мель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делать одновременно круговые движения рукой и ногой. Сначала левой рукой и левой ногой, правой рукой и правой ногой, левой ногой и правой рукой, правой рукой и левой ногой. Сначала вращение выполняется вперед, затем назад, затем рукой вперед, а ногой назад. Выполняйте так, чтобы рука и противоположная нога двигались одновременно с вращением глаз вправо, влево, вверх, вниз. Дыхание произво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99"/>
                </a:solidFill>
                <a:latin typeface="Arial"/>
              </a:rPr>
              <a:t>Парад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ширование на счет « Раз- два-три- четыре». В первом цикле шагов хлопок руками на счет «раз», во втором- на счет «два», в третьем- на счет « три», в четвертом- на счет « четыр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(хлопок)- два- три- четы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-два(хлопок)- три- четы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- два-три-( хлопок)- четы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- два- три- четыре-( хлопо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Для снятия усталости, нервного напря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чиком мизинца правой руки помассируйте кончик мизинца левой, а потом поменяйте ру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Гусельникова 007"/>
          <p:cNvPicPr/>
          <p:nvPr/>
        </p:nvPicPr>
        <p:blipFill>
          <a:blip r:embed="rId1">
            <a:lum contrast="84000"/>
          </a:blip>
          <a:srcRect l="60126" t="12008" r="172" b="62087"/>
          <a:stretch/>
        </p:blipFill>
        <p:spPr>
          <a:xfrm>
            <a:off x="4716360" y="3913200"/>
            <a:ext cx="498600" cy="2365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доровьесберегающая технология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агает снижение объемов репродуктивной деятельности, отказ от преподавания в режиме «готового задания», ибо статичность, однообразие, сухость губит мышление, разрушает псих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объем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уктив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chool_girl_desk_bored_ha"/>
          <p:cNvPicPr/>
          <p:nvPr/>
        </p:nvPicPr>
        <p:blipFill>
          <a:blip r:embed="rId1"/>
          <a:stretch/>
        </p:blipFill>
        <p:spPr>
          <a:xfrm>
            <a:off x="7143840" y="5072040"/>
            <a:ext cx="287280" cy="385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язание пальц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временно соединить подушечку указательного пальца правой руки с подушечкой большого пальца левой руки и подушечку указательного пальца с левой руки с подушечкой большого пальца правой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БТД 004"/>
          <p:cNvPicPr/>
          <p:nvPr/>
        </p:nvPicPr>
        <p:blipFill>
          <a:blip r:embed="rId1">
            <a:lum contrast="30000"/>
          </a:blip>
          <a:srcRect l="7282" t="61115" r="56735" b="13904"/>
          <a:stretch/>
        </p:blipFill>
        <p:spPr>
          <a:xfrm>
            <a:off x="4857840" y="5429160"/>
            <a:ext cx="544320" cy="351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-360"/>
            <a:ext cx="86421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игналу  дети  «вяжут пальцами»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оединить указательный палец пр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и и ,  не разнимая большого паль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й руки и указательного левой, опис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ым указательным пальцем окружн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овь коснуться подушечки больш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льца левой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БТД 004"/>
          <p:cNvPicPr/>
          <p:nvPr/>
        </p:nvPicPr>
        <p:blipFill>
          <a:blip r:embed="rId1">
            <a:lum contrast="90000"/>
          </a:blip>
          <a:srcRect l="47991" t="5849" r="12967" b="65242"/>
          <a:stretch/>
        </p:blipFill>
        <p:spPr>
          <a:xfrm>
            <a:off x="1292400" y="5937120"/>
            <a:ext cx="493560" cy="277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БТД 004"/>
          <p:cNvPicPr/>
          <p:nvPr/>
        </p:nvPicPr>
        <p:blipFill>
          <a:blip r:embed="rId2">
            <a:lum contrast="84000"/>
          </a:blip>
          <a:srcRect l="47998" t="5878" r="12981" b="65211"/>
          <a:stretch/>
        </p:blipFill>
        <p:spPr>
          <a:xfrm>
            <a:off x="7429680" y="5857920"/>
            <a:ext cx="537840" cy="3031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6"/>
          <p:cNvSpPr/>
          <p:nvPr/>
        </p:nvSpPr>
        <p:spPr>
          <a:xfrm>
            <a:off x="4140360" y="6000840"/>
            <a:ext cx="502920" cy="145800"/>
          </a:xfrm>
          <a:prstGeom prst="rightArrow">
            <a:avLst>
              <a:gd name="adj1" fmla="val 50000"/>
              <a:gd name="adj2" fmla="val 5028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59920"/>
            <a:ext cx="475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ытуемому предлагают максимально вытянуть обе руки ладонями вниз, правую руку сжать в кулак. По  звуковому сигналу испытуемый должен разжать правую руку и одновременно сжать в кулак левую руку. В течение 10 секунд с наибольшей быстротой проделать одновременно поочередное сжимание в кулак и разжимание правой и левой р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БТД 005"/>
          <p:cNvPicPr/>
          <p:nvPr/>
        </p:nvPicPr>
        <p:blipFill>
          <a:blip r:embed="rId1">
            <a:lum contrast="48000"/>
          </a:blip>
          <a:srcRect l="62823" t="45378" r="6232" b="19440"/>
          <a:stretch/>
        </p:blipFill>
        <p:spPr>
          <a:xfrm>
            <a:off x="5286240" y="3832200"/>
            <a:ext cx="357480" cy="239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льза применения здоровьесберегающи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крепление здоровья учащихся (отсутствие динамики ухудшения здоровья учеников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ышение качества успеваем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сихологический комфорт на урок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ст профессионализма педаго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04dc"/>
                </a:solidFill>
                <a:latin typeface="Courier New"/>
              </a:rPr>
              <a:t>К ОЗДОРОВИТЕЛЬНЫМ МЕРОПРИЯТИЯМ ОТНОСЯ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Общеразвивающие упражнения – это упражнения для разных групп мыш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Подвижны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Танцев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Ритм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Гимнастика для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Физкультурно-спор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Двигательно-рече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johnny_doing_arm_circ_a_hc"/>
          <p:cNvPicPr/>
          <p:nvPr/>
        </p:nvPicPr>
        <p:blipFill>
          <a:blip r:embed="rId1"/>
          <a:stretch/>
        </p:blipFill>
        <p:spPr>
          <a:xfrm>
            <a:off x="7572240" y="6000840"/>
            <a:ext cx="33336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Валеологические пау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обходимы на каждом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водить в периоды утомления детей- в начальной  школе - на 10-15 и 20-30 минут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среднем звене- через 20-25 минут от начала уро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няя продолжительность пауз 30-60 секунд в начальной школе, 1-2 минуты- 5-11 клас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Courier New"/>
              </a:rPr>
              <a:t>ДИНАМИЧЕСКИЕ ПЕРЕМ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Arial"/>
              </a:rPr>
              <a:t>Организованная форма активного отдыха на открытом воздух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Arial"/>
              </a:rPr>
              <a:t>Проводятся после второго уро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Arial"/>
              </a:rPr>
              <a:t>Длительность –  до 35 минут</a:t>
            </a:r>
            <a:r>
              <a:rPr b="0" lang="ru-RU" sz="26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роение, ходьба, бег, общеразвивающие     упражнения в игровой форме; длительность – 6-8 мину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подвижные игры, спортивные игры, самостоятельная игровая деятельность; длительность – 20-25 мину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построение, спокойная ходьба, упражнения на внимание; длительность – 4-6 мину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n197"/>
          <p:cNvPicPr/>
          <p:nvPr/>
        </p:nvPicPr>
        <p:blipFill>
          <a:blip r:embed="rId1"/>
          <a:stretch/>
        </p:blipFill>
        <p:spPr>
          <a:xfrm>
            <a:off x="7754760" y="5786280"/>
            <a:ext cx="33660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2"/>
          <p:cNvSpPr/>
          <p:nvPr/>
        </p:nvSpPr>
        <p:spPr>
          <a:xfrm>
            <a:off x="3635280" y="1989000"/>
            <a:ext cx="201636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7640" y="981000"/>
            <a:ext cx="43988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трудн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реал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6000" y="980640"/>
            <a:ext cx="44276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е откр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ритория усп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995640" y="2565360"/>
            <a:ext cx="18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Ур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co5"/>
          <p:cNvPicPr/>
          <p:nvPr/>
        </p:nvPicPr>
        <p:blipFill>
          <a:blip r:embed="rId1"/>
          <a:stretch/>
        </p:blipFill>
        <p:spPr>
          <a:xfrm>
            <a:off x="4500720" y="3284640"/>
            <a:ext cx="501480" cy="5014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Что я хочу выбросить сейчас в корзину с мусор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757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н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увер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844280"/>
            <a:ext cx="44956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л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ание 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ор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ициати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4:02:45Z</dcterms:created>
  <dc:creator>Xaoc</dc:creator>
  <dc:description/>
  <dc:language>en-US</dc:language>
  <cp:lastModifiedBy>Xaoc</cp:lastModifiedBy>
  <dcterms:modified xsi:type="dcterms:W3CDTF">2012-06-02T14:26:07Z</dcterms:modified>
  <cp:revision>516</cp:revision>
  <dc:subject/>
  <dc:title>Слайд 1</dc:title>
</cp:coreProperties>
</file>