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F21-3926-4B7A-A8B2-788A4D4E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125-1768-4DB7-A87D-2961A18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8B6-87F7-482E-8498-D16B25AA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730-87ED-4496-89DE-3174A7FA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7C9-12E8-477D-98C0-57AB633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0FE-21F7-4A58-A27A-C2D0BD6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BEA-9FE1-4716-A7BF-C17767B4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884-85E6-4B45-832D-4455AD8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59D-84E3-41A5-BE64-C30CF287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C9F-5384-4AFB-98D4-AC1CD7CC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05A-8861-4856-AA76-CCA7455E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8F1-6D93-4F85-AF12-61B43E9C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78A3-2C1C-46E6-889C-3585319F15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mels_spinning_world_ha"/>
          <p:cNvPicPr/>
          <p:nvPr/>
        </p:nvPicPr>
        <p:blipFill>
          <a:blip r:embed="rId1"/>
          <a:stretch/>
        </p:blipFill>
        <p:spPr>
          <a:xfrm>
            <a:off x="1857240" y="6072120"/>
            <a:ext cx="393840" cy="428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boy_walking_lunchbox_ha"/>
          <p:cNvPicPr/>
          <p:nvPr/>
        </p:nvPicPr>
        <p:blipFill>
          <a:blip r:embed="rId2"/>
          <a:stretch/>
        </p:blipFill>
        <p:spPr>
          <a:xfrm>
            <a:off x="7215120" y="6000840"/>
            <a:ext cx="290520" cy="500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8720"/>
            <a:ext cx="8351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одготовила педагог- психолог МОУ гимназ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.А. Латыш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324000" y="1341360"/>
            <a:ext cx="86007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менты здоровьесбережения на урок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7" descr="Рисуноваык1"/>
          <p:cNvPicPr/>
          <p:nvPr/>
        </p:nvPicPr>
        <p:blipFill>
          <a:blip r:embed="rId3"/>
          <a:stretch/>
        </p:blipFill>
        <p:spPr>
          <a:xfrm>
            <a:off x="357120" y="428760"/>
            <a:ext cx="441360" cy="42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5273416_J0308953"/>
          <p:cNvPicPr/>
          <p:nvPr/>
        </p:nvPicPr>
        <p:blipFill>
          <a:blip r:embed="rId4"/>
          <a:stretch/>
        </p:blipFill>
        <p:spPr>
          <a:xfrm>
            <a:off x="7500960" y="1085760"/>
            <a:ext cx="357120" cy="27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MG_1568"/>
          <p:cNvPicPr/>
          <p:nvPr/>
        </p:nvPicPr>
        <p:blipFill>
          <a:blip r:embed="rId5"/>
          <a:stretch/>
        </p:blipFill>
        <p:spPr>
          <a:xfrm>
            <a:off x="3643200" y="830160"/>
            <a:ext cx="500040" cy="320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ЭФФЕКТ НЕОЖИДАННОСТИ,</a:t>
            </a:r>
            <a:br>
              <a:rPr sz="6000"/>
            </a:br>
            <a:r>
              <a:rPr b="1" lang="ru-RU" sz="6000" spc="-1" strike="noStrike">
                <a:solidFill>
                  <a:srgbClr val="0000cc"/>
                </a:solidFill>
                <a:latin typeface="Arial"/>
              </a:rPr>
              <a:t>ИНТР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НЕСТАНДАРТНЫЕ</a:t>
            </a:r>
            <a:br>
              <a:rPr sz="6600"/>
            </a:b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ПРИВЕТСТВ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9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Египтяне и йеменц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ветствуют друг друга одним и тем же жестом, напоминающим отдание чести советскими военнослужащими с той лишь разницей, что в арабском жесте ладонь прикладывается ко лбу и поворачивается к тому, кого приветству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тае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режние времена, встречая другого, пожимал руку самому себе, в наше время он делает легкий поклон или кивок головой или пожимает руку, если приветствует иностранца (по западному образцу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Япон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 встрече словесное приветствие сопровождается церемониальным поклоном, глубина которого зависит от возраста и положения обеих стор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оре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ветствие нередко сопровождается церемониальным поклоном. Глубина поклона определяется социальным и возрастным статусом приветствующего и приветствуемого. Сейчас все большее распространение получает рукопожатие (особенно на Севере). Причем первым подает руку старший, мужчина — женщи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ранц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и встрече пожимают друг другу руки, затем прикладывают правую руку к сердцу (причем младший или ниже стоящий на социальной лестнице, если его не поприветствовали рукопожатием, только прикладывает руку к сердцу) — знак приветствия и глубокого уважения; на Среднем же Востоке почтение и глубокое уважение к высокопоставленному лицу выражают следующим образом: ладонью правой руки покрывают кисть левой руки, обе руки опущены вниз и прижаты к телу, которое слегка наклонено вперед, голова опущ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большинстве стран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тинской Америк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мимо рукопожатия при встрече можно наблюдать бурное выражение радости, объятия, особенно среди знакомых. Женщины обмениваются поцелуями в щеки, но при первом знакомстве — лишь рукопожат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овой Зеланд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аори приветствуют друг друга, потираясь но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атиноамериканц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нима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Эскимос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знак приветствия ударяют знакомого кулаком по голове и плеч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Француз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луют друг друга в щ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амоан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нюхивают друг дру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т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Андаманских остров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адится к другому на колени, обнимает за шею и пла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иболее распространенным является рукопожатие, однако не следует сжимать руку вашего знакомого. Рукопожатие должно быть более слабым, чем это принято в США и Европе. Этим передается особое уважение к собеседнику. Если рукопожатие совершается двумя руками (левая рука поддерживает правую), оно означает отсутствие агрессивных намерений, расположение к собеседнику, подчеркивание социальной близости с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ингапу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иветствие может быть и на западный манер — рукопожатие, и типичное для Китая — легкий поклон. В Таиланде не принято пожимать руки при встрече: руки складываются “домиком” перед грудью, и человек слегка кланяется. А вот на Филиппинах рукопожатие традиционно. Характерно рукопожатие среди мужчин и в Малайзии; но, приветствуя женщину, особенно немолодую, там делают легкий покл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аудовской Арав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если гостя приглашают домой, то после обмена рукопожатиями хозяин кладет гостю левую руку на правое плечо и целует в обе щеки. Если дома находится в этот момент жена хозяина, то вас с ней познакомят, держаться с ней надо приветливо, но сдержанно, здороваться с женщиной за руку не приня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встрал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укопожатие довольно энергич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нд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приветствии и прощании мужчины часто обмениваются рукопожатиями. Женщине руку не пожимают. Приветствуя женщину-индуску, следует слегка поклониться, сложив руки перед грудью “домиком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европейц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ято при приветствии пожимать друг другу руку (сегодня это еще и свидетельство уважения), но и тут есть свои нюансы. Англичане в отличие от русских, очень редко подают друг другу руку при встрече (ограничиваются легким кивком головы вперед) и практически никогда не делают этого при прощании. Обниматься в Англии вообще не принято. Английские полицейские не приветствуют обращающихся к ним за информацией или помощью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сп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ветствие кроме традиционного рукопожатия, типичного для деловых встреч, нередко сопровождается объятиями и громким выражением радости (у друзей и хороших знакомых); женщины целуют друг друга в щеку. Итальянцы любят пожимать руки и жестикулировать. Французы приветствуют друг друга легким рукопожатием или поцелу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укопожатие более характерно для официальных случаев, чем для повседневной жизни, а также используется как приветствие при знакомстве. Обычно рукопожатие не наблюдается между людьми, которые видят друг друга часто или знакомы по делам. Женщины обмениваются рукопожатием, если встречаются в первый раз, причем один из собеседников — почетный гость. Если знакомятся мужчина с женщиной, они могут пожимать или не пожимать друг другу руки, однако женщина протягивает руку первая. Иногда возникает неловкая пауза из-за того, что люди противоположного пола не знают, следует ли им здороваться за ру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стречаютс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ва американц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знают друг друга, то у них наблюдается такой момент приветствия, как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“вспышка бров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”; это движение является как бы сигналом приблизиться друг к другу, а не просто посмотреть и пройти м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приветствие начинается на расстоянии около 12 футов (но может быть и больше в безлюдных местах). Типичное повед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американц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алеком расстоянии: он машет рукой, поворачивается, здоровается, и приветствующие идут навстречу друг другу, затем протягивают руки для рукопожатия (если они друзья или знакомые), некоторые мужчины и женщины целуются, близкие знакомые или родственники, которые долго не виделись, обнимаются. Американец может улыбнуться незнакомому человеку, который случайно встретился с ним взглядом, подмигнуть знакомому (в городах и городках Юга и Запада, где люди в большей степени связаны друг с другом), кивнуть головой (в сельских районах). В американской культуре поцелуй как знак приветствия принят только в кругу семьи или очень близких друзей (но не между мужчинами), можно поцеловать женщину, которая стар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9640" y="2276640"/>
            <a:ext cx="820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ГОВОРКИ, ПОСЛОВ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47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Шла Саша по шоссе и сосала с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шит колпак не по-колпаковски; надо колпак переколпаковать, перевыколпак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Ехал грека через реку, видит грека – в реке рак. Сунул грека руку в реку, рак за руку греку – цап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Дворник дверь два дня держал, деревянный дом дрожал. Ветер дёргал в доме дверь, дворник думал – это з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ама рано розовеет, рама рада – солнце гре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На дворе трава, на траве дрова; не руби дрова на траве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Карл украл у Клары кораллы, а Клара украла у Карла кла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Граф Пато играет в лото. Графиня Пато знает про то, что граф Пато играет в лото, а граф Пато не знает про то, что графиня Пато знает про то, что граф Пато играет в ло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Четыре чёрненьких чумазеньких чертёнка чертили чёрными чернилами чертё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Добр бобёр до своих боб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Говорит попугай попугаю: "Я тебя, попугай, попугаю". Отвечает ему попугай: "Попугай, попугай, попугай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Татем у татя перекрадены утя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Во дворе четыре Сашки на траве играли в шашки. (Е. Дербенк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У села ли села лиса, у опушки ли л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Пашка ел суп, а кошки слопали ка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 Шёл спуск пушек с сопок и со с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 Я бродил один у горки, собирал скорогов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0384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городе рос горо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за речкой – гре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й наш козёл Ен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городе рвал горо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чку рвал за ре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ыплята просят про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ыплятам на подно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носит просо Фро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косы Фроси в пр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ёмный бор через задв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ли охотники Его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 каждого Ег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закорке – по руж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 каждого Ег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ёс охотничий на сворке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-ка, дети, повтор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раторочку мо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рассвете Ев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вил овсянку в ов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всей в о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колено в р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Камейша (пер. с белорусского С. Пай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своих сороч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сорясь, строч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орочены в сро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поссори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поссори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зу по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рок соро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Упражнения на развитие межполушарного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здействия</a:t>
            </a:r>
            <a:r>
              <a:rPr b="0" lang="ru-RU" sz="48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концентрации внимания, позитивного эмоционального настро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el_blinking_ha"/>
          <p:cNvPicPr/>
          <p:nvPr/>
        </p:nvPicPr>
        <p:blipFill>
          <a:blip r:embed="rId1"/>
          <a:stretch/>
        </p:blipFill>
        <p:spPr>
          <a:xfrm>
            <a:off x="785880" y="5643720"/>
            <a:ext cx="633240" cy="547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доровьесберегающую технологию можно рассматривать ка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венную характеристику любой образовательной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принципов, приемов, методов педагогической деятельности с признаками здоровьесбережения, дополняющих традиционные технологии обучения и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сихолого - педагогических, психофизиологических, организационных аспектов ведения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БТД"/>
          <p:cNvPicPr/>
          <p:nvPr/>
        </p:nvPicPr>
        <p:blipFill>
          <a:blip r:embed="rId1">
            <a:biLevel thresh="50000"/>
          </a:blip>
          <a:srcRect l="56855" t="43796" r="1262" b="28428"/>
          <a:stretch/>
        </p:blipFill>
        <p:spPr>
          <a:xfrm>
            <a:off x="4284720" y="4572000"/>
            <a:ext cx="620640" cy="368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1609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4788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Колечк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чередно и как можно быстрее ребенок перебирает пальцы рук, соединяя в кольцо с большим пальцем последовательно указательный, средний, и. т.д. Проба выполняется в прямом( от указательного пальца к мизинцу) и в обратном( от мизинца к указательному пальцу) порядке. В начале методика выполняется каждой рукой отдельно, затем вме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72080" y="1600200"/>
            <a:ext cx="311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Лезг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53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складывает левую руку в кулак, большой палец отставляет в сторону, кул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орачивает пальцами к себе. Правой рукой прямой ладонью в горизонтальном положении прикасается к мизинцу левой. После этого одновременно меняет положение правой и левой рук в течение 6-8 смен позиций. Необходимо добиваться высокой скорости смены по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БТД 004"/>
          <p:cNvPicPr/>
          <p:nvPr/>
        </p:nvPicPr>
        <p:blipFill>
          <a:blip r:embed="rId1">
            <a:biLevel thresh="50000"/>
          </a:blip>
          <a:srcRect l="0" t="41595" r="57092" b="35330"/>
          <a:stretch/>
        </p:blipFill>
        <p:spPr>
          <a:xfrm>
            <a:off x="4857840" y="4143240"/>
            <a:ext cx="433440" cy="243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Кулак-ребро-ладо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ТД 003"/>
          <p:cNvPicPr/>
          <p:nvPr/>
        </p:nvPicPr>
        <p:blipFill>
          <a:blip r:embed="rId1">
            <a:biLevel thresh="50000"/>
            <a:lum contrast="30000"/>
          </a:blip>
          <a:srcRect l="13262" t="18353" r="43886" b="53497"/>
          <a:stretch/>
        </p:blipFill>
        <p:spPr>
          <a:xfrm>
            <a:off x="5786280" y="5357880"/>
            <a:ext cx="433440" cy="285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5761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донь на плоскости, ладонь сжатая в кулак, ладонь ребром на плоскости, распрямленная ладонь. Дети выполняют пробу вместе с инструктором, затем по памяти в течение 8-10 повторений моторной программы. Проба выполняется сначала правой рукой, потом левой, затем двумя руками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помогать себе командами( «кулак-ребро-ладонь»), произносимыми вслух или про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"/>
              </a:rPr>
              <a:t>Зам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4956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естить руки ладонями друг к другу, сцепить пальцы в замок, вывернуть руки к себе. Двигать пальцем, который укажет ведущий. Палец должен двигаться четко и точно. Прикасаться к пальцу нельзя. Последовательно в упражнении должны участвовать все пальцы обеих рук. В дальнейшем дети могут выполнять упражнения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БТД 006"/>
          <p:cNvPicPr/>
          <p:nvPr/>
        </p:nvPicPr>
        <p:blipFill>
          <a:blip r:embed="rId1">
            <a:biLevel thresh="50000"/>
            <a:lum contrast="60000"/>
          </a:blip>
          <a:srcRect l="0" t="23217" r="57040" b="47487"/>
          <a:stretch/>
        </p:blipFill>
        <p:spPr>
          <a:xfrm>
            <a:off x="5357880" y="4000680"/>
            <a:ext cx="384120" cy="220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Массаж ушных рако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ассировать мочки ушей, затем всю ушную раковину. В конце упражнения растереть уши ру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80"/>
                </a:solidFill>
                <a:latin typeface="Arial"/>
              </a:rPr>
              <a:t>Ухо- 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ой рукой взяться за кончик носа, а правой-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Arial"/>
              </a:rPr>
              <a:t>Ляг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ь руки на стол. Одна рука сжата в кулак, другая лежит на плоскости стола (ладошка). Одновременно менять положение рук. Усложнение упражнения состоит  в ускор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99"/>
                </a:solidFill>
                <a:latin typeface="Arial"/>
              </a:rPr>
              <a:t>Мель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делать одновременно круговые движения рукой и ногой. Сначала левой рукой и левой ногой, правой рукой и правой ногой, левой ногой и правой рукой, правой рукой и левой ногой. Сначала вращение выполняется вперед, затем назад, затем рукой вперед, а ногой назад. Выполняйте так, чтобы рука и противоположная нога двигались одновременно с вращением глаз вправо, влево, вверх, вниз. Дыхание произво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Arial"/>
              </a:rPr>
              <a:t>Пара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ширование на счет « Раз- два-три- четыре». В первом цикле шагов хлопок руками на счет «раз», во втором- на счет «два», в третьем- на счет « три», в четвертом- на счет « четы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(хлопок)- два- три-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-два(хлопок)- три-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- два-три-( хлопок)- четы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- два- три- четыре-( хлопок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Для снятия усталости, нервного напря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чиком мизинца правой руки помассируйте кончик мизинца левой, а потом поменяйте р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Гусельникова 007"/>
          <p:cNvPicPr/>
          <p:nvPr/>
        </p:nvPicPr>
        <p:blipFill>
          <a:blip r:embed="rId1">
            <a:lum contrast="84000"/>
          </a:blip>
          <a:srcRect l="60126" t="12008" r="172" b="62087"/>
          <a:stretch/>
        </p:blipFill>
        <p:spPr>
          <a:xfrm>
            <a:off x="4716360" y="3913200"/>
            <a:ext cx="498600" cy="236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доровьесберегающая технология: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снижение объемов репродуктивной деятельности, отказ от преподавания в режиме «готового задания», ибо статичность, однообразие, сухость губит мышление, разрушает псих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еличение объем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ив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hool_girl_desk_bored_ha"/>
          <p:cNvPicPr/>
          <p:nvPr/>
        </p:nvPicPr>
        <p:blipFill>
          <a:blip r:embed="rId1"/>
          <a:stretch/>
        </p:blipFill>
        <p:spPr>
          <a:xfrm>
            <a:off x="7143840" y="5072040"/>
            <a:ext cx="287280" cy="38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язание пальц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временно соединить подушечку указательного пальца правой руки с подушечкой большого пальца левой руки и подушечку указательного пальца с левой руки с подушечкой большого пальца правой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БТД 004"/>
          <p:cNvPicPr/>
          <p:nvPr/>
        </p:nvPicPr>
        <p:blipFill>
          <a:blip r:embed="rId1">
            <a:lum contrast="30000"/>
          </a:blip>
          <a:srcRect l="7282" t="61115" r="56735" b="13904"/>
          <a:stretch/>
        </p:blipFill>
        <p:spPr>
          <a:xfrm>
            <a:off x="4857840" y="5429160"/>
            <a:ext cx="544320" cy="351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-360"/>
            <a:ext cx="8642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игналу  дети  «вяжут пальцами»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оединить указательный палец пра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и и ,  не разнимая большого паль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ой руки и указательного левой, опис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ым указательным пальцем окружнос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овь коснуться подушечки больш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льца левой р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БТД 004"/>
          <p:cNvPicPr/>
          <p:nvPr/>
        </p:nvPicPr>
        <p:blipFill>
          <a:blip r:embed="rId1">
            <a:lum contrast="90000"/>
          </a:blip>
          <a:srcRect l="47991" t="5849" r="12967" b="65242"/>
          <a:stretch/>
        </p:blipFill>
        <p:spPr>
          <a:xfrm>
            <a:off x="1292400" y="5937120"/>
            <a:ext cx="493560" cy="277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БТД 004"/>
          <p:cNvPicPr/>
          <p:nvPr/>
        </p:nvPicPr>
        <p:blipFill>
          <a:blip r:embed="rId2">
            <a:lum contrast="84000"/>
          </a:blip>
          <a:srcRect l="47998" t="5878" r="12981" b="65211"/>
          <a:stretch/>
        </p:blipFill>
        <p:spPr>
          <a:xfrm>
            <a:off x="7429680" y="5857920"/>
            <a:ext cx="537840" cy="30312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"/>
          <p:cNvSpPr/>
          <p:nvPr/>
        </p:nvSpPr>
        <p:spPr>
          <a:xfrm>
            <a:off x="4140360" y="6000840"/>
            <a:ext cx="502920" cy="145800"/>
          </a:xfrm>
          <a:prstGeom prst="rightArrow">
            <a:avLst>
              <a:gd name="adj1" fmla="val 50000"/>
              <a:gd name="adj2" fmla="val 5028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475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ытуемому предлагают максимально вытянуть обе руки ладонями вниз, правую руку сжать в кулак. По  звуковому сигналу испытуемый должен разжать правую руку и одновременно сжать в кулак левую руку. В течение 10 секунд с наибольшей быстротой проделать одновременно поочередное сжимание в кулак и разжимание правой и левой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БТД 005"/>
          <p:cNvPicPr/>
          <p:nvPr/>
        </p:nvPicPr>
        <p:blipFill>
          <a:blip r:embed="rId1">
            <a:lum contrast="48000"/>
          </a:blip>
          <a:srcRect l="62823" t="45378" r="6232" b="19440"/>
          <a:stretch/>
        </p:blipFill>
        <p:spPr>
          <a:xfrm>
            <a:off x="5286240" y="3832200"/>
            <a:ext cx="357480" cy="239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ольза применения здоровьесберегающи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репление здоровья учащихся (отсутствие динамики ухудшения здоровья учеников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ышение качества успеваем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сихологический комфорт на уро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ст профессионализма педаго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04dc"/>
                </a:solidFill>
                <a:latin typeface="Courier New"/>
              </a:rPr>
              <a:t>К ОЗДОРОВИТЕЛЬНЫМ МЕРОПРИЯТИЯМ ОТНОСЯ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Общеразвивающие упражнения – это упражнения для разных групп мыш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Танцев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Ритм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Физкультурно-спор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Двигательно-реч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ohnny_doing_arm_circ_a_hc"/>
          <p:cNvPicPr/>
          <p:nvPr/>
        </p:nvPicPr>
        <p:blipFill>
          <a:blip r:embed="rId1"/>
          <a:stretch/>
        </p:blipFill>
        <p:spPr>
          <a:xfrm>
            <a:off x="7572240" y="6000840"/>
            <a:ext cx="33336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алеологические пау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бходимы на каждом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одить в периоды утомления детей- в начальной  школе - на 10-15 и 20-30 мину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реднем звене- через 20-25 минут от начала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няя продолжительность пауз 30-60 секунд в начальной школе, 1-2 минуты- 5-11 кл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Courier New"/>
              </a:rPr>
              <a:t>ДИНАМИЧЕСКИЕ ПЕРЕМЕ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Организованная форма активного отдыха на открытом воздух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Проводятся после второго уро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00"/>
                </a:solidFill>
                <a:latin typeface="Arial"/>
              </a:rPr>
              <a:t>Длительность –  до 35 минут</a:t>
            </a:r>
            <a:r>
              <a:rPr b="0" lang="ru-RU" sz="2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ение, ходьба, бег, общеразвивающие     упражнения в игровой форме; длительность – 6-8 мину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подвижные игры, спортивные игры, самостоятельная игровая деятельность; длительность – 20-25 мину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построение, спокойная ходьба, упражнения на внимание; длительность – 4-6 мину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an197"/>
          <p:cNvPicPr/>
          <p:nvPr/>
        </p:nvPicPr>
        <p:blipFill>
          <a:blip r:embed="rId1"/>
          <a:stretch/>
        </p:blipFill>
        <p:spPr>
          <a:xfrm>
            <a:off x="7754760" y="5786280"/>
            <a:ext cx="3366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2"/>
          <p:cNvSpPr/>
          <p:nvPr/>
        </p:nvSpPr>
        <p:spPr>
          <a:xfrm>
            <a:off x="3635280" y="1989000"/>
            <a:ext cx="2016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43988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6000" y="980640"/>
            <a:ext cx="4427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е откр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ритория усп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995640" y="2565360"/>
            <a:ext cx="18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Ур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co5"/>
          <p:cNvPicPr/>
          <p:nvPr/>
        </p:nvPicPr>
        <p:blipFill>
          <a:blip r:embed="rId1"/>
          <a:stretch/>
        </p:blipFill>
        <p:spPr>
          <a:xfrm>
            <a:off x="4500720" y="3284640"/>
            <a:ext cx="501480" cy="501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Что я хочу выбросить сейчас в корзину с мусор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2757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вер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844280"/>
            <a:ext cx="44956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е 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ор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02:45Z</dcterms:created>
  <dc:creator>Xaoc</dc:creator>
  <dc:description/>
  <dc:language>en-US</dc:language>
  <cp:lastModifiedBy>Xaoc</cp:lastModifiedBy>
  <dcterms:modified xsi:type="dcterms:W3CDTF">2012-06-02T14:26:07Z</dcterms:modified>
  <cp:revision>516</cp:revision>
  <dc:subject/>
  <dc:title>Слайд 1</dc:title>
</cp:coreProperties>
</file>