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C6E-C2AA-42AA-A922-0BEE3D9D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0F3-EB71-4B25-9D38-2C14250E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152-6CA4-46F0-954E-FCBF6520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199-20E9-4762-90AD-C2E46534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7A0-AD52-4D7B-B62C-28EBB35B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F8F-A353-4F97-BD56-4C9C5155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22D-BD80-4356-B5EF-EEF2F12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94A-8DAF-4143-89DD-13CED44C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CB40-6DF0-46D6-91F5-AF5C833A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686-8F36-48FE-9526-B2831970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42F-03C9-4F81-863C-72E870EB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6C1-4204-4DE7-B559-E22A16C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414C-1DC0-416D-82A2-8A5FC13BD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33.jpeg"/><Relationship Id="rId3" Type="http://schemas.openxmlformats.org/officeDocument/2006/relationships/slide" Target="slide18.xml"/><Relationship Id="rId4" Type="http://schemas.openxmlformats.org/officeDocument/2006/relationships/image" Target="../media/image34.jpeg"/><Relationship Id="rId5" Type="http://schemas.openxmlformats.org/officeDocument/2006/relationships/slide" Target="slide19.xml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jpe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slide" Target="slide6.xml"/><Relationship Id="rId6" Type="http://schemas.openxmlformats.org/officeDocument/2006/relationships/image" Target="../media/image9.jpeg"/><Relationship Id="rId7" Type="http://schemas.openxmlformats.org/officeDocument/2006/relationships/slide" Target="slide7.xm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" Target="slide4.xml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9999"/>
                </a:solidFill>
                <a:latin typeface="Comic Sans MS"/>
              </a:rPr>
              <a:t>Разгадывая головоломки, нужно из каждой пары выбрать ту, которая соответствует ответу на вопрос. Затем из букв, расположенных в уголке выбранных картинок, составить сло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260280"/>
            <a:ext cx="748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50000">
                      <a:srgbClr val="bbe0e3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оловоломки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50000">
                    <a:srgbClr val="bbe0e3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86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 потолку подвешены два тела, изготовленные из одного и того же вещества. Потенциальная энергия какого тела больше относительно по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Массы шаров равны между собой. У какого из них плотность вещества, из которого шары изготовлены, больше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0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Нижние отверстия одинаковых стеклянных трубок, наполненных водой затянуты резиновой пленкой. Какая из пленок должна прогнуться боль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59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м из сосудов давление жидкости на дно будет наименьшим при погружении в них шар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165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На какую гирю действует большая сила тяж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16040" cy="21589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1455480" cy="20894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093080" y="1557360"/>
            <a:ext cx="1314360" cy="18702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1571400" cy="2448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1514520" cy="21762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6920" y="260280"/>
            <a:ext cx="3467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8360" y="6093000"/>
            <a:ext cx="230328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ла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916360" y="3789360"/>
            <a:ext cx="1744560" cy="24638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84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м из чайников кипяток быстрее остын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588360" cy="5202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оздушные шары наполнены водородом. Какой из шаров находится вы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156360" cy="5445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одвешенные к коромыслу весов одинаковые шары погрузили в жидкость. Какой шар перетян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5810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ое тело обладает кинетической энерги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3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58770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ой из кофейников больше вмещает коф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й кастрюле содержимое охладится быстр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093080" cy="5527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ой из стаканов при наливании кипятка с большей вероятностью останется ц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372000" cy="5533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Две одинаковые пробирки с песком опущены в сосуды с жидкостями различной плотности. Плотность какой жидкости боль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04000" cy="5521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сосуде плавают одинакового размера деревянный и пробковый бруски. Какой из них пробков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4360" y="1484280"/>
            <a:ext cx="1590480" cy="18734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19640" y="5805000"/>
            <a:ext cx="33940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оле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82760" y="1484280"/>
            <a:ext cx="1035360" cy="18003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94320" y="1341360"/>
            <a:ext cx="1092240" cy="20876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647120" y="1413000"/>
            <a:ext cx="1328760" cy="16556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539640" y="3789360"/>
            <a:ext cx="1432080" cy="17272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9"/>
          <a:stretch/>
        </p:blipFill>
        <p:spPr>
          <a:xfrm>
            <a:off x="2700360" y="3645000"/>
            <a:ext cx="1249200" cy="20174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10"/>
          <a:stretch/>
        </p:blipFill>
        <p:spPr>
          <a:xfrm>
            <a:off x="5019840" y="3716280"/>
            <a:ext cx="934920" cy="1728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6948360" y="3357720"/>
            <a:ext cx="1343160" cy="19443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400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каком случае при движении тел возникает трение сколь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436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32000" y="274680"/>
            <a:ext cx="421164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сли мензурки получают одинаковое количество теплоты, то в какой из них температура воды станет вы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74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08720" y="1989000"/>
            <a:ext cx="3394080" cy="15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Какой блок не дает выигрыш в си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402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4508640"/>
            <a:ext cx="81583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ри сравнении теплопроводности металлов для опыта выбрали медный и железный стержни. Какой стержень медны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5084280"/>
            <a:ext cx="822960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Укажите, какой из приведенных графиков изменения температуры вещества соответствует процессу его плав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59640" cy="4975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91328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Одинаковые стаканы наполнены равными порциями воды: один – теплой водой, другой холодной. В них одновременно брошены кусочки красящего вещества. Посмотрев на рисунок, определите, в каком из стаканов вода холод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2590920" cy="2025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51280" y="1413000"/>
            <a:ext cx="1130400" cy="3744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020000" y="1413000"/>
            <a:ext cx="1003320" cy="287964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2706840" cy="17146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076720" y="4797360"/>
            <a:ext cx="1650960" cy="14335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64360" y="5445000"/>
            <a:ext cx="1728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ыча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8053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Какая из цистерн движется замедлен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05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48928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В каком случае измерение объема жидкости с помощью мензурки выполняется правиль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541800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На какую из изображенных одинаковых плит по размерам действует большая сила тяж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32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При каком положении кирпича давление на поверхность будет наибольш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Ответ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59280" y="6021000"/>
            <a:ext cx="2243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е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981000"/>
            <a:ext cx="1744560" cy="2232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659640" y="1125360"/>
            <a:ext cx="1763640" cy="2160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5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3645000"/>
            <a:ext cx="1722240" cy="216036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6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4005360"/>
            <a:ext cx="1617840" cy="18730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6804000" y="3645000"/>
            <a:ext cx="1349280" cy="187308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pic>
        <p:nvPicPr>
          <p:cNvPr id="62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35280" y="1268280"/>
            <a:ext cx="1530360" cy="216072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какой из сосудов вы налили бы жидкость, если бы вам нужно было предохранить ее от быстрого испа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7:09:07Z</dcterms:created>
  <dc:creator>Учитель</dc:creator>
  <dc:description/>
  <dc:language>en-US</dc:language>
  <cp:lastModifiedBy>Учитель</cp:lastModifiedBy>
  <dcterms:modified xsi:type="dcterms:W3CDTF">2007-04-19T12:11:42Z</dcterms:modified>
  <cp:revision>4</cp:revision>
  <dc:subject/>
  <dc:title>Слайд 1</dc:title>
</cp:coreProperties>
</file>