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CA0-D789-4764-AFDC-940E667E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097-A1E6-45A1-BB02-5F75DA8C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C03-004C-461F-A34D-3A60054A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CE9-3720-4E47-AD71-B313309A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462-3340-46C9-B45B-76DA51B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308-6E1B-4883-A095-3417D564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2D1-A60E-4757-A947-47480248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915-7FF6-4CFF-975D-4EB2DC10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5C7-1D7E-4A61-9A1B-4AB3BD06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33B-12D8-4DDB-AA5C-A747FA9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5D9-2D76-4D8A-B45D-9F0B391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2E7-5E24-432A-B924-870CD4B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E1A-0320-4E82-AC7A-B3D0A7DC0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3.jpeg"/><Relationship Id="rId3" Type="http://schemas.openxmlformats.org/officeDocument/2006/relationships/slide" Target="slide18.xml"/><Relationship Id="rId4" Type="http://schemas.openxmlformats.org/officeDocument/2006/relationships/image" Target="../media/image34.jpeg"/><Relationship Id="rId5" Type="http://schemas.openxmlformats.org/officeDocument/2006/relationships/slide" Target="slide19.xml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8.jpeg"/><Relationship Id="rId5" Type="http://schemas.openxmlformats.org/officeDocument/2006/relationships/slide" Target="slide6.xml"/><Relationship Id="rId6" Type="http://schemas.openxmlformats.org/officeDocument/2006/relationships/image" Target="../media/image9.jpeg"/><Relationship Id="rId7" Type="http://schemas.openxmlformats.org/officeDocument/2006/relationships/slide" Target="slide7.xm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" Target="slide4.xm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Разгадывая головоломки, нужно из каждой пары выбрать ту, которая соответствует ответу на вопрос. Затем из букв, расположенных в уголке выбранных картинок, составить сло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260280"/>
            <a:ext cx="748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50000">
                      <a:srgbClr val="bbe0e3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ловоломки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50000">
                    <a:srgbClr val="bbe0e3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86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 потолку подвешены два тела, изготовленные из одного и того же вещества. Потенциальная энергия какого тела больше относительно по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Массы шаров равны между собой. У какого из них плотность вещества, из которого шары изготовлены, больше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0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Нижние отверстия одинаковых стеклянных трубок, наполненных водой затянуты резиновой пленкой. Какая из пленок должна прогнуться боль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каком из сосудов давление жидкости на дно будет наименьшим при погружении в них ша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На какую гирю действует большая сила тяже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16040" cy="21589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1455480" cy="20894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093080" y="1557360"/>
            <a:ext cx="1314360" cy="18702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1571400" cy="24480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1514520" cy="21762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3467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Отв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8360" y="6093000"/>
            <a:ext cx="230328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ла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916360" y="3789360"/>
            <a:ext cx="1744560" cy="24638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84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каком из чайников кипяток быстрее осты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588360" cy="5202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оздушные шары наполнены водородом. Какой из шаров находится вы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156360" cy="5445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одвешенные к коромыслу весов одинаковые шары погрузили в жидкость. Какой шар перетян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5810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акое тело обладает кинетической энерги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3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877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акой из кофейников больше вмещает коф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91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какой кастрюле содержимое охладится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093080" cy="5527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акой из стаканов при наливании кипятка с большей вероятностью останется ц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372000" cy="5533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Две одинаковые пробирки с песком опущены в сосуды с жидкостями различной плотности. Плотность какой жидкости боль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5521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сосуде плавают одинакового размера деревянный и пробковый бруски. Какой из них пробков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1590480" cy="18734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Отв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19640" y="5805000"/>
            <a:ext cx="33940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олек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82760" y="1484280"/>
            <a:ext cx="1035360" cy="180036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94320" y="1341360"/>
            <a:ext cx="1092240" cy="20876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7647120" y="1413000"/>
            <a:ext cx="1328760" cy="16556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539640" y="3789360"/>
            <a:ext cx="1432080" cy="17272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2700360" y="3645000"/>
            <a:ext cx="1249200" cy="20174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5019840" y="3716280"/>
            <a:ext cx="934920" cy="1728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6948360" y="3357720"/>
            <a:ext cx="1343160" cy="194436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каком случае при движении тел возникает трение сколь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36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42116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сли мензурки получают одинаковое количество теплоты, то в какой из них температура воды станет вы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74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720" y="1989000"/>
            <a:ext cx="339408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акой блок не дает выигрыш в си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4508640"/>
            <a:ext cx="81583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и сравнении теплопроводности металлов для опыта выбрали медный и железный стержни. Какой стержень медн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508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кажите, какой из приведенных графиков изменения температуры вещества соответствует процессу его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59640" cy="497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91328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Одинаковые стаканы наполнены равными порциями воды: один – теплой водой, другой холодной. В них одновременно брошены кусочки красящего вещества. Посмотрев на рисунок, определите, в каком из стаканов вода холод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590920" cy="2025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51280" y="1413000"/>
            <a:ext cx="1130400" cy="3744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020000" y="1413000"/>
            <a:ext cx="1003320" cy="28796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2706840" cy="17146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076720" y="4797360"/>
            <a:ext cx="1650960" cy="14335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Отв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64360" y="5445000"/>
            <a:ext cx="1728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ыч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8053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акая из цистерн движется замедлен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05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489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каком случае измерение объема жидкости с помощью мензурки выполняется прави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41800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На какую из изображенных одинаковых плит по размерам действует большая сила тяже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2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ри каком положении кирпича давление на поверхность будет наибольш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Ответ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59280" y="6021000"/>
            <a:ext cx="224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е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981000"/>
            <a:ext cx="1744560" cy="22320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59640" y="1125360"/>
            <a:ext cx="1763640" cy="2160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5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3645000"/>
            <a:ext cx="1722240" cy="216036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6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08360" y="4005360"/>
            <a:ext cx="1617840" cy="18730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6804000" y="3645000"/>
            <a:ext cx="1349280" cy="18730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6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35280" y="1268280"/>
            <a:ext cx="1530360" cy="2160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какой из сосудов вы налили бы жидкость, если бы вам нужно было предохранить ее от быстрого испа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7:09:07Z</dcterms:created>
  <dc:creator>Учитель</dc:creator>
  <dc:description/>
  <dc:language>en-US</dc:language>
  <cp:lastModifiedBy>Учитель</cp:lastModifiedBy>
  <dcterms:modified xsi:type="dcterms:W3CDTF">2007-04-19T12:11:42Z</dcterms:modified>
  <cp:revision>4</cp:revision>
  <dc:subject/>
  <dc:title>Слайд 1</dc:title>
</cp:coreProperties>
</file>