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D73-5DB3-45EC-8624-EA984D6A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800-D95F-4FA0-AB0F-DC6CA9D9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040-F757-446F-9A24-D0483C10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511-CEC2-4C14-8E42-2E3D8C83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2E5-424E-4E72-9578-4F6DC2F4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3E8-4311-44B3-A03D-F40A63A7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AD0-414D-452A-8BF5-1D8AA0EE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1D9-09F5-4DDB-AD97-AB9ECB60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D78-CBAA-4BE7-8C3A-BCF9C661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F93-9E7E-4852-81DC-18DAEE26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148-0881-41E7-AF90-298B283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EF1-3DF3-4D07-9A73-3885A2F1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0911-521B-4F9C-AEC2-EA3569E3E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069281%5B1%5D.wav" TargetMode="External"/><Relationship Id="rId2" Type="http://schemas.microsoft.com/office/2007/relationships/media" Target="file:///tmp/home/.config/libreoffice/4/user/gallery/MS900069281%5B1%5D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MS900069706%5B1%5D.wav" TargetMode="External"/><Relationship Id="rId3" Type="http://schemas.microsoft.com/office/2007/relationships/media" Target="file:///tmp/home/.config/libreoffice/4/user/gallery/MS900069706%5B1%5D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304920" y="380880"/>
            <a:ext cx="88394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ыжки в длин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 разбег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3520" y="609480"/>
            <a:ext cx="76197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онец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такое прыжок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длину с разбега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задача атлета — достигнуть наибольшей горизонтальной длины прыжка с разбега. Прыжки в длину проводятся в секторе для горизонтальных прыжков по общим правилам, установленным для этой разновидности технических видов. При выполнении прыжка атлеты в первой стадии совершают разбег по дорожке, затем отталкиваются одной ногой от специальной доски и прыгают в яму с песком. Дальность прыжка рассчитывается как расстояние от специальной метки на доске отталкивания до начала лунки от приземления в пес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тояние от доски отталкивания до дальнего края ямы для приземления должно быть не менее 10 м. Сама линия отталкивания должна быть расположена на расстоянии до 5 м от ближнего края ямы для призем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хема прыжка в дли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13400" cy="42796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1676520"/>
            <a:ext cx="6095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жок в длину  был распространённой дисциплиной античных олимпийских игр. По дошедшим свидетельствам техника прыжка принципиально отличалась от современной. При прыжке атлеты держали в руках специальный груз напоминающий гантели, который перед приземлением отбрасывали назад. Вероятно, считалось, что таким образом они увеличивают длину пры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меющимся данным древнегреческий атлет Хионис на Играх прошедших в 656 году до н. э. достиг результата 7,05 м. Есть также сведения о том что некоторые атлеты достигали результатов свыше 15 метров, но исследователи считают что речь идёт о тройном прыж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щё одна схема прыжка в длин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 разбе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51199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2286000"/>
            <a:ext cx="7238880" cy="16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екорды спортсме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рыжки в высо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ый рекордсмен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51460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м советским рекордсменом мира по прыжкам в высоту стал ленинградец Юрий Степанов, который в 1957 году взял высоту 2 метра 16 см перекидным стилем. Потом была эпоха Валерия Брумеля, и он, усовершенствовав перекидной стиль до последней возможности, установил шесть официальных мировых рекордов, доведя высший результат до 2 метров 28 см в июле 1963 года. Этот прыжок был совершен буквально по заказу Никиты Хрущева на матче СССР-США в Москве. Но вскоре после этого "космический прыгун" Брумель сломал маховую ногу в аварии на мотоцикле и выбыл из мировой обой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эй Ю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6248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й Юри - самый знатный олимпиец, если учесть его достижения в прыжках в высоту, длину и тройным с места. Он выиграл десять золотых медалей на четырех Олимпиадах - с 1900 года по 1908-й (в 1906 году были внеочередные Иг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бега в те времена прыгали не очень много - от 181 см в 1896 году до 190 см в 1908-м. Все это преодолевалось опять же перешагиванием. Наконец, американец Джордж Хорайн догадался переходить планку лежа к ней боком и поджав толчковую ногу. Этот стиль позволил впервые преодолеть 2 метра и получил название по имени автора - хорайн или хорейн, а в Советском Союзе, боровшемся позже с космополитизмом, - боковой перекат или просто перек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62280" cy="40957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вали презентац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рина К.     Притчина Е.    Леонова 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745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169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914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12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038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90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7:19:32Z</dcterms:created>
  <dc:creator>Serg</dc:creator>
  <dc:description/>
  <dc:language>en-US</dc:language>
  <cp:lastModifiedBy>лена</cp:lastModifiedBy>
  <dcterms:modified xsi:type="dcterms:W3CDTF">2012-05-03T17:33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