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DA5-AEF6-4BCB-A463-2DDEA84E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571-88E3-495B-A95B-4CB8988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AC3-F219-401A-B800-8102E96C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771-F661-4E35-A734-A5017D97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FD6-45A8-4034-9732-56C8DB87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61B5-96B8-4A4C-A2DF-18E91706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DE7-A9A0-4B5C-B9D6-FBF3F230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1C8-64C9-442B-97DD-4559B44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6E2-0D11-46F9-8F8C-AB48F423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3ED-AFA9-49CC-BF45-039F246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851-FC0B-4C9E-B6E3-88AD733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331-7DD6-45C7-BAD5-6C82E180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CEB-E7B6-41BA-A57A-173E9A49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900069281%5B1%5D.wav" TargetMode="External"/><Relationship Id="rId2" Type="http://schemas.microsoft.com/office/2007/relationships/media" Target="file:///tmp/home/.config/libreoffice/4/user/gallery/MS900069281%5B1%5D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MS900069706%5B1%5D.wav" TargetMode="External"/><Relationship Id="rId3" Type="http://schemas.microsoft.com/office/2007/relationships/media" Target="file:///tmp/home/.config/libreoffice/4/user/gallery/MS900069706%5B1%5D.wav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04920" y="380880"/>
            <a:ext cx="883944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ыжки в длин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 разбег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3520" y="609480"/>
            <a:ext cx="761976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онец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10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такое прыжок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длину с разбега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задача атлета — достигнуть наибольшей горизонтальной длины прыжка с разбега. Прыжки в длину проводятся в секторе для горизонтальных прыжков по общим правилам, установленным для этой разновидности технических видов. При выполнении прыжка атлеты в первой стадии совершают разбег по дорожке, затем отталкиваются одной ногой от специальной доски и прыгают в яму с песком. Дальность прыжка рассчитывается как расстояние от специальной метки на доске отталкивания до начала лунки от приземления в пес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тояние от доски отталкивания до дальнего края ямы для приземления должно быть не менее 10 м. Сама линия отталкивания должна быть расположена на расстоянии до 5 м от ближнего края ямы для призе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хема прыжка в длин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13400" cy="427968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16765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 в длину  был распространённой дисциплиной античных олимпийских игр. По дошедшим свидетельствам техника прыжка принципиально отличалась от современной. При прыжке атлеты держали в руках специальный груз напоминающий гантели, который перед приземлением отбрасывали назад. Вероятно, считалось, что таким образом они увеличивают длину пры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меющимся данным древнегреческий атлет Хионис на Играх прошедших в 656 году до н. э. достиг результата 7,05 м. Есть также сведения о том что некоторые атлеты достигали результатов свыше 15 метров, но исследователи считают что речь идёт о тройном прыж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щё одна схема прыжка в длин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 разб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51199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143000" y="2286000"/>
            <a:ext cx="7238880" cy="16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екорды спортсме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рыжки в высо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рекордсмен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514600"/>
            <a:ext cx="8001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м советским рекордсменом мира по прыжкам в высоту стал ленинградец Юрий Степанов, который в 1957 году взял высоту 2 метра 16 см перекидным стилем. Потом была эпоха Валерия Брумеля, и он, усовершенствовав перекидной стиль до последней возможности, установил шесть официальных мировых рекордов, доведя высший результат до 2 метров 28 см в июле 1963 года. Этот прыжок был совершен буквально по заказу Никиты Хрущева на матче СССР-США в Москве. Но вскоре после этого "космический прыгун" Брумель сломал маховую ногу в аварии на мотоцикле и выбыл из мировой обой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эй Ю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6248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 Юри - самый знатный олимпиец, если учесть его достижения в прыжках в высоту, длину и тройным с места. Он выиграл десять золотых медалей на четырех Олимпиадах - с 1900 года по 1908-й (в 1906 году были внеочередные Иг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разбега в те времена прыгали не очень много - от 181 см в 1896 году до 190 см в 1908-м. Все это преодолевалось опять же перешагиванием. Наконец, американец Джордж Хорайн догадался переходить планку лежа к ней боком и поджав толчковую ногу. Этот стиль позволил впервые преодолеть 2 метра и получил название по имени автора - хорайн или хорейн, а в Советском Союзе, боровшемся позже с космополитизмом, - боковой перекат или просто пер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762280" cy="40957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здавали презентац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рина К.     Притчина Е.    Леонова 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745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16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914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2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7038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90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7:19:32Z</dcterms:created>
  <dc:creator>Serg</dc:creator>
  <dc:description/>
  <dc:language>en-US</dc:language>
  <cp:lastModifiedBy>лена</cp:lastModifiedBy>
  <dcterms:modified xsi:type="dcterms:W3CDTF">2012-05-03T17:33:4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