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0B5-EC06-49B2-89F6-F5D6830D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6566-D174-4976-A132-A7E9FB45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A424-F36F-4024-8BD8-34204349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CC7E-C11C-4837-BDB4-8BE1CE09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89E6-DC37-4F6C-9D87-BC66DEED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E523-6B60-4C35-8CD2-A3B63C77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65EC-C720-4BEC-A52C-146666FE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02A8-53F2-4234-B485-4BA9654E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F7AE-DB2A-44B3-B631-6C48CA48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2154-A251-4867-95E1-35ADE3B5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D0B7-B9B1-429C-AB5F-DE34BD78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19A-1F24-4212-9F44-CBBD32CC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08E7-D16C-4872-80AD-01D65314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D649-7075-455B-9F18-BA06AE54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08E2-BA7E-4AAC-95F7-0B2B017B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CE7A-CA2F-4544-A402-8279DF3A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EBBC-B50B-4BF5-9199-245D5FB2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4E79-B2E9-4307-B998-823B11E1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5FD-FDCA-47F4-8346-1B254C0A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2B28-57E8-4077-B9B9-6ACB9AFD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A7BB-5489-471C-99E2-333B373C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D564-ACEC-4AFF-B309-C3ABBB5E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FD7-D537-4659-8416-8A6E5E1C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88F-7EF0-4667-87BB-D0C125F4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01AD-AB00-4D61-81F7-EF8DAEB51D2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34B9-DEB2-489C-9BE3-8B03461D706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1844280"/>
            <a:ext cx="9177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5700" spc="-1" strike="noStrike">
                <a:solidFill>
                  <a:srgbClr val="336666"/>
                </a:solidFill>
                <a:latin typeface="Arial"/>
              </a:rPr>
              <a:t>Художественная </a:t>
            </a:r>
            <a:br>
              <a:rPr sz="5700"/>
            </a:br>
            <a:r>
              <a:rPr b="0" i="1" lang="en-US" sz="5700" spc="-1" strike="noStrike">
                <a:solidFill>
                  <a:srgbClr val="336666"/>
                </a:solidFill>
                <a:latin typeface="Arial"/>
              </a:rPr>
              <a:t>       гимнастика</a:t>
            </a:r>
            <a:br>
              <a:rPr sz="5700"/>
            </a:br>
            <a:r>
              <a:rPr b="0" i="1" lang="en-US" sz="5700" spc="-1" strike="noStrike">
                <a:solidFill>
                  <a:srgbClr val="336666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Базовые передвижения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Times New Roman"/>
              </a:rPr>
              <a:t>Выполнили Малахова Настя и Волкова Анна 10б класс</a:t>
            </a:r>
            <a:r>
              <a:rPr b="0" i="1" lang="en-US" sz="5700" spc="-1" strike="noStrike">
                <a:solidFill>
                  <a:srgbClr val="336666"/>
                </a:solidFill>
                <a:latin typeface="Arial"/>
              </a:rPr>
              <a:t> </a:t>
            </a:r>
            <a:br>
              <a:rPr sz="57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Прыж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Прыжки, как технический элемент, в художественной гимнастике характеризуются быстрым и сильным отталкиванием и достаточно высоким полетом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 </a:t>
            </a: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В таком сложном действии принято выделять отдельные фаз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76000" y="691920"/>
            <a:ext cx="70102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6666"/>
                </a:solidFill>
                <a:latin typeface="Arial"/>
              </a:rPr>
              <a:t>1) подготовительные действия (подседания, разбег),</a:t>
            </a:r>
            <a:br>
              <a:rPr sz="3000"/>
            </a:br>
            <a:r>
              <a:rPr b="1" lang="ru-RU" sz="3000" spc="-1" strike="noStrike">
                <a:solidFill>
                  <a:srgbClr val="336666"/>
                </a:solidFill>
                <a:latin typeface="Arial"/>
              </a:rPr>
              <a:t>2) отталкивание (одной или двумя ногами или даже руками),</a:t>
            </a:r>
            <a:br>
              <a:rPr sz="3000"/>
            </a:br>
            <a:r>
              <a:rPr b="1" lang="ru-RU" sz="3000" spc="-1" strike="noStrike">
                <a:solidFill>
                  <a:srgbClr val="336666"/>
                </a:solidFill>
                <a:latin typeface="Arial"/>
              </a:rPr>
              <a:t>3) формообразующие действия, обусловленные двигательным заданием,</a:t>
            </a:r>
            <a:br>
              <a:rPr sz="3000"/>
            </a:br>
            <a:r>
              <a:rPr b="1" lang="ru-RU" sz="3000" spc="-1" strike="noStrike">
                <a:solidFill>
                  <a:srgbClr val="336666"/>
                </a:solidFill>
                <a:latin typeface="Arial"/>
              </a:rPr>
              <a:t>4) фиксация заданной позы,</a:t>
            </a:r>
            <a:br>
              <a:rPr sz="3000"/>
            </a:br>
            <a:r>
              <a:rPr b="1" lang="ru-RU" sz="3000" spc="-1" strike="noStrike">
                <a:solidFill>
                  <a:srgbClr val="336666"/>
                </a:solidFill>
                <a:latin typeface="Arial"/>
              </a:rPr>
              <a:t>5) подготовка к приземлению,</a:t>
            </a:r>
            <a:br>
              <a:rPr sz="3000"/>
            </a:br>
            <a:r>
              <a:rPr b="1" lang="ru-RU" sz="3000" spc="-1" strike="noStrike">
                <a:solidFill>
                  <a:srgbClr val="336666"/>
                </a:solidFill>
                <a:latin typeface="Arial"/>
              </a:rPr>
              <a:t>6) приземление (амортизационные действия, компенсаторные, связующие, переходные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47640" y="692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6666"/>
                </a:solidFill>
                <a:latin typeface="Arial"/>
              </a:rPr>
              <a:t>Упражнения со скакалкой представляют собой сочетания различных прыжков на одной и двух ногах, поочередных перепрыгиваний и вращений скакалки — выполняемых на месте и с продвижением вперед, в сторону, назад, с поворотами, а также с изменением ритма и темпа как прыжков, так и (одновременно с прыжками или «отдельно») движений скакалкой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640" y="-387720"/>
            <a:ext cx="701064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Упражнения с предметами. 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000" y="7650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Данная группа упражнений в полной мере определяет специфику художественной гимнастики. Наличие того или иного предмета, отличающегося целым рядом признаков (формой, весом, разной конструкцией, распределением массы и ее геометрией и т.п.), а также необходимость выполнять с ним различные манипуляции — определяют их разнообразие, трудность, зрелищность и многосторонность требующейся подготов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476000" y="692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Для упражнений с предметами характерны по крайней мере пять групп технических действий: броски и ловля, махи, круги, вращения, перекаты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368000" y="620640"/>
            <a:ext cx="7775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6666"/>
                </a:solidFill>
                <a:latin typeface="Arial"/>
              </a:rPr>
              <a:t>Художественная гимнастика - ациклический, сложнокоординированный вид спорта. Упражнения программы представляют собой свободное передвижение по площадке, включающее в себя элементы танца, пластики, мимики, пантомимики, ритмически согласованных с музыкой движений без предмета и с предмет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На начальном этапе подготовки гимнасток в процессе тренировочных занятий решаются и немаловажные частные задачи оздоровления:</a:t>
            </a:r>
            <a:br>
              <a:rPr sz="2000"/>
            </a:b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— обеспечивается и поддерживается статус здорового человека;</a:t>
            </a:r>
            <a:br>
              <a:rPr sz="2000"/>
            </a:b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— расширяется общий двигательный опыт, обеспечивающий учебную, профессионально-трудовую и бытовую деятельность;</a:t>
            </a:r>
            <a:br>
              <a:rPr sz="2000"/>
            </a:b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— достигается и сохраняется высокий уровень функционального состояния основных систем организма;</a:t>
            </a:r>
            <a:br>
              <a:rPr sz="2000"/>
            </a:b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— развиваются ординарно и в комплексе физические качества;</a:t>
            </a:r>
            <a:br>
              <a:rPr sz="2000"/>
            </a:b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— формируются основные навыки поведения: осанка, походка, стиль поведения и общения;</a:t>
            </a:r>
            <a:br>
              <a:rPr sz="2000"/>
            </a:b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— воспитываются культурологические качества: восприятие красоты двигательных действий, управление эмоциональным состоянием, музыкальный вкус, в целом — имидж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Базовые передвиж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6000" y="14130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«мягкий шаг» — чередование шагов без видимого отталкивания с постановкой ноги «с носка» и последовательным перекатом на всю ступн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47640" y="620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«высокий шаг» — выполняется маховым энергичным подниманием бедра до горизонтального положения при сохранении вертикальности голени; аналогично выполняется «высокий бег» с фиксированным положением рук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547640" y="620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6666"/>
                </a:solidFill>
                <a:latin typeface="Arial"/>
              </a:rPr>
              <a:t>«острый шаг» — характеризуется коротким движением ноги вперед с резкой акцентированной постановкой на опору и последующим подниманием на полупальцы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47640" y="692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«широкий шаг» — напоминает выпады, когда значительное по длине перемещение согнутой ноги вперед сопровождается выпрямлением «задней» ноги при некотором наклоне туловища вперед. Подобный «широкому шагу» «широкий бег» требует мощного отталкивания и выглядит стремительным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547640" y="692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6666"/>
                </a:solidFill>
                <a:latin typeface="Arial"/>
              </a:rPr>
              <a:t>«скрестный шаг» — поочередная смена скрестного положения ног, когда одна нога ставится с носка перед другой, а затем положение ног меняется движением «передней» или «задней» ног — что позволяет менять направление движения (влево, вправо, вперед, назад)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476000" y="692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«переменный шаг» — является соединением двух шагов одной ногой с последующим приставлением другой («приставной шаг») и двух шагов с другой ноги, данный шаг может выполняться в различных ритмических режимах и служит основой танцевальных шаг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5:35:42Z</dcterms:created>
  <dc:creator>adm</dc:creator>
  <dc:description/>
  <dc:language>en-US</dc:language>
  <cp:lastModifiedBy>Лена</cp:lastModifiedBy>
  <dcterms:modified xsi:type="dcterms:W3CDTF">2012-05-03T13:56:53Z</dcterms:modified>
  <cp:revision>2</cp:revision>
  <dc:subject/>
  <dc:title>    Художественная         гимнастика </dc:title>
</cp:coreProperties>
</file>