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F02-795F-440B-8AD9-CE1F4EE1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0F9F-50BE-443F-859E-809E5E47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191-8DC2-48CE-B812-6DF96B3A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FAA-9649-4B83-A3C1-85536FED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9D11-1704-4B50-AE82-0E9A7C27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D2E8-5AA3-4F23-8AE7-FF453F7D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DC1D-7498-4E97-A33D-2F878F82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B318-F3DC-4849-8B8D-E4193EDB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027F-45CA-4E09-AA44-AC2EF50D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4AAD-0BBC-4281-B942-136A8150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46D6-7E4C-4854-9B3B-CE493D17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474-ECA9-41A6-89AA-A0B0A6E4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A946-D188-41D5-A0B8-10BE84FC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A165-E738-477E-9F17-8BD36E07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18BC-10E0-4BE2-93EC-01626F49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DC44-FF54-4B9B-A3F0-416E569C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627B-4662-4CC9-8F5F-6AD196B4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13D-C3CB-48F0-ACD8-E2EFDE7F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924-8C89-4906-8C7C-6367EC49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752-3F44-47D3-8875-95C6FED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8C8-0BC2-4D30-8904-A021FC2E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189-9829-49A5-AFDF-456A972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2A1-B64D-433B-B168-7B97E2C2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E65-6D6F-47CE-A3EA-F0E5F6AD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EB60-FE5E-4A5E-8863-CE3AC7E3B5F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F837-1DFA-468E-9A9E-D49215A1B5D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844280"/>
            <a:ext cx="917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5700" spc="-1" strike="noStrike">
                <a:solidFill>
                  <a:srgbClr val="336666"/>
                </a:solidFill>
                <a:latin typeface="Arial"/>
              </a:rPr>
              <a:t>Художественная </a:t>
            </a:r>
            <a:br>
              <a:rPr sz="5700"/>
            </a:br>
            <a:r>
              <a:rPr b="0" i="1" lang="en-US" sz="5700" spc="-1" strike="noStrike">
                <a:solidFill>
                  <a:srgbClr val="336666"/>
                </a:solidFill>
                <a:latin typeface="Arial"/>
              </a:rPr>
              <a:t>       гимнастика</a:t>
            </a:r>
            <a:br>
              <a:rPr sz="5700"/>
            </a:br>
            <a:r>
              <a:rPr b="0" i="1" lang="en-US" sz="5700" spc="-1" strike="noStrike">
                <a:solidFill>
                  <a:srgbClr val="336666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Базовые передвижения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Times New Roman"/>
              </a:rPr>
              <a:t>Выполнили Малахова Настя и Волкова Анна 10б класс</a:t>
            </a:r>
            <a:r>
              <a:rPr b="0" i="1" lang="en-US" sz="5700" spc="-1" strike="noStrike">
                <a:solidFill>
                  <a:srgbClr val="336666"/>
                </a:solidFill>
                <a:latin typeface="Arial"/>
              </a:rPr>
              <a:t> 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Прыж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Прыжки, как технический элемент, в художественной гимнастике характеризуются быстрым и сильным отталкиванием и достаточно высоким полетом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 </a:t>
            </a: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В таком сложном действии принято выделять отдельные фаз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76000" y="691920"/>
            <a:ext cx="70102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1) подготовительные действия (подседания, разбег)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2) отталкивание (одной или двумя ногами или даже руками)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3) формообразующие действия, обусловленные двигательным заданием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4) фиксация заданной позы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5) подготовка к приземлению,</a:t>
            </a:r>
            <a:br>
              <a:rPr sz="3000"/>
            </a:b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6) приземление (амортизационные действия, компенсаторные, связующие, переходные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47640" y="6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6666"/>
                </a:solidFill>
                <a:latin typeface="Arial"/>
              </a:rPr>
              <a:t>Упражнения со скакалкой представляют собой сочетания различных прыжков на одной и двух ногах, поочередных перепрыгиваний и вращений скакалки — выполняемых на месте и с продвижением вперед, в сторону, назад, с поворотами, а также с изменением ритма и темпа как прыжков, так и (одновременно с прыжками или «отдельно») движений скакалкой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-387720"/>
            <a:ext cx="701064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Упражнения с предметами. 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6000" y="765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Данная группа упражнений в полной мере определяет специфику художественной гимнастики. Наличие того или иного предмета, отличающегося целым рядом признаков (формой, весом, разной конструкцией, распределением массы и ее геометрией и т.п.), а также необходимость выполнять с ним различные манипуляции — определяют их разнообразие, трудность, зрелищность и многосторонность требующейся подготов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476000" y="692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Для упражнений с предметами характерны по крайней мере пять групп технических действий: броски и ловля, махи, круги, вращения, перекаты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68000" y="620640"/>
            <a:ext cx="77756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Художественная гимнастика - ациклический, сложнокоординированный вид спорта. Упражнения программы представляют собой свободное передвижение по площадке, включающее в себя элементы танца, пластики, мимики, пантомимики, ритмически согласованных с музыкой движений без предмета и с предмет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На начальном этапе подготовки гимнасток в процессе тренировочных занятий решаются и немаловажные частные задачи оздоровления: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обеспечивается и поддерживается статус здорового человека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расширяется общий двигательный опыт, обеспечивающий учебную, профессионально-трудовую и бытовую деятельность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достигается и сохраняется высокий уровень функционального состояния основных систем организма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развиваются ординарно и в комплексе физические качества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формируются основные навыки поведения: осанка, походка, стиль поведения и общения;</a:t>
            </a:r>
            <a:br>
              <a:rPr sz="2000"/>
            </a:br>
            <a:r>
              <a:rPr b="1" lang="en-US" sz="2000" spc="-1" strike="noStrike">
                <a:solidFill>
                  <a:srgbClr val="336666"/>
                </a:solidFill>
                <a:latin typeface="Arial"/>
              </a:rPr>
              <a:t>— воспитываются культурологические качества: восприятие красоты двигательных действий, управление эмоциональным состоянием, музыкальный вкус, в целом — имид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Базовые передви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6000" y="14130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«мягкий шаг» — чередование шагов без видимого отталкивания с постановкой ноги «с носка» и последовательным перекатом на всю ступн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47640" y="62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«высокий шаг» — выполняется маховым энергичным подниманием бедра до горизонтального положения при сохранении вертикальности голени; аналогично выполняется «высокий бег» с фиксированным положением рук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47640" y="62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«острый шаг» — характеризуется коротким движением ноги вперед с резкой акцентированной постановкой на опору и последующим подниманием на полупальцы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47640" y="6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«широкий шаг» — напоминает выпады, когда значительное по длине перемещение согнутой ноги вперед сопровождается выпрямлением «задней» ноги при некотором наклоне туловища вперед. Подобный «широкому шагу» «широкий бег» требует мощного отталкивания и выглядит стремительным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47640" y="6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66"/>
                </a:solidFill>
                <a:latin typeface="Arial"/>
              </a:rPr>
              <a:t>«скрестный шаг» — поочередная смена скрестного положения ног, когда одна нога ставится с носка перед другой, а затем положение ног меняется движением «передней» или «задней» ног — что позволяет менять направление движения (влево, вправо, вперед, назад)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76000" y="692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«переменный шаг» — является соединением двух шагов одной ногой с последующим приставлением другой («приставной шаг») и двух шагов с другой ноги, данный шаг может выполняться в различных ритмических режимах и служит основой танцевальных шаг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5:35:42Z</dcterms:created>
  <dc:creator>adm</dc:creator>
  <dc:description/>
  <dc:language>en-US</dc:language>
  <cp:lastModifiedBy>Лена</cp:lastModifiedBy>
  <dcterms:modified xsi:type="dcterms:W3CDTF">2012-05-03T13:56:53Z</dcterms:modified>
  <cp:revision>2</cp:revision>
  <dc:subject/>
  <dc:title>    Художественная         гимнастика </dc:title>
</cp:coreProperties>
</file>