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8D2F-3179-46DD-B8E6-FEE013E9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D070-0CE8-4BE8-AEAF-C799026B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0B7-87DD-43FF-BCDC-A5C864BC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69D-FC45-4AA9-8D67-DCBC8E3C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0934-8052-47AA-ACE8-C68F4970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16AD-7AAA-47B8-A179-4BEAEA3D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F356-A32A-418D-832E-50EAC032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6356-0C81-4DA8-9D00-6BFE59B2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634D-9751-4A67-BAC9-8FFCCC49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AAFE-2710-4ED1-8958-AE9472B7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3498-4E0C-45BC-8E3D-BCF3268C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6A5-C05F-45BF-8DBD-98F65D97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4E85-783B-425E-9397-9ABE537F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635A-F341-4CCB-B2B3-9249FED2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9B37-ABA1-475E-8FBC-8A9099D7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BA7F-B922-428D-A5E8-362A1599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2623-22F1-4A0A-8425-385B3522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770-021D-4428-9F56-47B8C8CB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CA105-A6AE-4719-96F6-AAD4F38E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8D9DC-55CD-4490-935B-FA14A81E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9CBFE-7FDD-4658-B874-77EC9909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978-F3FA-417D-851C-BE3B2FF7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58566-D1F8-4B2F-90C3-6435EA15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A1AD9-B87D-4770-8101-427B65B0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4EF3-0AC2-4C3A-867F-0B310FD4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E0E4C-51F7-4A24-A0CE-9E0F091A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91B07-150E-4AB4-9ACB-AAC5B395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70E55-27C8-4CB6-85EA-7CEC1D4B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9DE60-58BF-4CF8-A7D3-A14E4488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22C5B-DF32-4464-9572-C027E6C8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E05F-D9CD-4FDB-BCE1-C94B78A7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8ECC4-F172-4958-B438-93FBBE8D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55B-978E-4418-BD1C-28B2EFD5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053AA-8A2D-47C3-B3F8-E7731180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C8BF7-AC26-46C4-B609-FB431B9E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05F1F-CA21-456B-B3D3-9400FB2F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8C55C-14A6-486F-9722-BD560F60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F3F73-27A5-46FB-9EBE-29A69875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43886-7716-4348-956C-A481A400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659ED-821B-4D0E-9E9B-E913700E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F8D5C-CB52-46F0-AFC3-ED141AB8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0DDF5-4660-43D0-AC58-05BD4B8E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347C2-291B-4752-A422-B7DBDEA2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C58-80F6-466E-A7DB-11D2615B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9C181-6769-4B5C-BBB9-BBABC63E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D78-0688-4C17-8F37-B6F6C986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1E6-6318-4050-AF85-D7934E87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E54-6064-4BE8-BCA4-9B62228C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8478-968C-4477-91FF-E0BE7E8ABB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E41E-4E4D-4DB1-9B8E-47A80280B6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7" descr="31076fe0aaf7.jpg"/>
          <p:cNvPicPr/>
          <p:nvPr/>
        </p:nvPicPr>
        <p:blipFill>
          <a:blip r:embed="rId2"/>
          <a:stretch/>
        </p:blipFill>
        <p:spPr>
          <a:xfrm>
            <a:off x="0" y="0"/>
            <a:ext cx="5148360" cy="14079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9" descr="31076fe0aaf7.jpg"/>
          <p:cNvPicPr/>
          <p:nvPr/>
        </p:nvPicPr>
        <p:blipFill>
          <a:blip r:embed="rId3"/>
          <a:srcRect l="0" t="0" r="22382" b="0"/>
          <a:stretch/>
        </p:blipFill>
        <p:spPr>
          <a:xfrm>
            <a:off x="5148360" y="0"/>
            <a:ext cx="3995640" cy="1407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5BD2-F547-4D02-B434-B5B9FF0541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2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842E-783B-4D6E-B009-FB0A2D27AA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9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8920" y="2492280"/>
            <a:ext cx="867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воения поворотов и подскок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прыжковая подгото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3" descr="MM900336994[1]"/>
          <p:cNvPicPr/>
          <p:nvPr/>
        </p:nvPicPr>
        <p:blipFill>
          <a:blip r:embed="rId1"/>
          <a:stretch/>
        </p:blipFill>
        <p:spPr>
          <a:xfrm>
            <a:off x="3348000" y="465300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5"/>
          <p:cNvSpPr/>
          <p:nvPr/>
        </p:nvSpPr>
        <p:spPr>
          <a:xfrm>
            <a:off x="4140360" y="141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и ученицы 11 класса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робьева Елена, Попова Юл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вдокимова Алена, Зотина Крист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"/>
          </a:bodyPr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ь: Моргунова Е.В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b00b6"/>
                </a:solidFill>
                <a:latin typeface="Times New Roman"/>
              </a:rPr>
              <a:t>Скрестные  поворо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п. - о. с. Руки на поя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-2  правая ( лев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га скрестно вперед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назад) на носок, вставая на носк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-4  поворот на   360   опуститься на всю стоп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382560" y="1628640"/>
            <a:ext cx="5761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6" descr="сканирование0004"/>
          <p:cNvPicPr/>
          <p:nvPr/>
        </p:nvPicPr>
        <p:blipFill>
          <a:blip r:embed="rId2"/>
          <a:stretch/>
        </p:blipFill>
        <p:spPr>
          <a:xfrm>
            <a:off x="5292720" y="1557360"/>
            <a:ext cx="2679840" cy="26337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7"/>
          <p:cNvSpPr/>
          <p:nvPr/>
        </p:nvSpPr>
        <p:spPr>
          <a:xfrm>
            <a:off x="250920" y="465300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00b6"/>
                </a:solidFill>
                <a:latin typeface="Times New Roman"/>
              </a:rPr>
              <a:t>Методические указ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обходимо сосредоточенность внимания, умение регулировать  мышечного напряжения,  пространственная ориентиров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кукарача леотьев.mp3" descr=""/>
          <p:cNvPicPr/>
          <p:nvPr/>
        </p:nvPicPr>
        <p:blipFill>
          <a:blip r:embed="rId3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b00b6"/>
                </a:solidFill>
                <a:latin typeface="Times New Roman"/>
              </a:rPr>
              <a:t>Повороты в парах</a:t>
            </a:r>
            <a:br>
              <a:rPr sz="4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ические указания выполнять на носках , руки не разры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.п.- о.с. лицом друг к другу, взяться за руки, руки в стор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- 2  Шаг галопа впере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-4  Одновременно поворот вовнутрь в и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6" descr="сканирование0007"/>
          <p:cNvPicPr/>
          <p:nvPr/>
        </p:nvPicPr>
        <p:blipFill>
          <a:blip r:embed="rId3"/>
          <a:stretch/>
        </p:blipFill>
        <p:spPr>
          <a:xfrm>
            <a:off x="2268360" y="5084640"/>
            <a:ext cx="924120" cy="1471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сканирование0009"/>
          <p:cNvPicPr/>
          <p:nvPr/>
        </p:nvPicPr>
        <p:blipFill>
          <a:blip r:embed="rId4"/>
          <a:stretch/>
        </p:blipFill>
        <p:spPr>
          <a:xfrm>
            <a:off x="3132000" y="5084640"/>
            <a:ext cx="666720" cy="1471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сканирование0005"/>
          <p:cNvPicPr/>
          <p:nvPr/>
        </p:nvPicPr>
        <p:blipFill>
          <a:blip r:embed="rId5"/>
          <a:stretch/>
        </p:blipFill>
        <p:spPr>
          <a:xfrm>
            <a:off x="5508720" y="2276640"/>
            <a:ext cx="3313080" cy="2160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сканирование0007"/>
          <p:cNvPicPr/>
          <p:nvPr/>
        </p:nvPicPr>
        <p:blipFill>
          <a:blip r:embed="rId6"/>
          <a:stretch/>
        </p:blipFill>
        <p:spPr>
          <a:xfrm>
            <a:off x="3780000" y="5084640"/>
            <a:ext cx="923760" cy="1471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1 0.125 0.16655 C 0.125 0.25849 0.069 0.3331 0 0.3331 C -0.069 0.3331 -0.125 0.25849 -0.125 0.16655 C -0.125 0.07461 -0.069 0 0 0 Z">
                                      <p:cBhvr>
                                        <p:cTn id="18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4988e"/>
                </a:solidFill>
                <a:latin typeface="Times New Roman"/>
              </a:rPr>
              <a:t>Подскоки</a:t>
            </a:r>
            <a:r>
              <a:rPr b="1" lang="ru-RU" sz="4000" spc="-1" strike="noStrike">
                <a:solidFill>
                  <a:srgbClr val="a5e1a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51280" y="1599840"/>
            <a:ext cx="51134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11280" y="764640"/>
            <a:ext cx="4038480" cy="30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 п. - о.с руки на поя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подскока на пра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на левой но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5" descr="сканирование0010"/>
          <p:cNvPicPr/>
          <p:nvPr/>
        </p:nvPicPr>
        <p:blipFill>
          <a:blip r:embed="rId2"/>
          <a:stretch/>
        </p:blipFill>
        <p:spPr>
          <a:xfrm>
            <a:off x="4643280" y="1125360"/>
            <a:ext cx="1646280" cy="2405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сканирование0011"/>
          <p:cNvPicPr/>
          <p:nvPr/>
        </p:nvPicPr>
        <p:blipFill>
          <a:blip r:embed="rId3"/>
          <a:stretch/>
        </p:blipFill>
        <p:spPr>
          <a:xfrm>
            <a:off x="6227640" y="1773360"/>
            <a:ext cx="1325520" cy="25192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сканирование0001"/>
          <p:cNvPicPr/>
          <p:nvPr/>
        </p:nvPicPr>
        <p:blipFill>
          <a:blip r:embed="rId4"/>
          <a:stretch/>
        </p:blipFill>
        <p:spPr>
          <a:xfrm>
            <a:off x="4643280" y="3500280"/>
            <a:ext cx="1657440" cy="25196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611280" y="2204640"/>
            <a:ext cx="4032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988e"/>
                </a:solidFill>
                <a:latin typeface="Times New Roman"/>
              </a:rPr>
              <a:t>Скачок</a:t>
            </a:r>
            <a:r>
              <a:rPr b="0" lang="ru-RU" sz="2400" spc="-1" strike="noStrike">
                <a:solidFill>
                  <a:srgbClr val="34988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й ногой шагом вперед – прыжком вверх , левую сгибают вперед, руки разнои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e1a8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34988e"/>
                </a:solidFill>
                <a:latin typeface="Times New Roman"/>
              </a:rPr>
              <a:t>Методические указ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довать движения рук   и ног стоя на месте между бедром голенью прямой уг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60"/>
                            </p:stCondLst>
                            <p:childTnLst>
                              <p:par>
                                <p:cTn id="2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7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b00b6"/>
                </a:solidFill>
                <a:latin typeface="Times New Roman"/>
              </a:rPr>
              <a:t>Прыжки</a:t>
            </a:r>
            <a:r>
              <a:rPr b="1" lang="ru-RU" sz="4400" spc="-1" strike="noStrike">
                <a:solidFill>
                  <a:srgbClr val="34988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00b6"/>
                </a:solidFill>
                <a:latin typeface="Times New Roman"/>
              </a:rPr>
              <a:t>« Закрытый и открытый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.п. – о.с. Руки в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шагом правой, левую ногу согнуть вперед, руки дугами вниз- вперед, плечи и голова слегка опущ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Шаг на левой с последующим прыжком на ней, правая назад, руки дугами вниз- в стороны, прогну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00b6"/>
                </a:solidFill>
                <a:latin typeface="Times New Roman"/>
              </a:rPr>
              <a:t>Методические указ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ыполнении « закрытого прыжка туловище согнуто, спина круглая, руки ввер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олете открытого прыжка тело прогнуто, голова назад, руки в стороны – наз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сканирование0003"/>
          <p:cNvPicPr/>
          <p:nvPr/>
        </p:nvPicPr>
        <p:blipFill>
          <a:blip r:embed="rId1"/>
          <a:stretch/>
        </p:blipFill>
        <p:spPr>
          <a:xfrm>
            <a:off x="3780000" y="115920"/>
            <a:ext cx="3162240" cy="2189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35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4988e"/>
                </a:solidFill>
                <a:latin typeface="Times New Roman"/>
              </a:rPr>
              <a:t>Прыжковая подготов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988e"/>
                </a:solidFill>
                <a:latin typeface="Times New Roman"/>
              </a:rPr>
              <a:t>Методические указ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988e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ение  поочередных прыжков один за другим без пауз в заданном порядке: с максимальной высотой и амплитудой, легкостью,   выразительностью и   четкостью ли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878875-n-n--n-n----n-n--nz------n-n----n---n-----noe-n--n---nfn-n-n"/>
          <p:cNvPicPr/>
          <p:nvPr/>
        </p:nvPicPr>
        <p:blipFill>
          <a:blip r:embed="rId1"/>
          <a:stretch/>
        </p:blipFill>
        <p:spPr>
          <a:xfrm>
            <a:off x="4962600" y="1960560"/>
            <a:ext cx="3409920" cy="3809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четная комбин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я с помпо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pompon"/>
          <p:cNvPicPr/>
          <p:nvPr/>
        </p:nvPicPr>
        <p:blipFill>
          <a:blip r:embed="rId1"/>
          <a:stretch/>
        </p:blipFill>
        <p:spPr>
          <a:xfrm>
            <a:off x="1979640" y="2565360"/>
            <a:ext cx="3513240" cy="2736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помпон"/>
          <p:cNvPicPr/>
          <p:nvPr/>
        </p:nvPicPr>
        <p:blipFill>
          <a:blip r:embed="rId2"/>
          <a:stretch/>
        </p:blipFill>
        <p:spPr>
          <a:xfrm>
            <a:off x="5076720" y="4005360"/>
            <a:ext cx="2197080" cy="2185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6699"/>
                </a:solidFill>
                <a:latin typeface="Times New Roman"/>
              </a:rPr>
              <a:t>Благодарю за вним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8:58:20Z</dcterms:created>
  <dc:creator>Лена</dc:creator>
  <dc:description/>
  <dc:language>en-US</dc:language>
  <cp:lastModifiedBy>Роман</cp:lastModifiedBy>
  <dcterms:modified xsi:type="dcterms:W3CDTF">2012-06-05T20:58:08Z</dcterms:modified>
  <cp:revision>28</cp:revision>
  <dc:subject/>
  <dc:title>Упражнения с полотном</dc:title>
</cp:coreProperties>
</file>