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5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B9B-F7E2-4849-8AF2-54CE5FE1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5D4-B4F9-4530-9087-1F542436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141-75FD-4408-8A30-C2EEE4C7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770-BAED-4222-B882-E4CB57A8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83BB-1DAC-45C9-AA21-A50A6F4C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72E4-1D3B-446B-B624-96361416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797B-9079-4942-8DD7-C6B3CB11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8B7C-3579-44C3-B8D6-88E7EA2B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08AF-E76D-4506-A1B9-D6546ADD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836E-BA72-4861-8008-B8C611C2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7CC9-6142-4507-9F27-28E6C45B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607-284E-4FE3-BD50-AEC7DC76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DEA8-750F-43D1-9AF4-F68D2FB7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ACC3-7615-4C6D-A966-CF440F34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DF8D-F249-475C-9411-3ABFA95B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D071-3294-4CA9-AD5A-3AE3BF13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8826-DA7E-494E-A30A-F2BBDADB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6669-4E43-4198-92BB-7C70EF66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DA908-AEC6-4B64-8640-9378C646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474C-E74D-478F-B79A-5D8E8366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D376B-B065-4AA0-83C8-191BBE4F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736-E0EE-42DE-BFD9-97E45FF4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1D56B-2872-4E3F-B39A-48E3D581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990A-825F-4CD6-A6CF-E1A95723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D3D81-21DD-4F07-97FA-CF2283EC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277E9-B8D4-4BED-A96E-8360F4C4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E6D6B-C798-4051-A7A8-A54508F6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8A54F-C93D-4AB2-87A7-6F787CA6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3AB5-CCBC-40C9-AF2C-685F2606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836AE-E24D-4BBD-9CA0-E0172A94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4FDAF-8E0E-4E76-9B29-418A8B72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C278-6C84-4A31-8C97-4DE48707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5CB-33A1-42EE-8CD6-01D2437D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8DB21-EF99-443A-B0DE-C65408CC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09DFB-B8FE-4E09-B3BD-5E8BCF54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B9CA9-5766-4B6F-B7D1-1622554D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D5A74-EE81-47EA-BA02-9FB35D24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46494-FA17-4946-9401-9D313E02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ECAE3-144C-4443-9FBB-665C8D08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D347F-8FFE-47B9-B077-BB05DD8E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F5C97-B21A-419B-9F1A-A4E2C414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08ABA-05A2-4A1C-B3C0-F566835B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D11DE-484A-4488-91BB-5C8DAC22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2E3-9199-430F-B25E-3FE39FB2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E5439-E609-4093-AA48-BE1A1B44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65D-9C38-439D-A1CA-A6B5EE0E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820-5896-4F34-B735-78453166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75B-54D7-4D23-B98A-7B22BB9F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EB18-D729-45BE-9590-FF90BCB9831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174D-D4F5-459F-85EE-ADFE0FBADE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7" descr="31076fe0aaf7.jpg"/>
          <p:cNvPicPr/>
          <p:nvPr/>
        </p:nvPicPr>
        <p:blipFill>
          <a:blip r:embed="rId2"/>
          <a:stretch/>
        </p:blipFill>
        <p:spPr>
          <a:xfrm>
            <a:off x="0" y="0"/>
            <a:ext cx="5148360" cy="14079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9" descr="31076fe0aaf7.jpg"/>
          <p:cNvPicPr/>
          <p:nvPr/>
        </p:nvPicPr>
        <p:blipFill>
          <a:blip r:embed="rId3"/>
          <a:srcRect l="0" t="0" r="22382" b="0"/>
          <a:stretch/>
        </p:blipFill>
        <p:spPr>
          <a:xfrm>
            <a:off x="5148360" y="0"/>
            <a:ext cx="3995640" cy="1407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20FE-19A5-4396-BA83-BDB9C625FBF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2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7F31-00EC-4347-AF02-03640FBB7E2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9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8920" y="2492280"/>
            <a:ext cx="867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воения поворотов и подскок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прыжковая подгото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3" descr="MM900336994[1]"/>
          <p:cNvPicPr/>
          <p:nvPr/>
        </p:nvPicPr>
        <p:blipFill>
          <a:blip r:embed="rId1"/>
          <a:stretch/>
        </p:blipFill>
        <p:spPr>
          <a:xfrm>
            <a:off x="3348000" y="465300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5"/>
          <p:cNvSpPr/>
          <p:nvPr/>
        </p:nvSpPr>
        <p:spPr>
          <a:xfrm>
            <a:off x="4140360" y="141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и ученицы 11 класса 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робьева Елена, Попова Юл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вдокимова Алена, Зотина Крист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"/>
          </a:bodyPr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" indent="-136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итель: Моргунова Е.В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b00b6"/>
                </a:solidFill>
                <a:latin typeface="Times New Roman"/>
              </a:rPr>
              <a:t>Скрестные  поворо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п. - о. с. Руки на поя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-2  правая ( лев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га скрестно вперед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назад) на носок, вставая на носки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-4  поворот на   360   опуститься на всю стоп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382560" y="1628640"/>
            <a:ext cx="5761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6" descr="сканирование0004"/>
          <p:cNvPicPr/>
          <p:nvPr/>
        </p:nvPicPr>
        <p:blipFill>
          <a:blip r:embed="rId2"/>
          <a:stretch/>
        </p:blipFill>
        <p:spPr>
          <a:xfrm>
            <a:off x="5292720" y="1557360"/>
            <a:ext cx="2679840" cy="263376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7"/>
          <p:cNvSpPr/>
          <p:nvPr/>
        </p:nvSpPr>
        <p:spPr>
          <a:xfrm>
            <a:off x="250920" y="465300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00b6"/>
                </a:solidFill>
                <a:latin typeface="Times New Roman"/>
              </a:rPr>
              <a:t>Методические указ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обходимо сосредоточенность внимания, умение регулировать  мышечного напряжения,  пространственная ориентиров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кукарача леотьев.mp3" descr=""/>
          <p:cNvPicPr/>
          <p:nvPr/>
        </p:nvPicPr>
        <p:blipFill>
          <a:blip r:embed="rId3"/>
          <a:stretch/>
        </p:blipFill>
        <p:spPr>
          <a:xfrm>
            <a:off x="83170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b00b6"/>
                </a:solidFill>
                <a:latin typeface="Times New Roman"/>
              </a:rPr>
              <a:t>Повороты в парах</a:t>
            </a:r>
            <a:br>
              <a:rPr sz="4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ические указания выполнять на носках , руки не разры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.п.- о.с. лицом друг к другу, взяться за руки, руки в стор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- 2  Шаг галопа впере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-4  Одновременно поворот вовнутрь в и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6" descr="сканирование0007"/>
          <p:cNvPicPr/>
          <p:nvPr/>
        </p:nvPicPr>
        <p:blipFill>
          <a:blip r:embed="rId3"/>
          <a:stretch/>
        </p:blipFill>
        <p:spPr>
          <a:xfrm>
            <a:off x="2268360" y="5084640"/>
            <a:ext cx="924120" cy="1471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сканирование0009"/>
          <p:cNvPicPr/>
          <p:nvPr/>
        </p:nvPicPr>
        <p:blipFill>
          <a:blip r:embed="rId4"/>
          <a:stretch/>
        </p:blipFill>
        <p:spPr>
          <a:xfrm>
            <a:off x="3132000" y="5084640"/>
            <a:ext cx="666720" cy="1471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сканирование0005"/>
          <p:cNvPicPr/>
          <p:nvPr/>
        </p:nvPicPr>
        <p:blipFill>
          <a:blip r:embed="rId5"/>
          <a:stretch/>
        </p:blipFill>
        <p:spPr>
          <a:xfrm>
            <a:off x="5508720" y="2276640"/>
            <a:ext cx="3313080" cy="2160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сканирование0007"/>
          <p:cNvPicPr/>
          <p:nvPr/>
        </p:nvPicPr>
        <p:blipFill>
          <a:blip r:embed="rId6"/>
          <a:stretch/>
        </p:blipFill>
        <p:spPr>
          <a:xfrm>
            <a:off x="3780000" y="5084640"/>
            <a:ext cx="923760" cy="1471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1 0.125 0.16655 C 0.125 0.25849 0.069 0.3331 0 0.3331 C -0.069 0.3331 -0.125 0.25849 -0.125 0.16655 C -0.125 0.07461 -0.069 0 0 0 Z">
                                      <p:cBhvr>
                                        <p:cTn id="18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34988e"/>
                </a:solidFill>
                <a:latin typeface="Times New Roman"/>
              </a:rPr>
              <a:t>Подскоки</a:t>
            </a:r>
            <a:r>
              <a:rPr b="1" lang="ru-RU" sz="4000" spc="-1" strike="noStrike">
                <a:solidFill>
                  <a:srgbClr val="a5e1a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51280" y="1599840"/>
            <a:ext cx="51134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11280" y="764640"/>
            <a:ext cx="4038480" cy="30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. п. - о.с руки на поя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подскока на пра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на левой ног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5" descr="сканирование0010"/>
          <p:cNvPicPr/>
          <p:nvPr/>
        </p:nvPicPr>
        <p:blipFill>
          <a:blip r:embed="rId2"/>
          <a:stretch/>
        </p:blipFill>
        <p:spPr>
          <a:xfrm>
            <a:off x="4643280" y="1125360"/>
            <a:ext cx="1646280" cy="2405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сканирование0011"/>
          <p:cNvPicPr/>
          <p:nvPr/>
        </p:nvPicPr>
        <p:blipFill>
          <a:blip r:embed="rId3"/>
          <a:stretch/>
        </p:blipFill>
        <p:spPr>
          <a:xfrm>
            <a:off x="6227640" y="1773360"/>
            <a:ext cx="1325520" cy="25192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сканирование0001"/>
          <p:cNvPicPr/>
          <p:nvPr/>
        </p:nvPicPr>
        <p:blipFill>
          <a:blip r:embed="rId4"/>
          <a:stretch/>
        </p:blipFill>
        <p:spPr>
          <a:xfrm>
            <a:off x="4643280" y="3500280"/>
            <a:ext cx="1657440" cy="25196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611280" y="2204640"/>
            <a:ext cx="4032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988e"/>
                </a:solidFill>
                <a:latin typeface="Times New Roman"/>
              </a:rPr>
              <a:t>Скачок</a:t>
            </a:r>
            <a:r>
              <a:rPr b="0" lang="ru-RU" sz="2400" spc="-1" strike="noStrike">
                <a:solidFill>
                  <a:srgbClr val="34988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й ногой шагом вперед – прыжком вверх , левую сгибают вперед, руки разнои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e1a8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34988e"/>
                </a:solidFill>
                <a:latin typeface="Times New Roman"/>
              </a:rPr>
              <a:t>Методические указ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довать движения рук   и ног стоя на месте между бедром голенью прямой уг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60"/>
                            </p:stCondLst>
                            <p:childTnLst>
                              <p:par>
                                <p:cTn id="2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27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b00b6"/>
                </a:solidFill>
                <a:latin typeface="Times New Roman"/>
              </a:rPr>
              <a:t>Прыжки</a:t>
            </a:r>
            <a:r>
              <a:rPr b="1" lang="ru-RU" sz="4400" spc="-1" strike="noStrike">
                <a:solidFill>
                  <a:srgbClr val="34988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00b6"/>
                </a:solidFill>
                <a:latin typeface="Times New Roman"/>
              </a:rPr>
              <a:t>« Закрытый и открытый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.п. – о.с. Руки в сторо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шагом правой, левую ногу согнуть вперед, руки дугами вниз- вперед, плечи и голова слегка опущ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Шаг на левой с последующим прыжком на ней, правая назад, руки дугами вниз- в стороны, прогну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00b6"/>
                </a:solidFill>
                <a:latin typeface="Times New Roman"/>
              </a:rPr>
              <a:t>Методические указ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ыполнении « закрытого прыжка туловище согнуто, спина круглая, руки ввер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олете открытого прыжка тело прогнуто, голова назад, руки в стороны – наз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сканирование0003"/>
          <p:cNvPicPr/>
          <p:nvPr/>
        </p:nvPicPr>
        <p:blipFill>
          <a:blip r:embed="rId1"/>
          <a:stretch/>
        </p:blipFill>
        <p:spPr>
          <a:xfrm>
            <a:off x="3780000" y="115920"/>
            <a:ext cx="3162240" cy="2189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set>
                                      <p:cBhvr>
                                        <p:cTn id="35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4988e"/>
                </a:solidFill>
                <a:latin typeface="Times New Roman"/>
              </a:rPr>
              <a:t>Прыжковая подготов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988e"/>
                </a:solidFill>
                <a:latin typeface="Times New Roman"/>
              </a:rPr>
              <a:t>Методические указ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4988e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ение  поочередных прыжков один за другим без пауз в заданном порядке: с максимальной высотой и амплитудой, легкостью,   выразительностью и   четкостью ли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878875-n-n--n-n----n-n--nz------n-n----n---n-----noe-n--n---nfn-n-n"/>
          <p:cNvPicPr/>
          <p:nvPr/>
        </p:nvPicPr>
        <p:blipFill>
          <a:blip r:embed="rId1"/>
          <a:stretch/>
        </p:blipFill>
        <p:spPr>
          <a:xfrm>
            <a:off x="4962600" y="1960560"/>
            <a:ext cx="3409920" cy="3809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четная комбин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я с помпо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pompon"/>
          <p:cNvPicPr/>
          <p:nvPr/>
        </p:nvPicPr>
        <p:blipFill>
          <a:blip r:embed="rId1"/>
          <a:stretch/>
        </p:blipFill>
        <p:spPr>
          <a:xfrm>
            <a:off x="1979640" y="2565360"/>
            <a:ext cx="3513240" cy="2736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помпон"/>
          <p:cNvPicPr/>
          <p:nvPr/>
        </p:nvPicPr>
        <p:blipFill>
          <a:blip r:embed="rId2"/>
          <a:stretch/>
        </p:blipFill>
        <p:spPr>
          <a:xfrm>
            <a:off x="5076720" y="4005360"/>
            <a:ext cx="2197080" cy="2185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xit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5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6699"/>
                </a:solidFill>
                <a:latin typeface="Times New Roman"/>
              </a:rPr>
              <a:t>Благодарю за вним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8:58:20Z</dcterms:created>
  <dc:creator>Лена</dc:creator>
  <dc:description/>
  <dc:language>en-US</dc:language>
  <cp:lastModifiedBy>Роман</cp:lastModifiedBy>
  <dcterms:modified xsi:type="dcterms:W3CDTF">2012-06-05T20:58:08Z</dcterms:modified>
  <cp:revision>28</cp:revision>
  <dc:subject/>
  <dc:title>Упражнения с полотном</dc:title>
</cp:coreProperties>
</file>