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B2180F-9C80-4B3E-B07A-9D88952CA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dfbe3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AC73FC-68C7-457D-829A-07FC0FABE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dfbe3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EEC128-B1E4-4325-BE0E-52501909C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dfbe3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257D36-4668-4B8C-A85D-FD9227169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86F7C-D5F4-4452-B5BC-305B90F8F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dfbe3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055F1-B32A-44F5-8651-C13279758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dfbe3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6C51C-7C4A-4BC9-8779-7FE897164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dfbe3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10F29-8BFB-4718-91A7-FA9537C45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dfbe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E0B3F-40CA-47CC-92EA-D4F663038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4B530-3DB9-46DB-BD22-C00B5C54F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dfbe3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4DDA4-03B5-4D89-A602-C62141A44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dfbe3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DCE2AD-EEE9-4D00-85CF-715636058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dfbe3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905F9-51A4-46E4-B14C-8B2A78594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dfbe3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7ABD9-8CE2-4011-8C1A-E4BF0D665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dfbe3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15E9C-D3A8-4CF1-8E9E-7DC232B8D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dfbe3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8907C-A235-440F-9D0B-836179D1A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dfbe3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687D4-4A48-47C3-A2DD-5CDAD780C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dfbe3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53A334-F7E4-446F-9FD0-27D17715B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dfbe3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15F67C-4DF4-4151-9BE9-120BD0489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dfbe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0EBFE6-56C3-4FB1-9990-265AB4B27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49088C-895A-433E-B3DF-10923D3BC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dfbe3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6A4CA4-39CC-4A3D-AFF3-A7619849C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dfbe3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3315F4-0389-435B-AF81-7EE491AC9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dfbe3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2C8B91-D507-4895-B457-809B6B44B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2b252e"/>
                </a:gs>
                <a:gs pos="100000">
                  <a:srgbClr val="1e182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4c3d57"/>
                </a:gs>
                <a:gs pos="100000">
                  <a:srgbClr val="66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4c3d57"/>
                </a:gs>
                <a:gs pos="100000">
                  <a:srgbClr val="66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100000">
                  <a:srgbClr val="4c3d5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100000">
                  <a:srgbClr val="4c3d5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4c3d57"/>
                </a:gs>
                <a:gs pos="50000">
                  <a:srgbClr val="403349"/>
                </a:gs>
                <a:gs pos="100000">
                  <a:srgbClr val="4c3d5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3d57"/>
                </a:gs>
                <a:gs pos="100000">
                  <a:srgbClr val="3b2f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100000">
                  <a:srgbClr val="4c3d5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4c3d57"/>
                </a:gs>
                <a:gs pos="100000">
                  <a:srgbClr val="66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4c3d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4c3d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4c3d57"/>
                </a:gs>
                <a:gs pos="50000">
                  <a:srgbClr val="493a53"/>
                </a:gs>
                <a:gs pos="100000">
                  <a:srgbClr val="4c3d5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1e1822"/>
                </a:gs>
                <a:gs pos="100000">
                  <a:srgbClr val="4c3d5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4c3d57"/>
                </a:gs>
                <a:gs pos="50000">
                  <a:srgbClr val="660066"/>
                </a:gs>
                <a:gs pos="100000">
                  <a:srgbClr val="4c3d5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4c3d57"/>
                </a:gs>
                <a:gs pos="100000">
                  <a:srgbClr val="66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4c3d57"/>
                </a:gs>
                <a:gs pos="50000">
                  <a:srgbClr val="493a53"/>
                </a:gs>
                <a:gs pos="100000">
                  <a:srgbClr val="4c3d5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100000">
                  <a:srgbClr val="4c3d5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4c3d57"/>
                </a:gs>
                <a:gs pos="100000">
                  <a:srgbClr val="66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1e182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1e1822"/>
                </a:gs>
                <a:gs pos="50000">
                  <a:srgbClr val="241f28"/>
                </a:gs>
                <a:gs pos="100000">
                  <a:srgbClr val="1e182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dfbe3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dfbe3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c46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c3c2bd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dfbe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d8c46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F0098-3724-4BD3-9F7F-034393E90889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2b252e"/>
                </a:gs>
                <a:gs pos="100000">
                  <a:srgbClr val="1e182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4c3d57"/>
                </a:gs>
                <a:gs pos="100000">
                  <a:srgbClr val="66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4c3d57"/>
                </a:gs>
                <a:gs pos="100000">
                  <a:srgbClr val="66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100000">
                  <a:srgbClr val="4c3d5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100000">
                  <a:srgbClr val="4c3d5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4c3d57"/>
                </a:gs>
                <a:gs pos="50000">
                  <a:srgbClr val="403349"/>
                </a:gs>
                <a:gs pos="100000">
                  <a:srgbClr val="4c3d5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3d57"/>
                </a:gs>
                <a:gs pos="100000">
                  <a:srgbClr val="3b2f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100000">
                  <a:srgbClr val="4c3d5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4c3d57"/>
                </a:gs>
                <a:gs pos="100000">
                  <a:srgbClr val="66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4c3d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4c3d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4c3d57"/>
                </a:gs>
                <a:gs pos="50000">
                  <a:srgbClr val="493a53"/>
                </a:gs>
                <a:gs pos="100000">
                  <a:srgbClr val="4c3d5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1e1822"/>
                </a:gs>
                <a:gs pos="100000">
                  <a:srgbClr val="4c3d5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4c3d57"/>
                </a:gs>
                <a:gs pos="50000">
                  <a:srgbClr val="660066"/>
                </a:gs>
                <a:gs pos="100000">
                  <a:srgbClr val="4c3d5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4c3d57"/>
                </a:gs>
                <a:gs pos="100000">
                  <a:srgbClr val="66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4c3d57"/>
                </a:gs>
                <a:gs pos="50000">
                  <a:srgbClr val="493a53"/>
                </a:gs>
                <a:gs pos="100000">
                  <a:srgbClr val="4c3d5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100000">
                  <a:srgbClr val="4c3d5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4c3d57"/>
                </a:gs>
                <a:gs pos="100000">
                  <a:srgbClr val="66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1e182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1e1822"/>
                </a:gs>
                <a:gs pos="50000">
                  <a:srgbClr val="241f28"/>
                </a:gs>
                <a:gs pos="100000">
                  <a:srgbClr val="1e182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dfbe3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dfbe3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00807-A58B-4D62-A4D1-BC05D43DF227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dfbe3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d8c460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dfbe3"/>
                </a:solidFill>
                <a:latin typeface="Tahoma"/>
              </a:rPr>
              <a:t>Путешествие по </a:t>
            </a:r>
            <a:br>
              <a:rPr sz="4800"/>
            </a:br>
            <a:r>
              <a:rPr b="0" lang="en-US" sz="4800" spc="-1" strike="noStrike">
                <a:solidFill>
                  <a:srgbClr val="fdfbe3"/>
                </a:solidFill>
                <a:latin typeface="Tahoma"/>
              </a:rPr>
              <a:t>Санкт-Петербургу</a:t>
            </a:r>
            <a:endParaRPr b="0" lang="en-US" sz="4800" spc="-1" strike="noStrike">
              <a:solidFill>
                <a:srgbClr val="fdfbe3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40328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Что рассказать ребенку о городе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наглядный материал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5000"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98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898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898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dfbe3"/>
                </a:solidFill>
                <a:latin typeface="Tahoma"/>
              </a:rPr>
              <a:t>«Петропавловский собор наш притягивает взор»</a:t>
            </a:r>
            <a:endParaRPr b="0" lang="en-US" sz="3800" spc="-1" strike="noStrike">
              <a:solidFill>
                <a:srgbClr val="fdfbe3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68360" y="4005000"/>
            <a:ext cx="822960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8c46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Крепость расположена на Заячьем остров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8c46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Ровно в двенадцать часов там стреляет пушк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8c46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Ангел на шпиле Петропавловского собора является историческим символом Санкт –Петербург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611280" y="1484280"/>
            <a:ext cx="3673440" cy="244944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4716360" y="1484280"/>
            <a:ext cx="3600720" cy="244944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blinds dir="horz"/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0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2" dur="5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dfbe3"/>
                </a:solidFill>
                <a:latin typeface="Tahoma"/>
              </a:rPr>
              <a:t>«Крепость на Неве стоит.</a:t>
            </a:r>
            <a:br>
              <a:rPr sz="3800"/>
            </a:br>
            <a:r>
              <a:rPr b="0" lang="en-US" sz="3800" spc="-1" strike="noStrike">
                <a:solidFill>
                  <a:srgbClr val="fdfbe3"/>
                </a:solidFill>
                <a:latin typeface="Tahoma"/>
              </a:rPr>
              <a:t>В небе тонкий шпиль блестит»</a:t>
            </a:r>
            <a:endParaRPr b="0" lang="en-US" sz="3800" spc="-1" strike="noStrike">
              <a:solidFill>
                <a:srgbClr val="fdfbe3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d8c46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озведён по проекту архитектора Доменико Трезин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d8c46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ервое здание нашего города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d8c46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а шпиле Петропавловского собора золотой ангел, который держит крест. Это флюгер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1042920" y="3716280"/>
            <a:ext cx="7058160" cy="2952720"/>
          </a:xfrm>
          <a:prstGeom prst="rect">
            <a:avLst/>
          </a:prstGeom>
          <a:ln w="0">
            <a:noFill/>
          </a:ln>
        </p:spPr>
      </p:pic>
    </p:spTree>
  </p:cSld>
  <p:transition spd="med" advTm="9000">
    <p:blinds dir="horz"/>
  </p:transition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0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8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9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9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9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0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0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dfbe3"/>
                </a:solidFill>
                <a:latin typeface="Tahoma"/>
              </a:rPr>
              <a:t>Памятник Петру Первому в Петропавловской крепости</a:t>
            </a:r>
            <a:endParaRPr b="0" lang="en-US" sz="3800" spc="-1" strike="noStrike">
              <a:solidFill>
                <a:srgbClr val="fdfbe3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24000" y="1557360"/>
            <a:ext cx="403848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Памятник выполнен известным художником и скульптором Михаилом Шемякиным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4572000" y="1341360"/>
            <a:ext cx="4181400" cy="504036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blinds dir="horz"/>
  </p:transition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0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0" dur="20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dfbe3"/>
              </a:solidFill>
              <a:latin typeface="Tahoma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3743280" cy="315108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4572000" y="260280"/>
            <a:ext cx="4146480" cy="310680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3"/>
          <a:stretch/>
        </p:blipFill>
        <p:spPr>
          <a:xfrm>
            <a:off x="468360" y="3500280"/>
            <a:ext cx="3743280" cy="280692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4"/>
          <a:stretch/>
        </p:blipFill>
        <p:spPr>
          <a:xfrm>
            <a:off x="4643280" y="3500280"/>
            <a:ext cx="4105440" cy="291312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blinds dir="horz"/>
  </p:transition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0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2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dfbe3"/>
                </a:solidFill>
                <a:latin typeface="Tahoma"/>
              </a:rPr>
              <a:t>Гимн великого города.</a:t>
            </a:r>
            <a:endParaRPr b="0" lang="en-US" sz="4200" spc="-1" strike="noStrike">
              <a:solidFill>
                <a:srgbClr val="fdfbe3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Гимн Санкт-Петербурга представляет собой оркестровое исполнение «Гимна Великому городу» из балета Р.М. Глиэра «Медный всадник»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втор слов Гимна - О.А. Чупров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6000">
    <p:blinds dir="horz"/>
  </p:transition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0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2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5" dur="5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dfbe3"/>
                </a:solidFill>
                <a:latin typeface="Tahoma"/>
              </a:rPr>
              <a:t>Для Вас, родители:</a:t>
            </a:r>
            <a:endParaRPr b="0" lang="en-US" sz="4200" spc="-1" strike="noStrike">
              <a:solidFill>
                <a:srgbClr val="fdfbe3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8c46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Данная презентация создана в соответствии с возрастными особенностями детей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d8c46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В ней отражены основная символика нашего город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d8c46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Пользуясь данной презентацией можно легко составить рассказ для ребенка, что позволит и углубить его интерес к истории родного города, его символике и закрепить пройденный в группе материал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10000">
    <p:blinds dir="horz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" dur="2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" dur="20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20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3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8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53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dfbe3"/>
                </a:solidFill>
                <a:latin typeface="Tahoma"/>
              </a:rPr>
              <a:t>Флаг и герб города.</a:t>
            </a:r>
            <a:endParaRPr b="0" lang="en-US" sz="4200" spc="-1" strike="noStrike">
              <a:solidFill>
                <a:srgbClr val="fdfbe3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403848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Главные символы нашего города 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Герб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представляет собой красный щит с изображением на его поле двух серебряных якорей - морского  и речного, положенных накрест, и на них золотой скипетр с двуглавым орлом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Флаг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Два якоря и скипетр - элементы исторического герба города. Скипетр символизирует былой столичный статус Санкт-Петербурга, а якоря - важность города как порт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5219640" y="1557360"/>
            <a:ext cx="2592360" cy="218916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5076720" y="3933720"/>
            <a:ext cx="3127320" cy="218916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7956720" y="69228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advTm="7000">
    <p:wedge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768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2" dur="768" fill="hold"/>
                                        <p:tgtEl>
                                          <p:spTgt spid="13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4" dur="768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6" dur="768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0" dur="1" fill="hold"/>
                                        <p:tgtEl>
                                          <p:spTgt spid="1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dfbe3"/>
                </a:solidFill>
                <a:latin typeface="Tahoma"/>
              </a:rPr>
              <a:t>Адмиралтейство.</a:t>
            </a:r>
            <a:endParaRPr b="0" lang="en-US" sz="3600" spc="-1" strike="noStrike">
              <a:solidFill>
                <a:srgbClr val="fdfbe3"/>
              </a:solidFill>
              <a:latin typeface="Tahoma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539640" y="1557360"/>
            <a:ext cx="4248360" cy="46069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642920" y="1844640"/>
            <a:ext cx="4038840" cy="43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8c46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Это здание Адмиралтейств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8c46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остроено по проекту царя Петра Первого архитектором Захаровым для строительства кораблей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6000">
    <p:blinds dir="horz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9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dfbe3"/>
                </a:solidFill>
                <a:latin typeface="Tahoma"/>
              </a:rPr>
              <a:t>Адмиралтейская игла кораблик в небо подняла</a:t>
            </a:r>
            <a:br>
              <a:rPr sz="3800"/>
            </a:br>
            <a:endParaRPr b="0" lang="en-US" sz="3800" spc="-1" strike="noStrike">
              <a:solidFill>
                <a:srgbClr val="fdfbe3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0" y="1412640"/>
            <a:ext cx="3960720" cy="47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На шпиле Адмиралтейства мы видим золотой кораблик, который показывает направление ветр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Это флюгер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684360" y="1413000"/>
            <a:ext cx="4248000" cy="525132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blinds dir="horz"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14999997615814">
                                      <p:cBhvr additive="repl">
                                        <p:cTn id="141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6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dfbe3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907560"/>
            <a:ext cx="368316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3924360" y="260280"/>
            <a:ext cx="4968720" cy="597852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468360" y="333360"/>
            <a:ext cx="3816360" cy="64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Постаментом для конной скульптуры является природный камень, который во время грозы был расколот молнией. Его назвали «гром-камень»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Конная статуя царя стоит на трех точках опоры (хвост и задние ноги коня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«Медный всадник» выполнен скульптором Этьеном Фальконе . Голову Петра лепила ученица Фальконе, Мари-Анна Колло. Змею по замыслу Фальконе вылепил Фёдор Гордеев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13000">
    <p:blinds dir="horz"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3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35344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dfbe3"/>
                </a:solidFill>
                <a:latin typeface="Tahoma"/>
              </a:rPr>
              <a:t>Медный всадник.</a:t>
            </a:r>
            <a:endParaRPr b="0" lang="en-US" sz="4200" spc="-1" strike="noStrike">
              <a:solidFill>
                <a:srgbClr val="fdfbe3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292720" y="1125000"/>
            <a:ext cx="361008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Этот памятник построен в честь царя Петра –основателя нашего города. Он называется «Медный всадник»,хотя сделан из бронзы и гранита. Памятник олицетворяет победу России над врагами (конь придавливает копытами змею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250920" y="1197000"/>
            <a:ext cx="4757760" cy="489600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blinds dir="horz"/>
  </p:transition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625 -0.00532 -0.00799 -0.00648 -0.01528 -0.00394 C -0.02239 0.01017 -0.01805 0.0067 -0.02604 0.0104 C -0.03299 0.0074 -0.0316 0.00323 -0.03837 0 C -0.0408 -0.00925 -0.04323 -0.00671 -0.04913 -0.01226 C -0.05417 -0.00209 -0.05121 0.00439 -0.05989 0.00832 C -0.06389 0.00647 -0.06597 0.00624 -0.0691 0.00208 C -0.07031 0.00046 -0.07066 -0.00255 -0.07222 -0.00394 C -0.07396 -0.00555 -0.07639 -0.00532 -0.07847 -0.00602 C -0.08108 -0.00532 -0.08385 -0.00555 -0.08611 -0.00394 C -0.08767 -0.00278 -0.08767 0.00069 -0.08924 0.00208 C -0.09201 0.00439 -0.09844 0.00624 -0.09844 0.00624 C -0.10764 0.0148 -0.10486 0.00902 -0.11076 0.00208 C -0.11354 -0.00116 -0.11996 -0.00602 -0.11996 -0.00602 C -0.13177 -0.00047 -0.11701 -0.00602 -0.12917 -0.00602 C -0.13229 -0.00602 -0.13611 -0.00209 -0.13837 0 C -0.14167 0.01711 -0.13733 0.01642 -0.14305 0.01642 E">
                                      <p:cBhvr>
                                        <p:cTn id="179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dfbe3"/>
                </a:solidFill>
                <a:latin typeface="Tahoma"/>
              </a:rPr>
              <a:t>Петропавловская крепость.</a:t>
            </a:r>
            <a:endParaRPr b="0" lang="en-US" sz="4200" spc="-1" strike="noStrike">
              <a:solidFill>
                <a:srgbClr val="fdfbe3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439236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Петропавловская крепость- это первое каменное строение нашего города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4643280" y="1628640"/>
            <a:ext cx="4038840" cy="453708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blinds dir="horz"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500"/>
                            </p:stCondLst>
                            <p:childTnLst>
                              <p:par>
                                <p:cTn id="19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dfbe3"/>
                </a:solidFill>
                <a:latin typeface="Tahoma"/>
              </a:rPr>
              <a:t>Ангел на шпиле Петропавловского собора.</a:t>
            </a:r>
            <a:endParaRPr b="0" lang="en-US" sz="3800" spc="-1" strike="noStrike">
              <a:solidFill>
                <a:srgbClr val="fdfbe3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395280" y="1413000"/>
            <a:ext cx="3579840" cy="503532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35280" y="1483920"/>
            <a:ext cx="460836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Задумал, видно, ангел          улететь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 вдруг, застыл, Пространства не   осиля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Ему на город весело глядет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 вершины Петропавловского шпил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9000">
    <p:blinds dir="horz"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8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1" dur="5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7" dur="5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1T23:14:03Z</dcterms:created>
  <dc:creator>Ольга</dc:creator>
  <dc:description/>
  <dc:language>en-US</dc:language>
  <cp:lastModifiedBy>Ольга</cp:lastModifiedBy>
  <dcterms:modified xsi:type="dcterms:W3CDTF">2011-02-18T21:59:33Z</dcterms:modified>
  <cp:revision>9</cp:revision>
  <dc:subject/>
  <dc:title>Символы Санкт-Петербурга</dc:title>
</cp:coreProperties>
</file>