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A4C3-C97C-4F3E-8756-A90B8BA1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B69F2-9078-4A82-ABC8-CF4E89F6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42369-51F6-4B34-8380-F1708373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4E04E-4F9B-4CE6-892B-2B96123D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4610-272A-438E-847D-18A8CE43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9EC0-5790-4375-95BB-04102E27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226D-0C7A-4C53-A65B-E0841528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ECFB-64AC-4E24-B562-964ABC22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B58E-29D0-4BBD-B720-0CD86FEB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A86B-7EF0-4F11-9566-A172E986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738E-DD0D-4E96-AA5F-AE93DD07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6F4EB-8E15-4BFE-90B7-6E3D1A79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46A6-3425-4EEF-9D70-8D3B26DC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A98A-E431-4231-8297-A386E460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8046-F31E-406A-886F-8A431418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8735-0EF4-43EE-9A60-4C9250A3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7F53-BAF2-49BF-92A5-62C122D3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004EE-2A73-4E66-8A23-F5DE438D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B1F4-BF70-4A1E-8BB7-10AD5F43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A923-6D91-4D88-B3BA-304D3F3F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BAA1A-A4CC-491B-B24C-5A8BBEC6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73BDB-CBB6-459A-9579-1BFE3A02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868D-45D6-4384-852C-BE7918F7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2267-1E63-4093-A420-992A11F6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b252e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349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3b2f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1e1822"/>
                </a:gs>
                <a:gs pos="50000">
                  <a:srgbClr val="241f28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5A45-1497-413A-81FE-2895158D7F9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b252e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349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3b2f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1e1822"/>
                </a:gs>
                <a:gs pos="50000">
                  <a:srgbClr val="241f28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16E3-A1B1-4114-AEE9-D1F9775137B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be3"/>
                </a:solidFill>
                <a:latin typeface="Tahoma"/>
              </a:rPr>
              <a:t>Путешествие по </a:t>
            </a:r>
            <a:br>
              <a:rPr sz="4800"/>
            </a:br>
            <a:r>
              <a:rPr b="0" lang="en-US" sz="4800" spc="-1" strike="noStrike">
                <a:solidFill>
                  <a:srgbClr val="fdfbe3"/>
                </a:solidFill>
                <a:latin typeface="Tahoma"/>
              </a:rPr>
              <a:t>Санкт-Петербургу</a:t>
            </a:r>
            <a:endParaRPr b="0" lang="en-US" sz="4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рассказать ребенку о город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наглядный материа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dfbe3"/>
                </a:solidFill>
                <a:latin typeface="Tahoma"/>
              </a:rPr>
              <a:t>«Петропавловский собор наш притягивает взор»</a:t>
            </a:r>
            <a:endParaRPr b="0" lang="en-US" sz="3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4005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епость расположена на Заячьем остро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овно в двенадцать часов там стреляет пуш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нгел на шпиле Петропавловского собора является историческим символом Санкт –Петербур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673440" cy="2449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3600720" cy="2449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blinds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dfbe3"/>
                </a:solidFill>
                <a:latin typeface="Tahoma"/>
              </a:rPr>
              <a:t>«Крепость на Неве стоит.</a:t>
            </a:r>
            <a:br>
              <a:rPr sz="3800"/>
            </a:br>
            <a:r>
              <a:rPr b="0" lang="en-US" sz="3800" spc="-1" strike="noStrike">
                <a:solidFill>
                  <a:srgbClr val="fdfbe3"/>
                </a:solidFill>
                <a:latin typeface="Tahoma"/>
              </a:rPr>
              <a:t>В небе тонкий шпиль блестит»</a:t>
            </a:r>
            <a:endParaRPr b="0" lang="en-US" sz="3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ведён по проекту архитектора Доменико Трези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ое здание нашего горо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шпиле Петропавловского собора золотой ангел, который держит крест. Это флюг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7058160" cy="29527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blinds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dfbe3"/>
                </a:solidFill>
                <a:latin typeface="Tahoma"/>
              </a:rPr>
              <a:t>Памятник Петру Первому в Петропавловской крепости</a:t>
            </a:r>
            <a:endParaRPr b="0" lang="en-US" sz="3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амятник выполнен известным художником и скульптором Михаилом Шемякины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181400" cy="5040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743280" cy="3151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4146480" cy="3106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3743280" cy="2806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643280" y="3500280"/>
            <a:ext cx="4105440" cy="2913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Гимн великого города.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мн Санкт-Петербурга представляет собой оркестровое исполнение «Гимна Великому городу» из балета Р.М. Глиэра «Медный всадник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 слов Гимна - О.А. Чуп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6000">
    <p:blinds dir="horz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Для Вас, родители: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анная презентация создана в соответствии с возрастными особенностями де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ей отражены основная символика нашего гор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льзуясь данной презентацией можно легко составить рассказ для ребенка, что позволит и углубить его интерес к истории родного города, его символике и закрепить пройденный в группе материа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Флаг и герб города.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лавные символы нашего города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ер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ставляет собой красный щит с изображением на его поле двух серебряных якорей - морского  и речного, положенных накрест, и на них золотой скипетр с двуглавым орл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лаг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ва якоря и скипетр - элементы исторического герба города. Скипетр символизирует былой столичный статус Санкт-Петербурга, а якоря - важность города как пор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19640" y="1557360"/>
            <a:ext cx="2592360" cy="2189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312732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95672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be3"/>
                </a:solidFill>
                <a:latin typeface="Tahoma"/>
              </a:rPr>
              <a:t>Адмиралтейство.</a:t>
            </a:r>
            <a:endParaRPr b="0" lang="en-US" sz="36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4248360" cy="4606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здание Адмиралте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троено по проекту царя Петра Первого архитектором Захаровым для строительства корабле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6000">
    <p:blinds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dfbe3"/>
                </a:solidFill>
                <a:latin typeface="Tahoma"/>
              </a:rPr>
              <a:t>Адмиралтейская игла кораблик в небо подняла</a:t>
            </a:r>
            <a:br>
              <a:rPr sz="3800"/>
            </a:br>
            <a:endParaRPr b="0" lang="en-US" sz="3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0" y="1412640"/>
            <a:ext cx="39607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шпиле Адмиралтейства мы видим золотой кораблик, который показывает направление вет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флюг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4248000" cy="5251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blinds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14999997615814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368316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24360" y="260280"/>
            <a:ext cx="4968720" cy="5978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333360"/>
            <a:ext cx="381636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стаментом для конной скульптуры является природный камень, который во время грозы был расколот молнией. Его назвали «гром-камень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нная статуя царя стоит на трех точках опоры (хвост и задние ноги коня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«Медный всадник» выполнен скульптором Этьеном Фальконе . Голову Петра лепила ученица Фальконе, Мари-Анна Колло. Змею по замыслу Фальконе вылепил Фёдор Гордее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3000"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53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Медный всадник.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92720" y="1125000"/>
            <a:ext cx="3610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т памятник построен в честь царя Петра –основателя нашего города. Он называется «Медный всадник»,хотя сделан из бронзы и гранита. Памятник олицетворяет победу России над врагами (конь придавливает копытами змею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757760" cy="4896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25 -0.00532 -0.00799 -0.00648 -0.01528 -0.00394 C -0.02239 0.01017 -0.01805 0.0067 -0.02604 0.0104 C -0.03299 0.0074 -0.0316 0.00323 -0.03837 0 C -0.0408 -0.00925 -0.04323 -0.00671 -0.04913 -0.01226 C -0.05417 -0.00209 -0.05121 0.00439 -0.05989 0.00832 C -0.06389 0.00647 -0.06597 0.00624 -0.0691 0.00208 C -0.07031 0.00046 -0.07066 -0.00255 -0.07222 -0.00394 C -0.07396 -0.00555 -0.07639 -0.00532 -0.07847 -0.00602 C -0.08108 -0.00532 -0.08385 -0.00555 -0.08611 -0.00394 C -0.08767 -0.00278 -0.08767 0.00069 -0.08924 0.00208 C -0.09201 0.00439 -0.09844 0.00624 -0.09844 0.00624 C -0.10764 0.0148 -0.10486 0.00902 -0.11076 0.00208 C -0.11354 -0.00116 -0.11996 -0.00602 -0.11996 -0.00602 C -0.13177 -0.00047 -0.11701 -0.00602 -0.12917 -0.00602 C -0.13229 -0.00602 -0.13611 -0.00209 -0.13837 0 C -0.14167 0.01711 -0.13733 0.01642 -0.14305 0.01642 E">
                                      <p:cBhvr>
                                        <p:cTn id="179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Петропавловская крепость.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392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тропавловская крепость- это первое каменное строение нашего город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38840" cy="4537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dfbe3"/>
                </a:solidFill>
                <a:latin typeface="Tahoma"/>
              </a:rPr>
              <a:t>Ангел на шпиле Петропавловского собора.</a:t>
            </a:r>
            <a:endParaRPr b="0" lang="en-US" sz="38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579840" cy="5035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35280" y="1483920"/>
            <a:ext cx="4608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умал, видно, ангел          улете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вдруг, застыл, Пространства не   осил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му на город весело гляде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вершины Петропавловского шпи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9000">
    <p:blinds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3:14:03Z</dcterms:created>
  <dc:creator>Ольга</dc:creator>
  <dc:description/>
  <dc:language>en-US</dc:language>
  <cp:lastModifiedBy>Ольга</cp:lastModifiedBy>
  <dcterms:modified xsi:type="dcterms:W3CDTF">2011-02-18T21:59:33Z</dcterms:modified>
  <cp:revision>9</cp:revision>
  <dc:subject/>
  <dc:title>Символы Санкт-Петербурга</dc:title>
</cp:coreProperties>
</file>