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gif" ContentType="image/gif"/>
  <Override PartName="/ppt/media/image7.gif" ContentType="image/gif"/>
  <Override PartName="/ppt/media/image11.png" ContentType="image/png"/>
  <Override PartName="/ppt/media/image6.png" ContentType="image/png"/>
  <Override PartName="/ppt/media/image26.gif" ContentType="image/gif"/>
  <Override PartName="/ppt/media/image8.gif" ContentType="image/gif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0.png" ContentType="image/png"/>
  <Override PartName="/ppt/media/image24.gif" ContentType="image/gif"/>
  <Override PartName="/ppt/media/image16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1686-27BE-45AC-AAA3-F4ACF2AD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65C8-C0B0-4AFE-978D-96BA994C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F069-F7B9-45E5-BBA2-71E88701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D8F9-EB79-4AAF-9C44-3D3FBB17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7AFA-4973-4387-87D8-0C582090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83E1-8A45-4647-ABEF-57CCFB03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1539-4CBA-4FDE-A7A1-376C56C2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4556-F92D-4EA4-93C7-83CC6999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C672-2C24-4CED-A1BA-B669DF69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461F-939B-404F-B5F2-6B2E004F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8F79-1CFA-4E93-8965-18C610D2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60E5-436C-4BC7-858B-5089529F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FE51-9C6C-46D7-BB14-DD3FD5E5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146D-CFEC-4B61-8025-D2458685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B05A-5B8B-4544-B05D-556D3ABD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3697-A2C1-40CC-8F4E-22BBAE97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72E9-6BD8-4083-B429-ACE9D407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44242-DFD7-4608-8673-E4C2B3C0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7EC5A-2D38-442C-A2D6-886AC227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4380C-B818-45DD-BCD8-66538374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C2930-D4D3-4755-9681-A52C1526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73F63-2BF2-4A61-AE80-C19E35D1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E6AF-5843-4163-8926-01CCB43F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69CF0-2941-461F-B7F2-DCCE3D81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56D00-A7E0-4B20-8FE3-CCAD474A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3140B-398C-4E17-BC2D-E4BD53D3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7A6B3-993A-40A1-9B33-896904FB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65E88-0361-4F30-B00C-D29049AF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44588-D3A5-43A7-B50B-2BA58C2D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DF20E-2174-4996-9FE4-9F043AFB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084F3-D21C-4F62-BBF1-58D2D081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A3351-C959-43BE-B832-8C9F7ED7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01366-6110-4E11-B560-5661F7FC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3FDA-ED04-43F5-8486-6E1B058E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DFE35-698F-4013-9727-F2B464C2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7F96A-98DB-43F6-B52F-CA03DA98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592FF-A238-4CE3-8B49-D7B584A9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94180-E442-4432-8B82-5460DEE0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46809-3F74-4AF4-8298-7DFC1BB2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C428A-0071-4869-BD0A-166BD625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10B40-7564-4E13-9B55-FDB868C7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EA886-7816-4348-AE9C-FD0CE12B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99E82-5A42-4F7D-B6E5-587D239D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BBF6-A781-4F7C-A709-23B7E6DF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B322-89B4-4E82-8A42-86BDF210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BB09-EEDC-426D-BC44-590624EC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1870-8858-4856-B27B-31121C88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A73F-0C63-41EB-84D8-72C0351E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1DE4-B22D-42E1-AD09-6EB7AF5BFB09}" type="slidenum"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0FC9-2301-490F-820A-50D32F1870E3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783A-74FD-40B0-9308-9A3CA3B85B6E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645F-4EF6-4CE0-916D-37ED002265E2}" type="slidenum"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22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396720" y="1365120"/>
            <a:ext cx="8107560" cy="1908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E:\Анимашки\Анимашки_ClipArt\AG00428_.GIF"/>
          <p:cNvPicPr/>
          <p:nvPr/>
        </p:nvPicPr>
        <p:blipFill>
          <a:blip r:embed="rId2"/>
          <a:stretch/>
        </p:blipFill>
        <p:spPr>
          <a:xfrm>
            <a:off x="3214800" y="3000240"/>
            <a:ext cx="2438280" cy="1938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E:\Анимашки\Анимашки_ClipArt\J0095744.GIF"/>
          <p:cNvPicPr/>
          <p:nvPr/>
        </p:nvPicPr>
        <p:blipFill>
          <a:blip r:embed="rId3"/>
          <a:stretch/>
        </p:blipFill>
        <p:spPr>
          <a:xfrm>
            <a:off x="642960" y="285840"/>
            <a:ext cx="1500120" cy="1911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E:\Анимашки\Анимашки_ClipArt\J0095744.GIF"/>
          <p:cNvPicPr/>
          <p:nvPr/>
        </p:nvPicPr>
        <p:blipFill>
          <a:blip r:embed="rId4"/>
          <a:stretch/>
        </p:blipFill>
        <p:spPr>
          <a:xfrm>
            <a:off x="6429240" y="4000680"/>
            <a:ext cx="1500480" cy="1911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E:\Анимашки\Анимашки_ClipArt\J0095744.GIF"/>
          <p:cNvPicPr/>
          <p:nvPr/>
        </p:nvPicPr>
        <p:blipFill>
          <a:blip r:embed="rId5"/>
          <a:stretch/>
        </p:blipFill>
        <p:spPr>
          <a:xfrm>
            <a:off x="2286000" y="214200"/>
            <a:ext cx="1643040" cy="2092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E:\Анимашки\Анимашки_ClipArt\J0095744.GIF"/>
          <p:cNvPicPr/>
          <p:nvPr/>
        </p:nvPicPr>
        <p:blipFill>
          <a:blip r:embed="rId6"/>
          <a:stretch/>
        </p:blipFill>
        <p:spPr>
          <a:xfrm>
            <a:off x="4857840" y="4500720"/>
            <a:ext cx="1643040" cy="20923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E:\Анимашки\Цветы\1f1.gif"/>
          <p:cNvPicPr/>
          <p:nvPr/>
        </p:nvPicPr>
        <p:blipFill>
          <a:blip r:embed="rId7"/>
          <a:stretch/>
        </p:blipFill>
        <p:spPr>
          <a:xfrm>
            <a:off x="571680" y="4143240"/>
            <a:ext cx="2306520" cy="2190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E:\Анимашки\Анимашки_ClipArt\J0095744.GIF"/>
          <p:cNvPicPr/>
          <p:nvPr/>
        </p:nvPicPr>
        <p:blipFill>
          <a:blip r:embed="rId8"/>
          <a:stretch/>
        </p:blipFill>
        <p:spPr>
          <a:xfrm>
            <a:off x="3786120" y="214200"/>
            <a:ext cx="1643040" cy="2092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E:\Анимашки\Анимашки_ClipArt\J0095744.GIF"/>
          <p:cNvPicPr/>
          <p:nvPr/>
        </p:nvPicPr>
        <p:blipFill>
          <a:blip r:embed="rId9"/>
          <a:stretch/>
        </p:blipFill>
        <p:spPr>
          <a:xfrm>
            <a:off x="5214960" y="214200"/>
            <a:ext cx="1643040" cy="2092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E:\Анимашки\Анимашки_ClipArt\J0095744.GIF"/>
          <p:cNvPicPr/>
          <p:nvPr/>
        </p:nvPicPr>
        <p:blipFill>
          <a:blip r:embed="rId10"/>
          <a:stretch/>
        </p:blipFill>
        <p:spPr>
          <a:xfrm>
            <a:off x="6786720" y="142920"/>
            <a:ext cx="164304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6" descr="E:\Анимашки\Цветы\1f1.gif"/>
          <p:cNvPicPr/>
          <p:nvPr/>
        </p:nvPicPr>
        <p:blipFill>
          <a:blip r:embed="rId1"/>
          <a:stretch/>
        </p:blipFill>
        <p:spPr>
          <a:xfrm>
            <a:off x="357120" y="4667400"/>
            <a:ext cx="2306880" cy="2190600"/>
          </a:xfrm>
          <a:prstGeom prst="rect">
            <a:avLst/>
          </a:prstGeom>
          <a:ln w="0">
            <a:noFill/>
          </a:ln>
        </p:spPr>
      </p:pic>
      <p:pic>
        <p:nvPicPr>
          <p:cNvPr id="241" name="Заголовок 13" descr=""/>
          <p:cNvPicPr/>
          <p:nvPr/>
        </p:nvPicPr>
        <p:blipFill>
          <a:blip r:embed="rId2"/>
          <a:stretch/>
        </p:blipFill>
        <p:spPr>
          <a:xfrm>
            <a:off x="781200" y="493560"/>
            <a:ext cx="7862760" cy="13417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714240" y="1856880"/>
            <a:ext cx="7855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onstantia"/>
              </a:rPr>
              <a:t>Я хожу в школу. В моей сумке есть учебники, тетради, ручки.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6" descr="E:\Анимашки\Цветы\1f1.gif"/>
          <p:cNvPicPr/>
          <p:nvPr/>
        </p:nvPicPr>
        <p:blipFill>
          <a:blip r:embed="rId1"/>
          <a:stretch/>
        </p:blipFill>
        <p:spPr>
          <a:xfrm>
            <a:off x="7264440" y="5072040"/>
            <a:ext cx="1879560" cy="1785960"/>
          </a:xfrm>
          <a:prstGeom prst="rect">
            <a:avLst/>
          </a:prstGeom>
          <a:ln w="0">
            <a:noFill/>
          </a:ln>
        </p:spPr>
      </p:pic>
      <p:pic>
        <p:nvPicPr>
          <p:cNvPr id="244" name="Заголовок 13" descr=""/>
          <p:cNvPicPr/>
          <p:nvPr/>
        </p:nvPicPr>
        <p:blipFill>
          <a:blip r:embed="rId2"/>
          <a:stretch/>
        </p:blipFill>
        <p:spPr>
          <a:xfrm>
            <a:off x="566640" y="420840"/>
            <a:ext cx="7864560" cy="19080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99680" y="214308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nstantia"/>
              </a:rPr>
              <a:t>I go at school. There are  textbooks, workbooks, pens  in my bag.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E:\Анимашки\Цветы\1f1.gif"/>
          <p:cNvPicPr/>
          <p:nvPr/>
        </p:nvPicPr>
        <p:blipFill>
          <a:blip r:embed="rId1"/>
          <a:stretch/>
        </p:blipFill>
        <p:spPr>
          <a:xfrm>
            <a:off x="6286680" y="4429080"/>
            <a:ext cx="2306520" cy="2190960"/>
          </a:xfrm>
          <a:prstGeom prst="rect">
            <a:avLst/>
          </a:prstGeom>
          <a:ln w="0">
            <a:noFill/>
          </a:ln>
        </p:spPr>
      </p:pic>
      <p:pic>
        <p:nvPicPr>
          <p:cNvPr id="247" name="Заголовок 13" descr=""/>
          <p:cNvPicPr/>
          <p:nvPr/>
        </p:nvPicPr>
        <p:blipFill>
          <a:blip r:embed="rId2"/>
          <a:stretch/>
        </p:blipFill>
        <p:spPr>
          <a:xfrm>
            <a:off x="-73080" y="1365120"/>
            <a:ext cx="8467920" cy="37069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6" descr="E:\Анимашки\Цветы\1f1.gif"/>
          <p:cNvPicPr/>
          <p:nvPr/>
        </p:nvPicPr>
        <p:blipFill>
          <a:blip r:embed="rId1"/>
          <a:stretch/>
        </p:blipFill>
        <p:spPr>
          <a:xfrm>
            <a:off x="6837480" y="285840"/>
            <a:ext cx="2306520" cy="2190600"/>
          </a:xfrm>
          <a:prstGeom prst="rect">
            <a:avLst/>
          </a:prstGeom>
          <a:ln w="0">
            <a:noFill/>
          </a:ln>
        </p:spPr>
      </p:pic>
      <p:pic>
        <p:nvPicPr>
          <p:cNvPr id="250" name="Заголовок 13" descr=""/>
          <p:cNvPicPr/>
          <p:nvPr/>
        </p:nvPicPr>
        <p:blipFill>
          <a:blip r:embed="rId2"/>
          <a:stretch/>
        </p:blipFill>
        <p:spPr>
          <a:xfrm>
            <a:off x="-19080" y="-225360"/>
            <a:ext cx="8547120" cy="53038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214200" y="5105520"/>
            <a:ext cx="2038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E:\Анимашки\Цветы\1f1.gif"/>
          <p:cNvPicPr/>
          <p:nvPr/>
        </p:nvPicPr>
        <p:blipFill>
          <a:blip r:embed="rId1"/>
          <a:stretch/>
        </p:blipFill>
        <p:spPr>
          <a:xfrm>
            <a:off x="357120" y="4667400"/>
            <a:ext cx="2306880" cy="2190600"/>
          </a:xfrm>
          <a:prstGeom prst="rect">
            <a:avLst/>
          </a:prstGeom>
          <a:ln w="0">
            <a:noFill/>
          </a:ln>
        </p:spPr>
      </p:pic>
      <p:pic>
        <p:nvPicPr>
          <p:cNvPr id="253" name="Заголовок 13" descr=""/>
          <p:cNvPicPr/>
          <p:nvPr/>
        </p:nvPicPr>
        <p:blipFill>
          <a:blip r:embed="rId2"/>
          <a:stretch/>
        </p:blipFill>
        <p:spPr>
          <a:xfrm>
            <a:off x="182520" y="1365120"/>
            <a:ext cx="8534520" cy="190836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6" descr="E:\Анимашки\Цветы\1f1.gif"/>
          <p:cNvPicPr/>
          <p:nvPr/>
        </p:nvPicPr>
        <p:blipFill>
          <a:blip r:embed="rId1"/>
          <a:stretch/>
        </p:blipFill>
        <p:spPr>
          <a:xfrm>
            <a:off x="357120" y="4667400"/>
            <a:ext cx="2306880" cy="2190600"/>
          </a:xfrm>
          <a:prstGeom prst="rect">
            <a:avLst/>
          </a:prstGeom>
          <a:ln w="0">
            <a:noFill/>
          </a:ln>
        </p:spPr>
      </p:pic>
      <p:pic>
        <p:nvPicPr>
          <p:cNvPr id="256" name="Заголовок 13" descr=""/>
          <p:cNvPicPr/>
          <p:nvPr/>
        </p:nvPicPr>
        <p:blipFill>
          <a:blip r:embed="rId2"/>
          <a:stretch/>
        </p:blipFill>
        <p:spPr>
          <a:xfrm>
            <a:off x="530280" y="907920"/>
            <a:ext cx="7864560" cy="23655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E:\Анимашки\Цветы\1f1.gif"/>
          <p:cNvPicPr/>
          <p:nvPr/>
        </p:nvPicPr>
        <p:blipFill>
          <a:blip r:embed="rId1"/>
          <a:stretch/>
        </p:blipFill>
        <p:spPr>
          <a:xfrm>
            <a:off x="357120" y="4667400"/>
            <a:ext cx="2306880" cy="2190600"/>
          </a:xfrm>
          <a:prstGeom prst="rect">
            <a:avLst/>
          </a:prstGeom>
          <a:ln w="0">
            <a:noFill/>
          </a:ln>
        </p:spPr>
      </p:pic>
      <p:pic>
        <p:nvPicPr>
          <p:cNvPr id="259" name="Заголовок 13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64560" cy="1908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Picture 6" descr="E:\Анимашки\Цветы\1f1.gif"/>
          <p:cNvPicPr/>
          <p:nvPr/>
        </p:nvPicPr>
        <p:blipFill>
          <a:blip r:embed="rId3"/>
          <a:stretch/>
        </p:blipFill>
        <p:spPr>
          <a:xfrm>
            <a:off x="785880" y="3929040"/>
            <a:ext cx="23065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-60480" y="-55440"/>
            <a:ext cx="8418600" cy="53895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4" name="Picture 2" descr="E:\Анимашки\Дети\1aa.gif"/>
          <p:cNvPicPr/>
          <p:nvPr/>
        </p:nvPicPr>
        <p:blipFill>
          <a:blip r:embed="rId2"/>
          <a:stretch/>
        </p:blipFill>
        <p:spPr>
          <a:xfrm>
            <a:off x="6286680" y="4000680"/>
            <a:ext cx="2357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-60480" y="-55440"/>
            <a:ext cx="8607600" cy="53895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642680" y="3228480"/>
            <a:ext cx="6745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7" name="Picture 2" descr="E:\Анимашки\Смайлики\55.gif"/>
          <p:cNvPicPr/>
          <p:nvPr/>
        </p:nvPicPr>
        <p:blipFill>
          <a:blip r:embed="rId2"/>
          <a:stretch/>
        </p:blipFill>
        <p:spPr>
          <a:xfrm>
            <a:off x="6929280" y="4357800"/>
            <a:ext cx="1857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192880" cy="201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0" y="371484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[а:]       [</a:t>
            </a:r>
            <a:r>
              <a:rPr b="0" lang="ru-RU" sz="6600" spc="-1" strike="noStrike">
                <a:solidFill>
                  <a:srgbClr val="ffffff"/>
                </a:solidFill>
                <a:latin typeface="Constantia"/>
              </a:rPr>
              <a:t>^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]     [</a:t>
            </a: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ei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]     [ </a:t>
            </a: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i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 ]     [ </a:t>
            </a: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:]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Picture 6" descr="E:\Анимашки\Цветы\1f1.gif"/>
          <p:cNvPicPr/>
          <p:nvPr/>
        </p:nvPicPr>
        <p:blipFill>
          <a:blip r:embed="rId2"/>
          <a:stretch/>
        </p:blipFill>
        <p:spPr>
          <a:xfrm>
            <a:off x="357120" y="4667400"/>
            <a:ext cx="2306880" cy="2190600"/>
          </a:xfrm>
          <a:prstGeom prst="rect">
            <a:avLst/>
          </a:prstGeom>
          <a:ln w="0">
            <a:noFill/>
          </a:ln>
        </p:spPr>
      </p:pic>
      <p:sp>
        <p:nvSpPr>
          <p:cNvPr id="209" name="Арка 4"/>
          <p:cNvSpPr/>
          <p:nvPr/>
        </p:nvSpPr>
        <p:spPr>
          <a:xfrm rot="4354200">
            <a:off x="4544640" y="4759200"/>
            <a:ext cx="9144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192880" cy="20113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0" y="371484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[а:]       [</a:t>
            </a:r>
            <a:r>
              <a:rPr b="0" lang="ru-RU" sz="6600" spc="-1" strike="noStrike">
                <a:solidFill>
                  <a:srgbClr val="ffffff"/>
                </a:solidFill>
                <a:latin typeface="Constantia"/>
              </a:rPr>
              <a:t>^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]     [</a:t>
            </a: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ei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]     [ </a:t>
            </a: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i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 ]     [ </a:t>
            </a: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:]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Picture 6" descr="E:\Анимашки\Цветы\1f1.gif"/>
          <p:cNvPicPr/>
          <p:nvPr/>
        </p:nvPicPr>
        <p:blipFill>
          <a:blip r:embed="rId2"/>
          <a:stretch/>
        </p:blipFill>
        <p:spPr>
          <a:xfrm>
            <a:off x="357120" y="4667400"/>
            <a:ext cx="2306880" cy="2190600"/>
          </a:xfrm>
          <a:prstGeom prst="rect">
            <a:avLst/>
          </a:prstGeom>
          <a:ln w="0">
            <a:noFill/>
          </a:ln>
        </p:spPr>
      </p:pic>
      <p:sp>
        <p:nvSpPr>
          <p:cNvPr id="213" name="Арка 4"/>
          <p:cNvSpPr/>
          <p:nvPr/>
        </p:nvSpPr>
        <p:spPr>
          <a:xfrm rot="4354200">
            <a:off x="4544640" y="4759200"/>
            <a:ext cx="9144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Выгнутая влево стрелка 7"/>
          <p:cNvSpPr/>
          <p:nvPr/>
        </p:nvSpPr>
        <p:spPr>
          <a:xfrm>
            <a:off x="428760" y="2000160"/>
            <a:ext cx="1571400" cy="2928960"/>
          </a:xfrm>
          <a:custGeom>
            <a:avLst/>
            <a:gdLst>
              <a:gd name="textAreaLeft" fmla="*/ 210240 w 1571400"/>
              <a:gd name="textAreaRight" fmla="*/ 1361160 w 1571400"/>
              <a:gd name="textAreaTop" fmla="*/ 584640 h 2928960"/>
              <a:gd name="textAreaBottom" fmla="*/ 2147760 h 292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27" stAng="-5400000" swAng="-5400000"/>
                <a:lnTo>
                  <a:pt x="0" y="11524"/>
                </a:lnTo>
                <a:arcTo wR="21600" hR="8627" stAng="10800000" swAng="-4088915"/>
                <a:lnTo>
                  <a:pt x="18184" y="21491"/>
                </a:lnTo>
                <a:lnTo>
                  <a:pt x="21600" y="18703"/>
                </a:lnTo>
                <a:lnTo>
                  <a:pt x="18184" y="15696"/>
                </a:lnTo>
                <a:lnTo>
                  <a:pt x="18184" y="17145"/>
                </a:lnTo>
                <a:arcTo wR="21600" hR="8627" stAng="6711085" swAng="3855419"/>
                <a:lnTo>
                  <a:pt x="307" y="10076"/>
                </a:lnTo>
                <a:arcTo wR="21600" hR="8627" stAng="-10566504" swAng="5166504"/>
                <a:close/>
              </a:path>
              <a:path fill="darkenLess" w="21600" h="21600">
                <a:moveTo>
                  <a:pt x="21600" y="0"/>
                </a:moveTo>
                <a:arcTo wR="21600" hR="8627" stAng="-5400000" swAng="-5400000"/>
                <a:lnTo>
                  <a:pt x="0" y="8627"/>
                </a:lnTo>
                <a:arcTo wR="21600" hR="8627" stAng="10800000" swAng="-233496"/>
                <a:lnTo>
                  <a:pt x="307" y="10076"/>
                </a:lnTo>
                <a:arcTo wR="21600" hR="8627" stAng="-10566504" swAng="5166504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Выгнутая влево стрелка 9"/>
          <p:cNvSpPr/>
          <p:nvPr/>
        </p:nvSpPr>
        <p:spPr>
          <a:xfrm>
            <a:off x="3214800" y="2071800"/>
            <a:ext cx="928440" cy="2928960"/>
          </a:xfrm>
          <a:custGeom>
            <a:avLst/>
            <a:gdLst>
              <a:gd name="textAreaLeft" fmla="*/ 124200 w 928440"/>
              <a:gd name="textAreaRight" fmla="*/ 804240 w 928440"/>
              <a:gd name="textAreaTop" fmla="*/ 645120 h 2928960"/>
              <a:gd name="textAreaBottom" fmla="*/ 2167920 h 292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16" stAng="-5400000" swAng="-5400000"/>
                <a:lnTo>
                  <a:pt x="0" y="11228"/>
                </a:lnTo>
                <a:arcTo wR="21600" hR="9516" stAng="10800000" swAng="-4201277"/>
                <a:lnTo>
                  <a:pt x="18184" y="21480"/>
                </a:lnTo>
                <a:lnTo>
                  <a:pt x="21600" y="19888"/>
                </a:lnTo>
                <a:lnTo>
                  <a:pt x="18184" y="18056"/>
                </a:lnTo>
                <a:lnTo>
                  <a:pt x="18184" y="18912"/>
                </a:lnTo>
                <a:arcTo wR="21600" hR="9516" stAng="6598723" swAng="4064558"/>
                <a:lnTo>
                  <a:pt x="88" y="10372"/>
                </a:lnTo>
                <a:arcTo wR="21600" hR="9516" stAng="-10663281" swAng="5263281"/>
                <a:close/>
              </a:path>
              <a:path fill="darkenLess" w="21600" h="21600">
                <a:moveTo>
                  <a:pt x="21600" y="0"/>
                </a:moveTo>
                <a:arcTo wR="21600" hR="9516" stAng="-5400000" swAng="-5400000"/>
                <a:lnTo>
                  <a:pt x="0" y="9516"/>
                </a:lnTo>
                <a:arcTo wR="21600" hR="9516" stAng="10800000" swAng="-136719"/>
                <a:lnTo>
                  <a:pt x="88" y="10372"/>
                </a:lnTo>
                <a:arcTo wR="21600" hR="9516" stAng="-10663281" swAng="5263281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Выгнутая влево стрелка 10"/>
          <p:cNvSpPr/>
          <p:nvPr/>
        </p:nvSpPr>
        <p:spPr>
          <a:xfrm>
            <a:off x="3429000" y="3000240"/>
            <a:ext cx="1214280" cy="2428920"/>
          </a:xfrm>
          <a:custGeom>
            <a:avLst/>
            <a:gdLst>
              <a:gd name="textAreaLeft" fmla="*/ 162720 w 1214280"/>
              <a:gd name="textAreaRight" fmla="*/ 1051560 w 1214280"/>
              <a:gd name="textAreaTop" fmla="*/ 493200 h 2428920"/>
              <a:gd name="textAreaBottom" fmla="*/ 178380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75" stAng="-5400000" swAng="-5400000"/>
                <a:lnTo>
                  <a:pt x="0" y="11475"/>
                </a:lnTo>
                <a:arcTo wR="21600" hR="8775" stAng="10800000" swAng="-4108992"/>
                <a:lnTo>
                  <a:pt x="18184" y="21490"/>
                </a:lnTo>
                <a:lnTo>
                  <a:pt x="21600" y="18900"/>
                </a:lnTo>
                <a:lnTo>
                  <a:pt x="18184" y="16090"/>
                </a:lnTo>
                <a:lnTo>
                  <a:pt x="18184" y="17440"/>
                </a:lnTo>
                <a:arcTo wR="21600" hR="8775" stAng="6691008" swAng="3891833"/>
                <a:lnTo>
                  <a:pt x="257" y="10125"/>
                </a:lnTo>
                <a:arcTo wR="21600" hR="8775" stAng="-10582841" swAng="5182841"/>
                <a:close/>
              </a:path>
              <a:path fill="darkenLess" w="21600" h="21600">
                <a:moveTo>
                  <a:pt x="21600" y="0"/>
                </a:moveTo>
                <a:arcTo wR="21600" hR="8775" stAng="-5400000" swAng="-5400000"/>
                <a:lnTo>
                  <a:pt x="0" y="8775"/>
                </a:lnTo>
                <a:arcTo wR="21600" hR="8775" stAng="10800000" swAng="-217159"/>
                <a:lnTo>
                  <a:pt x="257" y="10125"/>
                </a:lnTo>
                <a:arcTo wR="21600" hR="8775" stAng="-10582841" swAng="5182841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трелка вправо 11"/>
          <p:cNvSpPr/>
          <p:nvPr/>
        </p:nvSpPr>
        <p:spPr>
          <a:xfrm rot="1225200">
            <a:off x="2746440" y="3147840"/>
            <a:ext cx="2236680" cy="48600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трелка вправо 12"/>
          <p:cNvSpPr/>
          <p:nvPr/>
        </p:nvSpPr>
        <p:spPr>
          <a:xfrm flipH="1" rot="16200000">
            <a:off x="6929280" y="3071520"/>
            <a:ext cx="571320" cy="571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трелка влево 15"/>
          <p:cNvSpPr/>
          <p:nvPr/>
        </p:nvSpPr>
        <p:spPr>
          <a:xfrm rot="19159800">
            <a:off x="2800440" y="3038040"/>
            <a:ext cx="3551040" cy="48420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E:\Анимашки\Цветы\1f1.gif"/>
          <p:cNvPicPr/>
          <p:nvPr/>
        </p:nvPicPr>
        <p:blipFill>
          <a:blip r:embed="rId3"/>
          <a:stretch/>
        </p:blipFill>
        <p:spPr>
          <a:xfrm>
            <a:off x="509760" y="4819680"/>
            <a:ext cx="2306520" cy="2190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E:\Анимашки\Цветы\1f1.gif"/>
          <p:cNvPicPr/>
          <p:nvPr/>
        </p:nvPicPr>
        <p:blipFill>
          <a:blip r:embed="rId4"/>
          <a:stretch/>
        </p:blipFill>
        <p:spPr>
          <a:xfrm>
            <a:off x="500040" y="4667400"/>
            <a:ext cx="23065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6" descr="E:\Анимашки\Цветы\1f1.gif"/>
          <p:cNvPicPr/>
          <p:nvPr/>
        </p:nvPicPr>
        <p:blipFill>
          <a:blip r:embed="rId1"/>
          <a:stretch/>
        </p:blipFill>
        <p:spPr>
          <a:xfrm>
            <a:off x="357120" y="4667400"/>
            <a:ext cx="2306880" cy="2190600"/>
          </a:xfrm>
          <a:prstGeom prst="rect">
            <a:avLst/>
          </a:prstGeom>
          <a:ln w="0">
            <a:noFill/>
          </a:ln>
        </p:spPr>
      </p:pic>
      <p:pic>
        <p:nvPicPr>
          <p:cNvPr id="223" name="Заголовок 13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64560" cy="19083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6" descr="E:\Анимашки\Цветы\1f1.gif"/>
          <p:cNvPicPr/>
          <p:nvPr/>
        </p:nvPicPr>
        <p:blipFill>
          <a:blip r:embed="rId1"/>
          <a:stretch/>
        </p:blipFill>
        <p:spPr>
          <a:xfrm>
            <a:off x="357120" y="4667400"/>
            <a:ext cx="2306880" cy="2190600"/>
          </a:xfrm>
          <a:prstGeom prst="rect">
            <a:avLst/>
          </a:prstGeom>
          <a:ln w="0">
            <a:noFill/>
          </a:ln>
        </p:spPr>
      </p:pic>
      <p:pic>
        <p:nvPicPr>
          <p:cNvPr id="226" name="Заголовок 13" descr=""/>
          <p:cNvPicPr/>
          <p:nvPr/>
        </p:nvPicPr>
        <p:blipFill>
          <a:blip r:embed="rId2"/>
          <a:stretch/>
        </p:blipFill>
        <p:spPr>
          <a:xfrm>
            <a:off x="12600" y="171360"/>
            <a:ext cx="8845560" cy="43768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23954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6" descr="E:\Анимашки\Цветы\1f1.gif"/>
          <p:cNvPicPr/>
          <p:nvPr/>
        </p:nvPicPr>
        <p:blipFill>
          <a:blip r:embed="rId1"/>
          <a:stretch/>
        </p:blipFill>
        <p:spPr>
          <a:xfrm>
            <a:off x="357120" y="4667400"/>
            <a:ext cx="2306880" cy="2190600"/>
          </a:xfrm>
          <a:prstGeom prst="rect">
            <a:avLst/>
          </a:prstGeom>
          <a:ln w="0">
            <a:noFill/>
          </a:ln>
        </p:spPr>
      </p:pic>
      <p:pic>
        <p:nvPicPr>
          <p:cNvPr id="229" name="Заголовок 13" descr=""/>
          <p:cNvPicPr/>
          <p:nvPr/>
        </p:nvPicPr>
        <p:blipFill>
          <a:blip r:embed="rId2"/>
          <a:stretch/>
        </p:blipFill>
        <p:spPr>
          <a:xfrm>
            <a:off x="566640" y="281160"/>
            <a:ext cx="7864560" cy="1908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33160" y="2142720"/>
            <a:ext cx="7854840" cy="28386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    …</a:t>
            </a: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house is big      …English    … Black Sea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…</a:t>
            </a: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dogs    …cheese   …animal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6" descr="E:\Анимашки\Цветы\1f1.gif"/>
          <p:cNvPicPr/>
          <p:nvPr/>
        </p:nvPicPr>
        <p:blipFill>
          <a:blip r:embed="rId1"/>
          <a:stretch/>
        </p:blipFill>
        <p:spPr>
          <a:xfrm>
            <a:off x="6643800" y="4500720"/>
            <a:ext cx="2306520" cy="2190600"/>
          </a:xfrm>
          <a:prstGeom prst="rect">
            <a:avLst/>
          </a:prstGeom>
          <a:ln w="0">
            <a:noFill/>
          </a:ln>
        </p:spPr>
      </p:pic>
      <p:pic>
        <p:nvPicPr>
          <p:cNvPr id="232" name="Заголовок 13" descr=""/>
          <p:cNvPicPr/>
          <p:nvPr/>
        </p:nvPicPr>
        <p:blipFill>
          <a:blip r:embed="rId2"/>
          <a:stretch/>
        </p:blipFill>
        <p:spPr>
          <a:xfrm>
            <a:off x="566640" y="-219240"/>
            <a:ext cx="7864560" cy="19083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99680" y="1499760"/>
            <a:ext cx="7854840" cy="36435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    …</a:t>
            </a:r>
            <a:r>
              <a:rPr b="0" lang="en-US" sz="48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en-US" sz="5200" spc="-1" strike="noStrike">
                <a:solidFill>
                  <a:srgbClr val="ffff00"/>
                </a:solidFill>
                <a:latin typeface="Constantia"/>
              </a:rPr>
              <a:t>a </a:t>
            </a:r>
            <a:r>
              <a:rPr b="0" lang="en-US" sz="5200" spc="-1" strike="noStrike">
                <a:solidFill>
                  <a:srgbClr val="ffffff"/>
                </a:solidFill>
                <a:latin typeface="Constantia"/>
              </a:rPr>
              <a:t>house is big      …</a:t>
            </a:r>
            <a:r>
              <a:rPr b="0" lang="en-US" sz="5200" spc="-1" strike="noStrike">
                <a:solidFill>
                  <a:srgbClr val="ffff00"/>
                </a:solidFill>
                <a:latin typeface="Constantia"/>
              </a:rPr>
              <a:t> an </a:t>
            </a:r>
            <a:r>
              <a:rPr b="0" lang="en-US" sz="5200" spc="-1" strike="noStrike">
                <a:solidFill>
                  <a:srgbClr val="ffffff"/>
                </a:solidFill>
                <a:latin typeface="Constantia"/>
              </a:rPr>
              <a:t>English    …</a:t>
            </a:r>
            <a:r>
              <a:rPr b="0" lang="en-US" sz="5200" spc="-1" strike="noStrike">
                <a:solidFill>
                  <a:srgbClr val="ffff00"/>
                </a:solidFill>
                <a:latin typeface="Constantia"/>
              </a:rPr>
              <a:t> the</a:t>
            </a:r>
            <a:r>
              <a:rPr b="0" lang="en-US" sz="5200" spc="-1" strike="noStrike">
                <a:solidFill>
                  <a:srgbClr val="ffffff"/>
                </a:solidFill>
                <a:latin typeface="Constantia"/>
              </a:rPr>
              <a:t> Black Sea</a:t>
            </a:r>
            <a:endParaRPr b="0" lang="en-US" sz="5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onstantia"/>
              </a:rPr>
              <a:t>…</a:t>
            </a:r>
            <a:r>
              <a:rPr b="0" lang="en-US" sz="52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en-US" sz="5200" spc="-1" strike="noStrike">
                <a:solidFill>
                  <a:srgbClr val="ffff00"/>
                </a:solidFill>
                <a:latin typeface="Constantia"/>
              </a:rPr>
              <a:t>the </a:t>
            </a:r>
            <a:r>
              <a:rPr b="0" lang="en-US" sz="5200" spc="-1" strike="noStrike">
                <a:solidFill>
                  <a:srgbClr val="ffffff"/>
                </a:solidFill>
                <a:latin typeface="Constantia"/>
              </a:rPr>
              <a:t>dogs    </a:t>
            </a:r>
            <a:r>
              <a:rPr b="0" lang="en-US" sz="5200" spc="-1" strike="noStrike">
                <a:solidFill>
                  <a:srgbClr val="ff0000"/>
                </a:solidFill>
                <a:latin typeface="Constantia"/>
              </a:rPr>
              <a:t>…</a:t>
            </a:r>
            <a:r>
              <a:rPr b="0" lang="en-US" sz="5200" spc="-1" strike="noStrike">
                <a:solidFill>
                  <a:srgbClr val="ffffff"/>
                </a:solidFill>
                <a:latin typeface="Constantia"/>
              </a:rPr>
              <a:t>cheese   …</a:t>
            </a:r>
            <a:r>
              <a:rPr b="0" lang="en-US" sz="5200" spc="-1" strike="noStrike">
                <a:solidFill>
                  <a:srgbClr val="ffff00"/>
                </a:solidFill>
                <a:latin typeface="Constantia"/>
              </a:rPr>
              <a:t> an </a:t>
            </a:r>
            <a:r>
              <a:rPr b="0" lang="en-US" sz="5200" spc="-1" strike="noStrike">
                <a:solidFill>
                  <a:srgbClr val="ffffff"/>
                </a:solidFill>
                <a:latin typeface="Constantia"/>
              </a:rPr>
              <a:t>animal</a:t>
            </a:r>
            <a:endParaRPr b="0" lang="en-US" sz="5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6" descr="E:\Анимашки\Цветы\1f1.gif"/>
          <p:cNvPicPr/>
          <p:nvPr/>
        </p:nvPicPr>
        <p:blipFill>
          <a:blip r:embed="rId1"/>
          <a:stretch/>
        </p:blipFill>
        <p:spPr>
          <a:xfrm>
            <a:off x="5786280" y="3857760"/>
            <a:ext cx="2306880" cy="2190600"/>
          </a:xfrm>
          <a:prstGeom prst="rect">
            <a:avLst/>
          </a:prstGeom>
          <a:ln w="0">
            <a:noFill/>
          </a:ln>
        </p:spPr>
      </p:pic>
      <p:pic>
        <p:nvPicPr>
          <p:cNvPr id="235" name="Заголовок 13" descr=""/>
          <p:cNvPicPr/>
          <p:nvPr/>
        </p:nvPicPr>
        <p:blipFill>
          <a:blip r:embed="rId2"/>
          <a:stretch/>
        </p:blipFill>
        <p:spPr>
          <a:xfrm>
            <a:off x="633240" y="566640"/>
            <a:ext cx="7864560" cy="19083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714240" y="2642760"/>
            <a:ext cx="7855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6" descr="E:\Анимашки\Цветы\1f1.gif"/>
          <p:cNvPicPr/>
          <p:nvPr/>
        </p:nvPicPr>
        <p:blipFill>
          <a:blip r:embed="rId1"/>
          <a:stretch/>
        </p:blipFill>
        <p:spPr>
          <a:xfrm>
            <a:off x="5786280" y="3857760"/>
            <a:ext cx="2306880" cy="2190600"/>
          </a:xfrm>
          <a:prstGeom prst="rect">
            <a:avLst/>
          </a:prstGeom>
          <a:ln w="0">
            <a:noFill/>
          </a:ln>
        </p:spPr>
      </p:pic>
      <p:pic>
        <p:nvPicPr>
          <p:cNvPr id="238" name="Заголовок 13" descr=""/>
          <p:cNvPicPr/>
          <p:nvPr/>
        </p:nvPicPr>
        <p:blipFill>
          <a:blip r:embed="rId2"/>
          <a:stretch/>
        </p:blipFill>
        <p:spPr>
          <a:xfrm>
            <a:off x="633240" y="566640"/>
            <a:ext cx="7864560" cy="19083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714240" y="2642760"/>
            <a:ext cx="7855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nstantia"/>
              </a:rPr>
              <a:t>I </a:t>
            </a:r>
            <a:r>
              <a:rPr b="0" lang="en-US" sz="4800" spc="-1" strike="noStrike" u="sng">
                <a:solidFill>
                  <a:srgbClr val="ffff00"/>
                </a:solidFill>
                <a:uFillTx/>
                <a:latin typeface="Constantia"/>
              </a:rPr>
              <a:t>will learn </a:t>
            </a:r>
            <a:r>
              <a:rPr b="0" lang="en-US" sz="4800" spc="-1" strike="noStrike">
                <a:solidFill>
                  <a:srgbClr val="ffff00"/>
                </a:solidFill>
                <a:latin typeface="Constantia"/>
              </a:rPr>
              <a:t>the English words in our lessons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8:47:47Z</dcterms:created>
  <dc:creator>Customer</dc:creator>
  <dc:description/>
  <dc:language>en-US</dc:language>
  <cp:lastModifiedBy>Customer</cp:lastModifiedBy>
  <dcterms:modified xsi:type="dcterms:W3CDTF">2010-05-18T19:21:48Z</dcterms:modified>
  <cp:revision>10</cp:revision>
  <dc:subject/>
  <dc:title>TEST  YOURSELF!!!</dc:title>
</cp:coreProperties>
</file>