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gif" ContentType="image/gif"/>
  <Override PartName="/ppt/media/image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BC7-B104-465B-AE07-16F930B4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14-6635-4B3F-9900-3F6EB44F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AF1-D12F-47AF-BB7B-4C71645B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01D-C427-437A-A89D-4778FEB2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100D-61B3-4724-A649-DB63EC7F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3218-E01C-4DDB-9F09-8137F28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53BE-2D51-4C36-8D67-968FFAAF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B9C5-14B5-41B2-814E-B442A896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9D55-4D16-401B-A2E8-89EB7B9A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50A-722B-4BB9-9B8A-E55587A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7544-33AE-457B-A25E-7188DCCD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6C2-3B6D-473D-8AC9-976E977C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F0BB-31BD-4671-A8BA-06E98253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28F-A3F2-4689-A132-4DDA0FEF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182B-BD8B-47CA-94AE-78253B6E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2D13-E48D-4263-95C1-CE583986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CE7-9B98-4520-A2D7-2689D471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6454-D982-4463-BC7A-8F50F792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205AD-8813-4443-B8C9-B95CB9AB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3715-8903-478D-B241-1F5FBCB7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1735D-7392-461A-A930-B595CCCE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4E44-4D9A-4CE1-AAA4-1C1247A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C06-672D-415D-B5DD-7D57AEA7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C277-2F6C-4E4F-BB89-02A63E02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46CF-8392-40D6-90AD-EF3C37F2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BA66-362F-4D15-A9BD-62488E5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58925-C077-4CD3-A3E1-E930107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5192-8CFA-4AF5-85AB-374FA7ED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12A0-8554-4D18-BF9D-1FACAF0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7CA0-6A71-413E-8611-C6A0BD0C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85C3-58C6-4D16-BF7E-75A8AE6B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E1D3-EB80-4E01-8926-09098289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80143-504B-4CAB-843B-7518322D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B1C-1200-4FE0-BC84-60474EC4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126D7-68B5-44F4-B06C-7FA64302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965ED-B148-41E6-B296-BE1EBD0D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706B-0B67-49E5-AEBB-1EB7C437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40C08-7874-411B-89BC-B3AF18E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64B0-3A18-4E46-AD57-C6ACF015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04DB-F392-415E-B0BE-91DE783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3DC7-1960-4E81-B214-ED347284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530F-FCCC-49EE-A37E-5B4D24A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3849-4223-44AE-AA35-F71BDB3C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712-B064-4E38-9A40-E506077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4C8-22B7-4B68-B23A-E02934EE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F1DC-42F8-4506-A196-58DCE50D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84A-CF29-4971-A8EC-EB0D0874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2A2-BB94-4048-9501-4E2F213D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BBFB-4F27-47C0-85AF-945943094109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B202-231D-4944-BD88-880CC06802B6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B44-7FF0-430B-B2B9-9CA0309618E3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02B-C4C0-4B28-B4EA-A4AF2BEA0640}" type="slidenum">
              <a:rPr b="0" lang="ru-RU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2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96720" y="1365120"/>
            <a:ext cx="8107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E:\Анимашки\Анимашки_ClipArt\AG00428_.GIF"/>
          <p:cNvPicPr/>
          <p:nvPr/>
        </p:nvPicPr>
        <p:blipFill>
          <a:blip r:embed="rId2"/>
          <a:stretch/>
        </p:blipFill>
        <p:spPr>
          <a:xfrm>
            <a:off x="3214800" y="3000240"/>
            <a:ext cx="2438280" cy="193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E:\Анимашки\Анимашки_ClipArt\J0095744.GIF"/>
          <p:cNvPicPr/>
          <p:nvPr/>
        </p:nvPicPr>
        <p:blipFill>
          <a:blip r:embed="rId3"/>
          <a:stretch/>
        </p:blipFill>
        <p:spPr>
          <a:xfrm>
            <a:off x="642960" y="285840"/>
            <a:ext cx="1500120" cy="1911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E:\Анимашки\Анимашки_ClipArt\J0095744.GIF"/>
          <p:cNvPicPr/>
          <p:nvPr/>
        </p:nvPicPr>
        <p:blipFill>
          <a:blip r:embed="rId4"/>
          <a:stretch/>
        </p:blipFill>
        <p:spPr>
          <a:xfrm>
            <a:off x="6429240" y="4000680"/>
            <a:ext cx="1500480" cy="1911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E:\Анимашки\Анимашки_ClipArt\J0095744.GIF"/>
          <p:cNvPicPr/>
          <p:nvPr/>
        </p:nvPicPr>
        <p:blipFill>
          <a:blip r:embed="rId5"/>
          <a:stretch/>
        </p:blipFill>
        <p:spPr>
          <a:xfrm>
            <a:off x="228600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E:\Анимашки\Анимашки_ClipArt\J0095744.GIF"/>
          <p:cNvPicPr/>
          <p:nvPr/>
        </p:nvPicPr>
        <p:blipFill>
          <a:blip r:embed="rId6"/>
          <a:stretch/>
        </p:blipFill>
        <p:spPr>
          <a:xfrm>
            <a:off x="4857840" y="450072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E:\Анимашки\Цветы\1f1.gif"/>
          <p:cNvPicPr/>
          <p:nvPr/>
        </p:nvPicPr>
        <p:blipFill>
          <a:blip r:embed="rId7"/>
          <a:stretch/>
        </p:blipFill>
        <p:spPr>
          <a:xfrm>
            <a:off x="571680" y="4143240"/>
            <a:ext cx="2306520" cy="2190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E:\Анимашки\Анимашки_ClipArt\J0095744.GIF"/>
          <p:cNvPicPr/>
          <p:nvPr/>
        </p:nvPicPr>
        <p:blipFill>
          <a:blip r:embed="rId8"/>
          <a:stretch/>
        </p:blipFill>
        <p:spPr>
          <a:xfrm>
            <a:off x="378612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E:\Анимашки\Анимашки_ClipArt\J0095744.GIF"/>
          <p:cNvPicPr/>
          <p:nvPr/>
        </p:nvPicPr>
        <p:blipFill>
          <a:blip r:embed="rId9"/>
          <a:stretch/>
        </p:blipFill>
        <p:spPr>
          <a:xfrm>
            <a:off x="5214960" y="214200"/>
            <a:ext cx="1643040" cy="2092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E:\Анимашки\Анимашки_ClipArt\J0095744.GIF"/>
          <p:cNvPicPr/>
          <p:nvPr/>
        </p:nvPicPr>
        <p:blipFill>
          <a:blip r:embed="rId10"/>
          <a:stretch/>
        </p:blipFill>
        <p:spPr>
          <a:xfrm>
            <a:off x="6786720" y="142920"/>
            <a:ext cx="16430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41" name="Заголовок 13" descr=""/>
          <p:cNvPicPr/>
          <p:nvPr/>
        </p:nvPicPr>
        <p:blipFill>
          <a:blip r:embed="rId2"/>
          <a:stretch/>
        </p:blipFill>
        <p:spPr>
          <a:xfrm>
            <a:off x="781200" y="493560"/>
            <a:ext cx="7862760" cy="1341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14240" y="185688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Я хожу в школу. В моей сумке есть учебники, тетради, ручки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7264440" y="5072040"/>
            <a:ext cx="187956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13" descr=""/>
          <p:cNvPicPr/>
          <p:nvPr/>
        </p:nvPicPr>
        <p:blipFill>
          <a:blip r:embed="rId2"/>
          <a:stretch/>
        </p:blipFill>
        <p:spPr>
          <a:xfrm>
            <a:off x="566640" y="420840"/>
            <a:ext cx="7864560" cy="1908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99680" y="21430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tantia"/>
              </a:rPr>
              <a:t>I go at school. There are  textbooks, workbooks, pens  in my bag.</a:t>
            </a:r>
            <a:endParaRPr b="0" lang="en-US" sz="6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286680" y="4429080"/>
            <a:ext cx="2306520" cy="219096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13" descr=""/>
          <p:cNvPicPr/>
          <p:nvPr/>
        </p:nvPicPr>
        <p:blipFill>
          <a:blip r:embed="rId2"/>
          <a:stretch/>
        </p:blipFill>
        <p:spPr>
          <a:xfrm>
            <a:off x="-73080" y="1365120"/>
            <a:ext cx="8467920" cy="3706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837480" y="28584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50" name="Заголовок 13" descr=""/>
          <p:cNvPicPr/>
          <p:nvPr/>
        </p:nvPicPr>
        <p:blipFill>
          <a:blip r:embed="rId2"/>
          <a:stretch/>
        </p:blipFill>
        <p:spPr>
          <a:xfrm>
            <a:off x="-19080" y="-225360"/>
            <a:ext cx="8547120" cy="53038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14200" y="5105520"/>
            <a:ext cx="2038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3" name="Заголовок 13" descr=""/>
          <p:cNvPicPr/>
          <p:nvPr/>
        </p:nvPicPr>
        <p:blipFill>
          <a:blip r:embed="rId2"/>
          <a:stretch/>
        </p:blipFill>
        <p:spPr>
          <a:xfrm>
            <a:off x="182520" y="1365120"/>
            <a:ext cx="8534520" cy="1908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3" descr=""/>
          <p:cNvPicPr/>
          <p:nvPr/>
        </p:nvPicPr>
        <p:blipFill>
          <a:blip r:embed="rId2"/>
          <a:stretch/>
        </p:blipFill>
        <p:spPr>
          <a:xfrm>
            <a:off x="530280" y="907920"/>
            <a:ext cx="7864560" cy="2365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59" name="Заголовок 1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Picture 6" descr="E:\Анимашки\Цветы\1f1.gif"/>
          <p:cNvPicPr/>
          <p:nvPr/>
        </p:nvPicPr>
        <p:blipFill>
          <a:blip r:embed="rId3"/>
          <a:stretch/>
        </p:blipFill>
        <p:spPr>
          <a:xfrm>
            <a:off x="785880" y="3929040"/>
            <a:ext cx="2306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-60480" y="-55440"/>
            <a:ext cx="8418600" cy="53895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4" name="Picture 2" descr="E:\Анимашки\Дети\1aa.gif"/>
          <p:cNvPicPr/>
          <p:nvPr/>
        </p:nvPicPr>
        <p:blipFill>
          <a:blip r:embed="rId2"/>
          <a:stretch/>
        </p:blipFill>
        <p:spPr>
          <a:xfrm>
            <a:off x="6286680" y="400068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-60480" y="-55440"/>
            <a:ext cx="8607600" cy="53895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642680" y="3228480"/>
            <a:ext cx="67453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7" name="Picture 2" descr="E:\Анимашки\Смайлики\55.gif"/>
          <p:cNvPicPr/>
          <p:nvPr/>
        </p:nvPicPr>
        <p:blipFill>
          <a:blip r:embed="rId2"/>
          <a:stretch/>
        </p:blipFill>
        <p:spPr>
          <a:xfrm>
            <a:off x="6929280" y="435780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192880" cy="2011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[а:]       [</a:t>
            </a: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^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Picture 6" descr="E:\Анимашки\Цветы\1f1.gif"/>
          <p:cNvPicPr/>
          <p:nvPr/>
        </p:nvPicPr>
        <p:blipFill>
          <a:blip r:embed="rId2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sp>
        <p:nvSpPr>
          <p:cNvPr id="209" name="Арка 4"/>
          <p:cNvSpPr/>
          <p:nvPr/>
        </p:nvSpPr>
        <p:spPr>
          <a:xfrm rot="4354200">
            <a:off x="4544640" y="4759200"/>
            <a:ext cx="9144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192880" cy="2011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0" y="371484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[а:]       [</a:t>
            </a:r>
            <a:r>
              <a:rPr b="0" lang="ru-RU" sz="6600" spc="-1" strike="noStrike">
                <a:solidFill>
                  <a:srgbClr val="ffffff"/>
                </a:solidFill>
                <a:latin typeface="Constantia"/>
              </a:rPr>
              <a:t>^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e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i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]     [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:]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6" descr="E:\Анимашки\Цветы\1f1.gif"/>
          <p:cNvPicPr/>
          <p:nvPr/>
        </p:nvPicPr>
        <p:blipFill>
          <a:blip r:embed="rId2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sp>
        <p:nvSpPr>
          <p:cNvPr id="213" name="Арка 4"/>
          <p:cNvSpPr/>
          <p:nvPr/>
        </p:nvSpPr>
        <p:spPr>
          <a:xfrm rot="4354200">
            <a:off x="4544640" y="4759200"/>
            <a:ext cx="914400" cy="914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гнутая влево стрелка 7"/>
          <p:cNvSpPr/>
          <p:nvPr/>
        </p:nvSpPr>
        <p:spPr>
          <a:xfrm>
            <a:off x="428760" y="2000160"/>
            <a:ext cx="1571400" cy="2928960"/>
          </a:xfrm>
          <a:custGeom>
            <a:avLst/>
            <a:gdLst>
              <a:gd name="textAreaLeft" fmla="*/ 210240 w 1571400"/>
              <a:gd name="textAreaRight" fmla="*/ 1361160 w 1571400"/>
              <a:gd name="textAreaTop" fmla="*/ 584640 h 2928960"/>
              <a:gd name="textAreaBottom" fmla="*/ 214776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7" stAng="-5400000" swAng="-5400000"/>
                <a:lnTo>
                  <a:pt x="0" y="11524"/>
                </a:lnTo>
                <a:arcTo wR="21600" hR="8627" stAng="10800000" swAng="-4088915"/>
                <a:lnTo>
                  <a:pt x="18184" y="21491"/>
                </a:lnTo>
                <a:lnTo>
                  <a:pt x="21600" y="18703"/>
                </a:lnTo>
                <a:lnTo>
                  <a:pt x="18184" y="15696"/>
                </a:lnTo>
                <a:lnTo>
                  <a:pt x="18184" y="17145"/>
                </a:lnTo>
                <a:arcTo wR="21600" hR="8627" stAng="6711085" swAng="3855419"/>
                <a:lnTo>
                  <a:pt x="307" y="10076"/>
                </a:lnTo>
                <a:arcTo wR="21600" hR="8627" stAng="-10566504" swAng="5166504"/>
                <a:close/>
              </a:path>
              <a:path fill="darkenLess" w="21600" h="21600">
                <a:moveTo>
                  <a:pt x="21600" y="0"/>
                </a:moveTo>
                <a:arcTo wR="21600" hR="8627" stAng="-5400000" swAng="-5400000"/>
                <a:lnTo>
                  <a:pt x="0" y="8627"/>
                </a:lnTo>
                <a:arcTo wR="21600" hR="8627" stAng="10800000" swAng="-233496"/>
                <a:lnTo>
                  <a:pt x="307" y="10076"/>
                </a:lnTo>
                <a:arcTo wR="21600" hR="8627" stAng="-10566504" swAng="5166504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гнутая влево стрелка 9"/>
          <p:cNvSpPr/>
          <p:nvPr/>
        </p:nvSpPr>
        <p:spPr>
          <a:xfrm>
            <a:off x="3214800" y="2071800"/>
            <a:ext cx="928440" cy="2928960"/>
          </a:xfrm>
          <a:custGeom>
            <a:avLst/>
            <a:gdLst>
              <a:gd name="textAreaLeft" fmla="*/ 124200 w 928440"/>
              <a:gd name="textAreaRight" fmla="*/ 804240 w 928440"/>
              <a:gd name="textAreaTop" fmla="*/ 645120 h 2928960"/>
              <a:gd name="textAreaBottom" fmla="*/ 2167920 h 292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16" stAng="-5400000" swAng="-5400000"/>
                <a:lnTo>
                  <a:pt x="0" y="11228"/>
                </a:lnTo>
                <a:arcTo wR="21600" hR="9516" stAng="10800000" swAng="-4201277"/>
                <a:lnTo>
                  <a:pt x="18184" y="21480"/>
                </a:lnTo>
                <a:lnTo>
                  <a:pt x="21600" y="19888"/>
                </a:lnTo>
                <a:lnTo>
                  <a:pt x="18184" y="18056"/>
                </a:lnTo>
                <a:lnTo>
                  <a:pt x="18184" y="18912"/>
                </a:lnTo>
                <a:arcTo wR="21600" hR="9516" stAng="6598723" swAng="4064558"/>
                <a:lnTo>
                  <a:pt x="88" y="10372"/>
                </a:lnTo>
                <a:arcTo wR="21600" hR="9516" stAng="-10663281" swAng="5263281"/>
                <a:close/>
              </a:path>
              <a:path fill="darkenLess" w="21600" h="21600">
                <a:moveTo>
                  <a:pt x="21600" y="0"/>
                </a:moveTo>
                <a:arcTo wR="21600" hR="9516" stAng="-5400000" swAng="-5400000"/>
                <a:lnTo>
                  <a:pt x="0" y="9516"/>
                </a:lnTo>
                <a:arcTo wR="21600" hR="9516" stAng="10800000" swAng="-136719"/>
                <a:lnTo>
                  <a:pt x="88" y="10372"/>
                </a:lnTo>
                <a:arcTo wR="21600" hR="9516" stAng="-10663281" swAng="526328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гнутая влево стрелка 10"/>
          <p:cNvSpPr/>
          <p:nvPr/>
        </p:nvSpPr>
        <p:spPr>
          <a:xfrm>
            <a:off x="3429000" y="3000240"/>
            <a:ext cx="1214280" cy="242892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493200 h 2428920"/>
              <a:gd name="textAreaBottom" fmla="*/ 178380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4108992"/>
                <a:lnTo>
                  <a:pt x="18184" y="21490"/>
                </a:lnTo>
                <a:lnTo>
                  <a:pt x="21600" y="18900"/>
                </a:lnTo>
                <a:lnTo>
                  <a:pt x="18184" y="16090"/>
                </a:lnTo>
                <a:lnTo>
                  <a:pt x="18184" y="17440"/>
                </a:lnTo>
                <a:arcTo wR="21600" hR="8775" stAng="6691008" swAng="3891833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право 11"/>
          <p:cNvSpPr/>
          <p:nvPr/>
        </p:nvSpPr>
        <p:spPr>
          <a:xfrm rot="1225200">
            <a:off x="2746440" y="3147840"/>
            <a:ext cx="2236680" cy="486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право 12"/>
          <p:cNvSpPr/>
          <p:nvPr/>
        </p:nvSpPr>
        <p:spPr>
          <a:xfrm flipH="1" rot="16200000">
            <a:off x="6929280" y="3071520"/>
            <a:ext cx="571320" cy="571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лево 15"/>
          <p:cNvSpPr/>
          <p:nvPr/>
        </p:nvSpPr>
        <p:spPr>
          <a:xfrm rot="19159800">
            <a:off x="2800440" y="3038040"/>
            <a:ext cx="3551040" cy="4842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E:\Анимашки\Цветы\1f1.gif"/>
          <p:cNvPicPr/>
          <p:nvPr/>
        </p:nvPicPr>
        <p:blipFill>
          <a:blip r:embed="rId3"/>
          <a:stretch/>
        </p:blipFill>
        <p:spPr>
          <a:xfrm>
            <a:off x="509760" y="481968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E:\Анимашки\Цветы\1f1.gif"/>
          <p:cNvPicPr/>
          <p:nvPr/>
        </p:nvPicPr>
        <p:blipFill>
          <a:blip r:embed="rId4"/>
          <a:stretch/>
        </p:blipFill>
        <p:spPr>
          <a:xfrm>
            <a:off x="500040" y="4667400"/>
            <a:ext cx="23065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13" descr=""/>
          <p:cNvPicPr/>
          <p:nvPr/>
        </p:nvPicPr>
        <p:blipFill>
          <a:blip r:embed="rId2"/>
          <a:stretch/>
        </p:blipFill>
        <p:spPr>
          <a:xfrm>
            <a:off x="12600" y="171360"/>
            <a:ext cx="8845560" cy="4376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23954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357120" y="466740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3" descr=""/>
          <p:cNvPicPr/>
          <p:nvPr/>
        </p:nvPicPr>
        <p:blipFill>
          <a:blip r:embed="rId2"/>
          <a:stretch/>
        </p:blipFill>
        <p:spPr>
          <a:xfrm>
            <a:off x="566640" y="281160"/>
            <a:ext cx="7864560" cy="190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2142720"/>
            <a:ext cx="78548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   …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house is big      …English    … Black Sea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dogs    …cheese   …animal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6643800" y="4500720"/>
            <a:ext cx="2306520" cy="219060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3" descr=""/>
          <p:cNvPicPr/>
          <p:nvPr/>
        </p:nvPicPr>
        <p:blipFill>
          <a:blip r:embed="rId2"/>
          <a:stretch/>
        </p:blipFill>
        <p:spPr>
          <a:xfrm>
            <a:off x="566640" y="-2192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7854840" cy="3643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   …</a:t>
            </a: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a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house is big   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an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English 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the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 Black Sea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the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dogs    </a:t>
            </a:r>
            <a:r>
              <a:rPr b="0" lang="en-US" sz="5200" spc="-1" strike="noStrike">
                <a:solidFill>
                  <a:srgbClr val="ff0000"/>
                </a:solidFill>
                <a:latin typeface="Constantia"/>
              </a:rPr>
              <a:t>…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cheese   …</a:t>
            </a:r>
            <a:r>
              <a:rPr b="0" lang="en-US" sz="5200" spc="-1" strike="noStrike">
                <a:solidFill>
                  <a:srgbClr val="ffff00"/>
                </a:solidFill>
                <a:latin typeface="Constantia"/>
              </a:rPr>
              <a:t> an </a:t>
            </a:r>
            <a:r>
              <a:rPr b="0" lang="en-US" sz="5200" spc="-1" strike="noStrike">
                <a:solidFill>
                  <a:srgbClr val="ffffff"/>
                </a:solidFill>
                <a:latin typeface="Constantia"/>
              </a:rPr>
              <a:t>animal</a:t>
            </a:r>
            <a:endParaRPr b="0" lang="en-US" sz="5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5786280" y="385776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3" descr=""/>
          <p:cNvPicPr/>
          <p:nvPr/>
        </p:nvPicPr>
        <p:blipFill>
          <a:blip r:embed="rId2"/>
          <a:stretch/>
        </p:blipFill>
        <p:spPr>
          <a:xfrm>
            <a:off x="633240" y="5666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14240" y="264276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E:\Анимашки\Цветы\1f1.gif"/>
          <p:cNvPicPr/>
          <p:nvPr/>
        </p:nvPicPr>
        <p:blipFill>
          <a:blip r:embed="rId1"/>
          <a:stretch/>
        </p:blipFill>
        <p:spPr>
          <a:xfrm>
            <a:off x="5786280" y="3857760"/>
            <a:ext cx="2306880" cy="2190600"/>
          </a:xfrm>
          <a:prstGeom prst="rect">
            <a:avLst/>
          </a:prstGeom>
          <a:ln w="0">
            <a:noFill/>
          </a:ln>
        </p:spPr>
      </p:pic>
      <p:pic>
        <p:nvPicPr>
          <p:cNvPr id="238" name="Заголовок 13" descr=""/>
          <p:cNvPicPr/>
          <p:nvPr/>
        </p:nvPicPr>
        <p:blipFill>
          <a:blip r:embed="rId2"/>
          <a:stretch/>
        </p:blipFill>
        <p:spPr>
          <a:xfrm>
            <a:off x="633240" y="56664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14240" y="264276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I 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Constantia"/>
              </a:rPr>
              <a:t>will learn </a:t>
            </a:r>
            <a:r>
              <a:rPr b="0" lang="en-US" sz="4800" spc="-1" strike="noStrike">
                <a:solidFill>
                  <a:srgbClr val="ffff00"/>
                </a:solidFill>
                <a:latin typeface="Constantia"/>
              </a:rPr>
              <a:t>the English words in our lessons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8:47:47Z</dcterms:created>
  <dc:creator>Customer</dc:creator>
  <dc:description/>
  <dc:language>en-US</dc:language>
  <cp:lastModifiedBy>Customer</cp:lastModifiedBy>
  <dcterms:modified xsi:type="dcterms:W3CDTF">2010-05-18T19:21:48Z</dcterms:modified>
  <cp:revision>10</cp:revision>
  <dc:subject/>
  <dc:title>TEST  YOURSELF!!!</dc:title>
</cp:coreProperties>
</file>