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9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0A3-AE8D-4934-A289-0FD2CC4B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028-BE59-47B5-B26A-7F595498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D57-95CD-4C68-88C3-5B5A9B0B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E72-A86A-407E-9D79-D4787E4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0A7-7190-4900-8C3F-103BA3EB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070-290A-4C4F-9552-5CC47306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510-C92E-48A5-80A3-3511C03B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FDB-60B4-4221-BC13-D4C06D8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3CE-C233-4B48-9D90-AB08537F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151-9BAE-4823-88BC-24A63226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80A-CE48-43DA-990C-74335F7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4AC-83A3-4676-87B9-5A6149C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5ACD-5D0C-4723-BEEC-4E4D9DFE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68680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17160" y="7920"/>
            <a:ext cx="57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Местоим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1240" y="1981080"/>
            <a:ext cx="741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 часть         ,котор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не называет предме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а               на не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1400" y="1981080"/>
            <a:ext cx="163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08400" y="335268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указыв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00600" y="1981080"/>
            <a:ext cx="11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99160" y="3352680"/>
            <a:ext cx="202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7967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600200"/>
            <a:ext cx="8686800" cy="4343400"/>
          </a:xfrm>
          <a:prstGeom prst="ellipse">
            <a:avLst/>
          </a:prstGeom>
          <a:noFill/>
          <a:ln w="228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924680" cy="3657600"/>
          </a:xfrm>
          <a:prstGeom prst="ellipse">
            <a:avLst/>
          </a:prstGeom>
          <a:noFill/>
          <a:ln w="228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2895480" cy="2743200"/>
          </a:xfrm>
          <a:prstGeom prst="ellipse">
            <a:avLst/>
          </a:prstGeom>
          <a:noFill/>
          <a:ln w="216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2362320"/>
            <a:ext cx="2819520" cy="2670120"/>
          </a:xfrm>
          <a:prstGeom prst="ellipse">
            <a:avLst/>
          </a:prstGeom>
          <a:noFill/>
          <a:ln w="216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52280"/>
            <a:ext cx="75960" cy="6705720"/>
          </a:xfrm>
          <a:prstGeom prst="line">
            <a:avLst/>
          </a:prstGeom>
          <a:ln w="1778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778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59680" y="152280"/>
            <a:ext cx="36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а зарядке весь наш клас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Упражнения для гл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Чтобы знания получ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ужно глазки трен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00800" y="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Тренажёр «Весёлые глаз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914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4533 C -0.00105 0.00856 -0.00122 0.06267 -0.00087 0.08973 C -0.00052 0.11679 0.00138 0.10361 0.00173 0.11656 C 0.00208 0.12951 0.00173 0.14801 0.00173 0.16674 C 0.00173 0.18617 0.00173 0.21068 0.00173 0.23127 C 0.00173 0.25139 0.00173 0.26919 0.00173 0.28862 C 0.00173 0.30805 0.00156 0.32215 0.00173 0.34759 C 0.00191 0.37303 0.00277 0.41582 0.00295 0.44172 C 0.00312 0.46785 0.00277 0.47872 0.00295 0.50231 C 0.00312 0.52659 0.00399 0.55111 0.00416 0.58534 C 0.00434 0.61887 0.00329 0.70444 0.00416 0.70652 C 0.00503 0.70814 0.00902 0.63205 0.00937 0.5969 C 0.00972 0.56128 0.00694 0.53284 0.00677 0.49422 C 0.00659 0.45513 0.00798 0.40055 0.00798 0.36448 C 0.00798 0.32794 0.00677 0.31267 0.00677 0.27683 C 0.00677 0.24052 0.00816 0.18316 0.00798 0.1487 C 0.00781 0.11378 0.00625 0.09482 0.00555 0.06776 C 0.00486 0.0407 0.00434 0.01133 0.00416 -0.01318 C 0.00399 -0.0377 0.00625 -0.0932 0.00416 -0.07909 C 0.00208 -0.06499 -0.0073 0.03677 -0.00834 0.071 C -0.00938 0.10523 -0.00313 0.10546 -0.00209 0.12673 C -0.00105 0.14801 -0.00191 0.1716 -0.00209 0.19912 C -0.00226 0.22618 0.00434 0.27498 -0.0033 0.29024 C -0.01094 0.3055 -0.03368 0.29001 -0.04757 0.29024 C -0.06146 0.29047 -0.07518 0.29163 -0.08681 0.29186 C -0.09844 0.29209 -0.10747 0.29186 -0.11719 0.29186 C -0.12691 0.29186 -0.13421 0.29209 -0.14514 0.29186 C -0.15608 0.29163 -0.17118 0.29047 -0.18316 0.29024 C -0.19514 0.29001 -0.20434 0.29024 -0.21719 0.29024 C -0.23004 0.29024 -0.2448 0.29024 -0.26025 0.29024 C -0.2757 0.29024 -0.29584 0.29024 -0.30973 0.29024 C -0.32362 0.29024 -0.33264 0.29001 -0.34393 0.29024 C -0.35521 0.29047 -0.36684 0.29186 -0.37796 0.29186 C -0.38907 0.29186 -0.39879 0.29093 -0.41094 0.29024 C -0.42309 0.28955 -0.43993 0.28816 -0.45139 0.287 C -0.46285 0.28585 -0.48316 0.28191 -0.47934 0.28353 C -0.47552 0.28515 -0.44375 0.2944 -0.42865 0.29695 C -0.41355 0.29949 -0.40365 0.29857 -0.3882 0.2988 C -0.37275 0.29903 -0.3533 0.29903 -0.33629 0.2988 C -0.31927 0.29857 -0.30261 0.29695 -0.28559 0.29695 C -0.26858 0.29695 -0.25278 0.29903 -0.23368 0.2988 C -0.21459 0.29857 -0.1908 0.2951 -0.17049 0.29533 C -0.15018 0.29556 -0.1316 0.29995 -0.11216 0.30042 C -0.09271 0.30088 -0.07882 0.29995 -0.054 0.2988 C -0.02917 0.29764 0.01059 0.29463 0.03715 0.29371 C 0.06371 0.29278 0.08038 0.29371 0.10555 0.29371 C 0.13073 0.29371 0.16302 0.2944 0.18784 0.29371 C 0.21267 0.29301 0.23125 0.29163 0.25486 0.29024 C 0.27847 0.28885 0.30781 0.28469 0.32951 0.28515 C 0.35121 0.28561 0.36562 0.29371 0.38524 0.29371 C 0.40486 0.29371 0.44704 0.28631 0.44722 0.28515 C 0.44739 0.284 0.40694 0.28561 0.38645 0.287 C 0.36597 0.28839 0.35225 0.29348 0.32448 0.29371 C 0.2967 0.29394 0.2467 0.28978 0.21944 0.28862 C 0.19218 0.28746 0.18229 0.28746 0.16128 0.287 C 0.14027 0.28654 0.11267 0.28538 0.09288 0.28515 C 0.07309 0.28492 0.05503 0.28515 0.04218 0.28515 C 0.02934 0.28515 0.03628 0.28515 0.01562 0.28515 C -0.00504 0.28515 -0.05452 0.28515 -0.08177 0.28515 C -0.10903 0.28515 -0.12466 0.28561 -0.14757 0.28515 C -0.17049 0.28469 -0.19532 0.28238 -0.2198 0.28191 C -0.24427 0.28145 -0.27066 0.28145 -0.29445 0.28191 C -0.31823 0.28238 -0.34132 0.28469 -0.36285 0.28515 C -0.38438 0.28561 -0.40278 0.28654 -0.42362 0.28515 C -0.44445 0.28376 -0.48316 0.28908 -0.4882 0.27683 C -0.49323 0.26434 -0.47049 0.2352 -0.454 0.21068 C -0.4375 0.18617 -0.40816 0.14894 -0.38941 0.12835 C -0.37066 0.10754 -0.36025 0.09944 -0.34132 0.08626 C -0.3224 0.07308 -0.30105 0.06105 -0.27552 0.04926 C -0.25 0.03746 -0.21684 0.02289 -0.1882 0.01549 C -0.15955 0.00786 -0.12952 0.00902 -0.1033 0.0037 C -0.07709 -0.00162 -0.05608 -0.01434 -0.03125 -0.01665 C -0.00643 -0.01896 0.01892 -0.01341 0.046 -0.00995 C 0.07309 -0.00648 0.10017 -0.0037 0.1309 0.0037 C 0.16163 0.0111 0.20555 0.02544 0.2309 0.034 C 0.25625 0.04232 0.26388 0.0444 0.28281 0.05412 C 0.30173 0.06383 0.32413 0.07724 0.34479 0.09297 C 0.36545 0.10869 0.38819 0.12881 0.40677 0.1487 C 0.42534 0.16836 0.446 0.19195 0.45607 0.2123 C 0.46614 0.23335 0.46527 0.24607 0.46753 0.27336 C 0.46979 0.30065 0.47395 0.35153 0.47013 0.37627 C 0.46632 0.40055 0.46024 0.40217 0.44479 0.42183 C 0.42934 0.44103 0.39826 0.4741 0.3776 0.49237 C 0.35694 0.51087 0.33767 0.51966 0.32066 0.53099 C 0.30364 0.54278 0.29635 0.55111 0.27517 0.56128 C 0.25399 0.57192 0.2184 0.58603 0.19409 0.59343 C 0.16979 0.60129 0.15156 0.60222 0.12951 0.60684 C 0.10746 0.61216 0.08802 0.61956 0.06128 0.62211 C 0.03454 0.62511 -0.00348 0.62326 -0.03125 0.62211 C -0.05903 0.62118 -0.079 0.6191 -0.10591 0.6154 C -0.13282 0.6117 -0.16459 0.60661 -0.19323 0.59875 C -0.22188 0.58996 -0.24879 0.58002 -0.27796 0.56475 C -0.30712 0.54995 -0.34323 0.52729 -0.36789 0.50786 C -0.39254 0.4882 -0.40938 0.47433 -0.42605 0.44889 C -0.44271 0.42322 -0.46077 0.38575 -0.46789 0.3543 C -0.475 0.32262 -0.47448 0.28978 -0.4691 0.25832 C -0.46372 0.22664 -0.45868 0.19773 -0.43507 0.16536 C -0.41146 0.13321 -0.36268 0.08002 -0.32743 0.06429 C -0.29219 0.04857 -0.25018 0.06406 -0.22362 0.071 C -0.19705 0.07794 -0.16719 0.1006 -0.16789 0.10638 C -0.16858 0.11216 -0.20851 0.09644 -0.22743 0.10638 C -0.24636 0.11633 -0.26702 0.14547 -0.28177 0.16536 C -0.29653 0.18548 -0.30851 0.20999 -0.31598 0.22572 C -0.32344 0.24167 -0.32448 0.24306 -0.32605 0.26133 C -0.32761 0.27983 -0.32726 0.31267 -0.32483 0.3358 C -0.3224 0.35893 -0.3198 0.37997 -0.31094 0.39963 C -0.30209 0.41975 -0.28768 0.43987 -0.27171 0.45536 C -0.25573 0.47063 -0.23247 0.48335 -0.21476 0.49075 C -0.19705 0.49838 -0.18108 0.50069 -0.16546 0.50092 C -0.14983 0.50116 -0.13733 0.49931 -0.12101 0.49237 C -0.10469 0.4852 -0.0816 0.47178 -0.06789 0.4586 C -0.05417 0.44542 -0.04653 0.42946 -0.03872 0.41304 C -0.03091 0.39662 -0.02535 0.37789 -0.02101 0.36101 C -0.01667 0.34412 -0.02014 0.33233 -0.01216 0.31221 C -0.00417 0.29209 0.01875 0.26017 0.02708 0.23936 C 0.03541 0.21878 0.03211 0.20259 0.03836 0.18894 C 0.04461 0.17484 0.05416 0.16582 0.06493 0.15518 C 0.07569 0.14477 0.0875 0.1346 0.10295 0.12673 C 0.1184 0.11887 0.14201 0.11124 0.15746 0.10823 C 0.17291 0.10523 0.18316 0.10523 0.19531 0.10823 C 0.20746 0.11124 0.21927 0.1198 0.2309 0.12673 C 0.24253 0.13367 0.25434 0.13737 0.26493 0.15032 C 0.27552 0.16327 0.28524 0.18756 0.29409 0.20398 C 0.30295 0.2204 0.31354 0.22849 0.31823 0.24954 C 0.32291 0.27081 0.3243 0.3062 0.32204 0.33071 C 0.31979 0.35523 0.31302 0.37743 0.30416 0.39639 C 0.29531 0.41559 0.28038 0.4327 0.26875 0.44519 C 0.25711 0.45791 0.25 0.46485 0.23454 0.47225 C 0.21909 0.48011 0.19548 0.4889 0.17638 0.49075 C 0.15729 0.49237 0.13559 0.48867 0.11944 0.48219 C 0.10329 0.47548 0.09132 0.46392 0.07899 0.45213 C 0.06666 0.43987 0.05503 0.42877 0.046 0.41119 C 0.03698 0.39408 0.02916 0.36332 0.02448 0.34759 C 0.01979 0.33187 0.02552 0.33649 0.01823 0.3173 C 0.01093 0.2981 -0.00903 0.25671 -0.0198 0.23265 C -0.03056 0.20883 -0.03455 0.18941 -0.04636 0.17229 C -0.05816 0.15472 -0.07292 0.13899 -0.09063 0.12673 C -0.10834 0.11448 -0.14184 0.10314 -0.15278 0.09806 E">
                                      <p:cBhvr>
                                        <p:cTn id="200" dur="3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6948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80880"/>
            <a:ext cx="868680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17160" y="7920"/>
            <a:ext cx="57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Местоим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92240" y="1523880"/>
            <a:ext cx="6223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Местоим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можно употребля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если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понятно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на како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оно указыв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7967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69080" cy="571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3168720" cy="293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066680" y="2819520"/>
            <a:ext cx="727416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05440" y="0"/>
            <a:ext cx="500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С.100, упр.1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1647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80880"/>
            <a:ext cx="868680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17160" y="7920"/>
            <a:ext cx="57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Местоим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6800" y="1371600"/>
            <a:ext cx="2139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1 ли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2 ли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3 ли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80200" y="1371600"/>
            <a:ext cx="38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я           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ты         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он(а,о)    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4724280"/>
            <a:ext cx="17971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5716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3168720" cy="293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00200" y="2209680"/>
            <a:ext cx="62722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гадки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1647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67280" y="4508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3 буквы, 3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76212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Её всегда в лесу найдёшь – Пойдём гулять и встретим. Стоит колючая, как ёж, Зимою в платье летн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4005360"/>
            <a:ext cx="1511280" cy="179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4005360"/>
            <a:ext cx="6048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164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65520" y="152280"/>
            <a:ext cx="60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ё – она, 3л., ед.ч., В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914400"/>
            <a:ext cx="6723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Портфель у меня             Не велик и не мал.      Лежит в нём задачник, Букварь и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12000"/>
          </a:blip>
          <a:stretch/>
        </p:blipFill>
        <p:spPr>
          <a:xfrm rot="20911800">
            <a:off x="2484360" y="4149360"/>
            <a:ext cx="2881440" cy="1593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16360" y="5084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пе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005360"/>
            <a:ext cx="6048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40360" y="45086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17720" y="0"/>
            <a:ext cx="723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у меня – я, 1л., ед.ч., Р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800" y="3581280"/>
            <a:ext cx="738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в нём – он, 3л., ед.ч., П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33720" y="914400"/>
            <a:ext cx="4952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Льётся речка –              Мы лежим.                 Лёд на речке –             Мы беж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4508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Конь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6 букв, 5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3640" y="4076640"/>
            <a:ext cx="1784520" cy="130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3886200"/>
            <a:ext cx="67672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24360" y="443700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69840" y="0"/>
            <a:ext cx="70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мы – мы, 1л., мн.ч., И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00200" y="1219320"/>
            <a:ext cx="65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Далеко мой стук     Слышится вокруг.      Червякам я враг,               А деревья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292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1330200" cy="208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35280" y="3933720"/>
            <a:ext cx="60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03360" y="228600"/>
            <a:ext cx="570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я – я, 1л., ед.ч., И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2640" y="330120"/>
            <a:ext cx="75099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Зритель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95280" y="1828440"/>
            <a:ext cx="7391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Д…леко мой сту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Слышится вокр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Черв…кам я вра…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А д…ревьям др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5080" y="6237360"/>
            <a:ext cx="1276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5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12640" y="330120"/>
            <a:ext cx="75099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Провер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47560" y="1600200"/>
            <a:ext cx="8675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Д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леко мой сту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Слышится вокру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Черв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я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кам я вра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А д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е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ревьям дру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9-11-24T16:05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