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gif" ContentType="image/gif"/>
  <Override PartName="/ppt/media/image7.png" ContentType="image/png"/>
  <Override PartName="/ppt/media/image4.png" ContentType="image/png"/>
  <Override PartName="/ppt/media/image5.wmf" ContentType="image/x-wmf"/>
  <Override PartName="/ppt/media/image6.gif" ContentType="image/gif"/>
  <Override PartName="/ppt/media/image9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939CB-3DE4-49BC-8910-AEB0D8A01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E7E2D-7B8C-42B4-9956-AE66376DA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02BAC-A405-4059-B08F-2021A751A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6354D-B0F1-49BD-B593-0C4FE030F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C7367-AA19-4F93-A6D5-186569C32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AC5A6-F8A5-4738-81E7-2D5DA7A04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71A12-C79D-495A-88B5-C0361D57B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6A9F9-F8A6-4F19-8132-443C8C007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33BA0-33E0-4FD3-B760-EC2F1B2C5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49CE4-C9FC-4F0D-B4F2-1003B0B29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35A09-C353-4104-BCAA-857BDB431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F71DA-0554-4F0B-9267-29895A7C9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9456A-6B4F-4B7F-B130-E889AC4A57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wmf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wmf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380880"/>
            <a:ext cx="8686800" cy="556272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0099ff"/>
              </a:gs>
              <a:gs pos="50000">
                <a:srgbClr val="ffffff"/>
              </a:gs>
              <a:gs pos="100000">
                <a:srgbClr val="0099ff"/>
              </a:gs>
            </a:gsLst>
            <a:lin ang="5400000"/>
          </a:gradFill>
          <a:ln w="2844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17160" y="7920"/>
            <a:ext cx="5784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66"/>
                </a:solidFill>
                <a:latin typeface="Comic Sans MS"/>
              </a:rPr>
              <a:t>Местоимени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741240" y="1981080"/>
            <a:ext cx="74138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4400" spc="-1" strike="noStrike">
                <a:solidFill>
                  <a:srgbClr val="0000ff"/>
                </a:solidFill>
                <a:latin typeface="Comic Sans MS"/>
              </a:rPr>
              <a:t>- часть         ,которая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omic Sans MS"/>
              </a:rPr>
              <a:t>    </a:t>
            </a:r>
            <a:r>
              <a:rPr b="1" lang="en-US" sz="4400" spc="-1" strike="noStrike">
                <a:solidFill>
                  <a:srgbClr val="0000ff"/>
                </a:solidFill>
                <a:latin typeface="Comic Sans MS"/>
              </a:rPr>
              <a:t>не называет предмет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omic Sans MS"/>
              </a:rPr>
              <a:t>    </a:t>
            </a:r>
            <a:r>
              <a:rPr b="1" lang="en-US" sz="4400" spc="-1" strike="noStrike">
                <a:solidFill>
                  <a:srgbClr val="0000ff"/>
                </a:solidFill>
                <a:latin typeface="Comic Sans MS"/>
              </a:rPr>
              <a:t>а               на него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1400" y="1981080"/>
            <a:ext cx="1634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omic Sans MS"/>
              </a:rPr>
              <a:t>реч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08400" y="3352680"/>
            <a:ext cx="330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omic Sans MS"/>
              </a:rPr>
              <a:t>указывае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00600" y="1981080"/>
            <a:ext cx="1101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omic Sans MS"/>
              </a:rPr>
              <a:t>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999160" y="3352680"/>
            <a:ext cx="202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omic Sans MS"/>
              </a:rPr>
              <a:t>_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6477120" y="4267080"/>
            <a:ext cx="1796760" cy="166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" dur="10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" dur="80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" dur="80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" dur="10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5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04920" y="1600200"/>
            <a:ext cx="8686800" cy="4343400"/>
          </a:xfrm>
          <a:prstGeom prst="ellipse">
            <a:avLst/>
          </a:prstGeom>
          <a:noFill/>
          <a:ln w="22860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5800" y="1905120"/>
            <a:ext cx="7924680" cy="3657600"/>
          </a:xfrm>
          <a:prstGeom prst="ellipse">
            <a:avLst/>
          </a:prstGeom>
          <a:noFill/>
          <a:ln w="228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676520" y="2362320"/>
            <a:ext cx="2895480" cy="2743200"/>
          </a:xfrm>
          <a:prstGeom prst="ellipse">
            <a:avLst/>
          </a:prstGeom>
          <a:noFill/>
          <a:ln w="2160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800600" y="2362320"/>
            <a:ext cx="2819520" cy="2670120"/>
          </a:xfrm>
          <a:prstGeom prst="ellipse">
            <a:avLst/>
          </a:prstGeom>
          <a:noFill/>
          <a:ln w="2160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48320" y="152280"/>
            <a:ext cx="75960" cy="6705720"/>
          </a:xfrm>
          <a:prstGeom prst="line">
            <a:avLst/>
          </a:prstGeom>
          <a:ln w="177840">
            <a:solidFill>
              <a:srgbClr val="8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3733920"/>
            <a:ext cx="9144000" cy="0"/>
          </a:xfrm>
          <a:prstGeom prst="line">
            <a:avLst/>
          </a:prstGeom>
          <a:ln w="177840">
            <a:solidFill>
              <a:srgbClr val="8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359680" y="152280"/>
            <a:ext cx="3650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mic Sans MS"/>
              </a:rPr>
              <a:t>На зарядке весь наш класс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mic Sans MS"/>
              </a:rPr>
              <a:t>Упражнения для глаз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mic Sans MS"/>
              </a:rPr>
              <a:t>Чтобы знания получать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mic Sans MS"/>
              </a:rPr>
              <a:t>Нужно глазки тренирова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-100800" y="0"/>
            <a:ext cx="475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Тренажёр «Весёлые глазк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419720" y="91440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ffff00"/>
          </a:solidFill>
          <a:ln w="442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8534520" y="63244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87 -0.04533 C -0.00105 0.00856 -0.00122 0.06267 -0.00087 0.08973 C -0.00052 0.11679 0.00138 0.10361 0.00173 0.11656 C 0.00208 0.12951 0.00173 0.14801 0.00173 0.16674 C 0.00173 0.18617 0.00173 0.21068 0.00173 0.23127 C 0.00173 0.25139 0.00173 0.26919 0.00173 0.28862 C 0.00173 0.30805 0.00156 0.32215 0.00173 0.34759 C 0.00191 0.37303 0.00277 0.41582 0.00295 0.44172 C 0.00312 0.46785 0.00277 0.47872 0.00295 0.50231 C 0.00312 0.52659 0.00399 0.55111 0.00416 0.58534 C 0.00434 0.61887 0.00329 0.70444 0.00416 0.70652 C 0.00503 0.70814 0.00902 0.63205 0.00937 0.5969 C 0.00972 0.56128 0.00694 0.53284 0.00677 0.49422 C 0.00659 0.45513 0.00798 0.40055 0.00798 0.36448 C 0.00798 0.32794 0.00677 0.31267 0.00677 0.27683 C 0.00677 0.24052 0.00816 0.18316 0.00798 0.1487 C 0.00781 0.11378 0.00625 0.09482 0.00555 0.06776 C 0.00486 0.0407 0.00434 0.01133 0.00416 -0.01318 C 0.00399 -0.0377 0.00625 -0.0932 0.00416 -0.07909 C 0.00208 -0.06499 -0.0073 0.03677 -0.00834 0.071 C -0.00938 0.10523 -0.00313 0.10546 -0.00209 0.12673 C -0.00105 0.14801 -0.00191 0.1716 -0.00209 0.19912 C -0.00226 0.22618 0.00434 0.27498 -0.0033 0.29024 C -0.01094 0.3055 -0.03368 0.29001 -0.04757 0.29024 C -0.06146 0.29047 -0.07518 0.29163 -0.08681 0.29186 C -0.09844 0.29209 -0.10747 0.29186 -0.11719 0.29186 C -0.12691 0.29186 -0.13421 0.29209 -0.14514 0.29186 C -0.15608 0.29163 -0.17118 0.29047 -0.18316 0.29024 C -0.19514 0.29001 -0.20434 0.29024 -0.21719 0.29024 C -0.23004 0.29024 -0.2448 0.29024 -0.26025 0.29024 C -0.2757 0.29024 -0.29584 0.29024 -0.30973 0.29024 C -0.32362 0.29024 -0.33264 0.29001 -0.34393 0.29024 C -0.35521 0.29047 -0.36684 0.29186 -0.37796 0.29186 C -0.38907 0.29186 -0.39879 0.29093 -0.41094 0.29024 C -0.42309 0.28955 -0.43993 0.28816 -0.45139 0.287 C -0.46285 0.28585 -0.48316 0.28191 -0.47934 0.28353 C -0.47552 0.28515 -0.44375 0.2944 -0.42865 0.29695 C -0.41355 0.29949 -0.40365 0.29857 -0.3882 0.2988 C -0.37275 0.29903 -0.3533 0.29903 -0.33629 0.2988 C -0.31927 0.29857 -0.30261 0.29695 -0.28559 0.29695 C -0.26858 0.29695 -0.25278 0.29903 -0.23368 0.2988 C -0.21459 0.29857 -0.1908 0.2951 -0.17049 0.29533 C -0.15018 0.29556 -0.1316 0.29995 -0.11216 0.30042 C -0.09271 0.30088 -0.07882 0.29995 -0.054 0.2988 C -0.02917 0.29764 0.01059 0.29463 0.03715 0.29371 C 0.06371 0.29278 0.08038 0.29371 0.10555 0.29371 C 0.13073 0.29371 0.16302 0.2944 0.18784 0.29371 C 0.21267 0.29301 0.23125 0.29163 0.25486 0.29024 C 0.27847 0.28885 0.30781 0.28469 0.32951 0.28515 C 0.35121 0.28561 0.36562 0.29371 0.38524 0.29371 C 0.40486 0.29371 0.44704 0.28631 0.44722 0.28515 C 0.44739 0.284 0.40694 0.28561 0.38645 0.287 C 0.36597 0.28839 0.35225 0.29348 0.32448 0.29371 C 0.2967 0.29394 0.2467 0.28978 0.21944 0.28862 C 0.19218 0.28746 0.18229 0.28746 0.16128 0.287 C 0.14027 0.28654 0.11267 0.28538 0.09288 0.28515 C 0.07309 0.28492 0.05503 0.28515 0.04218 0.28515 C 0.02934 0.28515 0.03628 0.28515 0.01562 0.28515 C -0.00504 0.28515 -0.05452 0.28515 -0.08177 0.28515 C -0.10903 0.28515 -0.12466 0.28561 -0.14757 0.28515 C -0.17049 0.28469 -0.19532 0.28238 -0.2198 0.28191 C -0.24427 0.28145 -0.27066 0.28145 -0.29445 0.28191 C -0.31823 0.28238 -0.34132 0.28469 -0.36285 0.28515 C -0.38438 0.28561 -0.40278 0.28654 -0.42362 0.28515 C -0.44445 0.28376 -0.48316 0.28908 -0.4882 0.27683 C -0.49323 0.26434 -0.47049 0.2352 -0.454 0.21068 C -0.4375 0.18617 -0.40816 0.14894 -0.38941 0.12835 C -0.37066 0.10754 -0.36025 0.09944 -0.34132 0.08626 C -0.3224 0.07308 -0.30105 0.06105 -0.27552 0.04926 C -0.25 0.03746 -0.21684 0.02289 -0.1882 0.01549 C -0.15955 0.00786 -0.12952 0.00902 -0.1033 0.0037 C -0.07709 -0.00162 -0.05608 -0.01434 -0.03125 -0.01665 C -0.00643 -0.01896 0.01892 -0.01341 0.046 -0.00995 C 0.07309 -0.00648 0.10017 -0.0037 0.1309 0.0037 C 0.16163 0.0111 0.20555 0.02544 0.2309 0.034 C 0.25625 0.04232 0.26388 0.0444 0.28281 0.05412 C 0.30173 0.06383 0.32413 0.07724 0.34479 0.09297 C 0.36545 0.10869 0.38819 0.12881 0.40677 0.1487 C 0.42534 0.16836 0.446 0.19195 0.45607 0.2123 C 0.46614 0.23335 0.46527 0.24607 0.46753 0.27336 C 0.46979 0.30065 0.47395 0.35153 0.47013 0.37627 C 0.46632 0.40055 0.46024 0.40217 0.44479 0.42183 C 0.42934 0.44103 0.39826 0.4741 0.3776 0.49237 C 0.35694 0.51087 0.33767 0.51966 0.32066 0.53099 C 0.30364 0.54278 0.29635 0.55111 0.27517 0.56128 C 0.25399 0.57192 0.2184 0.58603 0.19409 0.59343 C 0.16979 0.60129 0.15156 0.60222 0.12951 0.60684 C 0.10746 0.61216 0.08802 0.61956 0.06128 0.62211 C 0.03454 0.62511 -0.00348 0.62326 -0.03125 0.62211 C -0.05903 0.62118 -0.079 0.6191 -0.10591 0.6154 C -0.13282 0.6117 -0.16459 0.60661 -0.19323 0.59875 C -0.22188 0.58996 -0.24879 0.58002 -0.27796 0.56475 C -0.30712 0.54995 -0.34323 0.52729 -0.36789 0.50786 C -0.39254 0.4882 -0.40938 0.47433 -0.42605 0.44889 C -0.44271 0.42322 -0.46077 0.38575 -0.46789 0.3543 C -0.475 0.32262 -0.47448 0.28978 -0.4691 0.25832 C -0.46372 0.22664 -0.45868 0.19773 -0.43507 0.16536 C -0.41146 0.13321 -0.36268 0.08002 -0.32743 0.06429 C -0.29219 0.04857 -0.25018 0.06406 -0.22362 0.071 C -0.19705 0.07794 -0.16719 0.1006 -0.16789 0.10638 C -0.16858 0.11216 -0.20851 0.09644 -0.22743 0.10638 C -0.24636 0.11633 -0.26702 0.14547 -0.28177 0.16536 C -0.29653 0.18548 -0.30851 0.20999 -0.31598 0.22572 C -0.32344 0.24167 -0.32448 0.24306 -0.32605 0.26133 C -0.32761 0.27983 -0.32726 0.31267 -0.32483 0.3358 C -0.3224 0.35893 -0.3198 0.37997 -0.31094 0.39963 C -0.30209 0.41975 -0.28768 0.43987 -0.27171 0.45536 C -0.25573 0.47063 -0.23247 0.48335 -0.21476 0.49075 C -0.19705 0.49838 -0.18108 0.50069 -0.16546 0.50092 C -0.14983 0.50116 -0.13733 0.49931 -0.12101 0.49237 C -0.10469 0.4852 -0.0816 0.47178 -0.06789 0.4586 C -0.05417 0.44542 -0.04653 0.42946 -0.03872 0.41304 C -0.03091 0.39662 -0.02535 0.37789 -0.02101 0.36101 C -0.01667 0.34412 -0.02014 0.33233 -0.01216 0.31221 C -0.00417 0.29209 0.01875 0.26017 0.02708 0.23936 C 0.03541 0.21878 0.03211 0.20259 0.03836 0.18894 C 0.04461 0.17484 0.05416 0.16582 0.06493 0.15518 C 0.07569 0.14477 0.0875 0.1346 0.10295 0.12673 C 0.1184 0.11887 0.14201 0.11124 0.15746 0.10823 C 0.17291 0.10523 0.18316 0.10523 0.19531 0.10823 C 0.20746 0.11124 0.21927 0.1198 0.2309 0.12673 C 0.24253 0.13367 0.25434 0.13737 0.26493 0.15032 C 0.27552 0.16327 0.28524 0.18756 0.29409 0.20398 C 0.30295 0.2204 0.31354 0.22849 0.31823 0.24954 C 0.32291 0.27081 0.3243 0.3062 0.32204 0.33071 C 0.31979 0.35523 0.31302 0.37743 0.30416 0.39639 C 0.29531 0.41559 0.28038 0.4327 0.26875 0.44519 C 0.25711 0.45791 0.25 0.46485 0.23454 0.47225 C 0.21909 0.48011 0.19548 0.4889 0.17638 0.49075 C 0.15729 0.49237 0.13559 0.48867 0.11944 0.48219 C 0.10329 0.47548 0.09132 0.46392 0.07899 0.45213 C 0.06666 0.43987 0.05503 0.42877 0.046 0.41119 C 0.03698 0.39408 0.02916 0.36332 0.02448 0.34759 C 0.01979 0.33187 0.02552 0.33649 0.01823 0.3173 C 0.01093 0.2981 -0.00903 0.25671 -0.0198 0.23265 C -0.03056 0.20883 -0.03455 0.18941 -0.04636 0.17229 C -0.05816 0.15472 -0.07292 0.13899 -0.09063 0.12673 C -0.10834 0.11448 -0.14184 0.10314 -0.15278 0.09806 E">
                                      <p:cBhvr>
                                        <p:cTn id="200" dur="30000" fill="hold"/>
                                        <p:tgtEl>
                                          <p:spTgt spid="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2" dur="169483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8600" y="380880"/>
            <a:ext cx="8686800" cy="556272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0099ff"/>
              </a:gs>
              <a:gs pos="50000">
                <a:srgbClr val="ffffff"/>
              </a:gs>
              <a:gs pos="100000">
                <a:srgbClr val="0099ff"/>
              </a:gs>
            </a:gsLst>
            <a:lin ang="5400000"/>
          </a:gradFill>
          <a:ln w="2844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117160" y="7920"/>
            <a:ext cx="5784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66"/>
                </a:solidFill>
                <a:latin typeface="Comic Sans MS"/>
              </a:rPr>
              <a:t>Местоимени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992240" y="1523880"/>
            <a:ext cx="622332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4400" spc="-1" strike="noStrike">
                <a:solidFill>
                  <a:srgbClr val="0000ff"/>
                </a:solidFill>
                <a:latin typeface="Comic Sans MS"/>
              </a:rPr>
              <a:t>Местоимение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omic Sans MS"/>
              </a:rPr>
              <a:t>можно употреблять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omic Sans MS"/>
              </a:rPr>
              <a:t>если </a:t>
            </a:r>
            <a:r>
              <a:rPr b="1" lang="en-US" sz="4400" spc="-1" strike="noStrike">
                <a:solidFill>
                  <a:srgbClr val="ff0066"/>
                </a:solidFill>
                <a:latin typeface="Comic Sans MS"/>
              </a:rPr>
              <a:t>понятно</a:t>
            </a:r>
            <a:r>
              <a:rPr b="1" lang="en-US" sz="4400" spc="-1" strike="noStrike">
                <a:solidFill>
                  <a:srgbClr val="0000ff"/>
                </a:solidFill>
                <a:latin typeface="Comic Sans MS"/>
              </a:rPr>
              <a:t>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omic Sans MS"/>
              </a:rPr>
              <a:t>на какой предме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omic Sans MS"/>
              </a:rPr>
              <a:t>оно указывает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6477120" y="4267080"/>
            <a:ext cx="1796760" cy="166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304920" y="914400"/>
            <a:ext cx="8569080" cy="57164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3124080" y="3657600"/>
            <a:ext cx="3168720" cy="293364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 txBox="1"/>
          <p:nvPr/>
        </p:nvSpPr>
        <p:spPr>
          <a:xfrm>
            <a:off x="1066680" y="2819520"/>
            <a:ext cx="7274160" cy="863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0443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МОЛОДЦЫ</a:t>
            </a:r>
            <a:endParaRPr b="1" lang="en-US" sz="5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5"/>
          <a:stretch/>
        </p:blipFill>
        <p:spPr>
          <a:xfrm>
            <a:off x="7667640" y="623736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2305440" y="0"/>
            <a:ext cx="5002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66"/>
                </a:solidFill>
                <a:latin typeface="Comic Sans MS"/>
              </a:rPr>
              <a:t>С.100, упр.127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8" dur="116474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28600" y="380880"/>
            <a:ext cx="8686800" cy="556272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0099ff"/>
              </a:gs>
              <a:gs pos="50000">
                <a:srgbClr val="ffffff"/>
              </a:gs>
              <a:gs pos="100000">
                <a:srgbClr val="0099ff"/>
              </a:gs>
            </a:gsLst>
            <a:lin ang="5400000"/>
          </a:gradFill>
          <a:ln w="2844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17160" y="7920"/>
            <a:ext cx="5784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66"/>
                </a:solidFill>
                <a:latin typeface="Comic Sans MS"/>
              </a:rPr>
              <a:t>Местоимени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306800" y="1371600"/>
            <a:ext cx="213912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omic Sans MS"/>
              </a:rPr>
              <a:t>1 лиц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omic Sans MS"/>
              </a:rPr>
              <a:t>2 лиц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omic Sans MS"/>
              </a:rPr>
              <a:t>3 лиц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480200" y="1371600"/>
            <a:ext cx="381708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66"/>
                </a:solidFill>
                <a:latin typeface="Comic Sans MS"/>
              </a:rPr>
              <a:t>я           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66"/>
                </a:solidFill>
                <a:latin typeface="Comic Sans MS"/>
              </a:rPr>
              <a:t>ты         в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66"/>
                </a:solidFill>
                <a:latin typeface="Comic Sans MS"/>
              </a:rPr>
              <a:t>он(а,о)    он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867280" y="4724280"/>
            <a:ext cx="1797120" cy="166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" dur="8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" dur="8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" dur="8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" dur="8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" dur="8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" dur="8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" dur="8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" dur="8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" dur="8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24000" y="404640"/>
            <a:ext cx="8569080" cy="57168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200400" y="3276720"/>
            <a:ext cx="3168720" cy="2933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 txBox="1"/>
          <p:nvPr/>
        </p:nvSpPr>
        <p:spPr>
          <a:xfrm>
            <a:off x="1600200" y="2209680"/>
            <a:ext cx="6272280" cy="7444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0443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загадки</a:t>
            </a:r>
            <a:endParaRPr b="1" lang="en-US" sz="5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57" name="" descr=""/>
          <p:cNvPicPr/>
          <p:nvPr/>
        </p:nvPicPr>
        <p:blipFill>
          <a:blip r:embed="rId5"/>
          <a:stretch/>
        </p:blipFill>
        <p:spPr>
          <a:xfrm>
            <a:off x="7667640" y="6237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5" dur="116474" fill="hold"/>
                                        <p:tgtEl>
                                          <p:spTgt spid="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067280" y="4508640"/>
            <a:ext cx="446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Comic Sans MS"/>
              </a:rPr>
              <a:t>Ел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– 3 буквы, 3 зву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762120"/>
            <a:ext cx="9144000" cy="41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Comic Sans MS"/>
              </a:rPr>
              <a:t>Её всегда в лесу найдёшь – Пойдём гулять и встретим. Стоит колючая, как ёж, Зимою в платье летнем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411280" y="4005360"/>
            <a:ext cx="1511280" cy="17906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2124000" y="4005360"/>
            <a:ext cx="6048360" cy="18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211640" y="4581360"/>
            <a:ext cx="792000" cy="7923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865520" y="152280"/>
            <a:ext cx="6054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Comic Sans MS"/>
              </a:rPr>
              <a:t>Её – она, 3л., ед.ч., В.п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" dur="80"/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" dur="80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" dur="80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" restart="whenNotActive" nodeType="interactiveSeq" fill="hold">
                <p:stCondLst>
                  <p:cond evt="onClick">
                    <p:tgtEl>
                      <p:spTgt spid="62"/>
                    </p:tgtEl>
                  </p:cond>
                </p:stCondLst>
                <p:childTnLst>
                  <p:par>
                    <p:cTn id="66" fill="hold">
                      <p:stCondLst>
                        <p:cond evt="onClick">
                          <p:tgtEl>
                            <p:spTgt spid="62"/>
                          </p:tgtEl>
                        </p:cond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447920" y="914400"/>
            <a:ext cx="6723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Comic Sans MS"/>
              </a:rPr>
              <a:t>Портфель у меня             Не велик и не мал.      Лежит в нём задачник, Букварь и 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>
            <a:lum bright="-12000"/>
          </a:blip>
          <a:stretch/>
        </p:blipFill>
        <p:spPr>
          <a:xfrm rot="20911800">
            <a:off x="2484360" y="4149360"/>
            <a:ext cx="2881440" cy="15937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4716360" y="5084640"/>
            <a:ext cx="244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Comic Sans MS"/>
              </a:rPr>
              <a:t>пена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124000" y="4005360"/>
            <a:ext cx="6048360" cy="18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4140360" y="4508640"/>
            <a:ext cx="792000" cy="792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1017720" y="0"/>
            <a:ext cx="723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Comic Sans MS"/>
              </a:rPr>
              <a:t>у меня – я, 1л., ед.ч., Р.п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66800" y="3581280"/>
            <a:ext cx="7383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Comic Sans MS"/>
              </a:rPr>
              <a:t>в нём – он, 3л., ед.ч., П.п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" dur="80"/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1" dur="80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" dur="80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7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8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0" restart="whenNotActive" nodeType="interactiveSeq" fill="hold">
                <p:stCondLst>
                  <p:cond evt="onClick">
                    <p:tgtEl>
                      <p:spTgt spid="68"/>
                    </p:tgtEl>
                  </p:cond>
                </p:stCondLst>
                <p:childTnLst>
                  <p:par>
                    <p:cTn id="91" fill="hold">
                      <p:stCondLst>
                        <p:cond evt="onClick">
                          <p:tgtEl>
                            <p:spTgt spid="68"/>
                          </p:tgtEl>
                        </p:cond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2133720" y="914400"/>
            <a:ext cx="495288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Comic Sans MS"/>
              </a:rPr>
              <a:t>Льётся речка –              Мы лежим.                 Лёд на речке –             Мы бежим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708360" y="4508640"/>
            <a:ext cx="511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Comic Sans MS"/>
              </a:rPr>
              <a:t>Коньк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– 6 букв, 5 зву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763640" y="4076640"/>
            <a:ext cx="1784520" cy="13050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1447920" y="3886200"/>
            <a:ext cx="6767280" cy="18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924360" y="4437000"/>
            <a:ext cx="792000" cy="7923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969840" y="0"/>
            <a:ext cx="7076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66"/>
                </a:solidFill>
                <a:latin typeface="Comic Sans MS"/>
              </a:rPr>
              <a:t>мы – мы, 1л., мн.ч., И.п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5" dur="80"/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6" dur="80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" dur="80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8" restart="whenNotActive" nodeType="interactiveSeq" fill="hold">
                <p:stCondLst>
                  <p:cond evt="onClick">
                    <p:tgtEl>
                      <p:spTgt spid="75"/>
                    </p:tgtEl>
                  </p:cond>
                </p:stCondLst>
                <p:childTnLst>
                  <p:par>
                    <p:cTn id="109" fill="hold">
                      <p:stCondLst>
                        <p:cond evt="onClick">
                          <p:tgtEl>
                            <p:spTgt spid="75"/>
                          </p:tgtEl>
                        </p:cond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1600200" y="1219320"/>
            <a:ext cx="65167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Comic Sans MS"/>
              </a:rPr>
              <a:t>Далеко мой стук     Слышится вокруг.      Червякам я враг,               А деревьям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788000" y="4292640"/>
            <a:ext cx="244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Comic Sans MS"/>
              </a:rPr>
              <a:t>дру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2987640" y="4149720"/>
            <a:ext cx="1330200" cy="208908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1835280" y="3933720"/>
            <a:ext cx="604836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4140360" y="4581360"/>
            <a:ext cx="792000" cy="79236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1503360" y="228600"/>
            <a:ext cx="570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Comic Sans MS"/>
              </a:rPr>
              <a:t>я – я, 1л., ед.ч., И.п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3" dur="80"/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4" dur="80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" dur="80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6" restart="whenNotActive" nodeType="interactiveSeq" fill="hold">
                <p:stCondLst>
                  <p:cond evt="onClick">
                    <p:tgtEl>
                      <p:spTgt spid="81"/>
                    </p:tgtEl>
                  </p:cond>
                </p:stCondLst>
                <p:childTnLst>
                  <p:par>
                    <p:cTn id="127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12640" y="330120"/>
            <a:ext cx="750996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66"/>
                </a:solidFill>
                <a:latin typeface="Comic Sans MS"/>
              </a:rPr>
              <a:t>Зрительный диктан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1295280" y="1828440"/>
            <a:ext cx="739152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ff"/>
                </a:solidFill>
                <a:latin typeface="Comic Sans MS"/>
              </a:rPr>
              <a:t>Д…леко мой стук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ff"/>
                </a:solidFill>
                <a:latin typeface="Comic Sans MS"/>
              </a:rPr>
              <a:t>Слышится вокру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ff"/>
                </a:solidFill>
                <a:latin typeface="Comic Sans MS"/>
              </a:rPr>
              <a:t>Черв…кам я вра…,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ff"/>
                </a:solidFill>
                <a:latin typeface="Comic Sans MS"/>
              </a:rPr>
              <a:t>А д…ревьям дру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9999"/>
                </a:solidFill>
                <a:latin typeface="Comic Sans MS"/>
              </a:rPr>
              <a:t>    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55080" y="6237360"/>
            <a:ext cx="12765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Comic Sans MS"/>
                <a:hlinkClick r:id="rId1" action="ppaction://hlinksldjump"/>
              </a:rPr>
              <a:t>Провер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0" dur="5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2" dur="5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7" dur="50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9" dur="50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4" dur="50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6" dur="50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1" dur="50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3" dur="50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512640" y="330120"/>
            <a:ext cx="750996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66"/>
                </a:solidFill>
                <a:latin typeface="Comic Sans MS"/>
              </a:rPr>
              <a:t>Проверк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1447560" y="1600200"/>
            <a:ext cx="867564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Comic Sans MS"/>
              </a:rPr>
              <a:t>Д</a:t>
            </a:r>
            <a:r>
              <a:rPr b="1" lang="en-US" sz="5400" spc="-1" strike="noStrike">
                <a:solidFill>
                  <a:srgbClr val="ff0066"/>
                </a:solidFill>
                <a:latin typeface="Comic Sans MS"/>
              </a:rPr>
              <a:t>а</a:t>
            </a:r>
            <a:r>
              <a:rPr b="1" lang="en-US" sz="5400" spc="-1" strike="noStrike">
                <a:solidFill>
                  <a:srgbClr val="0000ff"/>
                </a:solidFill>
                <a:latin typeface="Comic Sans MS"/>
              </a:rPr>
              <a:t>леко мой стук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Comic Sans MS"/>
              </a:rPr>
              <a:t>Слышится вокру</a:t>
            </a:r>
            <a:r>
              <a:rPr b="1" lang="en-US" sz="5400" spc="-1" strike="noStrike">
                <a:solidFill>
                  <a:srgbClr val="ff0066"/>
                </a:solidFill>
                <a:latin typeface="Comic Sans MS"/>
              </a:rPr>
              <a:t>г</a:t>
            </a:r>
            <a:r>
              <a:rPr b="1" lang="en-US" sz="5400" spc="-1" strike="noStrike">
                <a:solidFill>
                  <a:srgbClr val="0000ff"/>
                </a:solidFill>
                <a:latin typeface="Comic Sans MS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Comic Sans MS"/>
              </a:rPr>
              <a:t>Черв</a:t>
            </a:r>
            <a:r>
              <a:rPr b="1" lang="en-US" sz="5400" spc="-1" strike="noStrike">
                <a:solidFill>
                  <a:srgbClr val="ff0066"/>
                </a:solidFill>
                <a:latin typeface="Comic Sans MS"/>
              </a:rPr>
              <a:t>я</a:t>
            </a:r>
            <a:r>
              <a:rPr b="1" lang="en-US" sz="5400" spc="-1" strike="noStrike">
                <a:solidFill>
                  <a:srgbClr val="0000ff"/>
                </a:solidFill>
                <a:latin typeface="Comic Sans MS"/>
              </a:rPr>
              <a:t>кам я вра</a:t>
            </a:r>
            <a:r>
              <a:rPr b="1" lang="en-US" sz="5400" spc="-1" strike="noStrike">
                <a:solidFill>
                  <a:srgbClr val="ff0066"/>
                </a:solidFill>
                <a:latin typeface="Comic Sans MS"/>
              </a:rPr>
              <a:t>г</a:t>
            </a:r>
            <a:r>
              <a:rPr b="1" lang="en-US" sz="5400" spc="-1" strike="noStrike">
                <a:solidFill>
                  <a:srgbClr val="0000ff"/>
                </a:solidFill>
                <a:latin typeface="Comic Sans MS"/>
              </a:rPr>
              <a:t>,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Comic Sans MS"/>
              </a:rPr>
              <a:t>А д</a:t>
            </a:r>
            <a:r>
              <a:rPr b="1" lang="en-US" sz="5400" spc="-1" strike="noStrike">
                <a:solidFill>
                  <a:srgbClr val="ff0066"/>
                </a:solidFill>
                <a:latin typeface="Comic Sans MS"/>
              </a:rPr>
              <a:t>е</a:t>
            </a:r>
            <a:r>
              <a:rPr b="1" lang="en-US" sz="5400" spc="-1" strike="noStrike">
                <a:solidFill>
                  <a:srgbClr val="0000ff"/>
                </a:solidFill>
                <a:latin typeface="Comic Sans MS"/>
              </a:rPr>
              <a:t>ревьям дру</a:t>
            </a:r>
            <a:r>
              <a:rPr b="1" lang="en-US" sz="5400" spc="-1" strike="noStrike">
                <a:solidFill>
                  <a:srgbClr val="ff0066"/>
                </a:solidFill>
                <a:latin typeface="Comic Sans MS"/>
              </a:rPr>
              <a:t>г</a:t>
            </a:r>
            <a:r>
              <a:rPr b="1" lang="en-US" sz="5400" spc="-1" strike="noStrike">
                <a:solidFill>
                  <a:srgbClr val="0000ff"/>
                </a:solidFill>
                <a:latin typeface="Comic Sans MS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3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3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3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3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3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30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3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3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30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30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30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30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Александр</cp:lastModifiedBy>
  <dcterms:modified xsi:type="dcterms:W3CDTF">2009-11-24T16:05:10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