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361D-E7E8-4B0F-857F-79DA4582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DFB9-0A92-46A2-816A-0386C244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336E6-FB80-4C6E-841E-2701FBEA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C144E-828D-4626-91A6-1691A8A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B5D33-216E-462B-8F7A-BE54D432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1D2A8-6DD3-448C-9872-6375E999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B460D-72B0-4624-8287-051E60C8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91C9F-3925-41F8-BF59-BE699C06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13929-D0EF-49B7-A084-388066AB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191FC-BE49-41D5-8926-0D83B77B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3B169-2526-4330-AE4F-61CC0917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DC291-087D-402A-A821-20071B34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094FF-F97D-4078-A877-26DC050C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A7EC7-92DD-4722-A221-777D2FEE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055B9-7BF8-4533-A2D8-B647596E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F3A06-537A-41EE-AF52-58BCF215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BEFB-9F16-4546-8383-6B02451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F1AF5-B698-4E18-BBAE-B023BA92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61F55-E72A-4CCA-B6B7-729F99BE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7DFE8-E0FE-4217-A332-29001D9B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515AA-D9D3-4E11-A1F5-F7DB0371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3061C-BF49-403C-BE2C-712F8340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0B8AD-AC43-4018-8916-A177EEC0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4C855-20BE-477E-AD41-E859AFC5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3562D-2EFF-4A28-85D5-B09A3627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7AF1E-1113-4678-8CA3-4EC64A42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71598-3B05-4D75-9266-DC385A82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4E917-3D4D-47A7-B0D1-EBDD1DF6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8D344-C838-48E2-86A7-F69A318A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65A62-0DCF-42DE-A5F9-5DB4F834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BDC2B-9FFD-4A88-BFB3-32C1188C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B4B27-991F-40E7-8A9C-29168B8A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E9DB7-AD56-4AC1-93C0-B1467A8A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01D40-E1A6-487B-9BBC-59CD594A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0A13F-2A35-4CF6-991A-520E23CF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1EF1C-EFAA-4516-9741-7E312794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417B4-C0B8-4729-ACDD-2A5ED5B6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85487-4428-4FED-94E3-4233D61A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0E642-4F89-4E5C-AA00-09567BB4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CF314-0CF3-472F-81FB-66CD1D89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BEB55-0B52-4658-99A0-8EFAD74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0C348-DD16-4687-89ED-F35A7256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B3812-95D8-4D7B-918F-3200449E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16E5E-9F1F-4CAB-BB58-7DF12366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D599F-2A13-48A8-8178-CFE65FE6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D5642-E0C0-469F-8D40-1BA29CAC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90B05-DF35-4C8A-A22A-3B2922A7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01A25-7E87-4EF9-A88D-BCD6B26B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967F8-D8B3-4F85-9BEB-8360A5C8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3EFA0-2852-4B7C-A687-B84DDBE6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4ED8F-F066-436F-866E-1252316F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2B924-B91F-46A1-B52B-AD39F31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6AA97-1031-4964-A0C6-7BF15272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945FB-7067-4C2D-8705-7D14708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5C4AC-5529-46A9-8CAC-205C5362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1363F-DACA-4CEE-BD83-0FD8C6F4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9EC0C-FD8C-4B6A-85CD-27608AA0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32FF5-3FB5-460B-81BC-81D44F63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D4FA5-4D2A-43A9-A6B9-2086E543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9B495-BD35-4820-9237-56480006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E72AD-363B-4523-84E8-FCCF33B5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16598-E985-4683-B65A-0097026E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8281A-1198-4989-ACB8-4C539F7C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A7607-1773-488A-82E3-19C2247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39941-FF49-486F-B66E-8055D554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EA65B-952F-429D-BA7B-BA3C921C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F3B75-04DA-4800-B3A8-5541F4B7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4FA2E-EF66-456F-BCA4-159A5363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52C82-7765-44E8-9C88-C53F94F0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F99BA-C7D9-4362-B5F2-EB1658D4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07F78-0396-4434-9B87-C2E078C5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3D2C2-EB57-4F4C-B2E3-9ACB5BF4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72DE6-AE1D-4F67-A725-465E7031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9A4BD-5471-487D-B156-15464114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0F4D0-0990-433C-92E8-086532D6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AC694-1FB9-4DDD-AF97-5D58F621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1B403-68A8-46A3-B828-1882F2B9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1405B-55B0-415B-957E-B1D2493D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A1DF7-526D-4F1D-A1A7-BA55D88A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7C25C-44A0-4051-A5DC-4FF48FB3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FD4B4-0205-4BA6-BE5A-E508C1C8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F59BC-7109-4B86-A389-CDBF3C01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6A377-DC0E-4985-898E-E1E87FFE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CB770-BAF5-413D-B301-91E17354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D4EBB-F21E-456B-BE2E-84534EEE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BA258-2DB5-440D-8F5C-4E8B9B67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21FEF-CD95-4BA1-BDAC-75EC61C5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CCC1D-57DC-4547-B907-43394CB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6EC6B-E4F1-44E2-B8CF-7C65EE91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5F8DC-2B0C-4C47-8E2E-78861842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8C6B7-93AD-4FCD-8CCF-2849771A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E8BC0-5FFE-4919-995D-22D2013F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D4837-E2B6-43EC-A41C-150F58EA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14DEC-3298-442A-BB47-25EBF866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9BB32-46FB-489F-A806-21C8BA90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68466-0668-462B-B85E-61366CAD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ECF9A-EBDD-425D-99C2-B8A69422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98E5C2-85D6-4574-B591-7369337E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0F8C8-ECEB-4F70-A9E0-3590E5E6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214EE-A864-4E81-BAD1-E0209966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7269A-2E42-4E57-8025-8907D53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CA38C-6F39-401F-B55D-56B30E7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99EB4-F415-470F-B5A1-FCFEF368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36E17-4D5E-4A39-8D9E-27BD9F67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3EB4B-E4C5-4F82-8B95-2318448D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45F-D128-4E25-BAD1-E9A8BCA7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8B4-33C2-4132-9670-B582C9BE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9DE-A0DA-4983-B924-2874F53B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A05-32F9-4191-9CE6-38EF24AF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6A5-41C4-4898-8B71-007F0578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6A5-FF23-4A3C-8069-96B6181A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801-889C-428A-AC83-506DE899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C70-47A9-4AF2-8F80-7196FB6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18E-2D38-4127-A812-2553BA16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1D9-1BC8-4EA1-ABFD-069A942F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B2F-2903-4C4E-8CF9-255064B0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58B-2207-4ABC-A3A4-0BB56D15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4902-D6DA-42A0-8143-ED9F2204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47AF-47FA-4C34-9B90-DCF0CC43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CCAD-DBC6-4DDF-ACC5-C9B5E7AF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D80B-48CA-4FC7-8D7F-7678510D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D650-759C-438B-A394-F65DC01C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CF16-F7DC-40CC-99E9-16FD5DCE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FAF6-023C-4E3A-95B4-82E86438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0DDA-5112-4D6E-8F61-0AFFA49B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BA93-D711-405D-AAA6-1873343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05C9-F07E-4F10-B1BA-0D04AABA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58C1-D49D-442B-A138-0AFBBF74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AD91-E7E7-4D2C-A9C4-EA700695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02D2-AC01-4200-BB2A-36C506D5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F666-6BF4-4EA5-AAB8-40253AE2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0DB14-87D6-415F-8B52-E632FF22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9C72-2122-4FA3-A1D8-2B49B693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85B8-2869-4E9F-A106-B5C8B849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B01C-1527-4C9F-BAD1-A2D01612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452F-1476-4AF6-A3F5-AABB19E3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0342-6D36-4D5A-9D7C-61B6EDE4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D8650-D0FC-4F55-99D2-9324812A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6E68-646F-451C-9FA0-CF0061B4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E17D9-F9AC-4FC6-A560-302B1353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8E4FF-2AC3-4624-A7BF-8AE09051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6A1F-CE02-42A7-A479-3E541448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9E80E-B45C-4220-BC6B-16F34085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B6B1-E439-407B-9701-C4F19BF1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02FC5-B2C9-44C9-B489-0B1D2E43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8D5A-FE10-41F6-A0F6-64BD0553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DD42F-63B3-4443-85FC-4F71281D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31E69-1FF9-43E4-B4A9-48CB6CA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7DF72-A672-4254-936B-28518B53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5D63-03F4-413D-AD45-57A2CAD9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E4D9-3E04-4FAB-9EC4-4732E355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3CB25-57D1-4DDF-95DD-A3B4A707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9E7CF-FED8-468F-BDA1-079ADB45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79CD3-90D5-4DA5-B0C6-5929932D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6BD47-CDE3-40F3-AAA4-107FBD44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DAF03-7B3F-4177-886A-7D495964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F4030-C14F-4BE1-BFDD-97109744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EFAAA-D45C-479C-9C52-1D11F8ED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AB02B-AEB7-4D41-863C-B0ECA7BE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8E56-E312-4ECF-89EF-05ED9C31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AB255-A601-4599-80EE-4BD1B80F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5D5A7-B686-40E7-A087-17C10A86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D30B3-DB69-4D13-BFA9-5FD6A272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CCB80-5E92-422E-93D2-371E8ABE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517C5-519C-4B44-ABF5-52C89BC2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421F7-BD18-4A10-82EA-50ABF838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B10D5-6F0F-4F6C-9751-D9084B8A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1B895-B9D2-42B4-9806-B4DC292B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2729C-7331-4A5D-A0F1-4EB8B851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35575-14A3-489C-B07D-81D50BB9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1398C-367B-4B70-8EA5-D1C0CAC6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69AFE-F75D-4E11-A6C1-31E4CC8F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1BD8-9076-49E7-B381-0FAE943C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F1F5B-F92F-438C-AFB9-B8F107A9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F24AB-4811-4F4B-B021-9C34C491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0025C-1D32-44E6-B275-45784FCB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0070-38A7-41DF-856C-459727E5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F9143-EE7C-4984-953B-D726643F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13834-04BC-4FBC-BC9B-D2604CD8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561AB-C09B-4001-BA7A-1800FD46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BE8B-DF4E-4B2F-952B-A1F381370A8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D523-4E15-4736-A760-A77C137CE46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542" name="Прямая соединительная линия 20"/>
            <p:cNvSpPr/>
            <p:nvPr/>
          </p:nvSpPr>
          <p:spPr>
            <a:xfrm>
              <a:off x="8578800" y="12175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Прямая соединительная линия 23"/>
            <p:cNvSpPr/>
            <p:nvPr/>
          </p:nvSpPr>
          <p:spPr>
            <a:xfrm>
              <a:off x="8516880" y="12826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Прямая соединительная линия 24"/>
            <p:cNvSpPr/>
            <p:nvPr/>
          </p:nvSpPr>
          <p:spPr>
            <a:xfrm flipV="1">
              <a:off x="8578800" y="12823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546" name="Прямая соединительная линия 26"/>
            <p:cNvSpPr/>
            <p:nvPr/>
          </p:nvSpPr>
          <p:spPr>
            <a:xfrm>
              <a:off x="8731800" y="137016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Прямая соединительная линия 27"/>
            <p:cNvSpPr/>
            <p:nvPr/>
          </p:nvSpPr>
          <p:spPr>
            <a:xfrm>
              <a:off x="8669160" y="1435320"/>
              <a:ext cx="94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Прямая соединительная линия 28"/>
            <p:cNvSpPr/>
            <p:nvPr/>
          </p:nvSpPr>
          <p:spPr>
            <a:xfrm flipV="1">
              <a:off x="8731800" y="143496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550" name="Прямая соединительная линия 30"/>
            <p:cNvSpPr/>
            <p:nvPr/>
          </p:nvSpPr>
          <p:spPr>
            <a:xfrm>
              <a:off x="8383680" y="14731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Прямая соединительная линия 31"/>
            <p:cNvSpPr/>
            <p:nvPr/>
          </p:nvSpPr>
          <p:spPr>
            <a:xfrm>
              <a:off x="8321760" y="15382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Прямая соединительная линия 32"/>
            <p:cNvSpPr/>
            <p:nvPr/>
          </p:nvSpPr>
          <p:spPr>
            <a:xfrm flipV="1">
              <a:off x="8383680" y="15379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2ECC-E4FC-4EED-8597-908C9DE4822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88EC-FAC9-468A-B58D-560973AF397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9BDB-EBEA-46CC-BC87-C5E7C485F06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3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3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3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E6B1-C645-41F7-9E0D-AE783B8BE47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0F1B-43D9-48E4-9664-6845D278FE4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4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4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4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8263-01EE-45D1-B4CB-0C8F010FC52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3997-49E8-411B-9EB5-A47280503F3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F87B-9635-4A9C-82C8-DCA05B22E46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090C-B930-4A8C-9CDA-65518D5705A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2BCA-C94E-405D-928D-A810CFF23A2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0327-F447-43AD-A673-29A348030B0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98B7-592C-45F0-9AE2-DB215CE3ED6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7BCA-DA67-485D-BD0B-F56E9168CCB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Rectangle 2" descr=""/>
          <p:cNvPicPr/>
          <p:nvPr/>
        </p:nvPicPr>
        <p:blipFill>
          <a:blip r:embed="rId1"/>
          <a:stretch/>
        </p:blipFill>
        <p:spPr>
          <a:xfrm>
            <a:off x="1030320" y="2084400"/>
            <a:ext cx="74912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ердечно-сосудистая система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Сердце – это центральный насос нашего организма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Кровеносные сосуды – это пути, по которым протекает кровь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Артерии кровеносные сосуды, по которым протекает кровь с высоким содержанием кислорода. Самая большая артерия нашего организма - аорта.</a:t>
            </a: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корость циркуляции крови по артериям несколько метров в секунд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Вены – кровеносные сосуды, по которым протекает кровь с низким содержанием кислорода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Капилляры – мельчайшие кровеносные сосуды нашего организма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бота и мощность сердц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Работа производимая мускулатурой сердца, затрачивается на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-первых на выбрасывание крови в аорту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-вторых, на сообщение скорости выбрасываемой крови. При этом растягивается стенка кровеносных сосудов и часть энергии сокращения сердца переходит в потенциальную энергию, накапливаемую стенкой сосудов, а часть превращается в кинетическую энергию движущейся кров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Так как сердце при выбрасывании крови преодолевает сопротивление, равное величине кровяного давления. то можно считать, что сердце выбрасывает определенный объем крови на высоту кровяного давления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6737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Законы движения кров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23640" y="1413000"/>
            <a:ext cx="4608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rbel"/>
              </a:rPr>
              <a:t>Сердце нагнетает кровь в сосуды прерывисто, отдельными порциями. Однако течет она по сосудам непрерывным потоком, не останавливаясь в промежутках между сокращениями сердца.</a:t>
            </a: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68" name="Picture 5" descr=""/>
          <p:cNvPicPr/>
          <p:nvPr/>
        </p:nvPicPr>
        <p:blipFill>
          <a:blip r:embed="rId1"/>
          <a:stretch/>
        </p:blipFill>
        <p:spPr>
          <a:xfrm>
            <a:off x="4692600" y="2000160"/>
            <a:ext cx="44514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1258920" y="1483920"/>
            <a:ext cx="7424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Кровь движет потенциальная энергия сердечной мышцы , накопленная в стенках кровеносных сосудов. Систолическим объемом крови растягиваются эластические и мышечные элементы стенки, следовательно, накапливается запас энергии сердца, затраченный на ее растяжение.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900000" y="4005000"/>
            <a:ext cx="764064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rbel"/>
              </a:rPr>
              <a:t>Таким образом , единственный двигатель крови в артериях, как во время систолы, так и во время диастолы, - сердце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71" name="Picture 6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756144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 txBox="1"/>
          <p:nvPr/>
        </p:nvSpPr>
        <p:spPr>
          <a:xfrm>
            <a:off x="0" y="476280"/>
            <a:ext cx="3635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rbel"/>
              </a:rPr>
              <a:t>Двигатель крови в капиллярах – сердце. Движение крови в венах также производится остаточной силой сердца и облегчается следующими дополнительными факторами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73" name="Picture 6" descr=""/>
          <p:cNvPicPr/>
          <p:nvPr/>
        </p:nvPicPr>
        <p:blipFill>
          <a:blip r:embed="rId1"/>
          <a:stretch/>
        </p:blipFill>
        <p:spPr>
          <a:xfrm>
            <a:off x="4229280" y="765000"/>
            <a:ext cx="4663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785880" y="5716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orbel"/>
              </a:rPr>
              <a:t>Присасывающим действием грудной полости, в которой имеется отрицательное давление.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928800" y="2500200"/>
            <a:ext cx="77724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rbel"/>
              </a:rPr>
              <a:t>Разностью давлений в брюшной и грудной полостях. В брюшной полости, в которой расположены многочисленные кровеносные сосуды, давление выше атмосферного, что благоприятствует току крови к сердцу, находящемуся в грудной полости, в которой давление ниже атмосферног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971280" y="620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Сокращениями скелетной мускулатуры и мышечной стенки кишок, проталкивающими кровь по направлению к сердцу в тонкостенных венах, расположенных в мышцах. Обратный ток крови в венах невозможен благодаря находящимся в них клапана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1071720" y="4786200"/>
            <a:ext cx="7772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В небольшой степени также присасывающим действием самого сердца во время диасто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Кровяное давле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2500" spc="-1" strike="noStrike">
                <a:solidFill>
                  <a:srgbClr val="ffffff"/>
                </a:solidFill>
                <a:latin typeface="Corbel"/>
              </a:rPr>
              <a:t>Кровяное давление – давление,    которое кровь, оказывает на стенки кровеносных сосудов, или, по другому говоря, превышение давления жидкости в кровеносной системе над атмосферным. Наиболее часто измеряют артериальное давление; кроме него, выделяют следующие виды кровяного давления: внутрисердечное, венозное</a:t>
            </a: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Rectangle 2" descr=""/>
          <p:cNvPicPr/>
          <p:nvPr/>
        </p:nvPicPr>
        <p:blipFill>
          <a:blip r:embed="rId1"/>
          <a:stretch/>
        </p:blipFill>
        <p:spPr>
          <a:xfrm>
            <a:off x="639720" y="500040"/>
            <a:ext cx="7772400" cy="211464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928800" y="24285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учить вопросы, связанные с давлением человека,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знать какие факторы влияют на показания артериального давления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пагандировать эти знания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Артериальное давле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Артериальное давление – один из важнейших параметров, характеризующих работу кровеносной системы. Давление крови определяется объемом крови, перекачиваемым в единицу времени сердцем и сопротивлением сосудистого русла.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1690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1eeff"/>
                </a:solidFill>
                <a:latin typeface="Consolas"/>
              </a:rPr>
              <a:t>Зависимость артериального давления от эмоциональных и физических нагрузок, а также от атмосферного давления</a:t>
            </a:r>
            <a:br>
              <a:rPr sz="2900"/>
            </a:b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1332000" y="3500280"/>
          <a:ext cx="6408720" cy="2494080"/>
        </p:xfrm>
        <a:graphic>
          <a:graphicData uri="http://schemas.openxmlformats.org/drawingml/2006/table">
            <a:tbl>
              <a:tblPr/>
              <a:tblGrid>
                <a:gridCol w="2160360"/>
                <a:gridCol w="1295640"/>
                <a:gridCol w="1189080"/>
                <a:gridCol w="1763640"/>
              </a:tblGrid>
              <a:tr h="64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озра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о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сле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ина О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тяркина В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амицкая Н.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цина Е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мова В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884" name="TextBox 3"/>
          <p:cNvSpPr/>
          <p:nvPr/>
        </p:nvSpPr>
        <p:spPr>
          <a:xfrm>
            <a:off x="1258920" y="234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ное давл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68 м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т. стол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77" descr=""/>
          <p:cNvPicPr/>
          <p:nvPr/>
        </p:nvPicPr>
        <p:blipFill>
          <a:blip r:embed="rId1"/>
          <a:stretch/>
        </p:blipFill>
        <p:spPr>
          <a:xfrm>
            <a:off x="2286000" y="785880"/>
            <a:ext cx="5870520" cy="5827680"/>
          </a:xfrm>
          <a:prstGeom prst="rect">
            <a:avLst/>
          </a:prstGeom>
          <a:ln w="0">
            <a:noFill/>
          </a:ln>
        </p:spPr>
      </p:pic>
      <p:sp>
        <p:nvSpPr>
          <p:cNvPr id="886" name="TextBox 6"/>
          <p:cNvSpPr/>
          <p:nvPr/>
        </p:nvSpPr>
        <p:spPr>
          <a:xfrm>
            <a:off x="2643120" y="285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ИЗМЕРЕНИЙ В МАЕ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Таблица измерений в октябре 2011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888" name="Picture 3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584028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10" descr=""/>
          <p:cNvPicPr/>
          <p:nvPr/>
        </p:nvPicPr>
        <p:blipFill>
          <a:blip r:embed="rId1"/>
          <a:stretch/>
        </p:blipFill>
        <p:spPr>
          <a:xfrm>
            <a:off x="0" y="3664080"/>
            <a:ext cx="4809960" cy="292104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1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876760"/>
          </a:xfrm>
          <a:prstGeom prst="rect">
            <a:avLst/>
          </a:prstGeom>
          <a:ln w="0">
            <a:noFill/>
          </a:ln>
        </p:spPr>
      </p:pic>
      <p:grpSp>
        <p:nvGrpSpPr>
          <p:cNvPr id="891" name="Group 1341"/>
          <p:cNvGrpSpPr/>
          <p:nvPr/>
        </p:nvGrpSpPr>
        <p:grpSpPr>
          <a:xfrm>
            <a:off x="714240" y="357120"/>
            <a:ext cx="4392720" cy="3021120"/>
            <a:chOff x="714240" y="357120"/>
            <a:chExt cx="4392720" cy="3021120"/>
          </a:xfrm>
        </p:grpSpPr>
        <p:sp>
          <p:nvSpPr>
            <p:cNvPr id="892" name="Rectangle 1342"/>
            <p:cNvSpPr/>
            <p:nvPr/>
          </p:nvSpPr>
          <p:spPr>
            <a:xfrm>
              <a:off x="714240" y="714240"/>
              <a:ext cx="4392720" cy="2664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343"/>
            <p:cNvSpPr/>
            <p:nvPr/>
          </p:nvSpPr>
          <p:spPr>
            <a:xfrm>
              <a:off x="1928160" y="1213920"/>
              <a:ext cx="1841400" cy="199008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1344"/>
            <p:cNvSpPr/>
            <p:nvPr/>
          </p:nvSpPr>
          <p:spPr>
            <a:xfrm>
              <a:off x="999720" y="357120"/>
              <a:ext cx="309816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осле физической нагрузки и контрольной по математике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высилос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1345"/>
            <p:cNvSpPr/>
            <p:nvPr/>
          </p:nvSpPr>
          <p:spPr>
            <a:xfrm>
              <a:off x="2646720" y="1710000"/>
              <a:ext cx="565560" cy="35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16904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c1eeff"/>
                </a:solidFill>
                <a:uFillTx/>
                <a:latin typeface="Consolas"/>
              </a:rPr>
              <a:t>Вывод.</a:t>
            </a:r>
            <a:br>
              <a:rPr sz="3200"/>
            </a:b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2520" y="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4"/>
          <p:cNvSpPr/>
          <p:nvPr/>
        </p:nvSpPr>
        <p:spPr>
          <a:xfrm>
            <a:off x="1071720" y="1143000"/>
            <a:ext cx="7000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я исследование по измерению артериального давления, я пришла к выводу, что на артериальное давление влия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Любые эмоциональные нагрузки,  в том числе стрессы, которые испытывают ученики на уроках и учителя от уро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Занятия физической культурой, и любые другие физические нагруз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Внешнее атмосфер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 курящего ученика давление в течение дня пад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оугольник 5"/>
          <p:cNvSpPr/>
          <p:nvPr/>
        </p:nvSpPr>
        <p:spPr>
          <a:xfrm>
            <a:off x="1143000" y="521496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яя артериальное давление можно предположить будущее состояние сердечнососудистой системы и таким образом изменить свое здоровье в сторону улучшения, то есть вести здоровый образ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eeff"/>
                </a:solidFill>
                <a:latin typeface="Consolas"/>
              </a:rPr>
              <a:t>Основные задачи: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бъяснить артериальное давление с точки зрения физических процессов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писать общие принципы работы сердечно-сосудистой системы человек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ассказать о том, что такое артериальное давление, как оно формируется и от чего зависит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учиться правильно, измерять артериальное давление тонометром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вести диагностику исследования зависимости артериального давления от некоторых факторов, влияющих на его изменени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eeff"/>
                </a:solidFill>
                <a:latin typeface="Consolas"/>
              </a:rPr>
              <a:t>Методы исследования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нализ литерату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мерение артериального давления у испытуемых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Объект исследования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3456000" y="3686040"/>
            <a:ext cx="568800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Учащиеся 8 «Б» класса и учителя     МОУ ООШ №2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642960" y="2000160"/>
            <a:ext cx="7850160" cy="338472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Артериальное давление зависит от эмоционально-психологического состояния учащихся,  физической и умственной нагрузок и от метеорологических условий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54" name="Заголовок 4" descr=""/>
          <p:cNvPicPr/>
          <p:nvPr/>
        </p:nvPicPr>
        <p:blipFill>
          <a:blip r:embed="rId1"/>
          <a:stretch/>
        </p:blipFill>
        <p:spPr>
          <a:xfrm>
            <a:off x="560520" y="536400"/>
            <a:ext cx="799776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Заголовок 1" descr=""/>
          <p:cNvPicPr/>
          <p:nvPr/>
        </p:nvPicPr>
        <p:blipFill>
          <a:blip r:embed="rId1"/>
          <a:stretch/>
        </p:blipFill>
        <p:spPr>
          <a:xfrm>
            <a:off x="603360" y="371520"/>
            <a:ext cx="8169120" cy="1116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611280" y="2708280"/>
            <a:ext cx="8229600" cy="28274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ведя исследование по измерению артериального давления, я пришла к выводу, что на артериальное давление влияют умственные ,эмоциональные и физические нагрузки, а также метеорологические условия. Измеряя артериальное давление можно предположить будущее состояние сердечнососудистой системы и таким образом изменить свое здоровье в сторону улучшения, то есть вести здоровый образ жизни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 txBox="1"/>
          <p:nvPr/>
        </p:nvSpPr>
        <p:spPr>
          <a:xfrm>
            <a:off x="179280" y="836280"/>
            <a:ext cx="8856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иступая к созданию научной работы, я узнала из статьи газеты  «Комсомольская правда», что медики бьют тревогу о состоянии россиян , которое ухудшается с каждым годом. Причём сегодня эта проблема касается, увы, не только пожилых, но и совсем молодых людей и детей. Высокие учебные нагрузки в школе, физические нагрузки, стрессовое состояние все это влияет на давление школьников  и может привести к тяжелым последствиям.  В научной работе я хочу  поделиться результатами исследований, связанных с артериальным давлением  человека. Как сделать так, чтобы моё здоровье, здоровье моих одноклассников, учителей  и родителей длительное время не нуждалось в медицинском лечении .  В своей работе я решила проверить артериальное давление у учеников своего класса и учителей моей школы и выяснить факторы которые влияют на артериальное давление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250560" y="765000"/>
            <a:ext cx="469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то же время принципы сердечно-сосудистой системы чрезвычайно просты: сердце выполняет функцию насоса, перекачивающего кровь, а кровеносные сосуды – роль трубопровод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60" name="Picture 7" descr=""/>
          <p:cNvPicPr/>
          <p:nvPr/>
        </p:nvPicPr>
        <p:blipFill>
          <a:blip r:embed="rId1"/>
          <a:stretch/>
        </p:blipFill>
        <p:spPr>
          <a:xfrm>
            <a:off x="4940280" y="620640"/>
            <a:ext cx="3943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7:15:39Z</dcterms:created>
  <dc:creator>Admin</dc:creator>
  <dc:description/>
  <dc:language>en-US</dc:language>
  <cp:lastModifiedBy>Андрей</cp:lastModifiedBy>
  <dcterms:modified xsi:type="dcterms:W3CDTF">2011-10-18T15:06:43Z</dcterms:modified>
  <cp:revision>43</cp:revision>
  <dc:subject/>
  <dc:title>Артериальное давление</dc:title>
</cp:coreProperties>
</file>