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26A3A-CA8A-4171-BBC5-0B9E54E6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8362D-5B9B-43CF-B2EB-AB8A6238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0BFFF-5DBF-4A46-AFB8-56877DDA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78D34-951B-43F8-A050-43F85BF4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901E3-2ABC-4BA2-9681-485A51E3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9D7CD-7243-4B65-9246-43ED98E3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F7F21-525A-46B3-9659-F0D4E45F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DDEEC-7D21-4C60-9767-079D698F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156E3-0691-4BE8-AB6A-2F5B8926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A0B90-2189-44CE-9138-7F6B8F3E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F761F-C8E3-4222-AB3C-3C72B2EB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4ABB3-DA03-4DB4-BD04-EB776D09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AC84E-8EFF-405F-B208-6B9000DF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957DE-9A77-4F32-B1C9-482E3EA2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A14D2-8599-4C38-8981-78C3EF6B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66B21-F550-44EC-BEC9-DD56E77F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54587-9669-448D-98E0-F20B816B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EF6E1-1260-465A-BCA4-E5BE229D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17A71-AC69-46B9-8B6F-992B6E40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13A51-51E1-4063-B417-3786B050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80220-E3F3-442D-82C3-9B02479F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9C3C4-4153-4300-A9C3-D63CB37BB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8673C-62CB-4016-BA5E-232B6F4E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17877-E4E0-40AE-820B-81914952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38388-917E-41B4-A741-C21CA6BB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72C66-012F-4DDF-B7A8-4CEA0E12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CD1DD-B52C-427F-A5CC-27B30C20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D9E04-D8D7-4FA2-87D8-8ECF09C7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E18DB-32A1-4304-A6C2-82AE3240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6A005-7CE3-4377-8BBF-805D90FD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738B6-784C-4FCE-A094-0F60994D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8F019-CF90-4C28-A516-DB370270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0A359-AA11-4EF1-B941-A3259A10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81433-8F2F-4640-B6B5-C77BDA1E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B6FF8-3BCE-4EF5-8195-36CAB882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3C4A2-07D0-4BAD-8BD3-2A7B26B9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48097-126D-4539-929F-2AD0265D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B77C2-D326-4F79-9907-8D9A43F8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6FF93-4FFC-4C70-9C24-87FF4F3C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D9A03-81EA-4C87-9FAA-42B975E6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F847E-4D6F-4D78-BE6A-F0C0F54C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1FCB7-ADE0-404C-9268-62B195B3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FC4BB-9880-4A6C-AA61-79F821B0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852A1-7B4C-4CD4-B4F8-380D4697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37DA9-B636-4B08-9F39-491658D5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86B2E-F225-4AC4-AB03-9E483BC5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DB29B-6A16-4408-B734-25ADE116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C1B4F-8CCF-4E74-BCB7-139A3423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EFE99-C901-47FF-8EB4-2FD76FDE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DC40B-3348-4B0E-921B-D9351EEF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11CC3-CFDC-4E6A-8B3E-1BB4D270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F7F94-C516-4ED3-982C-CD9FBC84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C4F33-C130-44BC-AA21-96D32AF0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552BF-C0D6-4CDE-9432-BA44043D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D336A-38CC-4A71-9BC4-ADFD92CD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1C53C-38F9-4212-8CF3-62158F0F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BFCE0-33CC-4C4D-91D5-29DE8ABA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14965-5B4C-4274-AA38-2635DB71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2C8EC-0A33-4192-B455-E832F10C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6B92A-85D5-4003-AECD-95EC1E12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90D84-4F8C-4476-A429-9C657471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15955-3DA8-4141-95D3-35FD6AE9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9C895-3F8E-4888-A717-A1A82D5A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1E189-810E-4A0B-B609-7C4130F0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7879D-3CD2-4E4D-9981-DBAED9F3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0B187-0753-40BE-9C1B-BF385585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9FFF7-1366-47D7-8164-DE52EF9F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0E172-353A-4873-B22D-461C64DE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D8858-0071-4CA5-A1A9-E8ED89D4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33477-57D5-4A4F-80BC-B6B2D379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4B575-45B3-4EEF-9574-48AE4A0B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9ADE5-B547-4505-815D-DF3C9DEB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450C0-0DB9-4A43-A06E-BDB2941F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D98C9-28B6-473C-A522-F700DAD9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116CA-523B-4D11-A8D8-DD317337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89C62-94DF-4D9A-830F-A860E5A3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0BB20-7B8C-4707-88B1-9506B02C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D9322-7DB9-401F-BDE1-567E6297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C3D61-97CD-48E9-BBAC-6872A3A8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FB5A6-8C65-4CC1-8878-C470E6D2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15095-309E-4DDB-B3BC-7C23976B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6D44B0-3D67-4E47-A8B5-4C95A845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2FEE9-A567-459C-8AB1-D2EF1C5B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2AAD2-F8F6-4FFE-B4FE-73C93BAF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C0EE0-1E85-489B-8E72-24D9FE01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339A4-7D4D-4315-AA26-1340AFD5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0C954-1371-4F0C-9358-B6F16DB5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C7FF4-D78E-4E12-B304-2239A4DB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C83EE5-707C-4677-BF86-506EF8BA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CA6E4B-3F0E-4327-90B8-E412A276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295EFC-A983-42A1-971F-39BF55FA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2DEEF-B0B4-4C14-9E8F-5B86BB67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8954A3-4B93-4F3E-90BD-47A8D79C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7AF4B-D600-4CA3-A816-B3E1D82A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A0CB1-B5C8-4DF1-A10E-0AB7CA96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5CFC85-6CCF-4C61-8526-93343C99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8DBA7-CD50-4DF4-8910-F4E41B3E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F7FCD4-5EE0-4689-9165-9CEAB0CE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D8014-1FA7-4A8F-A35F-21EEC5F5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65BC54-3642-4E36-A869-A6039FB2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F35B61-988D-4ABA-B100-A6D80F8E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3C713-BC0E-48A6-BA08-A1A5D286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493D8-F4E0-4772-A0E3-628E7453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B183A-5216-47F8-93F8-3CEF9F6C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D1BA6-ECD5-4775-9F00-BC14D329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B68-FA04-43E0-B8C9-A3D2B716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F8E-80AD-4852-83F6-532EB680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D54-8F53-425C-B028-8DB5E9EE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7D3-BF57-4B57-9DDE-FD3D0DE1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CB2-F09A-445A-9431-4AE50E6D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6C4-2F00-4BED-A067-4E3CE701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BF2-4B0D-4737-8FB1-53101AED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3B7-A3E4-419F-B0D0-86C78DA4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174-4EC7-4FAB-B0FF-14DF3330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EB5-AC84-43E4-85FE-6C1667E8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14C-CBF0-47AA-9FDE-669DD909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AC0-DDA6-4E91-9369-6541AFF1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B824-2D21-4CF4-B228-D2824C2A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86CD-16FC-429C-B12E-9732CCBD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037A-A679-4AE7-AA22-76ABB601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F3F3-E905-4374-B6D6-8363FC6F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B068-7301-4AD3-BFBC-DD5BCDB2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5EE6-BC92-443F-9C81-53D364FA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B6F2-DB95-43B1-8333-4D928ABC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A91B-0155-4A0D-8B36-B3F725BD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A2FC-8D4D-4931-BD1B-E8C275BB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D419-0C64-430A-8AB1-69DDEBFC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1982-F43E-4BAD-98C9-F9CF6D85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B045-2F37-480A-A5A9-3B5DCAE2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3CC0A-F75E-4911-8500-A7BCD651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85E2F-88E1-4959-9454-1060F0E6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DAC3B-BA8D-4144-855D-ABF35D33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4F62-BCE4-46CE-A784-4E9ACBC8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88EBA-C1A1-4DB2-9673-3A5CEDB0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81A3-12B9-4EB8-90BB-850034C0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C2226-E3E9-4D5B-BBAB-DBD59272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AB994-3C48-44E8-BC2E-A2E44EBF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ECE53-90EA-477E-88BC-F6F3261F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FBFB-7858-469D-BDE7-39A7413C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011A-E5F4-456E-81CB-1B35F6DD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7EB20-0C08-493C-BC9B-2437D3C2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ED557-6349-4C9F-BA70-2DAD4101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8EDE5-335C-46D8-9C46-08F6B814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E9940-A3C4-4EB3-A8A8-2ED0AC3F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295A5-C929-459A-A4CD-2B08A76D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0D5DB-5DC6-4D8B-B04C-B3E2D897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D0CD4-A664-40EE-8061-168B5B40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19DDD-694D-43B9-ABEB-A487B70A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74760-CA75-4266-A63C-7D99475C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17DC4-0D4A-48EE-87A6-B42B9CAB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06E3C-1798-45AE-9768-DCD262D3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9C0FF-F51F-4B47-B744-EDB6415D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60338-242A-4904-B620-B8448A03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75F31-EC88-4700-86D3-08A9EDB9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D4E5A-2CA6-4711-B47F-59129556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93C20-D892-4CBF-BBDA-7D6FE66A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25155-EA86-4EFA-9BDD-EDD56A4B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8DF15-4114-4364-A70F-EF805500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54FE4-DA6D-4616-97A9-0B8784D2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648B2-338B-4C00-AE6A-9A9AF0D5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84E74-83CB-48D3-BC6F-4705FB44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A5EBA-7D38-49DB-BB73-0D6BCD1A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BAAAF-A573-4B0C-8BAD-508FF59D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FABEB-A4B4-4FE6-987F-88DE6B9B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DBB16-5169-4B15-8B77-59F999E3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A9048-0997-4FE7-843F-8C64DD8D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4DCA2-7133-4E5B-AB68-81EDD187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E4AC5-8B3B-4F06-A307-E9B552AA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36DFC-775E-4AE1-9CE6-411C71B0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472C0-E0E1-4FC7-AD7B-673C5C1C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568CA-C3B2-4D62-8A85-76029B24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37C95-0928-4856-B120-B272615A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0A979-E117-4ACD-BCDD-92FA3B2D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35909-CAE4-44F8-8A91-F63F58A6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04996-39CC-41C1-B3AF-6B109BA7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D4A99-8FAF-41C2-82EF-AAF8F9E3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88CBC-566D-4300-9790-F8F12012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763CC-FBF3-435F-856E-63A05C17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D2128-7F6A-499E-9652-4F68EA9B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4E613-1F77-4B0B-AC01-44FCB357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D530-401A-47CC-B5AD-A16952BF59A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2D83-4790-4F03-AF0B-7BF0EDE332E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542" name="Прямая соединительная линия 20"/>
            <p:cNvSpPr/>
            <p:nvPr/>
          </p:nvSpPr>
          <p:spPr>
            <a:xfrm>
              <a:off x="8578800" y="121752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Прямая соединительная линия 23"/>
            <p:cNvSpPr/>
            <p:nvPr/>
          </p:nvSpPr>
          <p:spPr>
            <a:xfrm>
              <a:off x="8516880" y="12826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Прямая соединительная линия 24"/>
            <p:cNvSpPr/>
            <p:nvPr/>
          </p:nvSpPr>
          <p:spPr>
            <a:xfrm flipV="1">
              <a:off x="8578800" y="128232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546" name="Прямая соединительная линия 26"/>
            <p:cNvSpPr/>
            <p:nvPr/>
          </p:nvSpPr>
          <p:spPr>
            <a:xfrm>
              <a:off x="8731800" y="137016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Прямая соединительная линия 27"/>
            <p:cNvSpPr/>
            <p:nvPr/>
          </p:nvSpPr>
          <p:spPr>
            <a:xfrm>
              <a:off x="8669160" y="1435320"/>
              <a:ext cx="94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Прямая соединительная линия 28"/>
            <p:cNvSpPr/>
            <p:nvPr/>
          </p:nvSpPr>
          <p:spPr>
            <a:xfrm flipV="1">
              <a:off x="8731800" y="143496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550" name="Прямая соединительная линия 30"/>
            <p:cNvSpPr/>
            <p:nvPr/>
          </p:nvSpPr>
          <p:spPr>
            <a:xfrm>
              <a:off x="8383680" y="147312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Прямая соединительная линия 31"/>
            <p:cNvSpPr/>
            <p:nvPr/>
          </p:nvSpPr>
          <p:spPr>
            <a:xfrm>
              <a:off x="8321760" y="15382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Прямая соединительная линия 32"/>
            <p:cNvSpPr/>
            <p:nvPr/>
          </p:nvSpPr>
          <p:spPr>
            <a:xfrm flipV="1">
              <a:off x="8383680" y="153792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E54E-C7EB-4937-93A4-1DA8D313439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C2EC-4343-4B02-9A88-E67D93FC33E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59F5-4862-4442-8EF0-0B036FFE881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3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3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3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4F0F-CE47-45EA-834A-49F9BF897736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7132-8DC8-4BF6-BD9E-7C9218ED122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4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4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4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D10F-4A4D-43F0-94F6-49949D24E59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4773-EC5A-48BD-A5B3-7D4F2A143EC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A385-1F6A-45C1-A3C5-296700BDAB5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2878-3D2E-4652-89F3-56F70B8888F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E97C-9E13-4D95-9A8A-AA85D1F3981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3C68-D7B6-4C38-9C9E-B34D0668CFF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D61C-0668-48C2-84A6-8C4D5BEF63F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DA3F-676F-4B6E-863B-B2B0777C5EF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Rectangle 2" descr=""/>
          <p:cNvPicPr/>
          <p:nvPr/>
        </p:nvPicPr>
        <p:blipFill>
          <a:blip r:embed="rId1"/>
          <a:stretch/>
        </p:blipFill>
        <p:spPr>
          <a:xfrm>
            <a:off x="1030320" y="2084400"/>
            <a:ext cx="749124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ердечно-сосудистая система.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rbel"/>
              </a:rPr>
              <a:t>Сердце – это центральный насос нашего организма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rbel"/>
              </a:rPr>
              <a:t>Кровеносные сосуды – это пути, по которым протекает кровь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Артерии кровеносные сосуды, по которым протекает кровь с высоким содержанием кислорода. Самая большая артерия нашего организма - аорта.</a:t>
            </a:r>
            <a:r>
              <a:rPr b="1" i="1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корость циркуляции крови по артериям несколько метров в секунду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rbel"/>
              </a:rPr>
              <a:t>Вены – кровеносные сосуды, по которым протекает кровь с низким содержанием кислорода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orbel"/>
              </a:rPr>
              <a:t>Капилляры – мельчайшие кровеносные сосуды нашего организма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абота и мощность сердц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Работа производимая мускулатурой сердца, затрачивается на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о-первых на выбрасывание крови в аорту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о-вторых, на сообщение скорости выбрасываемой крови. При этом растягивается стенка кровеносных сосудов и часть энергии сокращения сердца переходит в потенциальную энергию, накапливаемую стенкой сосудов, а часть превращается в кинетическую энергию движущейся кров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Так как сердце при выбрасывании крови преодолевает сопротивление, равное величине кровяного давления. то можно считать, что сердце выбрасывает определенный объем крови на высоту кровяного давления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6737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Законы движения крови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23640" y="1413000"/>
            <a:ext cx="4608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orbel"/>
              </a:rPr>
              <a:t>Сердце нагнетает кровь в сосуды прерывисто, отдельными порциями. Однако течет она по сосудам непрерывным потоком, не останавливаясь в промежутках между сокращениями сердца.</a:t>
            </a:r>
            <a:r>
              <a:rPr b="0" lang="ru-RU" sz="25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68" name="Picture 5" descr=""/>
          <p:cNvPicPr/>
          <p:nvPr/>
        </p:nvPicPr>
        <p:blipFill>
          <a:blip r:embed="rId1"/>
          <a:stretch/>
        </p:blipFill>
        <p:spPr>
          <a:xfrm>
            <a:off x="4692600" y="2000160"/>
            <a:ext cx="44514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 txBox="1"/>
          <p:nvPr/>
        </p:nvSpPr>
        <p:spPr>
          <a:xfrm>
            <a:off x="1258920" y="1483920"/>
            <a:ext cx="7424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Кровь движет потенциальная энергия сердечной мышцы , накопленная в стенках кровеносных сосудов. Систолическим объемом крови растягиваются эластические и мышечные элементы стенки, следовательно, накапливается запас энергии сердца, затраченный на ее растяжение.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900000" y="4005000"/>
            <a:ext cx="764064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orbel"/>
              </a:rPr>
              <a:t>Таким образом , единственный двигатель крови в артериях, как во время систолы, так и во время диастолы, - сердце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71" name="Picture 6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756144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 txBox="1"/>
          <p:nvPr/>
        </p:nvSpPr>
        <p:spPr>
          <a:xfrm>
            <a:off x="0" y="476280"/>
            <a:ext cx="3635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orbel"/>
              </a:rPr>
              <a:t>Двигатель крови в капиллярах – сердце. Движение крови в венах также производится остаточной силой сердца и облегчается следующими дополнительными факторами: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73" name="Picture 6" descr=""/>
          <p:cNvPicPr/>
          <p:nvPr/>
        </p:nvPicPr>
        <p:blipFill>
          <a:blip r:embed="rId1"/>
          <a:stretch/>
        </p:blipFill>
        <p:spPr>
          <a:xfrm>
            <a:off x="4229280" y="765000"/>
            <a:ext cx="4663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785880" y="5716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orbel"/>
              </a:rPr>
              <a:t>Присасывающим действием грудной полости, в которой имеется отрицательное давление.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928800" y="2500200"/>
            <a:ext cx="77724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orbel"/>
              </a:rPr>
              <a:t>Разностью давлений в брюшной и грудной полостях. В брюшной полости, в которой расположены многочисленные кровеносные сосуды, давление выше атмосферного, что благоприятствует току крови к сердцу, находящемуся в грудной полости, в которой давление ниже атмосферного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971280" y="62064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Сокращениями скелетной мускулатуры и мышечной стенки кишок, проталкивающими кровь по направлению к сердцу в тонкостенных венах, расположенных в мышцах. Обратный ток крови в венах невозможен благодаря находящимся в них клапана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7" name="Rectangle 3"/>
          <p:cNvSpPr/>
          <p:nvPr/>
        </p:nvSpPr>
        <p:spPr>
          <a:xfrm>
            <a:off x="1071720" y="4786200"/>
            <a:ext cx="7772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В небольшой степени также присасывающим действием самого сердца во время диастол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Кровяное давле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ru-RU" sz="2500" spc="-1" strike="noStrike">
                <a:solidFill>
                  <a:srgbClr val="ffffff"/>
                </a:solidFill>
                <a:latin typeface="Corbel"/>
              </a:rPr>
              <a:t>Кровяное давление – давление,    которое кровь, оказывает на стенки кровеносных сосудов, или, по другому говоря, превышение давления жидкости в кровеносной системе над атмосферным. Наиболее часто измеряют артериальное давление; кроме него, выделяют следующие виды кровяного давления: внутрисердечное, венозное</a:t>
            </a:r>
            <a:r>
              <a:rPr b="0" lang="ru-RU" sz="25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Rectangle 2" descr=""/>
          <p:cNvPicPr/>
          <p:nvPr/>
        </p:nvPicPr>
        <p:blipFill>
          <a:blip r:embed="rId1"/>
          <a:stretch/>
        </p:blipFill>
        <p:spPr>
          <a:xfrm>
            <a:off x="639720" y="500040"/>
            <a:ext cx="7772400" cy="211464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928800" y="242856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учить вопросы, связанные с давлением человека,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знать какие факторы влияют на показания артериального давления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опагандировать эти знания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Артериальное давле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orbel"/>
              </a:rPr>
              <a:t>Артериальное давление – один из важнейших параметров, характеризующих работу кровеносной системы. Давление крови определяется объемом крови, перекачиваемым в единицу времени сердцем и сопротивлением сосудистого русла.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1690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1eeff"/>
                </a:solidFill>
                <a:latin typeface="Consolas"/>
              </a:rPr>
              <a:t>Зависимость артериального давления от эмоциональных и физических нагрузок, а также от атмосферного давления</a:t>
            </a:r>
            <a:br>
              <a:rPr sz="2900"/>
            </a:br>
            <a:endParaRPr b="0" lang="en-US" sz="29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883" name=""/>
          <p:cNvGraphicFramePr/>
          <p:nvPr/>
        </p:nvGraphicFramePr>
        <p:xfrm>
          <a:off x="1332000" y="3500280"/>
          <a:ext cx="6408720" cy="2494080"/>
        </p:xfrm>
        <a:graphic>
          <a:graphicData uri="http://schemas.openxmlformats.org/drawingml/2006/table">
            <a:tbl>
              <a:tblPr/>
              <a:tblGrid>
                <a:gridCol w="2160360"/>
                <a:gridCol w="1295640"/>
                <a:gridCol w="1189080"/>
                <a:gridCol w="1763640"/>
              </a:tblGrid>
              <a:tr h="64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Фами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И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озра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о ур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осле ур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ловина О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тяркина В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Хамицкая Н.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Бецина Е.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мова В.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884" name="TextBox 3"/>
          <p:cNvSpPr/>
          <p:nvPr/>
        </p:nvSpPr>
        <p:spPr>
          <a:xfrm>
            <a:off x="1258920" y="234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мосферное давл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68 м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т. стол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77" descr=""/>
          <p:cNvPicPr/>
          <p:nvPr/>
        </p:nvPicPr>
        <p:blipFill>
          <a:blip r:embed="rId1"/>
          <a:stretch/>
        </p:blipFill>
        <p:spPr>
          <a:xfrm>
            <a:off x="2286000" y="785880"/>
            <a:ext cx="5870520" cy="5827680"/>
          </a:xfrm>
          <a:prstGeom prst="rect">
            <a:avLst/>
          </a:prstGeom>
          <a:ln w="0">
            <a:noFill/>
          </a:ln>
        </p:spPr>
      </p:pic>
      <p:sp>
        <p:nvSpPr>
          <p:cNvPr id="886" name="TextBox 6"/>
          <p:cNvSpPr/>
          <p:nvPr/>
        </p:nvSpPr>
        <p:spPr>
          <a:xfrm>
            <a:off x="2643120" y="2858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А ИЗМЕРЕНИЙ В МАЕ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Таблица измерений в октябре 2011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888" name="Picture 3" descr=""/>
          <p:cNvPicPr/>
          <p:nvPr/>
        </p:nvPicPr>
        <p:blipFill>
          <a:blip r:embed="rId1"/>
          <a:stretch/>
        </p:blipFill>
        <p:spPr>
          <a:xfrm>
            <a:off x="2143080" y="1214280"/>
            <a:ext cx="584028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10" descr=""/>
          <p:cNvPicPr/>
          <p:nvPr/>
        </p:nvPicPr>
        <p:blipFill>
          <a:blip r:embed="rId1"/>
          <a:stretch/>
        </p:blipFill>
        <p:spPr>
          <a:xfrm>
            <a:off x="0" y="3664080"/>
            <a:ext cx="4809960" cy="292104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11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716360" cy="2876760"/>
          </a:xfrm>
          <a:prstGeom prst="rect">
            <a:avLst/>
          </a:prstGeom>
          <a:ln w="0">
            <a:noFill/>
          </a:ln>
        </p:spPr>
      </p:pic>
      <p:grpSp>
        <p:nvGrpSpPr>
          <p:cNvPr id="891" name="Group 1341"/>
          <p:cNvGrpSpPr/>
          <p:nvPr/>
        </p:nvGrpSpPr>
        <p:grpSpPr>
          <a:xfrm>
            <a:off x="714240" y="357120"/>
            <a:ext cx="4392720" cy="3021120"/>
            <a:chOff x="714240" y="357120"/>
            <a:chExt cx="4392720" cy="3021120"/>
          </a:xfrm>
        </p:grpSpPr>
        <p:sp>
          <p:nvSpPr>
            <p:cNvPr id="892" name="Rectangle 1342"/>
            <p:cNvSpPr/>
            <p:nvPr/>
          </p:nvSpPr>
          <p:spPr>
            <a:xfrm>
              <a:off x="714240" y="714240"/>
              <a:ext cx="4392720" cy="26640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343"/>
            <p:cNvSpPr/>
            <p:nvPr/>
          </p:nvSpPr>
          <p:spPr>
            <a:xfrm>
              <a:off x="1928160" y="1213920"/>
              <a:ext cx="1841400" cy="1990080"/>
            </a:xfrm>
            <a:prstGeom prst="ellipse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Text Box 1344"/>
            <p:cNvSpPr/>
            <p:nvPr/>
          </p:nvSpPr>
          <p:spPr>
            <a:xfrm>
              <a:off x="999720" y="357120"/>
              <a:ext cx="309816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</a:rPr>
                <a:t>После физической нагрузки и контрольной по математике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высилос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Text Box 1345"/>
            <p:cNvSpPr/>
            <p:nvPr/>
          </p:nvSpPr>
          <p:spPr>
            <a:xfrm>
              <a:off x="2646720" y="1710000"/>
              <a:ext cx="565560" cy="35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16904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c1eeff"/>
                </a:solidFill>
                <a:uFillTx/>
                <a:latin typeface="Consolas"/>
              </a:rPr>
              <a:t>Вывод.</a:t>
            </a:r>
            <a:br>
              <a:rPr sz="3200"/>
            </a:b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7" name="Rectangle 4"/>
          <p:cNvSpPr/>
          <p:nvPr/>
        </p:nvSpPr>
        <p:spPr>
          <a:xfrm>
            <a:off x="2520" y="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Прямоугольник 4"/>
          <p:cNvSpPr/>
          <p:nvPr/>
        </p:nvSpPr>
        <p:spPr>
          <a:xfrm>
            <a:off x="1071720" y="1143000"/>
            <a:ext cx="7000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я исследование по измерению артериального давления, я пришла к выводу, что на артериальное давление влия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Любые эмоциональные нагрузки,  в том числе стрессы, которые испытывают ученики на уроках и учителя от уро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Занятия физической культурой, и любые другие физические нагруз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Внешнее атмосферное дав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У курящего ученика давление в течение дня пад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Прямоугольник 5"/>
          <p:cNvSpPr/>
          <p:nvPr/>
        </p:nvSpPr>
        <p:spPr>
          <a:xfrm>
            <a:off x="1143000" y="521496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яя артериальное давление можно предположить будущее состояние сердечнососудистой системы и таким образом изменить свое здоровье в сторону улучшения, то есть вести здоровый образ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eeff"/>
                </a:solidFill>
                <a:latin typeface="Consolas"/>
              </a:rPr>
              <a:t>Основные задачи: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бъяснить артериальное давление с точки зрения физических процессов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Описать общие принципы работы сердечно-сосудистой системы человек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Рассказать о том, что такое артериальное давление, как оно формируется и от чего зависит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Научиться правильно, измерять артериальное давление тонометром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овести диагностику исследования зависимости артериального давления от некоторых факторов, влияющих на его изменени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1eeff"/>
                </a:solidFill>
                <a:latin typeface="Consolas"/>
              </a:rPr>
              <a:t>Методы исследования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нализ литерату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мерение артериального давления у испытуемых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Consolas"/>
              </a:rPr>
              <a:t>Объект исследования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3456000" y="3686040"/>
            <a:ext cx="568800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Учащиеся 8 «Б» класса и учителя     МОУ ООШ №2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642960" y="2000160"/>
            <a:ext cx="7850160" cy="338472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Артериальное давление зависит от эмоционально-психологического состояния учащихся,  физической и умственной нагрузок и от метеорологических условий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54" name="Заголовок 4" descr=""/>
          <p:cNvPicPr/>
          <p:nvPr/>
        </p:nvPicPr>
        <p:blipFill>
          <a:blip r:embed="rId1"/>
          <a:stretch/>
        </p:blipFill>
        <p:spPr>
          <a:xfrm>
            <a:off x="560520" y="536400"/>
            <a:ext cx="799776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Заголовок 1" descr=""/>
          <p:cNvPicPr/>
          <p:nvPr/>
        </p:nvPicPr>
        <p:blipFill>
          <a:blip r:embed="rId1"/>
          <a:stretch/>
        </p:blipFill>
        <p:spPr>
          <a:xfrm>
            <a:off x="603360" y="371520"/>
            <a:ext cx="8169120" cy="1116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611280" y="2708280"/>
            <a:ext cx="8229600" cy="28274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оведя исследование по измерению артериального давления, я пришла к выводу, что на артериальное давление влияют умственные ,эмоциональные и физические нагрузки, а также метеорологические условия. Измеряя артериальное давление можно предположить будущее состояние сердечнососудистой системы и таким образом изменить свое здоровье в сторону улучшения, то есть вести здоровый образ жизни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 txBox="1"/>
          <p:nvPr/>
        </p:nvSpPr>
        <p:spPr>
          <a:xfrm>
            <a:off x="179280" y="836280"/>
            <a:ext cx="8856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риступая к созданию научной работы, я узнала из статьи газеты  «Комсомольская правда», что медики бьют тревогу о состоянии россиян , которое ухудшается с каждым годом. Причём сегодня эта проблема касается, увы, не только пожилых, но и совсем молодых людей и детей. Высокие учебные нагрузки в школе, физические нагрузки, стрессовое состояние все это влияет на давление школьников  и может привести к тяжелым последствиям.  В научной работе я хочу  поделиться результатами исследований, связанных с артериальным давлением  человека. Как сделать так, чтобы моё здоровье, здоровье моих одноклассников, учителей  и родителей длительное время не нуждалось в медицинском лечении .  В своей работе я решила проверить артериальное давление у учеников своего класса и учителей моей школы и выяснить факторы которые влияют на артериальное давление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250560" y="765000"/>
            <a:ext cx="469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 то же время принципы сердечно-сосудистой системы чрезвычайно просты: сердце выполняет функцию насоса, перекачивающего кровь, а кровеносные сосуды – роль трубопроводо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65624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60" name="Picture 7" descr=""/>
          <p:cNvPicPr/>
          <p:nvPr/>
        </p:nvPicPr>
        <p:blipFill>
          <a:blip r:embed="rId1"/>
          <a:stretch/>
        </p:blipFill>
        <p:spPr>
          <a:xfrm>
            <a:off x="4940280" y="620640"/>
            <a:ext cx="3943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7:15:39Z</dcterms:created>
  <dc:creator>Admin</dc:creator>
  <dc:description/>
  <dc:language>en-US</dc:language>
  <cp:lastModifiedBy>Андрей</cp:lastModifiedBy>
  <dcterms:modified xsi:type="dcterms:W3CDTF">2011-10-18T15:06:43Z</dcterms:modified>
  <cp:revision>43</cp:revision>
  <dc:subject/>
  <dc:title>Артериальное давление</dc:title>
</cp:coreProperties>
</file>