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5D9-85F6-474B-BECB-B60DCBCD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C18-DA9A-475F-ADED-948EAA38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491-C53D-40E5-81A6-D000B2A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70E-87C3-433C-AAE9-4D7D384D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FBA-C5C8-4BB5-85C2-4DA7A063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15A-09A0-41B0-B586-957AAB04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EFC-F5A6-4A7B-9F1F-0AC1B93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DFB-F9A5-4A21-9524-A863B4F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644-C1AF-4348-8D92-FC1A88B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5F1-66A4-4B92-B853-32975B1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F86-723B-4D77-9EBC-AE96E72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0B8-5B0B-4AE9-AD22-5547C690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0B48-8045-46D8-85DE-BEF003650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рафическое моделирование в учебно- воспитательном проце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680" y="4357800"/>
            <a:ext cx="4829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Из опыта работы классного руководителя лицея №1 Цопиной Л. 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класс.jpg"/>
          <p:cNvPicPr/>
          <p:nvPr/>
        </p:nvPicPr>
        <p:blipFill>
          <a:blip r:embed="rId1"/>
          <a:stretch/>
        </p:blipFill>
        <p:spPr>
          <a:xfrm>
            <a:off x="279360" y="357120"/>
            <a:ext cx="81216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00120" y="714240"/>
          <a:ext cx="5572080" cy="5857920"/>
        </p:xfrm>
        <a:graphic>
          <a:graphicData uri="http://schemas.openxmlformats.org/drawingml/2006/table">
            <a:tbl>
              <a:tblPr/>
              <a:tblGrid>
                <a:gridCol w="2143080"/>
                <a:gridCol w="1608120"/>
                <a:gridCol w="1820880"/>
              </a:tblGrid>
              <a:tr h="2556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бакова Светл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акад пр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бичукАн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 унив статист и информат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ановаМар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акад пр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телевАлександ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ченкоМа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арн уни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ковЕвг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акад пр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 Кирил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экономич уни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ьНатал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Э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новаАл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енова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ГУ геолог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овИв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ероваОкс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Э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йчукОкс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арповаЕкате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харенко Вален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синИл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с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ый ин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никовПав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ькоЕкате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нАнт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аЮ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 коммерции и менеджме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шев Арте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ШЭ при президенте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500040" y="317880"/>
            <a:ext cx="70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Результаты поступления моего 11 г класса(социально- экономическ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00040" y="428760"/>
          <a:ext cx="3643200" cy="1857240"/>
        </p:xfrm>
        <a:graphic>
          <a:graphicData uri="http://schemas.openxmlformats.org/drawingml/2006/table">
            <a:tbl>
              <a:tblPr/>
              <a:tblGrid>
                <a:gridCol w="3036960"/>
                <a:gridCol w="60624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й проф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демия пр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3890880" cy="28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643280" y="428760"/>
          <a:ext cx="3857760" cy="1857240"/>
        </p:xfrm>
        <a:graphic>
          <a:graphicData uri="http://schemas.openxmlformats.org/drawingml/2006/table">
            <a:tbl>
              <a:tblPr/>
              <a:tblGrid>
                <a:gridCol w="2571840"/>
                <a:gridCol w="1285920"/>
              </a:tblGrid>
              <a:tr h="618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786200" y="2857680"/>
            <a:ext cx="3686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ом учебно- воспитательном процессе большое значение имеет правильный, компетентный подход к оценке успеваемости 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 регулярный мониторинг уровня успеваемости своих воспитанников, можно использовать графическое модел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AG00120_.GIF"/>
          <p:cNvPicPr/>
          <p:nvPr/>
        </p:nvPicPr>
        <p:blipFill>
          <a:blip r:embed="rId1"/>
          <a:stretch/>
        </p:blipFill>
        <p:spPr>
          <a:xfrm>
            <a:off x="3429000" y="5286240"/>
            <a:ext cx="18558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трелка вниз 13"/>
          <p:cNvSpPr/>
          <p:nvPr/>
        </p:nvSpPr>
        <p:spPr>
          <a:xfrm rot="18091200">
            <a:off x="5813280" y="5100480"/>
            <a:ext cx="357120" cy="6966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низ 14"/>
          <p:cNvSpPr/>
          <p:nvPr/>
        </p:nvSpPr>
        <p:spPr>
          <a:xfrm rot="2643600">
            <a:off x="2260080" y="5160600"/>
            <a:ext cx="357480" cy="76356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типовой процесс 3"/>
          <p:cNvSpPr/>
          <p:nvPr/>
        </p:nvSpPr>
        <p:spPr>
          <a:xfrm>
            <a:off x="2786040" y="1000080"/>
            <a:ext cx="3000240" cy="85716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онная работа классного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4"/>
          <p:cNvSpPr/>
          <p:nvPr/>
        </p:nvSpPr>
        <p:spPr>
          <a:xfrm>
            <a:off x="4071960" y="185724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типовой процесс 5"/>
          <p:cNvSpPr/>
          <p:nvPr/>
        </p:nvSpPr>
        <p:spPr>
          <a:xfrm>
            <a:off x="2786040" y="2286000"/>
            <a:ext cx="3000240" cy="85716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а учеб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типовой процесс 6"/>
          <p:cNvSpPr/>
          <p:nvPr/>
        </p:nvSpPr>
        <p:spPr>
          <a:xfrm>
            <a:off x="2714760" y="4786200"/>
            <a:ext cx="3000240" cy="85752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ведение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типовой процесс 7"/>
          <p:cNvSpPr/>
          <p:nvPr/>
        </p:nvSpPr>
        <p:spPr>
          <a:xfrm>
            <a:off x="2786040" y="3500280"/>
            <a:ext cx="3000240" cy="85752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ботка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8"/>
          <p:cNvSpPr/>
          <p:nvPr/>
        </p:nvSpPr>
        <p:spPr>
          <a:xfrm>
            <a:off x="4071960" y="31431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9"/>
          <p:cNvSpPr/>
          <p:nvPr/>
        </p:nvSpPr>
        <p:spPr>
          <a:xfrm>
            <a:off x="4071960" y="435780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агетная рамка 10"/>
          <p:cNvSpPr/>
          <p:nvPr/>
        </p:nvSpPr>
        <p:spPr>
          <a:xfrm>
            <a:off x="6286680" y="5214960"/>
            <a:ext cx="1928520" cy="7858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агетная рамка 11"/>
          <p:cNvSpPr/>
          <p:nvPr/>
        </p:nvSpPr>
        <p:spPr>
          <a:xfrm>
            <a:off x="214200" y="5214960"/>
            <a:ext cx="1928880" cy="7858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ласс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агетная рамка 12"/>
          <p:cNvSpPr/>
          <p:nvPr/>
        </p:nvSpPr>
        <p:spPr>
          <a:xfrm>
            <a:off x="3286080" y="5929200"/>
            <a:ext cx="2143080" cy="7858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дагогический 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5"/>
          <p:cNvSpPr/>
          <p:nvPr/>
        </p:nvSpPr>
        <p:spPr>
          <a:xfrm>
            <a:off x="4143240" y="5572080"/>
            <a:ext cx="357480" cy="428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6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3757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Таблица 3" descr=""/>
          <p:cNvPicPr/>
          <p:nvPr/>
        </p:nvPicPr>
        <p:blipFill>
          <a:blip r:embed="rId1"/>
          <a:stretch/>
        </p:blipFill>
        <p:spPr>
          <a:xfrm>
            <a:off x="785880" y="1852560"/>
            <a:ext cx="6858000" cy="2219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466920"/>
            <a:ext cx="8929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воей работе стремлюсь к улучшению качества знаний учащихся, считаю, что анализ своих успехов по любому предмету, а также п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графии и экономике им целесообразно проводить на основе графическ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дел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же способом легко провести диагностику и результатов своего тр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. Диагностика успеваемости и качества знаний ученицы 11 класса г 2005- 2006 года 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угодие Черновой Юл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57160" y="4148280"/>
            <a:ext cx="3703680" cy="270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5000760" y="4861440"/>
            <a:ext cx="36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ы: Хорошо- устные от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бые места – те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ий балл 3,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вёрд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4"/>
          <p:cNvSpPr/>
          <p:nvPr/>
        </p:nvSpPr>
        <p:spPr>
          <a:xfrm>
            <a:off x="500040" y="3000240"/>
            <a:ext cx="3786120" cy="180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4285440" y="3000240"/>
            <a:ext cx="428760" cy="50004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4714920" y="3500280"/>
            <a:ext cx="1214280" cy="180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"/>
          <p:cNvSpPr/>
          <p:nvPr/>
        </p:nvSpPr>
        <p:spPr>
          <a:xfrm flipV="1">
            <a:off x="5929200" y="3143160"/>
            <a:ext cx="285840" cy="35712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>
            <a:off x="6215040" y="3143160"/>
            <a:ext cx="150012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2.jpg"/>
          <p:cNvPicPr/>
          <p:nvPr/>
        </p:nvPicPr>
        <p:blipFill>
          <a:blip r:embed="rId1"/>
          <a:stretch/>
        </p:blipFill>
        <p:spPr>
          <a:xfrm>
            <a:off x="928800" y="552600"/>
            <a:ext cx="74311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6:30:34Z</dcterms:created>
  <dc:creator>учитель</dc:creator>
  <dc:description/>
  <dc:language>en-US</dc:language>
  <cp:lastModifiedBy>кабинет географии</cp:lastModifiedBy>
  <dcterms:modified xsi:type="dcterms:W3CDTF">2012-06-08T11:17:51Z</dcterms:modified>
  <cp:revision>8</cp:revision>
  <dc:subject/>
  <dc:title> Графическое моделирование в учебно- воспитательном процессе</dc:title>
</cp:coreProperties>
</file>