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1BB-CEA5-4A01-A8DF-B4CA9E07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762-2B68-44B7-9225-BDE6D1EB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B48-EC01-4369-A187-D2A962E3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AB4-06F1-4C90-9EEB-87282563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368-8D04-490D-BEC9-79D2CB07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BFB-25E7-464E-9204-CB3EAED5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D66D-46AF-4656-8F7B-C782933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E2B-E0B4-4B5F-AC87-13D7A3F0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093-AB58-465C-8272-4ACB3599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2D9-4269-4DEE-81BC-4DD8A14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80C-C308-4066-9753-DE2C4CF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8B64-2047-4B9C-8D97-C222E3A5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4A8-AAFB-40A4-B125-C0DE2E9A0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Графическое моделирование в учебно- воспитательном проце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00680" y="4357800"/>
            <a:ext cx="4829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Из опыта работы классного руководителя лицея №1 Цопиной Л. 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5" descr="класс.jpg"/>
          <p:cNvPicPr/>
          <p:nvPr/>
        </p:nvPicPr>
        <p:blipFill>
          <a:blip r:embed="rId1"/>
          <a:stretch/>
        </p:blipFill>
        <p:spPr>
          <a:xfrm>
            <a:off x="279360" y="357120"/>
            <a:ext cx="81216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500120" y="714240"/>
          <a:ext cx="5572080" cy="5857920"/>
        </p:xfrm>
        <a:graphic>
          <a:graphicData uri="http://schemas.openxmlformats.org/drawingml/2006/table">
            <a:tbl>
              <a:tblPr/>
              <a:tblGrid>
                <a:gridCol w="2143080"/>
                <a:gridCol w="1608120"/>
                <a:gridCol w="1820880"/>
              </a:tblGrid>
              <a:tr h="2556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йбакова Светл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бичукАн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 унив статист и информати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ановаМар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телевАлександ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ченкоМа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арн уни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ковЕвг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акад пра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знецов Кирил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г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 экономич уни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бедьНатал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Э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новаАлл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дреноваКрис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ГУ геолог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овИв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ероваОкс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Э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йчукОкса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6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карповаЕкате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харенко Валент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синИл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с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енный ин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никовПав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ькоЕкатер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Т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шинАнт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СЭУ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аЮ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 коммерции и менеджме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ышев Арт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ШЭ при президенте Р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500040" y="317880"/>
            <a:ext cx="70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Результаты поступления моего 11 г класса(социально- экономическог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500040" y="428760"/>
          <a:ext cx="3643200" cy="1857240"/>
        </p:xfrm>
        <a:graphic>
          <a:graphicData uri="http://schemas.openxmlformats.org/drawingml/2006/table">
            <a:tbl>
              <a:tblPr/>
              <a:tblGrid>
                <a:gridCol w="3036960"/>
                <a:gridCol w="606240"/>
              </a:tblGrid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ий проф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демия пр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389088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643280" y="428760"/>
          <a:ext cx="3857760" cy="1857240"/>
        </p:xfrm>
        <a:graphic>
          <a:graphicData uri="http://schemas.openxmlformats.org/drawingml/2006/table">
            <a:tbl>
              <a:tblPr/>
              <a:tblGrid>
                <a:gridCol w="2571840"/>
                <a:gridCol w="1285920"/>
              </a:tblGrid>
              <a:tr h="6188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786200" y="2857680"/>
            <a:ext cx="3686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ом учебно- воспитательном процессе большое значение имеет правильный, компетентный подход к оценке успеваемости 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регулярный мониторинг уровня успеваемости своих воспитанников, можно использовать графическое модел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AG00120_.GIF"/>
          <p:cNvPicPr/>
          <p:nvPr/>
        </p:nvPicPr>
        <p:blipFill>
          <a:blip r:embed="rId1"/>
          <a:stretch/>
        </p:blipFill>
        <p:spPr>
          <a:xfrm>
            <a:off x="3429000" y="5286240"/>
            <a:ext cx="18558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Стрелка вниз 13"/>
          <p:cNvSpPr/>
          <p:nvPr/>
        </p:nvSpPr>
        <p:spPr>
          <a:xfrm rot="18091200">
            <a:off x="5813280" y="5100480"/>
            <a:ext cx="357120" cy="6966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трелка вниз 14"/>
          <p:cNvSpPr/>
          <p:nvPr/>
        </p:nvSpPr>
        <p:spPr>
          <a:xfrm rot="2643600">
            <a:off x="2260080" y="5160600"/>
            <a:ext cx="357480" cy="76356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типовой процесс 3"/>
          <p:cNvSpPr/>
          <p:nvPr/>
        </p:nvSpPr>
        <p:spPr>
          <a:xfrm>
            <a:off x="2786040" y="1000080"/>
            <a:ext cx="3000240" cy="85716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онная работа классного руково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трелка вниз 4"/>
          <p:cNvSpPr/>
          <p:nvPr/>
        </p:nvSpPr>
        <p:spPr>
          <a:xfrm>
            <a:off x="4071960" y="185724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типовой процесс 5"/>
          <p:cNvSpPr/>
          <p:nvPr/>
        </p:nvSpPr>
        <p:spPr>
          <a:xfrm>
            <a:off x="2786040" y="2286000"/>
            <a:ext cx="3000240" cy="85716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учеб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типовой процесс 6"/>
          <p:cNvSpPr/>
          <p:nvPr/>
        </p:nvSpPr>
        <p:spPr>
          <a:xfrm>
            <a:off x="2714760" y="4786200"/>
            <a:ext cx="3000240" cy="85752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типовой процесс 7"/>
          <p:cNvSpPr/>
          <p:nvPr/>
        </p:nvSpPr>
        <p:spPr>
          <a:xfrm>
            <a:off x="2786040" y="3500280"/>
            <a:ext cx="3000240" cy="857520"/>
          </a:xfrm>
          <a:prstGeom prst="flowChartPredefined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работка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8"/>
          <p:cNvSpPr/>
          <p:nvPr/>
        </p:nvSpPr>
        <p:spPr>
          <a:xfrm>
            <a:off x="4071960" y="3143160"/>
            <a:ext cx="35712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>
            <a:off x="4071960" y="4357800"/>
            <a:ext cx="357120" cy="42840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10"/>
          <p:cNvSpPr/>
          <p:nvPr/>
        </p:nvSpPr>
        <p:spPr>
          <a:xfrm>
            <a:off x="6286680" y="5214960"/>
            <a:ext cx="192852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одительское собр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агетная рамка 11"/>
          <p:cNvSpPr/>
          <p:nvPr/>
        </p:nvSpPr>
        <p:spPr>
          <a:xfrm>
            <a:off x="214200" y="5214960"/>
            <a:ext cx="192888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ласс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агетная рамка 12"/>
          <p:cNvSpPr/>
          <p:nvPr/>
        </p:nvSpPr>
        <p:spPr>
          <a:xfrm>
            <a:off x="3286080" y="5929200"/>
            <a:ext cx="2143080" cy="7858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дагогический  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5"/>
          <p:cNvSpPr/>
          <p:nvPr/>
        </p:nvSpPr>
        <p:spPr>
          <a:xfrm>
            <a:off x="4143240" y="5572080"/>
            <a:ext cx="357480" cy="4287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Прямоугольник 16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3757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Таблица 3" descr=""/>
          <p:cNvPicPr/>
          <p:nvPr/>
        </p:nvPicPr>
        <p:blipFill>
          <a:blip r:embed="rId1"/>
          <a:stretch/>
        </p:blipFill>
        <p:spPr>
          <a:xfrm>
            <a:off x="785880" y="1852560"/>
            <a:ext cx="6858000" cy="22194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466920"/>
            <a:ext cx="89298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воей работе стремлюсь к улучшению качества знаний учащихся, считаю, что анализ своих успехов по любому предмету, а также п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графии и экономике им целесообразно проводить на основе графическ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дел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же способом легко провести диагностику и результатов своего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. Диагностика успеваемости и качества знаний ученицы 11 класса г 2005- 2006 года 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годие Черновой Юл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57160" y="4148280"/>
            <a:ext cx="3703680" cy="270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5000760" y="4861440"/>
            <a:ext cx="36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ы: Хорошо- устные от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бые места – те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ий балл 3,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вёрд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4"/>
          <p:cNvSpPr/>
          <p:nvPr/>
        </p:nvSpPr>
        <p:spPr>
          <a:xfrm>
            <a:off x="500040" y="3000240"/>
            <a:ext cx="3786120" cy="180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4285440" y="3000240"/>
            <a:ext cx="428760" cy="50004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8"/>
          <p:cNvSpPr/>
          <p:nvPr/>
        </p:nvSpPr>
        <p:spPr>
          <a:xfrm>
            <a:off x="4714920" y="3500280"/>
            <a:ext cx="1214280" cy="180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0"/>
          <p:cNvSpPr/>
          <p:nvPr/>
        </p:nvSpPr>
        <p:spPr>
          <a:xfrm flipV="1">
            <a:off x="5929200" y="3143160"/>
            <a:ext cx="285840" cy="35712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>
            <a:off x="6215040" y="3143160"/>
            <a:ext cx="150012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2.jpg"/>
          <p:cNvPicPr/>
          <p:nvPr/>
        </p:nvPicPr>
        <p:blipFill>
          <a:blip r:embed="rId1"/>
          <a:stretch/>
        </p:blipFill>
        <p:spPr>
          <a:xfrm>
            <a:off x="928800" y="552600"/>
            <a:ext cx="743112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6:30:34Z</dcterms:created>
  <dc:creator>учитель</dc:creator>
  <dc:description/>
  <dc:language>en-US</dc:language>
  <cp:lastModifiedBy>кабинет географии</cp:lastModifiedBy>
  <dcterms:modified xsi:type="dcterms:W3CDTF">2012-06-08T11:17:51Z</dcterms:modified>
  <cp:revision>8</cp:revision>
  <dc:subject/>
  <dc:title> Графическое моделирование в учебно- воспитательном процессе</dc:title>
</cp:coreProperties>
</file>