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69BB-7F0E-4105-9898-41BD50B4A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C7E4-B9BF-4F0E-BED4-20D135D85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B50A-8D79-49D3-848E-CB597BEE2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1693-F019-41D0-B0B9-6DE8C0AF9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3A186-4C5C-42F4-B729-B1A9ADFA7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463DA-CED2-4ADD-B3CD-AB20AEF6C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B06D1-08B7-433B-A46C-036D0917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1E79C-C845-4901-B631-713CDB64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E9932-5624-473B-BAED-B80BE7411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571CD-0CE2-41E5-AE68-0DFF8DE73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37094-BA41-4BF2-94C4-E5601FFF3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D6FC-8254-4A88-913B-BB04CA1C7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14E60-78D3-4236-869E-F9976B77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DB8CF-4AF8-4C62-BF87-0254118F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55755-A9C3-4765-9AED-10AA4D32C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5ABB6-7A9F-4D35-9E04-E8568A919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604E3-CFB3-4818-89CE-10D8B61F3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7EA72-F0A8-46E0-B615-1B773F5E3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050BE-151F-434D-ACAD-EC1C55EB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D4918-BB12-4AB3-9FA9-66B139907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DE48E-6E08-4722-88D5-DF4BCC178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9E3A5-0C21-4779-AFBD-B1388CBEE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E919-ACC8-4106-AA31-6F6647B31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F6124-FE35-4EB5-A9A1-A3B37FEE3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374C6-AB8E-4CA7-8908-C64D755B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E6A17-F967-420D-B904-04834935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20C08-3F7F-4E44-83CA-E22467B6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7BDC8-E080-4DF8-89C2-8B9E51800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FB8C7-6B06-4534-BBB4-17ED79185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2DAC6-2848-4E27-B60C-278A94087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4CE29-E7E9-472B-B9DF-B7D45A810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B0CF0-EE98-418E-A690-B3F1E05D2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EE83E-CD0F-4561-8A21-25EA88A0E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C7A4-8FA3-4278-870D-575309ECF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6066B-158B-4826-B014-4CAE810A3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B53DF-2801-4E69-A3E4-F1CCBA063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7D05B-163B-424D-8AD9-FBEDC1C4F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12397-2F86-4E6E-9048-288A76EF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17304-83B0-43F6-A7CB-BA76DAA9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A3192-ACFE-4F4A-86DC-2A457B48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71257-2559-46E3-B418-1DB749152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2444F-BEE0-416B-9470-947687BBB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D6E56-8449-445D-97A1-22B171103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0A949-36E9-4D8E-841B-477A854EA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8BFA-8BC7-4854-88EC-3BEE8FD9E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71092-04B8-44FA-8314-1B6D89229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D070F-3255-4260-9067-1ABE8A480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BF098-7327-49B8-AA28-E79725B2E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03607-4A53-4884-8F42-B6F25B25C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3A0C3-571A-4A2D-BF09-06902B0C2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E634E-895D-4996-98B4-7C439FC7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7E218-46F4-4B7B-B7BE-BD079F23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2F1EE-1ECF-47E7-8F10-D3E66878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582A7-079C-4570-8A1E-E2E36BE24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FA1EF-B84A-45F6-A259-781FABBE1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D39F-CBEB-4B6E-8A16-4F915E04A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4A981-A469-409E-BB5D-B2BA6ABD5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59C68D-3BC6-47A1-A1EE-A5B56750D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C77BCE-0F86-4563-A145-7017C799D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1E476-00EC-4741-B956-E8F823B20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96746-5595-4F26-B504-BBAF901D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C0CB7-00ED-44AA-A8D1-406D2D266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98723-CEE5-4AC1-8F17-F07DFF4C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E4231-5353-4A83-91F5-03DD7D45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BFA41-DE5C-4D86-97F7-830F0556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5B6C4-33D8-4D4C-853F-B2B44443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D224-488A-4518-BFAB-AB03903D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4FA63-AC6E-468B-A403-C65147D60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7E6974-9609-4FA8-B6D0-999ED8F39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3D9B0-7530-48EC-AE2B-CE01D9CAE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0024B8-5E1B-46EB-B589-168FB3B19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722460-2699-4873-BFDC-4FD44DCCB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56C02E-C153-4E26-B984-D8A6DE7BD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D6EACD-C146-47A2-832C-30ADB668B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0F6540-95CD-4937-8493-0C7F3858D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BDF3E5-AC97-473A-A7DA-6EB4A9AA4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456FCA-CB67-4D59-8133-5054EA1B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1787-D3D4-437A-8638-EAC36F96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8537AF-D891-43D6-A444-4199E8F5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EFE712-C447-4CC2-9837-A828EEC4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429B52-A388-4E70-AC9B-890C58B38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407D2F-8DA1-4AD0-B75D-8AD2090E7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399166-75F6-4D8F-9789-3C0388804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45A3-DCC4-4C86-B8E2-508FAF3A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3480E-BE9E-41F6-B7B3-B8F7D0ED75AA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c61"/>
            </a:gs>
            <a:gs pos="100000">
              <a:srgbClr val="627bb1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8F181-A77C-44F5-82CA-AD60A2FE1C5E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c61"/>
            </a:gs>
            <a:gs pos="100000">
              <a:srgbClr val="627bb1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8111A-D5F7-4C2B-92E5-414ACD8687A2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4D5FB-02CB-4908-B526-5C376BB785FF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849DE-B19A-4417-AB2C-5D2E1838DD0C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BA502-0F25-4B54-9C1E-8C7EC36C2A63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1F47A-0070-4BF1-B702-B9ACF00F2535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Rectangle 4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973560" cy="244476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мпьютерная графи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рафический редакт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OBE PHOTOSH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5"/>
          <p:cNvSpPr/>
          <p:nvPr/>
        </p:nvSpPr>
        <p:spPr>
          <a:xfrm>
            <a:off x="304920" y="1981080"/>
            <a:ext cx="6476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eece1"/>
                </a:solidFill>
                <a:latin typeface="Arial"/>
              </a:rPr>
              <a:t>Цель курса:</a:t>
            </a:r>
            <a:br>
              <a:rPr sz="3600"/>
            </a:br>
            <a:r>
              <a:rPr b="0" lang="ru-RU" sz="3600" spc="-1" strike="noStrike">
                <a:solidFill>
                  <a:srgbClr val="eeece1"/>
                </a:solidFill>
                <a:latin typeface="Arial"/>
              </a:rPr>
              <a:t>знакомство с понятием растровая </a:t>
            </a:r>
            <a:br>
              <a:rPr sz="3600"/>
            </a:br>
            <a:r>
              <a:rPr b="0" lang="ru-RU" sz="3600" spc="-1" strike="noStrike">
                <a:solidFill>
                  <a:srgbClr val="eeece1"/>
                </a:solidFill>
                <a:latin typeface="Arial"/>
              </a:rPr>
              <a:t>компьютерная графика на примере графического редактора </a:t>
            </a:r>
            <a:r>
              <a:rPr b="0" lang="en-US" sz="3600" spc="-1" strike="noStrike">
                <a:solidFill>
                  <a:srgbClr val="eeece1"/>
                </a:solidFill>
                <a:latin typeface="Arial"/>
              </a:rPr>
              <a:t>Adobe Photosho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Picture 6" descr="Рисунок1"/>
          <p:cNvPicPr/>
          <p:nvPr/>
        </p:nvPicPr>
        <p:blipFill>
          <a:blip r:embed="rId1"/>
          <a:stretch/>
        </p:blipFill>
        <p:spPr>
          <a:xfrm>
            <a:off x="5715000" y="304920"/>
            <a:ext cx="32385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В результате изучения дисциплины учащийся должен: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1676160" y="16765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Arial"/>
              </a:rPr>
              <a:t>научиться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роводить тоновую корректировку изображения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изменять размеры изображения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создавать фотоколлажи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редактировать и исправлять фотографии на компьютере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3" name="Picture 4" descr="Рисунок2"/>
          <p:cNvPicPr/>
          <p:nvPr/>
        </p:nvPicPr>
        <p:blipFill>
          <a:blip r:embed="rId1"/>
          <a:stretch/>
        </p:blipFill>
        <p:spPr>
          <a:xfrm>
            <a:off x="6172200" y="4800600"/>
            <a:ext cx="266688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Создать призрачное изображение небоскребов позади собора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05" name="Picture 4" descr="Рисунок3"/>
          <p:cNvPicPr/>
          <p:nvPr/>
        </p:nvPicPr>
        <p:blipFill>
          <a:blip r:embed="rId1"/>
          <a:stretch/>
        </p:blipFill>
        <p:spPr>
          <a:xfrm>
            <a:off x="5181480" y="2209680"/>
            <a:ext cx="2306880" cy="1538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Рисунок4"/>
          <p:cNvPicPr/>
          <p:nvPr/>
        </p:nvPicPr>
        <p:blipFill>
          <a:blip r:embed="rId2"/>
          <a:stretch/>
        </p:blipFill>
        <p:spPr>
          <a:xfrm>
            <a:off x="1523880" y="2209680"/>
            <a:ext cx="2362320" cy="15764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6" descr="Рисунок5"/>
          <p:cNvPicPr/>
          <p:nvPr/>
        </p:nvPicPr>
        <p:blipFill>
          <a:blip r:embed="rId3"/>
          <a:stretch/>
        </p:blipFill>
        <p:spPr>
          <a:xfrm>
            <a:off x="3276720" y="3962520"/>
            <a:ext cx="281628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далить лодки и нарисовать тень под дальними участками островов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09" name="Picture 4" descr="Рисунок6"/>
          <p:cNvPicPr/>
          <p:nvPr/>
        </p:nvPicPr>
        <p:blipFill>
          <a:blip r:embed="rId1"/>
          <a:stretch/>
        </p:blipFill>
        <p:spPr>
          <a:xfrm>
            <a:off x="228600" y="2514600"/>
            <a:ext cx="4248000" cy="28353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Рисунок7"/>
          <p:cNvPicPr/>
          <p:nvPr/>
        </p:nvPicPr>
        <p:blipFill>
          <a:blip r:embed="rId2"/>
          <a:stretch/>
        </p:blipFill>
        <p:spPr>
          <a:xfrm>
            <a:off x="4800600" y="2514600"/>
            <a:ext cx="4140360" cy="27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Создать эффект, что герои мультфильма находятся в бассейне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12" name="Picture 5" descr="Рисунок8"/>
          <p:cNvPicPr/>
          <p:nvPr/>
        </p:nvPicPr>
        <p:blipFill>
          <a:blip r:embed="rId1"/>
          <a:stretch/>
        </p:blipFill>
        <p:spPr>
          <a:xfrm>
            <a:off x="762120" y="1905120"/>
            <a:ext cx="2846160" cy="21333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6" descr="Рисунок9"/>
          <p:cNvPicPr/>
          <p:nvPr/>
        </p:nvPicPr>
        <p:blipFill>
          <a:blip r:embed="rId2"/>
          <a:stretch/>
        </p:blipFill>
        <p:spPr>
          <a:xfrm>
            <a:off x="5105520" y="1905120"/>
            <a:ext cx="2809800" cy="21096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7" descr="Рисунок10"/>
          <p:cNvPicPr/>
          <p:nvPr/>
        </p:nvPicPr>
        <p:blipFill>
          <a:blip r:embed="rId3"/>
          <a:stretch/>
        </p:blipFill>
        <p:spPr>
          <a:xfrm>
            <a:off x="3124080" y="4114800"/>
            <a:ext cx="267660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Arial"/>
              </a:rPr>
              <a:t>Превратить черно-белую фотографию в цветную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16" name="Picture 5" descr="Рисунок11"/>
          <p:cNvPicPr/>
          <p:nvPr/>
        </p:nvPicPr>
        <p:blipFill>
          <a:blip r:embed="rId1"/>
          <a:stretch/>
        </p:blipFill>
        <p:spPr>
          <a:xfrm>
            <a:off x="1371600" y="1905120"/>
            <a:ext cx="2362320" cy="34495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6" descr="Рисунок12"/>
          <p:cNvPicPr/>
          <p:nvPr/>
        </p:nvPicPr>
        <p:blipFill>
          <a:blip r:embed="rId2"/>
          <a:stretch/>
        </p:blipFill>
        <p:spPr>
          <a:xfrm>
            <a:off x="4952880" y="1898640"/>
            <a:ext cx="236232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76160" y="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Программа курс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762120" y="1219320"/>
          <a:ext cx="7696080" cy="5157720"/>
        </p:xfrm>
        <a:graphic>
          <a:graphicData uri="http://schemas.openxmlformats.org/drawingml/2006/table">
            <a:tbl>
              <a:tblPr/>
              <a:tblGrid>
                <a:gridCol w="471240"/>
                <a:gridCol w="722484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f81bd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f81bd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f81bd"/>
                          </a:solidFill>
                          <a:latin typeface="Times New Roman"/>
                          <a:ea typeface="Times New Roman"/>
                        </a:rPr>
                        <a:t>Тем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92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f81bd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f81bd"/>
                          </a:solidFill>
                          <a:latin typeface="Times New Roman"/>
                          <a:ea typeface="Times New Roman"/>
                        </a:rPr>
                        <a:t>Введение в графику. Знакомство с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f81bd"/>
                          </a:solidFill>
                          <a:latin typeface="Times New Roman"/>
                          <a:ea typeface="Times New Roman"/>
                        </a:rPr>
                        <a:t>интерфейсом программ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f81bd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4f81bd"/>
                          </a:solidFill>
                          <a:latin typeface="Times New Roman"/>
                          <a:ea typeface="Times New Roman"/>
                        </a:rPr>
                        <a:t>Adobe Photoshop</a:t>
                      </a:r>
                      <a:r>
                        <a:rPr b="1" lang="ru-RU" sz="1400" spc="-1" strike="noStrike">
                          <a:solidFill>
                            <a:srgbClr val="4f81bd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f81bd"/>
                          </a:solidFill>
                          <a:latin typeface="Times New Roman"/>
                          <a:ea typeface="Times New Roman"/>
                        </a:rPr>
                        <a:t>Настройки системы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f81bd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f81bd"/>
                          </a:solidFill>
                          <a:latin typeface="Times New Roman"/>
                          <a:ea typeface="Times New Roman"/>
                        </a:rPr>
                        <a:t>Техника рисования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f81bd"/>
                          </a:solidFill>
                          <a:latin typeface="Times New Roman"/>
                          <a:ea typeface="Times New Roman"/>
                        </a:rPr>
                        <a:t>Инструменты свободного рисования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f81bd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f81bd"/>
                          </a:solidFill>
                          <a:latin typeface="Times New Roman"/>
                          <a:ea typeface="Times New Roman"/>
                        </a:rPr>
                        <a:t>Техника выделения областей изображения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f81bd"/>
                          </a:solidFill>
                          <a:latin typeface="Times New Roman"/>
                          <a:ea typeface="Times New Roman"/>
                        </a:rPr>
                        <a:t>Действия с выделенной областью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f81bd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f81bd"/>
                          </a:solidFill>
                          <a:latin typeface="Times New Roman"/>
                          <a:ea typeface="Times New Roman"/>
                        </a:rPr>
                        <a:t>Создание многослойного изображения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f81bd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4f81bd"/>
                          </a:solidFill>
                          <a:latin typeface="Times New Roman"/>
                          <a:ea typeface="Times New Roman"/>
                        </a:rPr>
                        <a:t>Работа со слоями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f81bd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f81bd"/>
                          </a:solidFill>
                          <a:latin typeface="Times New Roman"/>
                          <a:ea typeface="Times New Roman"/>
                        </a:rPr>
                        <a:t>Создание монтажа и коллаж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f81bd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4f81bd"/>
                          </a:solidFill>
                          <a:latin typeface="Times New Roman"/>
                          <a:ea typeface="Times New Roman"/>
                        </a:rPr>
                        <a:t>в многослойных изображениях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f81bd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f81bd"/>
                          </a:solidFill>
                          <a:latin typeface="Times New Roman"/>
                          <a:ea typeface="Times New Roman"/>
                        </a:rPr>
                        <a:t>Текстовый слой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f81bd"/>
                          </a:solidFill>
                          <a:latin typeface="Times New Roman"/>
                          <a:ea typeface="Times New Roman"/>
                        </a:rPr>
                        <a:t>Создание заголовков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f81bd"/>
                          </a:solidFill>
                          <a:latin typeface="Times New Roman"/>
                          <a:ea typeface="Times New Roman"/>
                        </a:rPr>
                        <a:t>7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f81bd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f81bd"/>
                          </a:solidFill>
                          <a:latin typeface="Times New Roman"/>
                          <a:ea typeface="Times New Roman"/>
                        </a:rPr>
                        <a:t>Создание и защита творческой разработки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320" name="Picture 37" descr="Рисунок13"/>
          <p:cNvPicPr/>
          <p:nvPr/>
        </p:nvPicPr>
        <p:blipFill>
          <a:blip r:embed="rId1"/>
          <a:stretch/>
        </p:blipFill>
        <p:spPr>
          <a:xfrm>
            <a:off x="5943600" y="1219320"/>
            <a:ext cx="2514600" cy="17715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38" descr="Рисунок14"/>
          <p:cNvPicPr/>
          <p:nvPr/>
        </p:nvPicPr>
        <p:blipFill>
          <a:blip r:embed="rId2"/>
          <a:stretch/>
        </p:blipFill>
        <p:spPr>
          <a:xfrm>
            <a:off x="5105520" y="3429000"/>
            <a:ext cx="336528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315200" cy="1295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ъем элективного курса составляет 8 часов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урс завершается созданием учащимися изображения с творческим применением всех, изученных возможностей редактора</a:t>
            </a: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609480" y="2057400"/>
            <a:ext cx="79250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афический редактор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obe Photoshop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жно использовать для подготовки рисунков для докладов, рефератов, презентаций по различным предмета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4" name="Picture 5" descr="Рисунок15"/>
          <p:cNvPicPr/>
          <p:nvPr/>
        </p:nvPicPr>
        <p:blipFill>
          <a:blip r:embed="rId1"/>
          <a:stretch/>
        </p:blipFill>
        <p:spPr>
          <a:xfrm>
            <a:off x="1828800" y="3124080"/>
            <a:ext cx="525456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0-05-23T17:05:56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