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5C1-EDA2-433E-9DE7-F2B97448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F6C-3015-477F-9693-F20CE6B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419-85E3-4745-BC21-FD452D82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0C6-1E3B-4EFC-B5CF-F898F0F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9BE5-714E-4241-9268-192B975C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04E-719F-49A1-972B-5FCD489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1789-CDE3-4171-B472-565A02DE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573-2432-497C-9749-22CCF64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E896-FC34-4DA5-A8C4-FDCAC284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F280-B35F-4BB4-AD53-39DC8C8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A8FA-ADF1-4F46-86E4-7553CAF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5EA-E9F3-4E9A-A4C2-883DD1FB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8CE-5BDA-420C-98A6-7EF7C80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A06-0F63-49D8-B9C0-90D8568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2349-A027-4770-A9C9-C0B4A14E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BEA1-2AC5-4074-8F09-869D45B0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5DB-9C9B-48C0-9E15-0130766D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E7F5-4DA0-44B9-9FDB-2471E150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2ECE-4360-46DA-A411-9DD801B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1281-89D6-4DEB-BEC0-35112B8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A858-E78C-447F-B7D3-285BF0F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1065-32FB-49CB-84D1-5225B42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012-5C32-4BCE-AFDD-FA1A730C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66AA-B395-4D94-A707-1D9035FC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E9F0-D7D4-4BA1-9A8B-B9FEF9C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7A39-6999-4292-90D5-E66F2EB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3A05-C0B2-4DE2-9CF1-91EEC37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B61E-B8D6-472B-A90B-658E97B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14C7-4723-4D53-A4F4-CFC57DB1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1259-32E7-46AB-B708-410EB636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3B78-4924-4892-A004-AEADB40F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2A53-D366-43B9-BEB4-3CC64468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9D77-FA65-4C70-B060-7D58E312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36F-68FD-48E0-8068-6EED7AD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5471-DEF6-4F72-9793-AEBC18B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572A-324D-43BB-ADE2-AB44A38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68BB-5E3D-440A-B45E-88A74D1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69A8-6E01-44D8-87FB-27A1E42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ADE1-826C-40C9-9AE9-257C833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F99D-1FB8-4EB0-AA81-0D3628C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94D7-1B56-4229-820F-B4EE689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0F63-0343-46ED-9A26-4280ADF6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B676-D2EE-4620-80C3-EA390C86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071BD-B4D1-45D6-A89B-34F317AB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4E7-4F61-43B6-BEAE-FAE2E87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7B56-7CFD-4B93-9C6D-9D9F964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8425-88A7-41E6-B1B2-44C2396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E9F0-ACAA-4D75-8A60-2B3810E4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2411-426F-49CE-BFDC-7CCEECC5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6CD6-CF7B-4FB0-9C7A-54A8BA0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14AC7-E640-4F5A-A6C2-EA418E6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019D3-0A06-424B-9BC4-24E4E43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DBD6-7AFF-435A-BE7F-C18BFC4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5DEA-A9E1-4388-B543-7714E23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94F3-5FF8-4994-98B9-15E60D30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F61-D5C4-414D-B6D2-96B0B268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8010-05A7-467C-96E1-07E9AA2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C30D-BFF0-435E-A8BA-17972703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3B56-0A89-471E-9B2E-5BE88850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F9A2-641C-4081-8884-7E9DF07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6CC4B-559A-4FBD-B62A-3A2A1FD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67CB-DC2B-4CD5-95A1-F021A26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C364-984F-452E-BF9B-D77C5AA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0B5B-854C-42BF-9008-04FC721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DF72-30CC-4A16-8354-8DA44AC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4B036-434A-40CF-909C-5BFC72A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BFB-F1C1-4812-8815-55DDD5A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B624-F0EC-424E-91AD-F654FCDD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1E2A7-B62E-4B17-9DA3-D772EE68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E71A-3C21-41DD-8C34-48CA1ED0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3F801-CE19-46AD-9E03-95A2E13F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AD008-BBF2-4DC2-B040-0DBF2FA6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D442C-0B5E-4B9A-9C27-69D851FC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7F204-E0CC-42D3-9BA4-EE45C512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A275A-EA88-4334-9968-DC068E95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09A6A-5078-4B2E-9D33-ADBE844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B2C30-34A3-4BD3-850E-82EAF24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817-B94D-4CE8-B9D5-E58E6D9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D521D-E776-4DB8-9821-50CEE89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37799-A7BD-4989-8A83-4D96BB2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81136-6BD3-47E3-9960-EB7E30C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493C5-955E-4594-98F9-D06975F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0CBF7-DF9F-45E8-9DD0-FBC1F8E8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C2C-82B4-4DE3-B48E-19695E2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064-47B5-46BA-80CA-CC1F3AF299F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FEE-EB1E-468B-9F50-8C308AF374B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EE2B-7227-4C8E-968F-FCFC16F585B8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8E8-299B-418E-826A-19F7241C49B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4E9D-C291-415F-AF0E-3A576FF63768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94A-2CEE-41BB-93C7-3ADE83F27E1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BE6-0534-4346-9AA1-B953A2689E1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4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73560" cy="24447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ая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й реда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BE PHOTO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304920" y="19810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Цель курса:</a:t>
            </a:r>
            <a:br>
              <a:rPr sz="3600"/>
            </a:b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знакомство с понятием растровая </a:t>
            </a:r>
            <a:br>
              <a:rPr sz="3600"/>
            </a:b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пьютерная графика на примере графического редактора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Adobe Photo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Рисунок1"/>
          <p:cNvPicPr/>
          <p:nvPr/>
        </p:nvPicPr>
        <p:blipFill>
          <a:blip r:embed="rId1"/>
          <a:stretch/>
        </p:blipFill>
        <p:spPr>
          <a:xfrm>
            <a:off x="5715000" y="304920"/>
            <a:ext cx="323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В результате изучения дисциплины учащийся должен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научитьс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одить тоновую корректировку изображ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менять размеры изображ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здавать фотоколлаж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дактировать и исправлять фотографии на компьюте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Рисунок2"/>
          <p:cNvPicPr/>
          <p:nvPr/>
        </p:nvPicPr>
        <p:blipFill>
          <a:blip r:embed="rId1"/>
          <a:stretch/>
        </p:blipFill>
        <p:spPr>
          <a:xfrm>
            <a:off x="6172200" y="4800600"/>
            <a:ext cx="2666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здать призрачное изображение небоскребов позади собор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4" descr="Рисунок3"/>
          <p:cNvPicPr/>
          <p:nvPr/>
        </p:nvPicPr>
        <p:blipFill>
          <a:blip r:embed="rId1"/>
          <a:stretch/>
        </p:blipFill>
        <p:spPr>
          <a:xfrm>
            <a:off x="5181480" y="2209680"/>
            <a:ext cx="2306880" cy="1538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Рисунок4"/>
          <p:cNvPicPr/>
          <p:nvPr/>
        </p:nvPicPr>
        <p:blipFill>
          <a:blip r:embed="rId2"/>
          <a:stretch/>
        </p:blipFill>
        <p:spPr>
          <a:xfrm>
            <a:off x="1523880" y="220968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Рисунок5"/>
          <p:cNvPicPr/>
          <p:nvPr/>
        </p:nvPicPr>
        <p:blipFill>
          <a:blip r:embed="rId3"/>
          <a:stretch/>
        </p:blipFill>
        <p:spPr>
          <a:xfrm>
            <a:off x="3276720" y="3962520"/>
            <a:ext cx="28162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алить лодки и нарисовать тень под дальними участками островов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Picture 4" descr="Рисунок6"/>
          <p:cNvPicPr/>
          <p:nvPr/>
        </p:nvPicPr>
        <p:blipFill>
          <a:blip r:embed="rId1"/>
          <a:stretch/>
        </p:blipFill>
        <p:spPr>
          <a:xfrm>
            <a:off x="228600" y="2514600"/>
            <a:ext cx="4248000" cy="2835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Рисунок7"/>
          <p:cNvPicPr/>
          <p:nvPr/>
        </p:nvPicPr>
        <p:blipFill>
          <a:blip r:embed="rId2"/>
          <a:stretch/>
        </p:blipFill>
        <p:spPr>
          <a:xfrm>
            <a:off x="4800600" y="2514600"/>
            <a:ext cx="4140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здать эффект, что герои мультфильма находятся в бассейн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2" name="Picture 5" descr="Рисунок8"/>
          <p:cNvPicPr/>
          <p:nvPr/>
        </p:nvPicPr>
        <p:blipFill>
          <a:blip r:embed="rId1"/>
          <a:stretch/>
        </p:blipFill>
        <p:spPr>
          <a:xfrm>
            <a:off x="762120" y="1905120"/>
            <a:ext cx="2846160" cy="2133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Рисунок9"/>
          <p:cNvPicPr/>
          <p:nvPr/>
        </p:nvPicPr>
        <p:blipFill>
          <a:blip r:embed="rId2"/>
          <a:stretch/>
        </p:blipFill>
        <p:spPr>
          <a:xfrm>
            <a:off x="5105520" y="1905120"/>
            <a:ext cx="280980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Рисунок10"/>
          <p:cNvPicPr/>
          <p:nvPr/>
        </p:nvPicPr>
        <p:blipFill>
          <a:blip r:embed="rId3"/>
          <a:stretch/>
        </p:blipFill>
        <p:spPr>
          <a:xfrm>
            <a:off x="3124080" y="4114800"/>
            <a:ext cx="2676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Превратить черно-белую фотографию в цветную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6" name="Picture 5" descr="Рисунок11"/>
          <p:cNvPicPr/>
          <p:nvPr/>
        </p:nvPicPr>
        <p:blipFill>
          <a:blip r:embed="rId1"/>
          <a:stretch/>
        </p:blipFill>
        <p:spPr>
          <a:xfrm>
            <a:off x="1371600" y="1905120"/>
            <a:ext cx="2362320" cy="3449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Рисунок12"/>
          <p:cNvPicPr/>
          <p:nvPr/>
        </p:nvPicPr>
        <p:blipFill>
          <a:blip r:embed="rId2"/>
          <a:stretch/>
        </p:blipFill>
        <p:spPr>
          <a:xfrm>
            <a:off x="4952880" y="1898640"/>
            <a:ext cx="2362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грамма курс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62120" y="1219320"/>
          <a:ext cx="7696080" cy="5157720"/>
        </p:xfrm>
        <a:graphic>
          <a:graphicData uri="http://schemas.openxmlformats.org/drawingml/2006/table">
            <a:tbl>
              <a:tblPr/>
              <a:tblGrid>
                <a:gridCol w="471240"/>
                <a:gridCol w="72248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Введение в графику. Знакомство 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интерфейсом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Adobe Photoshop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Настройки сист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хника рисова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Инструменты свободного рисов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хника выделения областей изображ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Действия с выделенной обла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многослойного изобра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Работа со сло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монтажа и коллаж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в многослойных изображени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кстовый слой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заголов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7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и защита творческой разработ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0" name="Picture 37" descr="Рисунок13"/>
          <p:cNvPicPr/>
          <p:nvPr/>
        </p:nvPicPr>
        <p:blipFill>
          <a:blip r:embed="rId1"/>
          <a:stretch/>
        </p:blipFill>
        <p:spPr>
          <a:xfrm>
            <a:off x="5943600" y="1219320"/>
            <a:ext cx="2514600" cy="1771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8" descr="Рисунок14"/>
          <p:cNvPicPr/>
          <p:nvPr/>
        </p:nvPicPr>
        <p:blipFill>
          <a:blip r:embed="rId2"/>
          <a:stretch/>
        </p:blipFill>
        <p:spPr>
          <a:xfrm>
            <a:off x="5105520" y="3429000"/>
            <a:ext cx="336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элективного курса составляет 8 час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с завершается созданием учащимися изображения с творческим применением всех, изученных возможностей редактора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09480" y="2057400"/>
            <a:ext cx="7925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й редакто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obe Photoshop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жно использовать для подготовки рисунков для докладов, рефератов, презентаций по различным предме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5" descr="Рисунок15"/>
          <p:cNvPicPr/>
          <p:nvPr/>
        </p:nvPicPr>
        <p:blipFill>
          <a:blip r:embed="rId1"/>
          <a:stretch/>
        </p:blipFill>
        <p:spPr>
          <a:xfrm>
            <a:off x="1828800" y="3124080"/>
            <a:ext cx="52545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5-23T17:05:5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