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6DD-B6F0-4058-9129-8053842A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443-C7D6-4456-A6CA-4A12C8F5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D11E-4B32-4F01-98A5-E566470C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134-93DB-4645-A081-25DC1E60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B9BE-FB18-46A7-B83B-92A4D04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26D-C74D-4C4A-94C6-21108EE6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CED-8FE5-4D3D-A42C-D70EFD31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0439-616B-424B-8803-9124B88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500-94B3-4273-AE8A-C910F770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769-8DF0-46EE-9155-536B08C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B32-CA7E-4A6C-B912-E66374C2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7EC-56C7-4C4B-9F57-45E908D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DDFC-D368-4A32-AA5B-70465C0BE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ить на служ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о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сла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ятой Иоси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аденец Иис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а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христиан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авливать ст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и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она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т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914400"/>
          </a:xfrm>
          <a:prstGeom prst="rect">
            <a:avLst/>
          </a:prstGeom>
          <a:solidFill>
            <a:srgbClr val="e5e5b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La Na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4343400" cy="6172200"/>
          </a:xfrm>
          <a:prstGeom prst="rect">
            <a:avLst/>
          </a:prstGeom>
          <a:solidFill>
            <a:srgbClr val="e5e5b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ebra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vid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р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ebuen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оч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er adorn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кра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mos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ar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lces tipico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ипичные слад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д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de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баран (баран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bi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лу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ода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os plato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усные б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66720" y="0"/>
            <a:ext cx="4876920" cy="4114800"/>
          </a:xfrm>
          <a:prstGeom prst="rect">
            <a:avLst/>
          </a:prstGeom>
          <a:solidFill>
            <a:srgbClr val="e5e5b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chevieja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в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sped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ощ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 viej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тарый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loj da las doc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anada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асы бь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r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costumb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ы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t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еселый, рад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67080" y="3492360"/>
            <a:ext cx="4876920" cy="336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562040" y="3313080"/>
            <a:ext cx="27000" cy="54000"/>
          </a:xfrm>
          <a:custGeom>
            <a:avLst/>
            <a:gdLst/>
            <a:ahLst/>
            <a:rect l="l" t="t" r="r" b="b"/>
            <a:pathLst>
              <a:path w="75" h="149">
                <a:moveTo>
                  <a:pt x="4341" y="9351"/>
                </a:moveTo>
                <a:cubicBezTo>
                  <a:pt x="4349" y="9351"/>
                  <a:pt x="4358" y="9351"/>
                  <a:pt x="4366" y="9351"/>
                </a:cubicBezTo>
                <a:cubicBezTo>
                  <a:pt x="4366" y="9310"/>
                  <a:pt x="4356" y="9314"/>
                  <a:pt x="4390" y="9302"/>
                </a:cubicBezTo>
                <a:cubicBezTo>
                  <a:pt x="4390" y="9259"/>
                  <a:pt x="4380" y="9264"/>
                  <a:pt x="4415" y="9252"/>
                </a:cubicBezTo>
                <a:cubicBezTo>
                  <a:pt x="4415" y="9227"/>
                  <a:pt x="4415" y="9219"/>
                  <a:pt x="4415" y="9203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4040" y="946080"/>
            <a:ext cx="127080" cy="46080"/>
          </a:xfrm>
          <a:custGeom>
            <a:avLst/>
            <a:gdLst/>
            <a:ahLst/>
            <a:rect l="l" t="t" r="r" b="b"/>
            <a:pathLst>
              <a:path w="349" h="125">
                <a:moveTo>
                  <a:pt x="13791" y="2729"/>
                </a:moveTo>
                <a:cubicBezTo>
                  <a:pt x="13817" y="2694"/>
                  <a:pt x="13816" y="2698"/>
                  <a:pt x="13816" y="2654"/>
                </a:cubicBezTo>
                <a:cubicBezTo>
                  <a:pt x="13854" y="2641"/>
                  <a:pt x="13837" y="2629"/>
                  <a:pt x="13891" y="2629"/>
                </a:cubicBezTo>
                <a:cubicBezTo>
                  <a:pt x="13916" y="2629"/>
                  <a:pt x="13940" y="2629"/>
                  <a:pt x="13965" y="2629"/>
                </a:cubicBezTo>
                <a:cubicBezTo>
                  <a:pt x="13965" y="2662"/>
                  <a:pt x="13965" y="2696"/>
                  <a:pt x="13965" y="2729"/>
                </a:cubicBezTo>
                <a:cubicBezTo>
                  <a:pt x="14002" y="2741"/>
                  <a:pt x="13987" y="2753"/>
                  <a:pt x="14039" y="2753"/>
                </a:cubicBezTo>
                <a:cubicBezTo>
                  <a:pt x="14094" y="2753"/>
                  <a:pt x="14093" y="2710"/>
                  <a:pt x="14114" y="2679"/>
                </a:cubicBezTo>
                <a:cubicBezTo>
                  <a:pt x="14122" y="2671"/>
                  <a:pt x="14131" y="2662"/>
                  <a:pt x="14139" y="265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os reyes mago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lcho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Gasp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Baltas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914400"/>
            <a:ext cx="617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iesta preferi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юбимый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ra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пись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gue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гр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ec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a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онстру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ll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ербл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irrojo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е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yend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леге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ran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mas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тому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Ven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хо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6920" y="3571920"/>
            <a:ext cx="125280" cy="44280"/>
          </a:xfrm>
          <a:custGeom>
            <a:avLst/>
            <a:gdLst/>
            <a:ahLst/>
            <a:rect l="l" t="t" r="r" b="b"/>
            <a:pathLst>
              <a:path w="348" h="125">
                <a:moveTo>
                  <a:pt x="3795" y="10021"/>
                </a:moveTo>
                <a:cubicBezTo>
                  <a:pt x="3852" y="10002"/>
                  <a:pt x="3786" y="9973"/>
                  <a:pt x="3820" y="9947"/>
                </a:cubicBezTo>
                <a:cubicBezTo>
                  <a:pt x="3844" y="9929"/>
                  <a:pt x="3851" y="9922"/>
                  <a:pt x="3894" y="9922"/>
                </a:cubicBezTo>
                <a:cubicBezTo>
                  <a:pt x="3919" y="9922"/>
                  <a:pt x="3927" y="9922"/>
                  <a:pt x="3944" y="9922"/>
                </a:cubicBezTo>
                <a:cubicBezTo>
                  <a:pt x="3944" y="9963"/>
                  <a:pt x="3944" y="10005"/>
                  <a:pt x="3944" y="10046"/>
                </a:cubicBezTo>
                <a:cubicBezTo>
                  <a:pt x="4000" y="10046"/>
                  <a:pt x="4051" y="10058"/>
                  <a:pt x="4093" y="10021"/>
                </a:cubicBezTo>
                <a:cubicBezTo>
                  <a:pt x="4134" y="9985"/>
                  <a:pt x="4142" y="10005"/>
                  <a:pt x="4142" y="994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43040" y="4429080"/>
            <a:ext cx="19080" cy="71640"/>
          </a:xfrm>
          <a:custGeom>
            <a:avLst/>
            <a:gdLst/>
            <a:ahLst/>
            <a:rect l="l" t="t" r="r" b="b"/>
            <a:pathLst>
              <a:path w="51" h="200">
                <a:moveTo>
                  <a:pt x="4564" y="12502"/>
                </a:moveTo>
                <a:cubicBezTo>
                  <a:pt x="4564" y="12469"/>
                  <a:pt x="4564" y="12435"/>
                  <a:pt x="4564" y="12402"/>
                </a:cubicBezTo>
                <a:cubicBezTo>
                  <a:pt x="4602" y="12390"/>
                  <a:pt x="4589" y="12373"/>
                  <a:pt x="4589" y="12328"/>
                </a:cubicBezTo>
                <a:cubicBezTo>
                  <a:pt x="4614" y="12328"/>
                  <a:pt x="4622" y="12328"/>
                  <a:pt x="4614" y="123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tó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rtodo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esuscr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irgen M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e antemano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зара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Justo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т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Ocurrirse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 приходить в го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bel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556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ксический 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здн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драв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ычка тради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локти *по горло зан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ыгры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я тебе завид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мотр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тер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5410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274680"/>
            <a:ext cx="48765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estejo( fie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gn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embar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hon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co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mej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sc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5192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жи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ч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жи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н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й любимый праздник –это новый год. Мы все начинаем готовиться  заранее. Мы покупаем подарки или делаем их своими руками. Мы украшаем наш дом. Сначала ставим елку и украшаем игрушками и светящимися гирляндами. Так же вешаем гирлянду на стену или двери. Родители покупают в магазине продукты и мама готовит много вкусной еды. В 10 часов все садятся за стол и мы празднуем проводы старого года. когда часы бьют 12 все поздравляют друг друга с Новым годом. Мы смотрим телевизор, поем и танцуем.Потом выходим на улицу и запускаем петарды и р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038480" cy="73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llanc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xi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r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 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 algo que 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bar de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ir a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r en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er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en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l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j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rra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038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ственские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ли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что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сти отл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поми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ть ну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обы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ар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192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дственские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лиж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что закон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отл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поми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нуж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делир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еть обыкнов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ной 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р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меш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р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r a la m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tó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odox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irgen M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n Jo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c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Niño Je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ante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ner algo en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 crist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a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a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ner-colo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ul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bu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40384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рк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дить на служ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о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осла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ва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ятой Иос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ладенец Иис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ра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ть что-то об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ть христиан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навливать став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держи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нар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ova</cp:lastModifiedBy>
  <dcterms:modified xsi:type="dcterms:W3CDTF">2012-06-07T19:42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