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84D-81BD-43B7-A5A2-4B8EDDAD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297-78A5-4297-A29B-AABC7BF4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6E2-3649-4B31-83C8-B2F5210B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0EC-346C-48D5-8292-F2554B1A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6BF-EAD8-41FE-AA39-17197DDE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850-061A-4CF9-ADEC-1F578672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632-C05A-4A9A-A0D6-D678C24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E06-E4FA-4CD9-8BA9-E462A643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93C-8F9F-4BC9-87A1-F222871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A59-EE12-480F-A6FA-241F616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2BC-7D81-4D7A-BF8C-FB96F9D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1B1-F07E-453C-AEBD-6C76C3D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C5C5-9484-42B0-97D0-089BC10F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ть на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о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сла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ой Иос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аденец Ии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а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христиан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авливать 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о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т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914400"/>
          </a:xfrm>
          <a:prstGeom prst="rect">
            <a:avLst/>
          </a:prstGeom>
          <a:solidFill>
            <a:srgbClr val="e5e5b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La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343400" cy="6172200"/>
          </a:xfrm>
          <a:prstGeom prst="rect">
            <a:avLst/>
          </a:prstGeom>
          <a:solidFill>
            <a:srgbClr val="e5e5b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vid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р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ebue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оч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er adorn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кра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mos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ces tipi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пичные слад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de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баран (бара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л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os plato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усн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66720" y="0"/>
            <a:ext cx="4876920" cy="4114800"/>
          </a:xfrm>
          <a:prstGeom prst="rect">
            <a:avLst/>
          </a:prstGeom>
          <a:solidFill>
            <a:srgbClr val="e5e5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evieja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ped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ощ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 viej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ар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loj da las do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anad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асы бь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r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costumb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ы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t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еселый, рад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67080" y="3492360"/>
            <a:ext cx="4876920" cy="33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562040" y="3313080"/>
            <a:ext cx="27000" cy="54000"/>
          </a:xfrm>
          <a:custGeom>
            <a:avLst/>
            <a:gdLst/>
            <a:ahLst/>
            <a:rect l="l" t="t" r="r" b="b"/>
            <a:pathLst>
              <a:path w="75" h="149">
                <a:moveTo>
                  <a:pt x="4341" y="9351"/>
                </a:moveTo>
                <a:cubicBezTo>
                  <a:pt x="4349" y="9351"/>
                  <a:pt x="4358" y="9351"/>
                  <a:pt x="4366" y="9351"/>
                </a:cubicBezTo>
                <a:cubicBezTo>
                  <a:pt x="4366" y="9310"/>
                  <a:pt x="4356" y="9314"/>
                  <a:pt x="4390" y="9302"/>
                </a:cubicBezTo>
                <a:cubicBezTo>
                  <a:pt x="4390" y="9259"/>
                  <a:pt x="4380" y="9264"/>
                  <a:pt x="4415" y="9252"/>
                </a:cubicBezTo>
                <a:cubicBezTo>
                  <a:pt x="4415" y="9227"/>
                  <a:pt x="4415" y="9219"/>
                  <a:pt x="4415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4040" y="94608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13791" y="2729"/>
                </a:moveTo>
                <a:cubicBezTo>
                  <a:pt x="13817" y="2694"/>
                  <a:pt x="13816" y="2698"/>
                  <a:pt x="13816" y="2654"/>
                </a:cubicBezTo>
                <a:cubicBezTo>
                  <a:pt x="13854" y="2641"/>
                  <a:pt x="13837" y="2629"/>
                  <a:pt x="13891" y="2629"/>
                </a:cubicBezTo>
                <a:cubicBezTo>
                  <a:pt x="13916" y="2629"/>
                  <a:pt x="13940" y="2629"/>
                  <a:pt x="13965" y="2629"/>
                </a:cubicBezTo>
                <a:cubicBezTo>
                  <a:pt x="13965" y="2662"/>
                  <a:pt x="13965" y="2696"/>
                  <a:pt x="13965" y="2729"/>
                </a:cubicBezTo>
                <a:cubicBezTo>
                  <a:pt x="14002" y="2741"/>
                  <a:pt x="13987" y="2753"/>
                  <a:pt x="14039" y="2753"/>
                </a:cubicBezTo>
                <a:cubicBezTo>
                  <a:pt x="14094" y="2753"/>
                  <a:pt x="14093" y="2710"/>
                  <a:pt x="14114" y="2679"/>
                </a:cubicBezTo>
                <a:cubicBezTo>
                  <a:pt x="14122" y="2671"/>
                  <a:pt x="14131" y="2662"/>
                  <a:pt x="14139" y="26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os reyes mago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lcho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Gasp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Baltas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914400"/>
            <a:ext cx="617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esta prefer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юбимый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a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ue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г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e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a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онстр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l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rrojo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е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yen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ег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ra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ma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Ve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6920" y="3571920"/>
            <a:ext cx="125280" cy="4428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3795" y="10021"/>
                </a:moveTo>
                <a:cubicBezTo>
                  <a:pt x="3852" y="10002"/>
                  <a:pt x="3786" y="9973"/>
                  <a:pt x="3820" y="9947"/>
                </a:cubicBezTo>
                <a:cubicBezTo>
                  <a:pt x="3844" y="9929"/>
                  <a:pt x="3851" y="9922"/>
                  <a:pt x="3894" y="9922"/>
                </a:cubicBezTo>
                <a:cubicBezTo>
                  <a:pt x="3919" y="9922"/>
                  <a:pt x="3927" y="9922"/>
                  <a:pt x="3944" y="9922"/>
                </a:cubicBezTo>
                <a:cubicBezTo>
                  <a:pt x="3944" y="9963"/>
                  <a:pt x="3944" y="10005"/>
                  <a:pt x="3944" y="10046"/>
                </a:cubicBezTo>
                <a:cubicBezTo>
                  <a:pt x="4000" y="10046"/>
                  <a:pt x="4051" y="10058"/>
                  <a:pt x="4093" y="10021"/>
                </a:cubicBezTo>
                <a:cubicBezTo>
                  <a:pt x="4134" y="9985"/>
                  <a:pt x="4142" y="10005"/>
                  <a:pt x="4142" y="99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43040" y="4429080"/>
            <a:ext cx="19080" cy="71640"/>
          </a:xfrm>
          <a:custGeom>
            <a:avLst/>
            <a:gdLst/>
            <a:ahLst/>
            <a:rect l="l" t="t" r="r" b="b"/>
            <a:pathLst>
              <a:path w="51" h="200">
                <a:moveTo>
                  <a:pt x="4564" y="12502"/>
                </a:moveTo>
                <a:cubicBezTo>
                  <a:pt x="4564" y="12469"/>
                  <a:pt x="4564" y="12435"/>
                  <a:pt x="4564" y="12402"/>
                </a:cubicBezTo>
                <a:cubicBezTo>
                  <a:pt x="4602" y="12390"/>
                  <a:pt x="4589" y="12373"/>
                  <a:pt x="4589" y="12328"/>
                </a:cubicBezTo>
                <a:cubicBezTo>
                  <a:pt x="4614" y="12328"/>
                  <a:pt x="4622" y="12328"/>
                  <a:pt x="4614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rtodo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esuscr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irgen M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antemano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зара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sto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т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currirse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приходить в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el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556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кс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здн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ычка трад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локти *по горло зан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ыгр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я тебе завид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т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410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4876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stejo( fie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gn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emb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hon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o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me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sc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5192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жи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жи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й любимый праздник –это новый год. Мы все начинаем готовиться  заранее. Мы покупаем подарки или делаем их своими руками. Мы украшаем наш дом. Сначала ставим елку и украшаем игрушками и светящимися гирляндами. Так же вешаем гирлянду на стену или двери. Родители покупают в магазине продукты и мама готовит много вкусной еды. В 10 часов все садятся за стол и мы празднуем проводы старого года. когда часы бьют 12 все поздравляют друг друга с Новым годом. Мы смотрим телевизор, поем и танцуем.Потом выходим на улицу и запускаем петарды и р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03848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llanc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xi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 algo que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bar de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ir a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r en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er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en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l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j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ственские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что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тл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и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ну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обы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ственские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что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отл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и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ну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ть обы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ой 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р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 a la 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tó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odo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irgen M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c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iño J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ante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er algo en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 crist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a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ner-colo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u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дить на служ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о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сла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той Иос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ладенец Иис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ра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ть христиан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авливать 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на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ova</cp:lastModifiedBy>
  <dcterms:modified xsi:type="dcterms:W3CDTF">2012-06-07T19:42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