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1F30-DD84-4342-9111-4F57600C6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598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00000" y="3964320"/>
            <a:ext cx="598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9F53-E549-4206-852B-31E0025B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0000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6756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C2A7-6DB0-42CD-B6B9-2A9282EB1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24280" y="160020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48560" y="160020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00000" y="396432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24280" y="396432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48560" y="396432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3702-B2A8-4725-AC20-081178C4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448A-FF9F-459E-BAC6-7F0A4A18A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7000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18CF-1695-4F37-B622-132EADD9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B5D2-EA47-4F18-91AF-55161036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06C8-A02D-4AE3-9179-F7E9A02A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FFC3-AA16-44EC-AFFC-01003130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700000" y="274320"/>
            <a:ext cx="598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1CC6-5132-4A4E-8BF8-EA5CCA5E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70000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D00F-43B7-4362-BC28-365C4406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000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EEDC-4876-4723-8C7D-6153F4A5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76756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47DC-C2F3-4C25-A482-337915E4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00000" y="3964320"/>
            <a:ext cx="598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D7AD-491D-4866-AD81-3C1A8974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598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700000" y="3964320"/>
            <a:ext cx="598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15A9-F1D2-42CA-93C6-80BFC693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70000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76756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C426-7E14-461C-B456-73D77EFA6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4280" y="160020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748560" y="160020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700000" y="396432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724280" y="396432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748560" y="396432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921F-A02D-46D6-A999-6417B8FEF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34388-233C-4BBD-A23B-3DEAA115C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000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21E0A-5BD7-4A4B-B1D8-EC0F7989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834FB-5381-4FE7-8FEE-B61E604A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5C32D-939E-4707-ADD3-73FA2421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F243B-F4FE-42D3-BE85-8E8E6F79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65ED-FEF1-4C31-9176-8EB69590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700000" y="274320"/>
            <a:ext cx="598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281D8-3D3D-4EB7-AD72-CE9EF84C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70000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6D673-F829-4A94-9E32-D44B0B36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76756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444A7-8CEF-4884-9995-0DC6A69D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700000" y="3964320"/>
            <a:ext cx="598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20BFB-3226-48CD-9DB6-0CEB0297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598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700000" y="3964320"/>
            <a:ext cx="598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E33CE-B10B-4F55-B80D-330AD7FE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70000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76756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85BAC-866E-4CA2-B8D5-ACDE6837F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24280" y="160020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748560" y="160020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700000" y="396432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724280" y="396432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748560" y="396432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95281-C64C-4C13-8EEE-840347B2E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09E9B-955F-4F91-BC92-0786D83DE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7000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AFF8C-114C-4359-B617-DDB4E722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37FFD-A80B-4EC1-AEE7-073E05D5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164A-FF6D-4399-9B56-C4D8F358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AA9E0-4CEC-45BC-A462-1541C4D6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41968-C9CA-47DB-B435-7CBAB0D4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2700000" y="274320"/>
            <a:ext cx="598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E195B-46BD-4658-9B51-503B9F80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270000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B4ED1-A816-4E2D-AA58-05656945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76756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7B392-505B-424F-B2B2-FCC4D819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700000" y="3964320"/>
            <a:ext cx="598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67CEF-41F4-4625-A75D-B5B4A19D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598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2700000" y="3964320"/>
            <a:ext cx="598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13D86-6E83-48D9-B21A-5BA000C7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70000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76756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7CDBD-43D7-42EE-B650-12521B782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24280" y="160020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748560" y="160020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2700000" y="396432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724280" y="396432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748560" y="396432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CC9D8-3C68-4C92-B6D2-D595B440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C6B4-6BF7-4A05-80E4-E0445806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0000" y="274320"/>
            <a:ext cx="598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BDAA-11D0-4C7E-BA3C-D88EFF16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0000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E04E-53A9-4044-A6E2-0B8C5D18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6756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2351-2565-472F-BC15-8969DD12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00000" y="3964320"/>
            <a:ext cx="598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77EF-926E-4B9D-96DC-F15CAE0E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0A68-F3A8-4360-885C-6B3D917C0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2880" y="2971800"/>
            <a:ext cx="7313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4040-7025-4FF9-8A70-AF4B86690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27000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57E4-C459-44EC-B63D-5F58275C95D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55640" y="2130120"/>
            <a:ext cx="6337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F704-AA3B-4B2A-8A27-C12A18EB18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771280" y="274680"/>
            <a:ext cx="591516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№3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УЧНОЕ ОБЩЕСТВО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то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564000" y="2349360"/>
            <a:ext cx="434016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УЛЬТУРОЛОГИЧЕСКАЯ ЭКСПЕДИЦИЯ В КАБАРДИНКУ (КАВКА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956360" y="573408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132000" y="1773360"/>
            <a:ext cx="5203800" cy="39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ГРАДЫ ГРЕЮТ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843280" y="1413000"/>
            <a:ext cx="561636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УЧНЫЕ РУКОВОДИ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68640" y="1600200"/>
            <a:ext cx="291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ранцман Елена Константиновна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сор РГУ им. А.И. Герцена, доктор филологических нау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елякова Людмила Михайлов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русского языка, литературы и МХ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ндидат культур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2700360" y="1341360"/>
            <a:ext cx="2914560" cy="20448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2700360" y="3573360"/>
            <a:ext cx="291636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ЛЬ ДЕЯТЕЛЬНОСТИ НО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ВИВАТЬ СПОСОБНОСТИ САМОСТОЯТЕЛЬНО МЫСЛИТЬ И ДЕЙСТВОВАТЬ, ИСПОЛЬЗУЯ ПРИОБРЕТЁННЫЕ ДЕКЛАРАТИВНЫЕ И ПРОЦЕДУРНЫЕ ЗН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924360" y="264312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НОВНЫЕ ФОРМЫ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ЛИМПИА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Е Ч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Е КОНФЕРЕ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ЛЬУТРОЛОГИЧЕСКИЕ ЭКСПЕДИ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ТРЕЧИ С УЧЁ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СКУРСИИ И ПОХ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Ы ДОКЛА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700000" y="1700280"/>
            <a:ext cx="59864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ория вероятности в демографии города Рыбинс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Москва, секция «математика», Абрамов Артур, 2007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искретность имён существительных, обозначающих продукты пит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Москва, секция «лингвистика», Коряков Александр, 2007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тив плахи в романе Ч.Айтматова «Плах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Москва, секция «философия», Некрасова Мария, 2008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кульптура Рыбин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Москва, секция «культурология», Тощакова Анна, 2008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чные проблемы в творчестве Чингиза Айтмат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Москва, секция «философия», Некрасова Мария, 200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енский образ в рекламной фотограф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Москва, секция «культурология», Тощакова Анна, 2009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БОЧИЕ МОМ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627280" y="2349360"/>
            <a:ext cx="2989440" cy="21877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768640" y="1600200"/>
            <a:ext cx="2917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блюд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пост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ав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мо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ксперимен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ля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пех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науч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аршруты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68640" y="2133720"/>
            <a:ext cx="2917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кружок «Юный исследователь»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газет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«Планета-35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консультационный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пунк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843280" y="1413000"/>
            <a:ext cx="2843280" cy="1969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771640" y="3500280"/>
            <a:ext cx="291636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ЕОГРАФИЯ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670120" y="1585800"/>
            <a:ext cx="5976360" cy="4462560"/>
            <a:chOff x="2670120" y="1585800"/>
            <a:chExt cx="5976360" cy="4462560"/>
          </a:xfrm>
        </p:grpSpPr>
        <p:cxnSp>
          <p:nvCxnSpPr>
            <p:cNvPr id="180" name="_s28689"/>
            <p:cNvCxnSpPr>
              <a:stCxn id="181" idx="0"/>
              <a:endCxn id="182" idx="2"/>
            </p:cNvCxnSpPr>
            <p:nvPr/>
          </p:nvCxnSpPr>
          <p:spPr>
            <a:xfrm flipV="1" rot="16200000">
              <a:off x="6258600" y="2769120"/>
              <a:ext cx="893160" cy="20948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3" name="_s28688"/>
            <p:cNvCxnSpPr>
              <a:stCxn id="184" idx="0"/>
              <a:endCxn id="182" idx="2"/>
            </p:cNvCxnSpPr>
            <p:nvPr/>
          </p:nvCxnSpPr>
          <p:spPr>
            <a:xfrm flipV="1">
              <a:off x="5658480" y="3369960"/>
              <a:ext cx="288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5" name="_s28687"/>
            <p:cNvCxnSpPr>
              <a:stCxn id="186" idx="0"/>
              <a:endCxn id="182" idx="2"/>
            </p:cNvCxnSpPr>
            <p:nvPr/>
          </p:nvCxnSpPr>
          <p:spPr>
            <a:xfrm flipH="1" flipV="1" rot="5400000">
              <a:off x="4165920" y="2770560"/>
              <a:ext cx="893160" cy="20919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2" name="_s28683"/>
            <p:cNvSpPr/>
            <p:nvPr/>
          </p:nvSpPr>
          <p:spPr>
            <a:xfrm>
              <a:off x="4761720" y="1585800"/>
              <a:ext cx="17928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ВСЕМУ НАЧАЛО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ЗДЕСЬ –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В КРАЮ МОЁ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РОДНО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РЫБИНСК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28684"/>
            <p:cNvSpPr/>
            <p:nvPr/>
          </p:nvSpPr>
          <p:spPr>
            <a:xfrm>
              <a:off x="2670120" y="4263480"/>
              <a:ext cx="17928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ЯРОСЛАВЛЬ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28685"/>
            <p:cNvSpPr/>
            <p:nvPr/>
          </p:nvSpPr>
          <p:spPr>
            <a:xfrm>
              <a:off x="4761720" y="4263480"/>
              <a:ext cx="17928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САНКТ-ПЕТЕРБУРГ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28686"/>
            <p:cNvSpPr/>
            <p:nvPr/>
          </p:nvSpPr>
          <p:spPr>
            <a:xfrm>
              <a:off x="6853680" y="4263480"/>
              <a:ext cx="17928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МОСКВ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БЕДИТЕЛИ И ПРИЗЁРЫ ЗОЛОТАРЁВСКИХ Ч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7003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770440" y="1600200"/>
            <a:ext cx="2914920" cy="2185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2700360" y="3938760"/>
            <a:ext cx="2916360" cy="21542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576900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БЕДИТЕЛИ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оссийской конференции в 2009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916360" y="1628640"/>
            <a:ext cx="5616360" cy="40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7:17:19Z</dcterms:created>
  <dc:creator>www.PHILka.RU</dc:creator>
  <dc:description/>
  <dc:language>en-US</dc:language>
  <cp:lastModifiedBy>1</cp:lastModifiedBy>
  <dcterms:modified xsi:type="dcterms:W3CDTF">2012-06-08T02:52:16Z</dcterms:modified>
  <cp:revision>4</cp:revision>
  <dc:subject/>
  <dc:title>Слайд 1</dc:title>
</cp:coreProperties>
</file>