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BD0-AB0A-43A8-9BE1-BABF589E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206-9728-4F1C-8662-681DF52B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ACE-86E0-4465-B183-80012CB5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D5A-601D-4899-8C04-616B422C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9953-8A4D-42CF-8C1D-D9AEB3C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0703-14D4-43D1-B7FD-66F9C23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6BA4-BC20-4356-AD7A-9C4F205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3367-9D4C-4758-B0A3-A2A876E3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61F0-9216-4B53-A489-71714D9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962F-5D03-4572-BBD5-2915BF10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5BDA-4C7E-433D-B6ED-A40CC0B3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D53-B27B-49DC-AD5E-12CE7611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09CE-C2B2-4BEF-A711-90D4962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50D2-685B-400E-AAEF-C1EB13E4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9D90-FC39-47E4-B946-72B11ABD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6375-FAA8-4C2C-BBD4-10BA1F6F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176A-0861-41D3-9381-62821560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A6F7-AC62-4B97-BD45-141C8A8D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9265-0FBA-4148-9225-AB35077D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3002-380F-4175-B01B-C59886B1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C284F-07AB-4EB1-8228-62D7935C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E0D4-910C-4F19-BD03-C7137A2B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A70-0C61-490E-BE6E-30544A71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A287-87A5-4181-B85D-0091C574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8476-3A60-43B2-B962-9E1C330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24BE-B48B-42C7-84E4-FB07B4C1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FD17-5269-48C7-9CD6-0BEFBA4D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D3E0-2D95-4649-A727-987DB06E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81FC-F438-4F12-9DDB-CE1C184F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98C2-4CE4-4FBB-BE8A-36BB1495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0A40-1A70-4E04-8A1C-25083404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2C77-3F34-4B19-8C7C-79CBFC0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A2E5-73A8-47A2-B0F2-C05D42AF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694-8FD4-4460-B266-A7D9B17F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AF48-9410-41FA-BC44-615CC92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3406-55EA-42B7-9F31-B934B557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4D516-C2D0-431B-9A3D-49565C84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B1B05-A7CA-4942-8D7C-E94F6D9D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45CCB-296F-4C48-B29C-988392A3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7B50-FD84-411E-AF34-D12D503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BA2B-BA9C-49FF-9D15-8D82E051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A6BB-A005-44D5-A58C-904A0047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2428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48560" y="160020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70000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72428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748560" y="3964320"/>
            <a:ext cx="1927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FB44-90EB-4667-9797-4E0DEC72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CCD-BD24-4F31-B305-DD2306B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0000" y="274320"/>
            <a:ext cx="598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048-29D1-44F7-BA3F-4CBBD248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BA8-4FA9-4F27-AB7A-D05A7F7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756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305-831D-4AE8-947C-31CF110A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756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00000" y="3964320"/>
            <a:ext cx="598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692-F2A9-4DDE-AFF3-E5C79D75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1FAC-A240-486C-8B72-639F77676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E30D-AB48-4BD1-9203-71E681E8A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4D5F-8A01-45C6-832D-E8DEC677C5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633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B060-36D2-444B-BE5C-0FAE43A5A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771280" y="274680"/>
            <a:ext cx="591516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3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ОЕ ОБЩЕСТВО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43401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ОЛОГИЧЕСКАЯ ЭКСПЕДИЦИЯ В КАБАРДИНКУ (КАВКА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56360" y="573408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132000" y="1773360"/>
            <a:ext cx="52038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ГРАДЫ ГРЕЮ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68640" y="1600200"/>
            <a:ext cx="291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анцман Елена Константиновн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РГУ им. А.И. Герцена, доктор филологических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лякова Людмила Михайлов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, литературы и МХ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дидат культур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2914560" cy="204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700360" y="357336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 ДЕЯТЕЛЬНОСТИ Н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ВАТЬ СПОСОБНОСТИ САМОСТОЯТЕЛЬНО МЫСЛИТЬ И ДЕЙСТВОВАТЬ, ИСПОЛЬЗУЯ ПРИОБРЕТЁННЫЕ ДЕКЛАРАТИВНЫЕ И ПРОЦЕДУРНЫЕ 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24360" y="264312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ФОРМЫ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ЛИМПИ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Е КОНФЕ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ЬУТРОЛОГИЧЕСКИЕ ЭКСПЕ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И С УЧЁ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Ы ДОКЛА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700000" y="1700280"/>
            <a:ext cx="5986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ия вероятности в демографии города Рыбинс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математика», Абрамов Артур, 200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кретность имён существительных, обозначающих продукты 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лингвистика», Коряков Александр, 200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тив плахи в романе Ч.Айтматова «Пл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философия», Некрасова Мария, 200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ульптура Рыби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культурология», Тощакова Анна, 200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ые проблемы в творчестве Чингиза Айтмат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философия», Некрасова Мария, 20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нский образ в рекламной фотограф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Москва, секция «культурология», Тощакова Анна, 200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БОЧИЕ МО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2989440" cy="2187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68640" y="1600200"/>
            <a:ext cx="2917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о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о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я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пех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у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ршруты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68640" y="2133720"/>
            <a:ext cx="2917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кружок «Юный исследователь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газет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«Планета-35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консультационны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унк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843280" y="1413000"/>
            <a:ext cx="2843280" cy="196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350028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ОГРАФИЯ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670120" y="1585800"/>
            <a:ext cx="5976360" cy="4462560"/>
            <a:chOff x="2670120" y="1585800"/>
            <a:chExt cx="5976360" cy="4462560"/>
          </a:xfrm>
        </p:grpSpPr>
        <p:cxnSp>
          <p:nvCxnSpPr>
            <p:cNvPr id="180" name="_s28689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258600" y="2769120"/>
              <a:ext cx="893160" cy="2094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28688"/>
            <p:cNvCxnSpPr>
              <a:stCxn id="184" idx="0"/>
              <a:endCxn id="182" idx="2"/>
            </p:cNvCxnSpPr>
            <p:nvPr/>
          </p:nvCxnSpPr>
          <p:spPr>
            <a:xfrm flipV="1">
              <a:off x="5658480" y="3369960"/>
              <a:ext cx="288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28687"/>
            <p:cNvCxnSpPr>
              <a:stCxn id="186" idx="0"/>
              <a:endCxn id="182" idx="2"/>
            </p:cNvCxnSpPr>
            <p:nvPr/>
          </p:nvCxnSpPr>
          <p:spPr>
            <a:xfrm flipH="1" flipV="1" rot="5400000">
              <a:off x="4165920" y="2770560"/>
              <a:ext cx="893160" cy="20919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_s28683"/>
            <p:cNvSpPr/>
            <p:nvPr/>
          </p:nvSpPr>
          <p:spPr>
            <a:xfrm>
              <a:off x="4761720" y="1585800"/>
              <a:ext cx="17928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СЕМУ НАЧАЛ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ЗДЕСЬ –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КРАЮ МОЁ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ОДНО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ЫБИНС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8684"/>
            <p:cNvSpPr/>
            <p:nvPr/>
          </p:nvSpPr>
          <p:spPr>
            <a:xfrm>
              <a:off x="2670120" y="4263480"/>
              <a:ext cx="17928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ЯРОСЛАВЛ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8685"/>
            <p:cNvSpPr/>
            <p:nvPr/>
          </p:nvSpPr>
          <p:spPr>
            <a:xfrm>
              <a:off x="4761720" y="4263480"/>
              <a:ext cx="17928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АНКТ-ПЕТЕРБУР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28686"/>
            <p:cNvSpPr/>
            <p:nvPr/>
          </p:nvSpPr>
          <p:spPr>
            <a:xfrm>
              <a:off x="6853680" y="4263480"/>
              <a:ext cx="17928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ОСК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БЕДИТЕЛИ И ПРИЗЁРЫ ЗОЛОТАРЁВСКИХ Ч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003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770440" y="160020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700360" y="3938760"/>
            <a:ext cx="2916360" cy="2154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76900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БЕДИТЕЛИ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ссийской конференции в 2009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561636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7:17:19Z</dcterms:created>
  <dc:creator>www.PHILka.RU</dc:creator>
  <dc:description/>
  <dc:language>en-US</dc:language>
  <cp:lastModifiedBy>1</cp:lastModifiedBy>
  <dcterms:modified xsi:type="dcterms:W3CDTF">2012-06-08T02:52:16Z</dcterms:modified>
  <cp:revision>4</cp:revision>
  <dc:subject/>
  <dc:title>Слайд 1</dc:title>
</cp:coreProperties>
</file>