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A22-9BF1-4901-830C-2AE5DD60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2B0-DEB9-4520-8B9E-F666A5B1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642-9703-44CE-9239-123ED5F0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BA4-A5D0-4D43-AB9F-168CAA89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B7D-2E42-414C-AB59-2520898F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A5A-13D3-4EDA-8763-76719D66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319-9394-4350-A197-F8ED5E36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6A5-C15F-466E-A31A-0AB3F1E5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466-2733-4833-8478-0AF9D1DB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FC6D-2341-4A64-B9A7-C18C5FC8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E5F-8EA7-4EBA-A581-21C8977F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445-92C7-43D8-8357-16151F6C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6231-87C1-4236-AE50-7B59A099D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95640" y="404640"/>
            <a:ext cx="48243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50000">
                      <a:srgbClr val="ffff00"/>
                    </a:gs>
                    <a:gs pos="100000">
                      <a:srgbClr val="ff9933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чита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50000">
                    <a:srgbClr val="ffff00"/>
                  </a:gs>
                  <a:gs pos="100000">
                    <a:srgbClr val="ff9933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060640"/>
            <a:ext cx="165744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653000"/>
            <a:ext cx="158436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4653000"/>
            <a:ext cx="165744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060640"/>
            <a:ext cx="1655640" cy="1657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360" y="2060640"/>
            <a:ext cx="1584360" cy="1657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4724280"/>
            <a:ext cx="1584360" cy="1513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371628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211640" y="3716280"/>
            <a:ext cx="0" cy="93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48000" y="5411880"/>
            <a:ext cx="1044360" cy="3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292428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20000" y="3716280"/>
            <a:ext cx="0" cy="93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060640"/>
            <a:ext cx="165744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653000"/>
            <a:ext cx="158436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653000"/>
            <a:ext cx="1657440" cy="1657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716280"/>
            <a:ext cx="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48000" y="5411880"/>
            <a:ext cx="1044360" cy="3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2060640"/>
            <a:ext cx="1657440" cy="165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4653000"/>
            <a:ext cx="1584360" cy="1657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16280"/>
            <a:ext cx="0" cy="938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27664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4941720"/>
            <a:ext cx="17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64000" y="50846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 7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34936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 14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2421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: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88000" y="4869000"/>
            <a:ext cx="10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Брусника"/>
          <p:cNvPicPr/>
          <p:nvPr/>
        </p:nvPicPr>
        <p:blipFill>
          <a:blip r:embed="rId1"/>
          <a:stretch/>
        </p:blipFill>
        <p:spPr>
          <a:xfrm>
            <a:off x="2627280" y="2060640"/>
            <a:ext cx="3816360" cy="4292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700360" y="549360"/>
            <a:ext cx="367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Брусн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47640" y="836640"/>
            <a:ext cx="5977080" cy="30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На здоровье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12325" r="0" b="0"/>
          <a:stretch/>
        </p:blipFill>
        <p:spPr>
          <a:xfrm>
            <a:off x="1116000" y="2060640"/>
            <a:ext cx="6786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916360" y="1628640"/>
            <a:ext cx="4248000" cy="446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1628640"/>
            <a:ext cx="3095640" cy="432000"/>
          </a:xfrm>
          <a:custGeom>
            <a:avLst/>
            <a:gdLst/>
            <a:ahLst/>
            <a:rect l="l" t="t" r="r" b="b"/>
            <a:pathLst>
              <a:path w="544" h="144">
                <a:moveTo>
                  <a:pt x="0" y="98"/>
                </a:moveTo>
                <a:cubicBezTo>
                  <a:pt x="68" y="49"/>
                  <a:pt x="136" y="0"/>
                  <a:pt x="181" y="8"/>
                </a:cubicBezTo>
                <a:cubicBezTo>
                  <a:pt x="226" y="16"/>
                  <a:pt x="212" y="144"/>
                  <a:pt x="272" y="144"/>
                </a:cubicBezTo>
                <a:cubicBezTo>
                  <a:pt x="332" y="144"/>
                  <a:pt x="499" y="31"/>
                  <a:pt x="544" y="8"/>
                </a:cubicBezTo>
              </a:path>
            </a:pathLst>
          </a:custGeom>
          <a:noFill/>
          <a:ln w="92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48360" y="1700280"/>
            <a:ext cx="1944720" cy="439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005360"/>
            <a:ext cx="1584360" cy="215640"/>
          </a:xfrm>
          <a:custGeom>
            <a:avLst/>
            <a:gdLst/>
            <a:ahLst/>
            <a:rect l="l" t="t" r="r" b="b"/>
            <a:pathLst>
              <a:path w="544" h="144">
                <a:moveTo>
                  <a:pt x="0" y="98"/>
                </a:moveTo>
                <a:cubicBezTo>
                  <a:pt x="68" y="49"/>
                  <a:pt x="136" y="0"/>
                  <a:pt x="181" y="8"/>
                </a:cubicBezTo>
                <a:cubicBezTo>
                  <a:pt x="226" y="16"/>
                  <a:pt x="212" y="144"/>
                  <a:pt x="272" y="144"/>
                </a:cubicBezTo>
                <a:cubicBezTo>
                  <a:pt x="332" y="144"/>
                  <a:pt x="499" y="31"/>
                  <a:pt x="544" y="8"/>
                </a:cubicBezTo>
              </a:path>
            </a:pathLst>
          </a:custGeom>
          <a:noFill/>
          <a:ln w="92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-1224360" y="3105000"/>
            <a:ext cx="504036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99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пропиши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3399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347640" y="260280"/>
            <a:ext cx="23749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2 :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* 7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 * 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1 : 9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* 2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*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: 4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* 5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 * 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216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2  40  9   6   30   5   10   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  К   И   Л   Е    Н   З   Я    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Земляника"/>
          <p:cNvPicPr/>
          <p:nvPr/>
        </p:nvPicPr>
        <p:blipFill>
          <a:blip r:embed="rId1"/>
          <a:stretch/>
        </p:blipFill>
        <p:spPr>
          <a:xfrm>
            <a:off x="2843280" y="2476440"/>
            <a:ext cx="3024000" cy="3832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979640" y="1052640"/>
            <a:ext cx="518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Землян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979640" y="476280"/>
            <a:ext cx="489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ретий лишни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133720"/>
            <a:ext cx="25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48 : 6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716280"/>
            <a:ext cx="25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3 : 6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4360" y="2276640"/>
            <a:ext cx="23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81 : 9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Морошка"/>
          <p:cNvPicPr/>
          <p:nvPr/>
        </p:nvPicPr>
        <p:blipFill>
          <a:blip r:embed="rId1"/>
          <a:stretch/>
        </p:blipFill>
        <p:spPr>
          <a:xfrm>
            <a:off x="2484360" y="2060640"/>
            <a:ext cx="4032360" cy="2965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556000" y="404640"/>
            <a:ext cx="3887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рош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908000" y="476280"/>
            <a:ext cx="511200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ление с остатко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2060640"/>
            <a:ext cx="66261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7 : 4             59 :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2 : 6             27 :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7 : 5             78 :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Черника"/>
          <p:cNvPicPr/>
          <p:nvPr/>
        </p:nvPicPr>
        <p:blipFill>
          <a:blip r:embed="rId3"/>
          <a:stretch/>
        </p:blipFill>
        <p:spPr>
          <a:xfrm>
            <a:off x="2411280" y="1700280"/>
            <a:ext cx="4064040" cy="439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987640" y="4941720"/>
            <a:ext cx="295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Черни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916360" y="549360"/>
            <a:ext cx="31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2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916280"/>
            <a:ext cx="172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с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1916280"/>
            <a:ext cx="151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1844640"/>
            <a:ext cx="792360" cy="1440000"/>
          </a:xfrm>
          <a:custGeom>
            <a:avLst/>
            <a:gdLst>
              <a:gd name="textAreaLeft" fmla="*/ 0 w 792360"/>
              <a:gd name="textAreaRight" fmla="*/ 286200 w 792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0720" y="1989000"/>
            <a:ext cx="64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206064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1628640"/>
            <a:ext cx="1441440" cy="201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3645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) 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3645000"/>
            <a:ext cx="17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) 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5000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Клюква"/>
          <p:cNvPicPr/>
          <p:nvPr/>
        </p:nvPicPr>
        <p:blipFill>
          <a:blip r:embed="rId1"/>
          <a:stretch/>
        </p:blipFill>
        <p:spPr>
          <a:xfrm>
            <a:off x="2340000" y="1557360"/>
            <a:ext cx="4680000" cy="4468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484360" y="404640"/>
            <a:ext cx="43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люкв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8:42:55Z</dcterms:created>
  <dc:creator>Alex</dc:creator>
  <dc:description/>
  <dc:language>en-US</dc:language>
  <cp:lastModifiedBy>Alex</cp:lastModifiedBy>
  <dcterms:modified xsi:type="dcterms:W3CDTF">2007-02-08T20:55:12Z</dcterms:modified>
  <cp:revision>5</cp:revision>
  <dc:subject/>
  <dc:title>Слайд 1</dc:title>
</cp:coreProperties>
</file>