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A1C-3181-47BE-9CC4-471E177C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698-8000-4655-9E52-6AEEAFB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FDF-4DB8-4D39-BD5E-80D83393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737-136B-4752-A563-82C5FE06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0BF-3A48-409D-B87E-D7FB1303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2D6-55F8-41B5-B2FA-AA267AD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258-F16D-42A4-8EEA-0DDBAA2A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F92-2001-4707-B4EC-037B2BE0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36D-FD8A-48AD-9F39-20F31921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7F7-2DED-4836-ADC4-F6EAC8A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BE8-E618-4A68-912F-C46201A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F57-F314-4123-9F06-951CE198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A185-059E-49CE-9977-6A770A13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404640"/>
            <a:ext cx="4824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4653000"/>
            <a:ext cx="165744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060640"/>
            <a:ext cx="165564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2060640"/>
            <a:ext cx="158436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4724280"/>
            <a:ext cx="1584360" cy="1513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1164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8000" y="5411880"/>
            <a:ext cx="1044360" cy="3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924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653000"/>
            <a:ext cx="165744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48000" y="5411880"/>
            <a:ext cx="1044360" cy="3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276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941720"/>
            <a:ext cx="17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5084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7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34936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 1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2421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486900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Брусника"/>
          <p:cNvPicPr/>
          <p:nvPr/>
        </p:nvPicPr>
        <p:blipFill>
          <a:blip r:embed="rId1"/>
          <a:stretch/>
        </p:blipFill>
        <p:spPr>
          <a:xfrm>
            <a:off x="2627280" y="2060640"/>
            <a:ext cx="3816360" cy="429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700360" y="549360"/>
            <a:ext cx="36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рус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47640" y="836640"/>
            <a:ext cx="5977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 здоровь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12325" r="0" b="0"/>
          <a:stretch/>
        </p:blipFill>
        <p:spPr>
          <a:xfrm>
            <a:off x="1116000" y="2060640"/>
            <a:ext cx="6786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16360" y="1628640"/>
            <a:ext cx="4248000" cy="446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1628640"/>
            <a:ext cx="3095640" cy="432000"/>
          </a:xfrm>
          <a:custGeom>
            <a:avLst/>
            <a:gdLst/>
            <a:ahLst/>
            <a:rect l="l" t="t" r="r" b="b"/>
            <a:pathLst>
              <a:path w="544" h="144">
                <a:moveTo>
                  <a:pt x="0" y="98"/>
                </a:moveTo>
                <a:cubicBezTo>
                  <a:pt x="68" y="49"/>
                  <a:pt x="136" y="0"/>
                  <a:pt x="181" y="8"/>
                </a:cubicBezTo>
                <a:cubicBezTo>
                  <a:pt x="226" y="16"/>
                  <a:pt x="212" y="144"/>
                  <a:pt x="272" y="144"/>
                </a:cubicBezTo>
                <a:cubicBezTo>
                  <a:pt x="332" y="144"/>
                  <a:pt x="499" y="31"/>
                  <a:pt x="544" y="8"/>
                </a:cubicBezTo>
              </a:path>
            </a:pathLst>
          </a:custGeom>
          <a:noFill/>
          <a:ln w="92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48360" y="1700280"/>
            <a:ext cx="1944720" cy="439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005360"/>
            <a:ext cx="1584360" cy="215640"/>
          </a:xfrm>
          <a:custGeom>
            <a:avLst/>
            <a:gdLst/>
            <a:ahLst/>
            <a:rect l="l" t="t" r="r" b="b"/>
            <a:pathLst>
              <a:path w="544" h="144">
                <a:moveTo>
                  <a:pt x="0" y="98"/>
                </a:moveTo>
                <a:cubicBezTo>
                  <a:pt x="68" y="49"/>
                  <a:pt x="136" y="0"/>
                  <a:pt x="181" y="8"/>
                </a:cubicBezTo>
                <a:cubicBezTo>
                  <a:pt x="226" y="16"/>
                  <a:pt x="212" y="144"/>
                  <a:pt x="272" y="144"/>
                </a:cubicBezTo>
                <a:cubicBezTo>
                  <a:pt x="332" y="144"/>
                  <a:pt x="499" y="31"/>
                  <a:pt x="544" y="8"/>
                </a:cubicBezTo>
              </a:path>
            </a:pathLst>
          </a:custGeom>
          <a:noFill/>
          <a:ln w="92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1224360" y="3105000"/>
            <a:ext cx="504036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пиш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347640" y="260280"/>
            <a:ext cx="23749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*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*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: 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*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2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2  40  9   6   30   5   10  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  К   И   Л   Е    Н   З   Я   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Земляника"/>
          <p:cNvPicPr/>
          <p:nvPr/>
        </p:nvPicPr>
        <p:blipFill>
          <a:blip r:embed="rId1"/>
          <a:stretch/>
        </p:blipFill>
        <p:spPr>
          <a:xfrm>
            <a:off x="2843280" y="2476440"/>
            <a:ext cx="3024000" cy="3832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979640" y="1052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емля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979640" y="47628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тий лишн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13372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8 : 6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16280"/>
            <a:ext cx="25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3 : 6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2276640"/>
            <a:ext cx="23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1 : 9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Морошка"/>
          <p:cNvPicPr/>
          <p:nvPr/>
        </p:nvPicPr>
        <p:blipFill>
          <a:blip r:embed="rId1"/>
          <a:stretch/>
        </p:blipFill>
        <p:spPr>
          <a:xfrm>
            <a:off x="2484360" y="2060640"/>
            <a:ext cx="4032360" cy="296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56000" y="404640"/>
            <a:ext cx="38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ро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08000" y="476280"/>
            <a:ext cx="511200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060640"/>
            <a:ext cx="66261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7 : 4             59 :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2 : 6             27 :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7 : 5             78 :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Черника"/>
          <p:cNvPicPr/>
          <p:nvPr/>
        </p:nvPicPr>
        <p:blipFill>
          <a:blip r:embed="rId3"/>
          <a:stretch/>
        </p:blipFill>
        <p:spPr>
          <a:xfrm>
            <a:off x="2411280" y="1700280"/>
            <a:ext cx="4064040" cy="439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987640" y="4941720"/>
            <a:ext cx="295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ер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916360" y="549360"/>
            <a:ext cx="31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916280"/>
            <a:ext cx="17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1916280"/>
            <a:ext cx="151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1844640"/>
            <a:ext cx="792360" cy="1440000"/>
          </a:xfrm>
          <a:custGeom>
            <a:avLst/>
            <a:gdLst>
              <a:gd name="textAreaLeft" fmla="*/ 0 w 792360"/>
              <a:gd name="textAreaRight" fmla="*/ 286200 w 792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0720" y="19890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206064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628640"/>
            <a:ext cx="1441440" cy="20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3645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3645000"/>
            <a:ext cx="17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люква"/>
          <p:cNvPicPr/>
          <p:nvPr/>
        </p:nvPicPr>
        <p:blipFill>
          <a:blip r:embed="rId1"/>
          <a:stretch/>
        </p:blipFill>
        <p:spPr>
          <a:xfrm>
            <a:off x="2340000" y="1557360"/>
            <a:ext cx="4680000" cy="446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484360" y="40464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юк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8:42:55Z</dcterms:created>
  <dc:creator>Alex</dc:creator>
  <dc:description/>
  <dc:language>en-US</dc:language>
  <cp:lastModifiedBy>Alex</cp:lastModifiedBy>
  <dcterms:modified xsi:type="dcterms:W3CDTF">2007-02-08T20:55:12Z</dcterms:modified>
  <cp:revision>5</cp:revision>
  <dc:subject/>
  <dc:title>Слайд 1</dc:title>
</cp:coreProperties>
</file>