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B157-9BF2-4C6F-97E9-69726084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56D-02A9-4DEC-B3BC-C1A8C2DC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D182-EE19-4772-B442-4D30A987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8EB1-DBED-47FC-A922-4D142D00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2D2-C89D-45FE-B39A-98B17183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107-D63F-4234-9935-2FE33CEE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1B9-C149-4B88-B2F1-D2338921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611-5F1B-4628-A3FC-A8F19B9E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5C3-AD48-477D-BF3E-7E2974E0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9B4-DCAA-4D80-B7C5-AC8A1A69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7AA-3ABA-435F-BF86-CF0DC4DB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2889-526C-4DBF-9E7B-792B5C9B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E15E-1CC5-48F5-B0A0-B6D54C9B23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118960" cy="83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118960" cy="83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09:01:56Z</dcterms:created>
  <dc:creator>Admin</dc:creator>
  <dc:description/>
  <dc:language>en-US</dc:language>
  <cp:lastModifiedBy>Admin</cp:lastModifiedBy>
  <dcterms:modified xsi:type="dcterms:W3CDTF">2012-06-05T09:11:52Z</dcterms:modified>
  <cp:revision>4</cp:revision>
  <dc:subject/>
  <dc:title>Слайд 1</dc:title>
</cp:coreProperties>
</file>