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F3B-CAEB-4DF7-B43B-6ACB188E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499-AB51-45E8-8976-D1932A86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54B-55FF-42C7-9D1D-61F51737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1F7-A49E-49F4-96C2-1BF3929B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EBB-D4C3-4C00-A9E5-33C83E70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C6A0-6F45-4E15-9E90-FE2B494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D30-840D-4295-9681-BF4AF17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D4B-A67F-4D46-B451-1BECDC2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320-7D9D-4108-983A-8301F9A4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AC0-A3B3-483C-8563-5CC8409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D453-5AEF-4522-A288-B12ECA49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59E-E9AB-434F-B129-66B9E2F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0A1B-DBD8-4A6A-B7FB-43746CE8C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118960" cy="83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09:01:56Z</dcterms:created>
  <dc:creator>Admin</dc:creator>
  <dc:description/>
  <dc:language>en-US</dc:language>
  <cp:lastModifiedBy>Admin</cp:lastModifiedBy>
  <dcterms:modified xsi:type="dcterms:W3CDTF">2012-06-05T09:11:52Z</dcterms:modified>
  <cp:revision>4</cp:revision>
  <dc:subject/>
  <dc:title>Слайд 1</dc:title>
</cp:coreProperties>
</file>