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C97-EC13-4820-8C47-A44D7787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C45-664C-4523-9CC4-0A4288BD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346-4F3F-4DDF-9B78-85AA1047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9B0-74D1-4CBF-955C-8D3260D2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C12-C3ED-48E0-868D-62A19D4D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88B-3CC0-41A2-9AEF-C6DF8371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A9F-8343-4225-A0FD-3BF6ADAA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B68-0E2D-4BAE-A81C-884B499C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151-C753-4A36-8C2E-FD7B346D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358F-EDDF-4319-8FEF-CD7E3BE8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BAC-04FD-410B-9AB4-940A4974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2703-9460-4CD1-AE2E-E87629FD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3D11-9723-4B4D-B9B6-A98CB940A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Какие ошибки допущены при составлении электрической цепи, схема которой изображена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50292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представляет собой мол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59092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лектрический разряд в атмосфере в виде линейной молнии представляет собой электрический ток, причем сила тока за 0,2-0,3 с,  меняется.  Сила тока в канале молнии достигает 10000 -20000 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52480" y="993600"/>
          <a:ext cx="7362720" cy="47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2480" y="993600"/>
                    <a:ext cx="736272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. Сколько стоит 1 кВт в час?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 сколько электроэнергии ваша семья потребляет в месяц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343400" y="4724280"/>
            <a:ext cx="4118040" cy="1594080"/>
          </a:xfrm>
          <a:prstGeom prst="rect">
            <a:avLst/>
          </a:prstGeom>
          <a:ln w="0">
            <a:noFill/>
          </a:ln>
        </p:spPr>
      </p:pic>
      <p:pic>
        <p:nvPicPr>
          <p:cNvPr id="65" name="122-9001" descr="Розетка"/>
          <p:cNvPicPr/>
          <p:nvPr/>
        </p:nvPicPr>
        <p:blipFill>
          <a:blip r:embed="rId2"/>
          <a:stretch/>
        </p:blipFill>
        <p:spPr>
          <a:xfrm>
            <a:off x="685800" y="4114800"/>
            <a:ext cx="224784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4479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2, 83,86 (с.14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24800" y="1828800"/>
            <a:ext cx="6811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бобщающий урок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 теме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Электрические явл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77724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общение знаний по теме : «Электрические явл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крепление навыков решения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звитие умений применять знания в новых ситуац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ормирование навыков самостоятельной работы и межличностного общения в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«Аукцион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Лот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838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афик зависимости силы тока от напря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40040" y="838080"/>
            <a:ext cx="5137200" cy="5553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Лот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рибор вольт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Качественно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Как изменятся показания амперметра, ес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- первую   лампу  выкрут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- параллельно второй лампе включить еще од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Люблю задачи 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05416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й заряд протечет в катушке гальванометра, включенного в цепь на 2 мин, если сила тока в цепи 12 мА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напряжении 1,2 к В сила тока в одной из секций телевизора 50 мА. Чему равно сопротивление цепи этой секции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Виктори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2-13T05:30:5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