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A1F-00B0-4C6E-B003-741ED19A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901-4981-4AD6-8B81-735001A5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87D-791C-4E12-B4D5-BA6C29A1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667-96D6-4D09-90E0-64489AEE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AE9-CA32-4011-88B6-FAB9EF3C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881-5D96-4708-BCB7-947F6CE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10A-EB7A-400A-804E-A9F13CE3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C62-397D-4037-9A38-B4A2EE10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2A2-CD74-4F80-953E-177F213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DA6C-2D68-43AE-BE13-FD75898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0145-A540-4461-9B97-4454E19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06D-9742-48CD-800F-F83B879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6F4C-E901-4B5F-AAD1-682D223F3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Какие ошибки допущены при составлении электрической цепи, схема которой изображена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50292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представляет собой мол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590920"/>
            <a:ext cx="678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ический разряд в атмосфере в виде линейной молнии представляет собой электрический ток, причем сила тока за 0,2-0,3 с,  меняется.  Сила тока в канале молнии достигает 10000 -20000 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2480" y="993600"/>
          <a:ext cx="736272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993600"/>
                    <a:ext cx="73627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Сколько стоит 1 кВт в час?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 сколько электроэнергии ваша семья потребляет в меся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118040" cy="1594080"/>
          </a:xfrm>
          <a:prstGeom prst="rect">
            <a:avLst/>
          </a:prstGeom>
          <a:ln w="0">
            <a:noFill/>
          </a:ln>
        </p:spPr>
      </p:pic>
      <p:pic>
        <p:nvPicPr>
          <p:cNvPr id="65" name="122-9001" descr="Розетка"/>
          <p:cNvPicPr/>
          <p:nvPr/>
        </p:nvPicPr>
        <p:blipFill>
          <a:blip r:embed="rId2"/>
          <a:stretch/>
        </p:blipFill>
        <p:spPr>
          <a:xfrm>
            <a:off x="685800" y="4114800"/>
            <a:ext cx="22478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2, 83,86 (с.14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24800" y="1828800"/>
            <a:ext cx="6811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бобщающий урок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 теме: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Электрические явл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бобщение знаний по теме : «Электрические яв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репление навыков решения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звитие умений применять знания в новых ситу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Формирование навыков самостоятельной работы и межличностного общения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Аукцион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Лот 1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838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фик зависимости силы тока от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0040" y="838080"/>
            <a:ext cx="5137200" cy="555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Лот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ибор вольт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Качественно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Как изменятся показания амперметра, ес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первую   лампу  выкрут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- параллельно второй лампе включить еще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Люблю задачи 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05416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й заряд протечет в катушке гальванометра, включенного в цепь на 2 мин, если сила тока в цепи 12 мА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напряжении 1,2 к В сила тока в одной из секций телевизора 50 мА. Чему равно сопротивление цепи этой секции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Виктор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2-13T05:30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