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6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27.jpeg" ContentType="image/jpeg"/>
  <Override PartName="/ppt/media/image10.png" ContentType="image/png"/>
  <Override PartName="/ppt/media/image4.wmf" ContentType="image/x-wmf"/>
  <Override PartName="/ppt/media/image12.jpeg" ContentType="image/jpeg"/>
  <Override PartName="/ppt/media/image6.wmf" ContentType="image/x-wmf"/>
  <Override PartName="/ppt/media/image7.wmf" ContentType="image/x-wmf"/>
  <Override PartName="/ppt/media/image29.jpeg" ContentType="image/jpeg"/>
  <Override PartName="/ppt/media/image28.png" ContentType="image/png"/>
  <Override PartName="/ppt/media/image8.jpeg" ContentType="image/jpeg"/>
  <Override PartName="/ppt/media/image13.jpeg" ContentType="image/jpeg"/>
  <Override PartName="/ppt/media/image31.jpeg" ContentType="image/jpeg"/>
  <Override PartName="/ppt/media/image30.png" ContentType="image/png"/>
  <Override PartName="/ppt/media/image3.jpeg" ContentType="image/jpeg"/>
  <Override PartName="/ppt/media/image1.png" ContentType="image/png"/>
  <Override PartName="/ppt/media/image24.png" ContentType="image/png"/>
  <Override PartName="/ppt/media/image11.jpeg" ContentType="image/jpeg"/>
  <Override PartName="/ppt/media/image14.jpeg" ContentType="image/jpeg"/>
  <Override PartName="/ppt/media/image15.jpeg" ContentType="image/jpeg"/>
  <Override PartName="/ppt/media/image5.wmf" ContentType="image/x-wmf"/>
  <Override PartName="/ppt/media/image16.jpeg" ContentType="image/jpeg"/>
  <Override PartName="/ppt/media/image17.jpeg" ContentType="image/jpeg"/>
  <Override PartName="/ppt/media/image18.jpeg" ContentType="image/jpeg"/>
  <Override PartName="/ppt/media/image20.jpeg" ContentType="image/jpeg"/>
  <Override PartName="/ppt/media/image19.png" ContentType="image/png"/>
  <Override PartName="/ppt/media/image21.jpeg" ContentType="image/jpeg"/>
  <Override PartName="/ppt/media/image9.png" ContentType="image/png"/>
  <Override PartName="/ppt/media/image2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A15EA-92DE-4F7C-A629-73BDD8815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A8CD7-8338-4501-8714-1F1FC46D5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ECAD6-F63E-48CE-9CDA-BCA1DE2E0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95261-69FF-4465-AAB2-6B4EFFFD3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52A4C-6487-44AC-86C2-F13E02B09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C0328-781F-4E1A-8377-531BDBB56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11BA9-C883-44B2-8583-FAAFD79DC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CF578-6C1C-4487-819C-8261B09D4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7FA51-E7CD-46B8-9BB5-84A5F0AB9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ADCD5-9F23-4AE3-AD40-BCAF5824E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A5714-4D2C-4C0D-92E3-1EC0C6016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2E6C6-420B-4733-A8D8-DC40A94CC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3B5DA-4CA8-4B02-8502-0078AA190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AA83C-7D12-4F74-AB77-B0E11A3DB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C9A5C-793B-45A9-A19B-BFE8486A8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CF628-5359-43AB-90FD-0F0E7D34D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DE1A0-3DB9-439A-95FB-B5C57B4B8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B9BC3-1F90-42CD-976C-F5A598FFE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132E9-F0C0-4BE5-8678-AF77FA0F1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99D07-1293-4657-9000-369542584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406FB-3B0E-4949-8FE3-8F76B916E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3EA8E-6E6C-4266-AAF3-8457AA3AF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43167-353D-476B-99B7-D6CE51BA6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B2EB1-F68D-4967-ADA0-BBDBAFBC5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DB7AB-A42E-4214-AE71-7BEBEC8942ED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930A7-5383-43C2-AE94-74069978EE2B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9" descr="91"/>
          <p:cNvPicPr/>
          <p:nvPr/>
        </p:nvPicPr>
        <p:blipFill>
          <a:blip r:embed="rId1"/>
          <a:stretch/>
        </p:blipFill>
        <p:spPr>
          <a:xfrm>
            <a:off x="3780000" y="5700600"/>
            <a:ext cx="649080" cy="9828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7" descr="35"/>
          <p:cNvPicPr/>
          <p:nvPr/>
        </p:nvPicPr>
        <p:blipFill>
          <a:blip r:embed="rId2"/>
          <a:stretch/>
        </p:blipFill>
        <p:spPr>
          <a:xfrm>
            <a:off x="6451560" y="5967360"/>
            <a:ext cx="763560" cy="8906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2" descr="34"/>
          <p:cNvPicPr/>
          <p:nvPr/>
        </p:nvPicPr>
        <p:blipFill>
          <a:blip r:embed="rId3"/>
          <a:stretch/>
        </p:blipFill>
        <p:spPr>
          <a:xfrm>
            <a:off x="684360" y="5775480"/>
            <a:ext cx="601560" cy="79524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7632720" cy="18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Методы регуляции</a:t>
            </a: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эмоциональных состояний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-360" y="1773000"/>
            <a:ext cx="860436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990033"/>
                </a:solidFill>
                <a:latin typeface="Arial"/>
              </a:rPr>
              <a:t>Автор- составитель: педагог- психолог МОУ гимназия г. Нытва В.А.</a:t>
            </a:r>
            <a:r>
              <a:rPr b="1" i="1" lang="ru-RU" sz="4000" spc="-1" strike="noStrike">
                <a:solidFill>
                  <a:srgbClr val="990033"/>
                </a:solidFill>
                <a:latin typeface="Arial"/>
              </a:rPr>
              <a:t>Латышев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Уровни профессиональной  деформации педагогов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8360" y="1857240"/>
            <a:ext cx="822960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</a:rPr>
              <a:t>Общепедагогический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назидательность, догматичность, ригидность, неадекватная самооценка и др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</a:rPr>
              <a:t>Типологический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говорливость, неумение слушать, контролерств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</a:rPr>
              <a:t>Спецефический: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еувеличение значимости своего предмет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</a:rPr>
              <a:t>Индивидуальный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: изменения происходящие со структурой личности. Проявляется в качествах: повышенная тревожность, социальная пассивность, лицемерие, эмоциональная сухость, морализаци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0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8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330033"/>
                </a:solidFill>
                <a:latin typeface="Times New Roman"/>
              </a:rPr>
              <a:t>Стадии развития профессиональной  деформации педагогов</a:t>
            </a:r>
            <a:endParaRPr b="0" lang="en-US" sz="35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10920" y="1773360"/>
            <a:ext cx="7869240" cy="383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1.Стадия измененной эмоциональност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Монотония в поведении: оценивание, претензия на монопольное владение истиной, безальтернативное мышление, контроль, разъяснения в любых ситуациях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«Государственное лицо», голос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Гневливость или обидчивост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тоянная неудовлетворенность, раздражительност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умение слушат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лохой сон, частые болезни, апат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0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4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0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8" dur="5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6" dur="500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" dur="500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39280" y="0"/>
            <a:ext cx="74725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68000" y="1571760"/>
            <a:ext cx="6119640" cy="448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2 стадия: многоплановых изменени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знаки, относящиеся к 1 стади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возможность выполнять многофункциональные действ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менение смысла деятельности на противоположный (вместо сотрудничества, взаимодействия с целью развития - поиск врага, борьб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4" descr="j0299587"/>
          <p:cNvPicPr/>
          <p:nvPr/>
        </p:nvPicPr>
        <p:blipFill>
          <a:blip r:embed="rId1"/>
          <a:stretch/>
        </p:blipFill>
        <p:spPr>
          <a:xfrm>
            <a:off x="6948360" y="2401920"/>
            <a:ext cx="981360" cy="9795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" descr="j0293828"/>
          <p:cNvPicPr/>
          <p:nvPr/>
        </p:nvPicPr>
        <p:blipFill>
          <a:blip r:embed="rId2"/>
          <a:stretch/>
        </p:blipFill>
        <p:spPr>
          <a:xfrm>
            <a:off x="6156360" y="5603760"/>
            <a:ext cx="772920" cy="814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1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6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1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6" dur="5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8000" y="-64764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68000" y="1499760"/>
            <a:ext cx="821844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держивание профессионального роста учителя, ведущее к стадии  профессиональной стагнации,  продуцируется моделью адаптивного поведения учителя, в основе которой лежит подчинение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нешним обстоятельства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 виде выполнения социальных требований, ожиданий, нор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менение механизма профессиональной жизнедеятельности учителя связано с его способностью выйти за пределы непрерывного потока повседневной педагогической практики, за пределы своего эмпирического Я, увидеть процесс своего труда в целом и превратить собственную жизнедеятельность в предмет практического преобразования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Учителя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представители стрессогенной  профессии – нуждаются в реабилитационных процедурах. Это призывает к необходимости использования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новых технологий диагностики  физического и психического здоровья и комплексов психологических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психотерапевтических и спортивно-бальнеологических процеду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чь идет об обучении учителей приемами саморегуляции психических состояний, участия в психотренингах и спортивно-оздоровительных мероприятиях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0000"/>
                </a:solidFill>
                <a:latin typeface="Arial"/>
              </a:rPr>
              <a:t>  </a:t>
            </a: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Окружающий мир-  это зеркало, в котором каждый человек видит свое отражение. Поэтому основные причины проблем нужно искать в себе, а не во внешних обстоятельствах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0000"/>
                </a:solidFill>
                <a:latin typeface="Times New Roman"/>
              </a:rPr>
              <a:t>1.</a:t>
            </a:r>
            <a:r>
              <a:rPr b="0" lang="ru-RU" sz="3800" spc="-1" strike="noStrike">
                <a:solidFill>
                  <a:srgbClr val="ff0000"/>
                </a:solidFill>
                <a:latin typeface="Times New Roman"/>
              </a:rPr>
              <a:t> Медленный счет до 10 раз</a:t>
            </a:r>
            <a:br>
              <a:rPr sz="3800"/>
            </a:b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14400" y="1557360"/>
            <a:ext cx="7772400" cy="45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нтервал между цифрами должен быть не менее  двух секунд. Для удобства счита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33"/>
                </a:solidFill>
                <a:latin typeface="Arial"/>
              </a:rPr>
              <a:t>1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 два, три)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33"/>
                </a:solidFill>
                <a:latin typeface="Arial"/>
              </a:rPr>
              <a:t>2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 три, четыре)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33"/>
                </a:solidFill>
                <a:latin typeface="Arial"/>
              </a:rPr>
              <a:t>3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пять, шесть) и т. 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5"/>
          <p:cNvSpPr/>
          <p:nvPr/>
        </p:nvSpPr>
        <p:spPr>
          <a:xfrm>
            <a:off x="179280" y="2781360"/>
            <a:ext cx="10693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9" descr="56"/>
          <p:cNvPicPr/>
          <p:nvPr/>
        </p:nvPicPr>
        <p:blipFill>
          <a:blip r:embed="rId1"/>
          <a:stretch/>
        </p:blipFill>
        <p:spPr>
          <a:xfrm>
            <a:off x="6588000" y="5923080"/>
            <a:ext cx="770040" cy="82692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11280" y="1599840"/>
            <a:ext cx="807552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cc"/>
                </a:solidFill>
                <a:latin typeface="Arial"/>
              </a:rPr>
              <a:t>2.</a:t>
            </a:r>
            <a:r>
              <a:rPr b="0" lang="ru-RU" sz="3600" spc="-1" strike="noStrike">
                <a:solidFill>
                  <a:srgbClr val="6600cc"/>
                </a:solidFill>
                <a:latin typeface="Arial"/>
              </a:rPr>
              <a:t>Отсроченное действие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« Сначала помою посуду, прочитаю газету, потом скажу ему(ей) все, что думаю по этому поводу»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«Подумаю два дня, а потом приму решение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8" descr="0_12322_23edadb3_XL"/>
          <p:cNvPicPr/>
          <p:nvPr/>
        </p:nvPicPr>
        <p:blipFill>
          <a:blip r:embed="rId1"/>
          <a:stretch/>
        </p:blipFill>
        <p:spPr>
          <a:xfrm>
            <a:off x="5508720" y="5499000"/>
            <a:ext cx="635040" cy="6667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Rectangle 6"/>
          <p:cNvSpPr/>
          <p:nvPr/>
        </p:nvSpPr>
        <p:spPr>
          <a:xfrm>
            <a:off x="468360" y="1484280"/>
            <a:ext cx="17064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33"/>
                </a:solidFill>
                <a:latin typeface="Arial"/>
              </a:rPr>
              <a:t>3.</a:t>
            </a:r>
            <a:r>
              <a:rPr b="0" lang="ru-RU" sz="3200" spc="-1" strike="noStrike">
                <a:solidFill>
                  <a:srgbClr val="990033"/>
                </a:solidFill>
                <a:latin typeface="Arial"/>
              </a:rPr>
              <a:t> Переключаемся на нейтральны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990033"/>
                </a:solidFill>
                <a:latin typeface="Arial"/>
              </a:rPr>
              <a:t>темы, представляем лес,</a:t>
            </a:r>
            <a:br>
              <a:rPr sz="3200"/>
            </a:br>
            <a:r>
              <a:rPr b="0" lang="ru-RU" sz="3200" spc="-1" strike="noStrike">
                <a:solidFill>
                  <a:srgbClr val="990033"/>
                </a:solidFill>
                <a:latin typeface="Arial"/>
              </a:rPr>
              <a:t> пляж, купание в озере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7" descr="0_120fc_b9154edd_XL"/>
          <p:cNvPicPr/>
          <p:nvPr/>
        </p:nvPicPr>
        <p:blipFill>
          <a:blip r:embed="rId2"/>
          <a:stretch/>
        </p:blipFill>
        <p:spPr>
          <a:xfrm>
            <a:off x="3000240" y="6014880"/>
            <a:ext cx="642960" cy="58284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00000" y="333360"/>
            <a:ext cx="7772400" cy="106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Times New Roman"/>
              </a:rPr>
              <a:t>4.</a:t>
            </a:r>
            <a:r>
              <a:rPr b="0" lang="ru-RU" sz="2800" spc="-1" strike="noStrike">
                <a:solidFill>
                  <a:srgbClr val="ff0066"/>
                </a:solidFill>
                <a:latin typeface="Times New Roman"/>
              </a:rPr>
              <a:t>Самоубеждение. Убедите себя в несерьезности собственных переживаний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00000" y="2420640"/>
            <a:ext cx="7772400" cy="37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4"/>
          <p:cNvSpPr/>
          <p:nvPr/>
        </p:nvSpPr>
        <p:spPr>
          <a:xfrm>
            <a:off x="900000" y="1628640"/>
            <a:ext cx="77756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ff"/>
                </a:solidFill>
                <a:latin typeface="Arial"/>
              </a:rPr>
              <a:t>Формулы самоубеждения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Для меня это не важно», « Я все смогу», « Я все выдержу»- помогают выключить отрицательные эмоции на короткое время, не давая им преодолет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правляемос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5" descr="98"/>
          <p:cNvPicPr/>
          <p:nvPr/>
        </p:nvPicPr>
        <p:blipFill>
          <a:blip r:embed="rId1"/>
          <a:stretch/>
        </p:blipFill>
        <p:spPr>
          <a:xfrm>
            <a:off x="7786800" y="5689440"/>
            <a:ext cx="817560" cy="90828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79280" y="1484280"/>
            <a:ext cx="87854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4400" spc="-1" strike="noStrike">
                <a:solidFill>
                  <a:srgbClr val="990033"/>
                </a:solidFill>
                <a:latin typeface="Arial"/>
              </a:rPr>
              <a:t>Бог может простить нам грехи наши, но нервная система никогд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0033"/>
                </a:solidFill>
                <a:latin typeface="Arial"/>
              </a:rPr>
              <a:t>                                             </a:t>
            </a:r>
            <a:r>
              <a:rPr b="0" lang="ru-RU" sz="4400" spc="-1" strike="noStrike">
                <a:solidFill>
                  <a:srgbClr val="990033"/>
                </a:solidFill>
                <a:latin typeface="Arial"/>
              </a:rPr>
              <a:t>Уильям ДЖЕМ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11280" y="1412640"/>
            <a:ext cx="8061120" cy="474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Радость- это, вероятно, лучшее средство преодолеть трудност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Альфред  АДЛЕ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Люди, обладающие чувством юмора, живут в среднем на 5 лет дольше, чем те кто лишен этого чувств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Times New Roman"/>
              </a:rPr>
              <a:t>5.</a:t>
            </a:r>
            <a:r>
              <a:rPr b="0" lang="ru-RU" sz="2800" spc="-1" strike="noStrike">
                <a:solidFill>
                  <a:srgbClr val="006600"/>
                </a:solidFill>
                <a:latin typeface="Times New Roman"/>
              </a:rPr>
              <a:t> Дыхательные упражнения :Вдох через нос, а выдох через рот в 3 раза длиннее вдоха. Повторить 6-7 раз.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3" name="Rectangle 6"/>
          <p:cNvSpPr/>
          <p:nvPr/>
        </p:nvSpPr>
        <p:spPr>
          <a:xfrm>
            <a:off x="2268360" y="90792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8"/>
          <p:cNvSpPr/>
          <p:nvPr/>
        </p:nvSpPr>
        <p:spPr>
          <a:xfrm>
            <a:off x="684360" y="1584360"/>
            <a:ext cx="8064360" cy="49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9900"/>
                </a:solidFill>
                <a:uFillTx/>
                <a:latin typeface="Arial"/>
              </a:rPr>
              <a:t>Другой вариант: </a:t>
            </a:r>
            <a:r>
              <a:rPr b="0" lang="ru-RU" sz="2000" spc="-1" strike="noStrike" u="sng">
                <a:solidFill>
                  <a:srgbClr val="cc0099"/>
                </a:solidFill>
                <a:uFillTx/>
                <a:latin typeface="Arial"/>
              </a:rPr>
              <a:t>задержка дых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сли вы находитесь на грани нервного срыва и не владеете собой, упражнение даст облегчение. Задержку дыхания необходимо производить на выдохе. Сядьте, облокотившись спиной на спинку стула, или лягте на спину. Медленно выдохните и зажмите нос двумя пальцами. Не дышите как можно дольше, до кругов перед глазами. Вреда от такой задержки не будет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тем постарайтесь медленно вдохнуть через нос. Медленный вдох – обязательное условие, хотя сделать это будет очень тяжело. После этого медленно выдохните и 1-2 мин.  дышите спокойно. Разговаривать в это время нельзя. Повторяйте это упражнение 3 или 4 раза, если необходимо, более раз подряд с интервалом в 1-2 мин. Если вы вовремя вспомните этом способе, то после любого нервного срыва быстро успокоитесь и сможете трезво оценить ситуаци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00000" y="188640"/>
            <a:ext cx="7772400" cy="16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imes New Roman"/>
              </a:rPr>
              <a:t>6.</a:t>
            </a:r>
            <a:r>
              <a:rPr b="0" lang="ru-RU" sz="2800" spc="-1" strike="noStrike">
                <a:solidFill>
                  <a:srgbClr val="000099"/>
                </a:solidFill>
                <a:latin typeface="Times New Roman"/>
              </a:rPr>
              <a:t>Физические упражнения. Устройт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800" spc="-1" strike="noStrike">
                <a:solidFill>
                  <a:srgbClr val="000099"/>
                </a:solidFill>
                <a:latin typeface="Times New Roman"/>
              </a:rPr>
              <a:t>генеральную уборку в квартире, поработайте в саду, погуляйте, смастерите что-то и т. д.</a:t>
            </a:r>
            <a:br>
              <a:rPr sz="2800"/>
            </a:b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4" descr="47"/>
          <p:cNvPicPr/>
          <p:nvPr/>
        </p:nvPicPr>
        <p:blipFill>
          <a:blip r:embed="rId1"/>
          <a:stretch/>
        </p:blipFill>
        <p:spPr>
          <a:xfrm>
            <a:off x="468360" y="3546360"/>
            <a:ext cx="745920" cy="7732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5" descr="57"/>
          <p:cNvPicPr/>
          <p:nvPr/>
        </p:nvPicPr>
        <p:blipFill>
          <a:blip r:embed="rId2"/>
          <a:stretch/>
        </p:blipFill>
        <p:spPr>
          <a:xfrm>
            <a:off x="4429080" y="4848120"/>
            <a:ext cx="862200" cy="102888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6" descr="a7b6caa95d"/>
          <p:cNvPicPr/>
          <p:nvPr/>
        </p:nvPicPr>
        <p:blipFill>
          <a:blip r:embed="rId3"/>
          <a:stretch/>
        </p:blipFill>
        <p:spPr>
          <a:xfrm>
            <a:off x="6012000" y="4941720"/>
            <a:ext cx="2158920" cy="17701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7" descr="50"/>
          <p:cNvPicPr/>
          <p:nvPr/>
        </p:nvPicPr>
        <p:blipFill>
          <a:blip r:embed="rId4"/>
          <a:stretch/>
        </p:blipFill>
        <p:spPr>
          <a:xfrm>
            <a:off x="5508720" y="3871800"/>
            <a:ext cx="992160" cy="9255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8" descr="a7b6caa95d"/>
          <p:cNvPicPr/>
          <p:nvPr/>
        </p:nvPicPr>
        <p:blipFill>
          <a:blip r:embed="rId5"/>
          <a:stretch/>
        </p:blipFill>
        <p:spPr>
          <a:xfrm>
            <a:off x="6012000" y="6135840"/>
            <a:ext cx="703080" cy="576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4"/>
          <p:cNvSpPr/>
          <p:nvPr/>
        </p:nvSpPr>
        <p:spPr>
          <a:xfrm>
            <a:off x="900000" y="1484280"/>
            <a:ext cx="77756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33"/>
                </a:solidFill>
                <a:latin typeface="Arial"/>
              </a:rPr>
              <a:t>7.</a:t>
            </a:r>
            <a:r>
              <a:rPr b="0" lang="ru-RU" sz="4000" spc="-1" strike="noStrike">
                <a:solidFill>
                  <a:srgbClr val="990033"/>
                </a:solidFill>
                <a:latin typeface="Arial"/>
              </a:rPr>
              <a:t>Мимические упражнения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Надуйте щеки, и постепенно выдохните через плотно сжатые губы; поочередно надувайте то одну, то другую щеку, то обе щеки вмест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6" name="Rectangle 4"/>
          <p:cNvSpPr/>
          <p:nvPr/>
        </p:nvSpPr>
        <p:spPr>
          <a:xfrm>
            <a:off x="971640" y="2349360"/>
            <a:ext cx="7632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00"/>
                </a:solidFill>
                <a:latin typeface="Arial"/>
              </a:rPr>
              <a:t>8.</a:t>
            </a:r>
            <a:r>
              <a:rPr b="0" lang="ru-RU" sz="3600" spc="-1" strike="noStrike">
                <a:solidFill>
                  <a:srgbClr val="008000"/>
                </a:solidFill>
                <a:latin typeface="Arial"/>
              </a:rPr>
              <a:t>Расслабление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(уравновесьте дыхание, создайте ощущение тяжести в голове, плечах, руках, ногах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5" descr="26"/>
          <p:cNvPicPr/>
          <p:nvPr/>
        </p:nvPicPr>
        <p:blipFill>
          <a:blip r:embed="rId1"/>
          <a:stretch/>
        </p:blipFill>
        <p:spPr>
          <a:xfrm>
            <a:off x="6581880" y="6000840"/>
            <a:ext cx="847800" cy="85716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6" descr="67"/>
          <p:cNvPicPr/>
          <p:nvPr/>
        </p:nvPicPr>
        <p:blipFill>
          <a:blip r:embed="rId2"/>
          <a:stretch/>
        </p:blipFill>
        <p:spPr>
          <a:xfrm>
            <a:off x="1928880" y="1593720"/>
            <a:ext cx="914400" cy="75564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9" descr="erg11bqeejpsaj46jmk0tqo8upn9552u_5"/>
          <p:cNvPicPr/>
          <p:nvPr/>
        </p:nvPicPr>
        <p:blipFill>
          <a:blip r:embed="rId3"/>
          <a:stretch/>
        </p:blipFill>
        <p:spPr>
          <a:xfrm>
            <a:off x="5821200" y="1608120"/>
            <a:ext cx="1179720" cy="884160"/>
          </a:xfrm>
          <a:prstGeom prst="rect">
            <a:avLst/>
          </a:prstGeom>
          <a:ln w="0">
            <a:noFill/>
          </a:ln>
        </p:spPr>
      </p:pic>
    </p:spTree>
  </p:cSld>
  <p:transition>
    <p:pull dir="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1" name="Rectangle 4"/>
          <p:cNvSpPr/>
          <p:nvPr/>
        </p:nvSpPr>
        <p:spPr>
          <a:xfrm>
            <a:off x="611280" y="1700280"/>
            <a:ext cx="8353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9.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Агрессивное поведение бывает в ответ на нежелательное поведени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66"/>
                </a:solidFill>
                <a:latin typeface="Arial"/>
              </a:rPr>
              <a:t>Ответьте себе на вопрос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: « А что он (а) хочет»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Рисунок 3" descr="00001012.jpg"/>
          <p:cNvPicPr/>
          <p:nvPr/>
        </p:nvPicPr>
        <p:blipFill>
          <a:blip r:embed="rId1"/>
          <a:stretch/>
        </p:blipFill>
        <p:spPr>
          <a:xfrm>
            <a:off x="3919680" y="4071960"/>
            <a:ext cx="2908080" cy="504828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11280" y="155700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4"/>
          <p:cNvSpPr/>
          <p:nvPr/>
        </p:nvSpPr>
        <p:spPr>
          <a:xfrm>
            <a:off x="611280" y="2421000"/>
            <a:ext cx="8281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6600"/>
                </a:solidFill>
                <a:latin typeface="Arial"/>
              </a:rPr>
              <a:t>10.</a:t>
            </a:r>
            <a:r>
              <a:rPr b="0" lang="ru-RU" sz="4400" spc="-1" strike="noStrike">
                <a:solidFill>
                  <a:srgbClr val="996600"/>
                </a:solidFill>
                <a:latin typeface="Arial"/>
              </a:rPr>
              <a:t> Прикажите самому себе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« Молчи, не связывайся! 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Рисунок 5" descr="00002904.jpg"/>
          <p:cNvPicPr/>
          <p:nvPr/>
        </p:nvPicPr>
        <p:blipFill>
          <a:blip r:embed="rId1"/>
          <a:stretch/>
        </p:blipFill>
        <p:spPr>
          <a:xfrm>
            <a:off x="6076800" y="2824200"/>
            <a:ext cx="3067200" cy="40338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14400" y="256320"/>
            <a:ext cx="77724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8" name="Rectangle 6"/>
          <p:cNvSpPr/>
          <p:nvPr/>
        </p:nvSpPr>
        <p:spPr>
          <a:xfrm>
            <a:off x="611280" y="1413000"/>
            <a:ext cx="78483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11.</a:t>
            </a:r>
            <a:r>
              <a:rPr b="0" lang="ru-RU" sz="2800" spc="-1" strike="noStrike">
                <a:solidFill>
                  <a:srgbClr val="ff0066"/>
                </a:solidFill>
                <a:latin typeface="Arial"/>
              </a:rPr>
              <a:t> Ответьте себе на вопросы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 « Меня раздражает то-то и то-то, что за этим стоит? Что меня конкретно раздражает?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Чего хочу 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Чего хочет партнер?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чем у нас разногласия?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5" descr="117"/>
          <p:cNvPicPr/>
          <p:nvPr/>
        </p:nvPicPr>
        <p:blipFill>
          <a:blip r:embed="rId1"/>
          <a:stretch/>
        </p:blipFill>
        <p:spPr>
          <a:xfrm>
            <a:off x="8302680" y="3882960"/>
            <a:ext cx="841320" cy="68904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11280" y="692280"/>
            <a:ext cx="8075520" cy="35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4"/>
          <p:cNvSpPr/>
          <p:nvPr/>
        </p:nvSpPr>
        <p:spPr>
          <a:xfrm>
            <a:off x="611280" y="1557360"/>
            <a:ext cx="8137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99"/>
                </a:solidFill>
                <a:latin typeface="Arial"/>
              </a:rPr>
              <a:t>12</a:t>
            </a:r>
            <a:r>
              <a:rPr b="0" lang="ru-RU" sz="4000" spc="-1" strike="noStrike">
                <a:solidFill>
                  <a:srgbClr val="cc0099"/>
                </a:solidFill>
                <a:latin typeface="Arial"/>
              </a:rPr>
              <a:t>. Убеждаем себя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: « Хочешь,  чтоб я разозлился, вышел из «берегов»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Не дождешься!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00000" y="3573000"/>
            <a:ext cx="77724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4"/>
          <p:cNvSpPr/>
          <p:nvPr/>
        </p:nvSpPr>
        <p:spPr>
          <a:xfrm>
            <a:off x="900000" y="1484280"/>
            <a:ext cx="77756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99"/>
                </a:solidFill>
                <a:latin typeface="Arial"/>
              </a:rPr>
              <a:t>13.</a:t>
            </a:r>
            <a:r>
              <a:rPr b="0" lang="ru-RU" sz="2800" spc="-1" strike="noStrike">
                <a:solidFill>
                  <a:srgbClr val="cc3399"/>
                </a:solidFill>
                <a:latin typeface="Arial"/>
              </a:rPr>
              <a:t> Визуализация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Представьте обидчика маленьким, смешным, растрепанным, в баночке из-под майонеза. Утром обидчик ходит в трусах до колен, в носках, растрепанный и его пилит же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5" descr="0_1fb09_570dad57_L"/>
          <p:cNvPicPr/>
          <p:nvPr/>
        </p:nvPicPr>
        <p:blipFill>
          <a:blip r:embed="rId1"/>
          <a:stretch/>
        </p:blipFill>
        <p:spPr>
          <a:xfrm>
            <a:off x="7358040" y="5394240"/>
            <a:ext cx="1103400" cy="113040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7" descr="image007"/>
          <p:cNvPicPr/>
          <p:nvPr/>
        </p:nvPicPr>
        <p:blipFill>
          <a:blip r:embed="rId2"/>
          <a:stretch/>
        </p:blipFill>
        <p:spPr>
          <a:xfrm>
            <a:off x="971640" y="5857920"/>
            <a:ext cx="849240" cy="809640"/>
          </a:xfrm>
          <a:prstGeom prst="rect">
            <a:avLst/>
          </a:prstGeom>
          <a:ln w="0">
            <a:noFill/>
          </a:ln>
        </p:spPr>
      </p:pic>
    </p:spTree>
  </p:cSld>
  <p:transition>
    <p:pull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990033"/>
                </a:solidFill>
                <a:latin typeface="Times New Roman"/>
              </a:rPr>
              <a:t>Эмоциональное выгорание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82818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юди коммуникативных профессий: врачи, педагоги, управленцы, менеджеры, психологи, все работники социальных служб- легко назовут признаки эмоционального выгора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пециалисты коммуникативных профессий эмоционально «выгорают» во всем мире, и это выгорание не связано ни с зарплатой, ни с условиями тру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4"/>
          <p:cNvSpPr/>
          <p:nvPr/>
        </p:nvSpPr>
        <p:spPr>
          <a:xfrm>
            <a:off x="611280" y="1628640"/>
            <a:ext cx="8064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14.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Принцип айкидо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« Да, я идиот,  я бездарь…» - а сами за это время успокаиваетесь и продумываете взвешенный, аргументированный отв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5" descr="81"/>
          <p:cNvPicPr/>
          <p:nvPr/>
        </p:nvPicPr>
        <p:blipFill>
          <a:blip r:embed="rId1"/>
          <a:stretch/>
        </p:blipFill>
        <p:spPr>
          <a:xfrm>
            <a:off x="6084720" y="3884760"/>
            <a:ext cx="2303640" cy="297324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807552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4"/>
          <p:cNvSpPr/>
          <p:nvPr/>
        </p:nvSpPr>
        <p:spPr>
          <a:xfrm>
            <a:off x="900000" y="2421000"/>
            <a:ext cx="7775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15.</a:t>
            </a:r>
            <a:r>
              <a:rPr b="0" lang="ru-RU" sz="3600" spc="-1" strike="noStrike">
                <a:solidFill>
                  <a:srgbClr val="006600"/>
                </a:solidFill>
                <a:latin typeface="Arial"/>
              </a:rPr>
              <a:t>Отрицание.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Думаем про себя: «Это с вашей точки зрения я идиот, а другие, более авторитетные с моей точки зрения люди, считают меня умным»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6" name="Rectangle 4"/>
          <p:cNvSpPr/>
          <p:nvPr/>
        </p:nvSpPr>
        <p:spPr>
          <a:xfrm>
            <a:off x="900000" y="1557360"/>
            <a:ext cx="77756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16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.Идентифицирование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« Ругает меня, губы трясутся! Нервная  женщина! Так она же бедная, несчастная -  детство тяжелое, муж алкоголик, дети непутевые, озвереешь тут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5" descr="bd1103-001"/>
          <p:cNvPicPr/>
          <p:nvPr/>
        </p:nvPicPr>
        <p:blipFill>
          <a:blip r:embed="rId1"/>
          <a:stretch/>
        </p:blipFill>
        <p:spPr>
          <a:xfrm>
            <a:off x="7858080" y="5924520"/>
            <a:ext cx="674640" cy="6764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9" name="Rectangle 5"/>
          <p:cNvSpPr/>
          <p:nvPr/>
        </p:nvSpPr>
        <p:spPr>
          <a:xfrm>
            <a:off x="611280" y="1773360"/>
            <a:ext cx="7848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99"/>
                </a:solidFill>
                <a:latin typeface="Arial"/>
              </a:rPr>
              <a:t>17</a:t>
            </a:r>
            <a:r>
              <a:rPr b="0" lang="ru-RU" sz="3600" spc="-1" strike="noStrike">
                <a:solidFill>
                  <a:srgbClr val="cc0099"/>
                </a:solidFill>
                <a:latin typeface="Arial"/>
              </a:rPr>
              <a:t>.Блокирование.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«Я ничего не слышу, ничего не вижу, отстаньте от меня!»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7" descr="39"/>
          <p:cNvPicPr/>
          <p:nvPr/>
        </p:nvPicPr>
        <p:blipFill>
          <a:blip r:embed="rId1"/>
          <a:stretch/>
        </p:blipFill>
        <p:spPr>
          <a:xfrm>
            <a:off x="7000920" y="5472000"/>
            <a:ext cx="1531800" cy="109404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2" name="Rectangle 5"/>
          <p:cNvSpPr/>
          <p:nvPr/>
        </p:nvSpPr>
        <p:spPr>
          <a:xfrm>
            <a:off x="611280" y="2205000"/>
            <a:ext cx="8137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7c80"/>
                </a:solidFill>
                <a:latin typeface="Arial"/>
              </a:rPr>
              <a:t>18</a:t>
            </a:r>
            <a:r>
              <a:rPr b="0" lang="ru-RU" sz="3600" spc="-1" strike="noStrike">
                <a:solidFill>
                  <a:srgbClr val="ff7c80"/>
                </a:solidFill>
                <a:latin typeface="Arial"/>
              </a:rPr>
              <a:t>.Замещение.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Перенос реакции с недоступного объекта на доступны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околотите дерево, порвите фотографию обидчика, нарисуйте портрет обидевшего, и мечите в него дротики, пока не надоест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u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4" name="Rectangle 5"/>
          <p:cNvSpPr/>
          <p:nvPr/>
        </p:nvSpPr>
        <p:spPr>
          <a:xfrm>
            <a:off x="611280" y="1484280"/>
            <a:ext cx="8064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19.</a:t>
            </a: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 Наблюдение за реакцией кричащего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мотрим как двигаются уши, сужаются глаза, раздуваются ноздри, кривится рот, вздымается грудь, двигаются руки, наклоняется тело, передвигаются ступни. Цель приема- успокоиться, понять, пожалеть обидчика, своим уравновешенным состоянием успокоить оппонен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6" descr="84409"/>
          <p:cNvPicPr/>
          <p:nvPr/>
        </p:nvPicPr>
        <p:blipFill>
          <a:blip r:embed="rId1"/>
          <a:stretch/>
        </p:blipFill>
        <p:spPr>
          <a:xfrm>
            <a:off x="6500880" y="5927760"/>
            <a:ext cx="664920" cy="8143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4400" spc="-1" strike="noStrike">
                <a:solidFill>
                  <a:srgbClr val="663300"/>
                </a:solidFill>
                <a:latin typeface="Arial"/>
              </a:rPr>
              <a:t>20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0000ff"/>
                </a:solidFill>
                <a:latin typeface="Arial"/>
              </a:rPr>
              <a:t>Примирение с тем, что уже случилось,- первый шаг к преодолению последствий всякого несчастья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Arial"/>
              </a:rPr>
              <a:t>Уильям ДЖЕМ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21.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Создайте себе комфортные условия  работы. Даже милые «пустячки»: фото на столе, несколько сувениров от близких людей- помогут избавиться от формализма, свойственного многим учреждениям и фирмам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99"/>
                </a:solidFill>
                <a:latin typeface="Arial"/>
              </a:rPr>
              <a:t>22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Уходя с работы, старайтесь не оставлять дела в хаотичном беспорядке: когда утром вы придете на работу, это снова погрузит вас в состояние дискомфорт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9900"/>
                </a:solidFill>
                <a:latin typeface="Arial"/>
              </a:rPr>
              <a:t>23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з массы навалившихся на вас дел определите очередность и сроки выполнения каждого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95280" y="1599840"/>
            <a:ext cx="87487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Коммуникаторы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это профессионалы, цель которых в работе установить и поддержать контак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днако такие контакты могут быть травматичными, они могут вызвать тревогу, гнев, чувство вины, обиды, враждебности и т. 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этот выход в эмоциональное выгорание истощает, напрямую влияет на собственное самочувствие, влечет проблем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11280" y="1599840"/>
            <a:ext cx="8532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24.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По возможности радуйте себя тем, что может вас порадовать. Может быть, это будет хорошая книга или запах любимых духов, шоколад или ванна с душистыми травами. Вспомните и почувствуйте ваши прежние ощущения от этих приятных веще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11280" y="1599840"/>
            <a:ext cx="80755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6600"/>
                </a:solidFill>
                <a:latin typeface="Arial"/>
              </a:rPr>
              <a:t>25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Полезно периодически вспоминать, что без многого, чего вы добиваетесь, вполне можно жить. Жить нужно по способностям и средствам. При этом помнить, что стресс и депрессия не длятся вечно. День, когда вы почувствуете себя лучше, обязательно настанет. Смысл жизни не исчез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26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4400" spc="-1" strike="noStrike" u="sng">
                <a:solidFill>
                  <a:srgbClr val="000000"/>
                </a:solidFill>
                <a:uFillTx/>
                <a:latin typeface="Arial"/>
              </a:rPr>
              <a:t>Научитесь без каких либо условий понимать, а лучше уважать или любить всех, начиная с себя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27.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Свою жизнь надо оценивать не по тому, чего у нас нет, а потому, что у нас есть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4" descr="Рисунок42"/>
          <p:cNvPicPr/>
          <p:nvPr/>
        </p:nvPicPr>
        <p:blipFill>
          <a:blip r:embed="rId1"/>
          <a:stretch/>
        </p:blipFill>
        <p:spPr>
          <a:xfrm>
            <a:off x="6286680" y="4214880"/>
            <a:ext cx="703080" cy="79524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4" descr="Рисунок5"/>
          <p:cNvPicPr/>
          <p:nvPr/>
        </p:nvPicPr>
        <p:blipFill>
          <a:blip r:embed="rId1"/>
          <a:stretch/>
        </p:blipFill>
        <p:spPr>
          <a:xfrm>
            <a:off x="6286680" y="5492880"/>
            <a:ext cx="1000080" cy="1365120"/>
          </a:xfrm>
          <a:prstGeom prst="rect">
            <a:avLst/>
          </a:prstGeom>
          <a:ln w="0">
            <a:noFill/>
          </a:ln>
        </p:spPr>
      </p:pic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8930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cc"/>
                </a:solidFill>
                <a:latin typeface="Arial"/>
              </a:rPr>
              <a:t>  </a:t>
            </a:r>
            <a:r>
              <a:rPr b="1" lang="ru-RU" sz="3600" spc="-1" strike="noStrike">
                <a:solidFill>
                  <a:srgbClr val="6600cc"/>
                </a:solidFill>
                <a:latin typeface="Arial"/>
              </a:rPr>
              <a:t>28.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Чаще общайтесь с людьми, которые вас любят: членами семьи, родственниками, друзьями. Попросите их при случае рассказать вам о том, что им нравится в вас больше всего. Примите сказанное с удовольствием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11280" y="1599840"/>
            <a:ext cx="80755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33"/>
                </a:solidFill>
                <a:latin typeface="Arial"/>
              </a:rPr>
              <a:t>29.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Смотрите смешные фильмы и читайте смешные книги (собирайте анекдоты). Попробуйте посмеяться над своим и мрачными мыслями, над плохим настроением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11280" y="1599840"/>
            <a:ext cx="8532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30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Откладывание решение возникающих проблем только усиливает стресс, депрессию. Решение проблемы укрепляет уверенность в своих силах, уважение к себе и вызывает радостное чувство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3600" spc="-1" strike="noStrike">
                <a:solidFill>
                  <a:srgbClr val="ff6600"/>
                </a:solidFill>
                <a:latin typeface="Arial"/>
              </a:rPr>
              <a:t>Счастливая жизнь-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это не отсутствие проблем, а их успешное преодолени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11280" y="1599840"/>
            <a:ext cx="83534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31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риятно надеяться на лучшее. Однако всегда необходимо прогнозировать не только лучший, но и худший варианты развития событий. Желательно психологически и даже материально быть готовым к худшему. Чем больше готов, тем меньше стресс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32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Не слишком увязайте в воспоминаниях о прошлом. Его уже нет, и в нем ничего не изменишь. Не погружайтесь слишком в мечты о будущем, его еще нет. Надо научиться получать максимальное удовольствие от жизни « здесь и сейчас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Arial"/>
              </a:rPr>
              <a:t>33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Укрепление физического здоровья- важнейшее условие профилактики  любого стресса. В здоровом теле- здоровый дух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137440" cy="177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1" lang="ru-RU" sz="3200" spc="-1" strike="noStrike">
                <a:solidFill>
                  <a:srgbClr val="330033"/>
                </a:solidFill>
                <a:latin typeface="Times New Roman"/>
              </a:rPr>
              <a:t>Профессиональная деформация педагогов</a:t>
            </a:r>
            <a:br>
              <a:rPr sz="3800"/>
            </a:b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68000" y="1499760"/>
            <a:ext cx="821844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Профессиональная деформация - (ПД) - это психологические изменения, которые начинают негативно влиять на профессиональную деятельность и психологическую структуру личности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амое большое влияние на возникновение ПД, как утверждают специалисты, оказывает специфика ближайшего окружения, с которым вынужден иметь дело профессионал, а также специфика его деятельности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Ежедневная работа на протяжении многих лет по решению типовых задач не только совершенствует профессиональные знания, но и формирует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профессиональные привычки, определяет стиль мышления и стили общени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cc00cc"/>
                </a:solidFill>
                <a:latin typeface="Times New Roman"/>
              </a:rPr>
              <a:t>Если стрессовая ситуация застигнет вас в помещении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29840" y="1628640"/>
            <a:ext cx="871380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таньте, если нужно, и, извинившись, выйдите из помещения, Например, у вас всегда есть возможность пойти в туалет или какое-нибудь другое место, где вы сможете побыть оди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спользуйтесь любым шансом, чтобы смочить нос, виски и артерии на руках холодной вод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дленно осмотритесь по сторонам, даже в том случае, если помещение, в котором вы находитесь, хорошо знакомо или выглядит заурядно. Переводя взгляд с одного предмета на другой, мысленно описывайте их внешний ви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fill="hold">
                      <p:stCondLst>
                        <p:cond delay="0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63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68" dur="5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73" dur="500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78" dur="500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1280" y="1628280"/>
            <a:ext cx="853272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тем посмотрите в окно, на небо. Сосредоточьтесь на том, что видите. Когда вы в последний раз вот так смотрели в небо? Разве мир не прекрасен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брав воды в стакан (в крайнем случае- в ладони), медленно, как бы сосредоточенно выпейте ее. Сконцентрируйте свое внимание на ощущениях, когда вода будет течь по горл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прямитесь, поставьте ноги на ширину пле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на вдохе наклонитесь, расслабив шею и плечи, так, чтобы голова и руки свободно свисали к полу. Дышите глубже, следите за своим дыханием, Продолжайте делать это в течение одной-двух минут. Затем медленно выпрямьтесь( действуйте осторожно, чтобы не закружилась голова)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85" dur="5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90" dur="500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95" dur="500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00" dur="500"/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10920" y="1599840"/>
            <a:ext cx="8281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олезно знать, что абсолютно все трудности, которые у нас возникают, уже были миллионы раз у людей, живших ранее. Они их как-то преодолели. Значит, преодолеем и мы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4" descr="vetton_ru_405"/>
          <p:cNvPicPr/>
          <p:nvPr/>
        </p:nvPicPr>
        <p:blipFill>
          <a:blip r:embed="rId1"/>
          <a:stretch/>
        </p:blipFill>
        <p:spPr>
          <a:xfrm>
            <a:off x="7715160" y="5786280"/>
            <a:ext cx="1428840" cy="1071720"/>
          </a:xfrm>
          <a:prstGeom prst="rect">
            <a:avLst/>
          </a:prstGeom>
          <a:ln w="0">
            <a:noFill/>
          </a:ln>
        </p:spPr>
      </p:pic>
      <p:sp>
        <p:nvSpPr>
          <p:cNvPr id="243" name="WordArt 5"/>
          <p:cNvSpPr txBox="1"/>
          <p:nvPr/>
        </p:nvSpPr>
        <p:spPr>
          <a:xfrm>
            <a:off x="1116000" y="1700280"/>
            <a:ext cx="7128000" cy="30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80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Всем удачи и здоровья!</a:t>
            </a:r>
            <a:endParaRPr b="0" lang="en-US" sz="1800" spc="1" strike="noStrike">
              <a:ln w="9360">
                <a:solidFill>
                  <a:srgbClr val="800080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000" y="142920"/>
            <a:ext cx="7543800" cy="107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330033"/>
                </a:solidFill>
                <a:latin typeface="Times New Roman"/>
              </a:rPr>
              <a:t>Профессиональные  деформации личности</a:t>
            </a:r>
            <a:endParaRPr b="0" lang="en-US" sz="27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68360" y="620280"/>
            <a:ext cx="403848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ровни деформ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.Общепрофессиональный (делает работников одной профессии узнаваемым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. Специально профессиональны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1640" y="907560"/>
            <a:ext cx="403236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1. Особенности личности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У 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педагогов -  синдром назидательности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У юристов – синдром «асоциального восприятия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У руководителей синдром вседозволенности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2. Каждая профессия имеет свой состав деформаций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2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У прокурора – обвинительность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2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У следователя  - правовая назидательность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2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У адвоката – правовая изворотливость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2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У терапевта – угрожающие диагнозы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2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У хирурга - циничность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1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1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1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1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1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1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040" y="131040"/>
            <a:ext cx="76518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50920" y="691920"/>
            <a:ext cx="4176720" cy="61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000000"/>
                </a:solidFill>
                <a:latin typeface="Arial"/>
              </a:rPr>
              <a:t>3.Профессионально типологический</a:t>
            </a:r>
            <a:r>
              <a:rPr b="0" lang="ru-RU" sz="3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обенности темперамента, способностей, характера</a:t>
            </a:r>
            <a:r>
              <a:rPr b="0" lang="ru-RU" sz="33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. Индивидуализирован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284720" y="620280"/>
            <a:ext cx="4465440" cy="648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i="1" lang="ru-RU" sz="1700" spc="-1" strike="noStrike">
                <a:solidFill>
                  <a:srgbClr val="000000"/>
                </a:solidFill>
                <a:latin typeface="Arial"/>
              </a:rPr>
              <a:t>Складываются профессионально-личностные комплексы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формация профессиональной направленности ( искажение мотивации, перестройка Ц.О., пессимизм, скептическое отношение к нововведения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формация на основе каких-то способностей: интеллектуальных, коммуникатив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формация на основе черт характера: властолюбие, равнодушие и д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4. Развиваются акцентуаци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вер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ветствен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иперактив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рудовой фанатиз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5" descr="j0216724"/>
          <p:cNvPicPr/>
          <p:nvPr/>
        </p:nvPicPr>
        <p:blipFill>
          <a:blip r:embed="rId1"/>
          <a:stretch/>
        </p:blipFill>
        <p:spPr>
          <a:xfrm>
            <a:off x="2714760" y="3359160"/>
            <a:ext cx="571320" cy="719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94920" y="122040"/>
            <a:ext cx="7605720" cy="136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330033"/>
                </a:solidFill>
                <a:latin typeface="Times New Roman"/>
              </a:rPr>
              <a:t>Что способствует профессиональной деформации</a:t>
            </a:r>
            <a:r>
              <a:rPr b="1" lang="ru-RU" sz="3800" spc="-1" strike="noStrike">
                <a:solidFill>
                  <a:srgbClr val="330033"/>
                </a:solidFill>
                <a:latin typeface="Times New Roman"/>
              </a:rPr>
              <a:t>?</a:t>
            </a:r>
            <a:br>
              <a:rPr sz="3800"/>
            </a:b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499760"/>
            <a:ext cx="7570800" cy="463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зменение мотивации трудовой деятельност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озникающие стереотипы мышления, поведения и деятельност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Эмоциональная напряженность профессионального труда (появляется раздражительность, тревожность, нервные срывы и др.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Монотонность, однообразие, жестко структурированный характер труд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Утрата перспектив профессионального рост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нижение уровня интеллекта специалист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Акцентуации характера личности, которые проявляются в индивидуальном стиле деятельност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озрастные изменения, связанные со старение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4" descr="j0298897"/>
          <p:cNvPicPr/>
          <p:nvPr/>
        </p:nvPicPr>
        <p:blipFill>
          <a:blip r:embed="rId1"/>
          <a:stretch/>
        </p:blipFill>
        <p:spPr>
          <a:xfrm>
            <a:off x="7858080" y="6222960"/>
            <a:ext cx="571680" cy="498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002440" cy="179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330033"/>
                </a:solidFill>
                <a:latin typeface="Times New Roman"/>
              </a:rPr>
              <a:t>Возрастные изменения, связанные со старением</a:t>
            </a:r>
            <a:br>
              <a:rPr sz="3000"/>
            </a:br>
            <a:br>
              <a:rPr sz="3500"/>
            </a:br>
            <a:endParaRPr b="0" lang="en-US" sz="3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95280" y="692280"/>
            <a:ext cx="842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Социальное старение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ерестраивается мотивац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лабеют интеллектуальные процессы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зменяется эмоциональная сфер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озникают дезаптационные формы поведения и др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2. Нравственно-этическое старение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авязчивое морализировани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кептическое отношение к молодежной субкультур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отивопоставление настоящего прошлому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еувеличение заслуг своего поколен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3. Профессиональное старение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е восприятие нововведени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ереоценка значения опыта своего поколен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Трудности освоения новых средств труд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нижение темпа профессиональных функций и др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1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1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1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12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2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2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12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2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2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12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2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2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3T12:59:08Z</dcterms:created>
  <dc:creator>Xaoc</dc:creator>
  <dc:description/>
  <dc:language>en-US</dc:language>
  <cp:lastModifiedBy>Xaoc</cp:lastModifiedBy>
  <dcterms:modified xsi:type="dcterms:W3CDTF">2012-06-06T23:53:20Z</dcterms:modified>
  <cp:revision>170</cp:revision>
  <dc:subject/>
  <dc:title>Слайд 1</dc:title>
</cp:coreProperties>
</file>