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4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13.jpeg" ContentType="image/jpeg"/>
  <Override PartName="/ppt/media/image31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9.png" ContentType="image/pn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B0A-9D81-4030-B761-B4926A8C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713-7829-4659-B8E2-5450D111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B2F-FA84-45A3-BEA9-C7BABB43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2AD-FC94-4509-A98B-759B8638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B809-964D-46A9-A0B2-485D0F00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E9E8-1157-4B3C-B9B1-82AEF47E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585F-D998-4EFF-9938-ED0B61F7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F808-700B-4F25-9666-CF6F9E1F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0B0E-95BF-449D-866E-0C2F73C4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D5C2-C152-4B83-9FDF-DF7E1ABF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C3CB-2EB3-4D37-A227-88674816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09E-8757-4EAC-A31C-0847306F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2C62-DC74-47F3-9888-A62DB36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403F-FC61-45E3-9B56-FF64BC91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8E9C-5B8B-4CB4-9318-3DEADED0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AAD0-28DE-4077-9A09-809D5F00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7354-4F76-4712-91EF-1EB3B610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F91-511C-4B4C-9CDE-C35424ED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27E-DD2E-4112-9142-251CCA86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C55-95D1-4CA0-9FBA-4AD80CEB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75BE-39F9-4211-9CB7-4F1D647D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C60-CD9E-412F-9285-F712E1F8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A77-98B1-4842-8362-7F2E5E62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432-09C5-4987-A13A-4F17424F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B8C9-219C-433F-8065-A5D4F693AC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7C93-4EAD-4628-AD35-1756284453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91"/>
          <p:cNvPicPr/>
          <p:nvPr/>
        </p:nvPicPr>
        <p:blipFill>
          <a:blip r:embed="rId1"/>
          <a:stretch/>
        </p:blipFill>
        <p:spPr>
          <a:xfrm>
            <a:off x="3780000" y="5700600"/>
            <a:ext cx="649080" cy="982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35"/>
          <p:cNvPicPr/>
          <p:nvPr/>
        </p:nvPicPr>
        <p:blipFill>
          <a:blip r:embed="rId2"/>
          <a:stretch/>
        </p:blipFill>
        <p:spPr>
          <a:xfrm>
            <a:off x="6451560" y="5967360"/>
            <a:ext cx="763560" cy="89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34"/>
          <p:cNvPicPr/>
          <p:nvPr/>
        </p:nvPicPr>
        <p:blipFill>
          <a:blip r:embed="rId3"/>
          <a:stretch/>
        </p:blipFill>
        <p:spPr>
          <a:xfrm>
            <a:off x="684360" y="5775480"/>
            <a:ext cx="601560" cy="795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етоды регуляци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эмоциональных состояний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-360" y="1773000"/>
            <a:ext cx="8604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Автор- составитель: педагог- психолог МОУ гимназия г. Нытва В.А.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Латыше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ровни профессиональной  деформации педагог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8572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Общепедагогический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зидательность, догматичность, ригидность, неадекватная самооценк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Типологический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говорливость, неумение слушать, контроле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Спецефический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увеличение значимости своего предм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 изменения происходящие со структурой личности. Проявляется в качествах: повышенная тревожность, социальная пассивность, лицемерие, эмоциональная сухость, морализац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33"/>
                </a:solidFill>
                <a:latin typeface="Times New Roman"/>
              </a:rPr>
              <a:t>Стадии развития профессиональной  деформации педагогов</a:t>
            </a:r>
            <a:endParaRPr b="0" lang="en-US" sz="3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8692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Стадия измененной эмоциона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отония в поведении: оценивание, претензия на монопольное владение истиной, безальтернативное мышление, контроль, разъяснения в любых ситуация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Государственное лицо», голо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невливость или обидчи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ая неудовлетворенность, раздражи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умение слуш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хой сон, частые болезни, апа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472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71760"/>
            <a:ext cx="611964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 стадия: многоплановых изме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и, относящиеся к 1 ста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озможность выполнять многофункциональные дей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смысла деятельности на противоположный (вместо сотрудничества, взаимодействия с целью развития - поиск врага, борьб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j0299587"/>
          <p:cNvPicPr/>
          <p:nvPr/>
        </p:nvPicPr>
        <p:blipFill>
          <a:blip r:embed="rId1"/>
          <a:stretch/>
        </p:blipFill>
        <p:spPr>
          <a:xfrm>
            <a:off x="6948360" y="2401920"/>
            <a:ext cx="981360" cy="979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j0293828"/>
          <p:cNvPicPr/>
          <p:nvPr/>
        </p:nvPicPr>
        <p:blipFill>
          <a:blip r:embed="rId2"/>
          <a:stretch/>
        </p:blipFill>
        <p:spPr>
          <a:xfrm>
            <a:off x="6156360" y="5603760"/>
            <a:ext cx="772920" cy="8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9976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держивание профессионального роста учителя, ведущее к стадии  профессиональной стагнации,  продуцируется моделью адаптивного поведения учителя, в основе которой лежит подчинен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ешним обстоятельств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иде выполнения социальных требований, ожиданий, н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механизма профессиональной жизнедеятельности учителя связано с его способностью выйти за пределы непрерывного потока повседневной педагогической практики, за пределы своего эмпирического Я, увидеть процесс своего труда в целом и превратить собственную жизнедеятельность в предмет практического преобразов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едставители стрессогенной  профессии – нуждаются в реабилитационных процедурах. Это призывает к необходимости использовани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овых технологий диагностики  физического и психического здоровья и комплексов психологиче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сихотерапевтических и спортивно-бальнеологических процед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идет об обучении учителей приемами саморегуляции психических состояний, участия в психотренингах и спортивно-оздоровительных мероприятия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Окружающий мир-  это зеркало, в котором каждый человек видит свое отражение. Поэтому основные причины проблем нужно искать в себе, а не во внешних обстоятельств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 Медленный счет до 10 раз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77724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ал между цифрами должен быть не менее  двух секунд. Для удобства счит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два, три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три, четыре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пять, шесть)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9280" y="2781360"/>
            <a:ext cx="1069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56"/>
          <p:cNvPicPr/>
          <p:nvPr/>
        </p:nvPicPr>
        <p:blipFill>
          <a:blip r:embed="rId1"/>
          <a:stretch/>
        </p:blipFill>
        <p:spPr>
          <a:xfrm>
            <a:off x="6588000" y="5923080"/>
            <a:ext cx="770040" cy="826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Отсроченное действ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 Сначала помою посуду, прочитаю газету, потом скажу ему(ей) все, что думаю по этому поводу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думаю два дня, а потом приму реш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0_12322_23edadb3_XL"/>
          <p:cNvPicPr/>
          <p:nvPr/>
        </p:nvPicPr>
        <p:blipFill>
          <a:blip r:embed="rId1"/>
          <a:stretch/>
        </p:blipFill>
        <p:spPr>
          <a:xfrm>
            <a:off x="5508720" y="5499000"/>
            <a:ext cx="635040" cy="666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68360" y="1484280"/>
            <a:ext cx="170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Переключаемся на нейтра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темы, представляем лес,</a:t>
            </a:r>
            <a:br>
              <a:rPr sz="3200"/>
            </a:b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пляж, купание в озер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0_120fc_b9154edd_XL"/>
          <p:cNvPicPr/>
          <p:nvPr/>
        </p:nvPicPr>
        <p:blipFill>
          <a:blip r:embed="rId2"/>
          <a:stretch/>
        </p:blipFill>
        <p:spPr>
          <a:xfrm>
            <a:off x="3000240" y="6014880"/>
            <a:ext cx="642960" cy="582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Самоубеждение. Убедите себя в несерьезности собственных переживаний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00000" y="242064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0000" y="162864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Формулы самоубежде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ля меня это не важно», « Я все смогу», « Я все выдержу»- помогают выключить отрицательные эмоции на короткое время, не давая им преодоле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яе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98"/>
          <p:cNvPicPr/>
          <p:nvPr/>
        </p:nvPicPr>
        <p:blipFill>
          <a:blip r:embed="rId1"/>
          <a:stretch/>
        </p:blipFill>
        <p:spPr>
          <a:xfrm>
            <a:off x="7786800" y="5689440"/>
            <a:ext cx="817560" cy="908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Бог может простить нам грехи наши, но нервная система никог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                                             </a:t>
            </a:r>
            <a:r>
              <a:rPr b="0" lang="ru-RU" sz="4400" spc="-1" strike="noStrike">
                <a:solidFill>
                  <a:srgbClr val="990033"/>
                </a:solidFill>
                <a:latin typeface="Arial"/>
              </a:rPr>
              <a:t>Уильям ДЖЕ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611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адость- это, вероятно, лучшее средство преодолеть труд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фред  АД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обладающие чувством юмора, живут в среднем на 5 лет дольше, чем те кто лишен этого чув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Дыхательные упражнения :Вдох через нос, а выдох через рот в 3 раза длиннее вдоха. Повторить 6-7 раз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2268360" y="9079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84360" y="1584360"/>
            <a:ext cx="806436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9900"/>
                </a:solidFill>
                <a:uFillTx/>
                <a:latin typeface="Arial"/>
              </a:rPr>
              <a:t>Другой вариант: </a:t>
            </a:r>
            <a:r>
              <a:rPr b="0" lang="ru-RU" sz="2000" spc="-1" strike="noStrike" u="sng">
                <a:solidFill>
                  <a:srgbClr val="cc0099"/>
                </a:solidFill>
                <a:uFillTx/>
                <a:latin typeface="Arial"/>
              </a:rPr>
              <a:t>задержка ды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находитесь на грани нервного срыва и не владеете собой, упражнение даст облегчение. Задержку дыхания необходимо производить на выдохе. Сядьте, облокотившись спиной на спинку стула, или лягте на спину. Медленно выдохните и зажмите нос двумя пальцами. Не дышите как можно дольше, до кругов перед глазами. Вреда от такой задержки не буд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постарайтесь медленно вдохнуть через нос. Медленный вдох – обязательное условие, хотя сделать это будет очень тяжело. После этого медленно выдохните и 1-2 мин.  дышите спокойно. Разговаривать в это время нельзя. Повторяйте это упражнение 3 или 4 раза, если необходимо, более раз подряд с интервалом в 1-2 мин. Если вы вовремя вспомните этом способе, то после любого нервного срыва быстро успокоитесь и сможете трезво оценить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Физические упражнения. Устройт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генеральную уборку в квартире, поработайте в саду, погуляйте, смастерите что-то и т. д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47"/>
          <p:cNvPicPr/>
          <p:nvPr/>
        </p:nvPicPr>
        <p:blipFill>
          <a:blip r:embed="rId1"/>
          <a:stretch/>
        </p:blipFill>
        <p:spPr>
          <a:xfrm>
            <a:off x="468360" y="3546360"/>
            <a:ext cx="745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57"/>
          <p:cNvPicPr/>
          <p:nvPr/>
        </p:nvPicPr>
        <p:blipFill>
          <a:blip r:embed="rId2"/>
          <a:stretch/>
        </p:blipFill>
        <p:spPr>
          <a:xfrm>
            <a:off x="4429080" y="4848120"/>
            <a:ext cx="862200" cy="1028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a7b6caa95d"/>
          <p:cNvPicPr/>
          <p:nvPr/>
        </p:nvPicPr>
        <p:blipFill>
          <a:blip r:embed="rId3"/>
          <a:stretch/>
        </p:blipFill>
        <p:spPr>
          <a:xfrm>
            <a:off x="6012000" y="4941720"/>
            <a:ext cx="2158920" cy="1770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50"/>
          <p:cNvPicPr/>
          <p:nvPr/>
        </p:nvPicPr>
        <p:blipFill>
          <a:blip r:embed="rId4"/>
          <a:stretch/>
        </p:blipFill>
        <p:spPr>
          <a:xfrm>
            <a:off x="5508720" y="3871800"/>
            <a:ext cx="992160" cy="925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7b6caa95d"/>
          <p:cNvPicPr/>
          <p:nvPr/>
        </p:nvPicPr>
        <p:blipFill>
          <a:blip r:embed="rId5"/>
          <a:stretch/>
        </p:blipFill>
        <p:spPr>
          <a:xfrm>
            <a:off x="6012000" y="6135840"/>
            <a:ext cx="703080" cy="57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00000" y="1484280"/>
            <a:ext cx="777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7.</a:t>
            </a: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Мимические упражн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дуйте щеки, и постепенно выдохните через плотно сжатые губы; поочередно надувайте то одну, то другую щеку, то обе щеки вме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71640" y="234936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8.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Расслабле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уравновесьте дыхание, создайте ощущение тяжести в голове, плечах, руках, ногах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26"/>
          <p:cNvPicPr/>
          <p:nvPr/>
        </p:nvPicPr>
        <p:blipFill>
          <a:blip r:embed="rId1"/>
          <a:stretch/>
        </p:blipFill>
        <p:spPr>
          <a:xfrm>
            <a:off x="6581880" y="600084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67"/>
          <p:cNvPicPr/>
          <p:nvPr/>
        </p:nvPicPr>
        <p:blipFill>
          <a:blip r:embed="rId2"/>
          <a:stretch/>
        </p:blipFill>
        <p:spPr>
          <a:xfrm>
            <a:off x="1928880" y="1593720"/>
            <a:ext cx="914400" cy="7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erg11bqeejpsaj46jmk0tqo8upn9552u_5"/>
          <p:cNvPicPr/>
          <p:nvPr/>
        </p:nvPicPr>
        <p:blipFill>
          <a:blip r:embed="rId3"/>
          <a:stretch/>
        </p:blipFill>
        <p:spPr>
          <a:xfrm>
            <a:off x="5821200" y="1608120"/>
            <a:ext cx="1179720" cy="884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11280" y="170028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Агрессивное поведение бывает в ответ на нежелательное по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Ответьте себе на вопрос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« А что он (а) хоче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3" descr="00001012.jpg"/>
          <p:cNvPicPr/>
          <p:nvPr/>
        </p:nvPicPr>
        <p:blipFill>
          <a:blip r:embed="rId1"/>
          <a:stretch/>
        </p:blipFill>
        <p:spPr>
          <a:xfrm>
            <a:off x="3919680" y="4071960"/>
            <a:ext cx="2908080" cy="5048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11280" y="2421000"/>
            <a:ext cx="82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Arial"/>
              </a:rPr>
              <a:t>10.</a:t>
            </a:r>
            <a:r>
              <a:rPr b="0" lang="ru-RU" sz="4400" spc="-1" strike="noStrike">
                <a:solidFill>
                  <a:srgbClr val="996600"/>
                </a:solidFill>
                <a:latin typeface="Arial"/>
              </a:rPr>
              <a:t> Прикажите самому себ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Молчи, не связывайся!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5" descr="00002904.jpg"/>
          <p:cNvPicPr/>
          <p:nvPr/>
        </p:nvPicPr>
        <p:blipFill>
          <a:blip r:embed="rId1"/>
          <a:stretch/>
        </p:blipFill>
        <p:spPr>
          <a:xfrm>
            <a:off x="6076800" y="2824200"/>
            <a:ext cx="3067200" cy="4033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5632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11280" y="1413000"/>
            <a:ext cx="78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11.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Ответьте себе на вопрос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« Меня раздражает то-то и то-то, что за этим стоит? Что меня конкретно раздражает?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хочу 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хочет партнер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у нас разногласия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117"/>
          <p:cNvPicPr/>
          <p:nvPr/>
        </p:nvPicPr>
        <p:blipFill>
          <a:blip r:embed="rId1"/>
          <a:stretch/>
        </p:blipFill>
        <p:spPr>
          <a:xfrm>
            <a:off x="8302680" y="3882960"/>
            <a:ext cx="841320" cy="689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80755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11280" y="1557360"/>
            <a:ext cx="813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Arial"/>
              </a:rPr>
              <a:t>12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. Убеждаем себ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« Хочешь,  чтоб я разозлился, вышел из «берегов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дождешьс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3573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900000" y="1484280"/>
            <a:ext cx="777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99"/>
                </a:solidFill>
                <a:latin typeface="Arial"/>
              </a:rPr>
              <a:t>13.</a:t>
            </a:r>
            <a:r>
              <a:rPr b="0" lang="ru-RU" sz="2800" spc="-1" strike="noStrike">
                <a:solidFill>
                  <a:srgbClr val="cc3399"/>
                </a:solidFill>
                <a:latin typeface="Arial"/>
              </a:rPr>
              <a:t> Визуализац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ьте обидчика маленьким, смешным, растрепанным, в баночке из-под майонеза. Утром обидчик ходит в трусах до колен, в носках, растрепанный и его пилит ж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0_1fb09_570dad57_L"/>
          <p:cNvPicPr/>
          <p:nvPr/>
        </p:nvPicPr>
        <p:blipFill>
          <a:blip r:embed="rId1"/>
          <a:stretch/>
        </p:blipFill>
        <p:spPr>
          <a:xfrm>
            <a:off x="7358040" y="5394240"/>
            <a:ext cx="1103400" cy="113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image007"/>
          <p:cNvPicPr/>
          <p:nvPr/>
        </p:nvPicPr>
        <p:blipFill>
          <a:blip r:embed="rId2"/>
          <a:stretch/>
        </p:blipFill>
        <p:spPr>
          <a:xfrm>
            <a:off x="971640" y="5857920"/>
            <a:ext cx="849240" cy="8096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Эмоциональное выгорание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81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коммуникативных профессий: врачи, педагоги, управленцы, менеджеры, психологи, все работники социальных служб- легко назовут признаки эмоционального выгор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сты коммуникативных профессий эмоционально «выгорают» во всем мире, и это выгорание не связано ни с зарплатой, ни с условиям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11280" y="162864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4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цип айкид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 Да, я идиот,  я бездарь…» - а сами за это время успокаиваетесь и продумываете взвешенный, аргументированный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81"/>
          <p:cNvPicPr/>
          <p:nvPr/>
        </p:nvPicPr>
        <p:blipFill>
          <a:blip r:embed="rId1"/>
          <a:stretch/>
        </p:blipFill>
        <p:spPr>
          <a:xfrm>
            <a:off x="6084720" y="3884760"/>
            <a:ext cx="2303640" cy="2973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755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900000" y="2421000"/>
            <a:ext cx="77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5.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Отрица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Думаем про себя: «Это с вашей точки зрения я идиот, а другие, более авторитетные с моей точки зрения люди, считают меня умным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900000" y="155736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Идентифициров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« Ругает меня, губы трясутся! Нервная  женщина! Так она же бедная, несчастная -  детство тяжелое, муж алкоголик, дети непутевые, озвереешь тут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bd1103-001"/>
          <p:cNvPicPr/>
          <p:nvPr/>
        </p:nvPicPr>
        <p:blipFill>
          <a:blip r:embed="rId1"/>
          <a:stretch/>
        </p:blipFill>
        <p:spPr>
          <a:xfrm>
            <a:off x="7858080" y="5924520"/>
            <a:ext cx="674640" cy="676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11280" y="1773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17</a:t>
            </a: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.Блокирова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«Я ничего не слышу, ничего не вижу, отстаньте от меня!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39"/>
          <p:cNvPicPr/>
          <p:nvPr/>
        </p:nvPicPr>
        <p:blipFill>
          <a:blip r:embed="rId1"/>
          <a:stretch/>
        </p:blipFill>
        <p:spPr>
          <a:xfrm>
            <a:off x="7000920" y="5472000"/>
            <a:ext cx="1531800" cy="1094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11280" y="220500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c80"/>
                </a:solidFill>
                <a:latin typeface="Arial"/>
              </a:rPr>
              <a:t>18</a:t>
            </a:r>
            <a:r>
              <a:rPr b="0" lang="ru-RU" sz="3600" spc="-1" strike="noStrike">
                <a:solidFill>
                  <a:srgbClr val="ff7c80"/>
                </a:solidFill>
                <a:latin typeface="Arial"/>
              </a:rPr>
              <a:t>.Замещ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еренос реакции с недоступного объекта на доступ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олотите дерево, порвите фотографию обидчика, нарисуйте портрет обидевшего, и мечите в него дротики, пока не надое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611280" y="148428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19.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Наблюдение за реакцией кричащего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трим как двигаются уши, сужаются глаза, раздуваются ноздри, кривится рот, вздымается грудь, двигаются руки, наклоняется тело, передвигаются ступни. Цель приема- успокоиться, понять, пожалеть обидчика, своим уравновешенным состоянием успокоить оппон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84409"/>
          <p:cNvPicPr/>
          <p:nvPr/>
        </p:nvPicPr>
        <p:blipFill>
          <a:blip r:embed="rId1"/>
          <a:stretch/>
        </p:blipFill>
        <p:spPr>
          <a:xfrm>
            <a:off x="6500880" y="5927760"/>
            <a:ext cx="664920" cy="814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20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имирение с тем, что уже случилось,- первый шаг к преодолению последствий всякого несчасть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ильям ДЖЕМ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1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Создайте себе комфортные условия  работы. Даже милые «пустячки»: фото на столе, несколько сувениров от близких людей- помогут избавиться от формализма, свойственного многим учреждениям и фирм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Arial"/>
              </a:rPr>
              <a:t>2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ходя с работы, старайтесь не оставлять дела в хаотичном беспорядке: когда утром вы придете на работу, это снова погрузит вас в состояние дискомфор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2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 массы навалившихся на вас дел определите очередность и сроки выполнения каждо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оммуника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профессионалы, цель которых в работе установить и поддержать конта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 такие контакты могут быть травматичными, они могут вызвать тревогу, гнев, чувство вины, обиды, враждебности и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этот выход в эмоциональное выгорание истощает, напрямую влияет на собственное самочувствие, влечет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24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 возможности радуйте себя тем, что может вас порадовать. Может быть, это будет хорошая книга или запах любимых духов, шоколад или ванна с душистыми травами. Вспомните и почувствуйте ваши прежние ощущения от этих приятных вещ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2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езно периодически вспоминать, что без многого, чего вы добиваетесь, вполне можно жить. Жить нужно по способностям и средствам. При этом помнить, что стресс и депрессия не длятся вечно. День, когда вы почувствуете себя лучше, обязательно настанет. Смысл жизни не исче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6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аучитесь без каких либо условий понимать, а лучше уважать или любить всех, начиная с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27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вою жизнь надо оценивать не по тому, чего у нас нет, а потому, что у нас е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Рисунок42"/>
          <p:cNvPicPr/>
          <p:nvPr/>
        </p:nvPicPr>
        <p:blipFill>
          <a:blip r:embed="rId1"/>
          <a:stretch/>
        </p:blipFill>
        <p:spPr>
          <a:xfrm>
            <a:off x="6286680" y="4214880"/>
            <a:ext cx="703080" cy="795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Рисунок5"/>
          <p:cNvPicPr/>
          <p:nvPr/>
        </p:nvPicPr>
        <p:blipFill>
          <a:blip r:embed="rId1"/>
          <a:stretch/>
        </p:blipFill>
        <p:spPr>
          <a:xfrm>
            <a:off x="6286680" y="5492880"/>
            <a:ext cx="1000080" cy="1365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28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аще общайтесь с людьми, которые вас любят: членами семьи, родственниками, друзьями. Попросите их при случае рассказать вам о том, что им нравится в вас больше всего. Примите сказанное с удовольств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29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мотрите смешные фильмы и читайте смешные книги (собирайте анекдоты). Попробуйте посмеяться над своим и мрачными мыслями, над плохим настроени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кладывание решение возникающих проблем только усиливает стресс, депрессию. Решение проблемы укрепляет уверенность в своих силах, уважение к себе и вызывает радостное чувст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ff6600"/>
                </a:solidFill>
                <a:latin typeface="Arial"/>
              </a:rPr>
              <a:t>Счастливая жизнь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это не отсутствие проблем, а их успешное преодол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3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ятно надеяться на лучшее. Однако всегда необходимо прогнозировать не только лучший, но и худший варианты развития событий. Желательно психологически и даже материально быть готовым к худшему. Чем больше готов, тем меньше стре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слишком увязайте в воспоминаниях о прошлом. Его уже нет, и в нем ничего не изменишь. Не погружайтесь слишком в мечты о будущем, его еще нет. Надо научиться получать максимальное удовольствие от жизни « здесь и сейча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3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Укрепление физического здоровья- важнейшее условие профилактики  любого стресса. В здоровом теле- здоровый дух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3744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Профессиональная деформация педагогов</a:t>
            </a:r>
            <a:br>
              <a:rPr sz="38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499760"/>
            <a:ext cx="82184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фессиональная деформация - (ПД) - это психологические изменения, которые начинают негативно влиять на профессиональную деятельность и психологическую структуру лич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е большое влияние на возникновение ПД, как утверждают специалисты, оказывает специфика ближайшего окружения, с которым вынужден иметь дело профессионал, а также специфика его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жедневная работа на протяжении многих лет по решению типовых задач не только совершенствует профессиональные знания, но и формирует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офессиональные привычки, определяет стиль мышления и стили 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cc"/>
                </a:solidFill>
                <a:latin typeface="Times New Roman"/>
              </a:rPr>
              <a:t>Если стрессовая ситуация застигнет вас в помещ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29840" y="162864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таньте, если нужно, и, извинившись, выйдите из помещения, Например, у вас всегда есть возможность пойти в туалет или какое-нибудь другое место, где вы сможете побыть о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ользуйтесь любым шансом, чтобы смочить нос, виски и артерии на руках холодной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ленно осмотритесь по сторонам, даже в том случае, если помещение, в котором вы находитесь, хорошо знакомо или выглядит заурядно. Переводя взгляд с одного предмета на другой, мысленно описывайте их внешни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532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тем посмотрите в окно, на небо. Сосредоточьтесь на том, что видите. Когда вы в последний раз вот так смотрели в небо? Разве мир не прекрас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рав воды в стакан (в крайнем случае- в ладони), медленно, как бы сосредоточенно выпейте ее. Сконцентрируйте свое внимание на ощущениях, когда вода будет течь по гор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рямитесь, поставьте ноги на ширину пл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вдохе наклонитесь, расслабив шею и плечи, так, чтобы голова и руки свободно свисали к полу. Дышите глубже, следите за своим дыханием, Продолжайте делать это в течение одной-двух минут. Затем медленно выпрямьтесь( действуйте осторожно, чтобы не закружилась голова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езно знать, что абсолютно все трудности, которые у нас возникают, уже были миллионы раз у людей, живших ранее. Они их как-то преодолели. Значит, преодолеем и м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vetton_ru_405"/>
          <p:cNvPicPr/>
          <p:nvPr/>
        </p:nvPicPr>
        <p:blipFill>
          <a:blip r:embed="rId1"/>
          <a:stretch/>
        </p:blipFill>
        <p:spPr>
          <a:xfrm>
            <a:off x="7715160" y="57862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243" name="WordArt 5"/>
          <p:cNvSpPr txBox="1"/>
          <p:nvPr/>
        </p:nvSpPr>
        <p:spPr>
          <a:xfrm>
            <a:off x="1116000" y="1700280"/>
            <a:ext cx="7128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сем удачи и здоровья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42920"/>
            <a:ext cx="75438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30033"/>
                </a:solidFill>
                <a:latin typeface="Times New Roman"/>
              </a:rPr>
              <a:t>Профессиональные  деформации личности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ни де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Общепрофессиональный (делает работников одной профессии узнаваемы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пециально профессион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1640" y="907560"/>
            <a:ext cx="403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 Особенности личност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едагогов -  синдром назидатель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юристов – синдром «асоциального восприят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руководителей синдром вседозволен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 Каждая профессия имеет свой состав деформаций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прокурора – обвините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следователя  - правовая назидате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адвоката – правовая изворотлив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терапевта – угрожающие диагноз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 хирурга - цинич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131040"/>
            <a:ext cx="76518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4176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3.Профессионально типологический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темперамента, способностей, характера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Индивидуализиров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4720" y="620280"/>
            <a:ext cx="446544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Складываются профессионально-личностные комплексы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ормация профессиональной направленности ( искажение мотивации, перестройка Ц.О., пессимизм, скептическое отношение к нововведения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ормация на основе каких-то способностей: интеллектуальных, коммуникати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формация на основе черт характера: властолюбие, равнодуш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. Развиваются акценту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ер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вой фанат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j0216724"/>
          <p:cNvPicPr/>
          <p:nvPr/>
        </p:nvPicPr>
        <p:blipFill>
          <a:blip r:embed="rId1"/>
          <a:stretch/>
        </p:blipFill>
        <p:spPr>
          <a:xfrm>
            <a:off x="2714760" y="3359160"/>
            <a:ext cx="5713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122040"/>
            <a:ext cx="7605720" cy="13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33"/>
                </a:solidFill>
                <a:latin typeface="Times New Roman"/>
              </a:rPr>
              <a:t>Что способствует профессиональной деформации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?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75708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ение мотивации трудовой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никающие стереотипы мышления, поведения и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моциональная напряженность профессионального труда (появляется раздражительность, тревожность, нервные срывы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нотонность, однообразие, жестко структурированный характер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рата перспектив профессионального ро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уровня интеллекта специали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кцентуации характера личности, которые проявляются в индивидуальном стиле деяте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растные изменения, связанные со стар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98897"/>
          <p:cNvPicPr/>
          <p:nvPr/>
        </p:nvPicPr>
        <p:blipFill>
          <a:blip r:embed="rId1"/>
          <a:stretch/>
        </p:blipFill>
        <p:spPr>
          <a:xfrm>
            <a:off x="7858080" y="6222960"/>
            <a:ext cx="571680" cy="4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0244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33"/>
                </a:solidFill>
                <a:latin typeface="Times New Roman"/>
              </a:rPr>
              <a:t>Возрастные изменения, связанные со старением</a:t>
            </a:r>
            <a:br>
              <a:rPr sz="3000"/>
            </a:br>
            <a:br>
              <a:rPr sz="3500"/>
            </a:b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циальное стар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страивается мотив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абеют интеллектуальные процесс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яется эмоциональная сф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зникают дезаптационные формы поведения и др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2. Нравственно-этическое стар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вязчивое морализ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кептическое отношение к молодежной субкульту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ивопоставление настоящего прошло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увеличение заслуг своего поко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3. Профессиональное старени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 восприятие нововвед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оценка значения опыта своего поко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удности освоения новых средств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темпа профессиональных функций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2:59:08Z</dcterms:created>
  <dc:creator>Xaoc</dc:creator>
  <dc:description/>
  <dc:language>en-US</dc:language>
  <cp:lastModifiedBy>Xaoc</cp:lastModifiedBy>
  <dcterms:modified xsi:type="dcterms:W3CDTF">2012-06-06T23:53:20Z</dcterms:modified>
  <cp:revision>170</cp:revision>
  <dc:subject/>
  <dc:title>Слайд 1</dc:title>
</cp:coreProperties>
</file>