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640-5838-4F03-8715-B82A40E6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CB5-CA8E-431E-B6B3-B5FD3CAF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D8D-1031-40B3-B113-CFDFA02E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6A1-0DF6-4460-A366-735940FD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104-3C59-47BD-81E1-9074859A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58AD-40B5-459C-B3F2-C165D122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0BB-7E4C-4CDA-BFBC-F72AEDCA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BB5-AEE9-4DF4-A85A-6899EC36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3C9-FF57-44D7-B440-A5B79A26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5FF-B27D-43AB-851D-F6C2E585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9DE-A9AE-4C45-B12E-9D0CFECD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B06-E136-4D62-8D81-1E015497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9D73-A265-4365-B323-02D18CFEE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здание сай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8T02:27:27Z</dcterms:created>
  <dc:creator>ШКОЛА</dc:creator>
  <dc:description/>
  <dc:language>en-US</dc:language>
  <cp:lastModifiedBy>ШКОЛА</cp:lastModifiedBy>
  <dcterms:modified xsi:type="dcterms:W3CDTF">2012-06-08T02:27:45Z</dcterms:modified>
  <cp:revision>1</cp:revision>
  <dc:subject/>
  <dc:title>Создание сайта</dc:title>
</cp:coreProperties>
</file>