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2518-AEDD-477A-980F-0E4A8CF6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C93F-903E-4601-A314-10905936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6822-47B8-4969-A4E2-643E84C2C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D94B-D5FF-49E0-B999-EE961F6C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E749-3B96-4C65-BA54-157275A5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5DFB-0493-40F6-9DF3-1CA707C5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23BF-21D7-487D-A2B2-AC07EF48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146E-5C6D-49C8-8947-9A168321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9C86-3A38-40FD-90E4-53B04376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78A7-8EFC-402C-82E8-E31DF72C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F822-F79C-482C-8BF9-BC9ECB9B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BA89-F4CC-477F-BDC8-D0A11140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A70D-8B38-46B6-A292-2B770F7555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здание сай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8T02:27:27Z</dcterms:created>
  <dc:creator>ШКОЛА</dc:creator>
  <dc:description/>
  <dc:language>en-US</dc:language>
  <cp:lastModifiedBy>ШКОЛА</cp:lastModifiedBy>
  <dcterms:modified xsi:type="dcterms:W3CDTF">2012-06-08T02:27:45Z</dcterms:modified>
  <cp:revision>1</cp:revision>
  <dc:subject/>
  <dc:title>Создание сайта</dc:title>
</cp:coreProperties>
</file>