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7C8-DD99-4A5F-B8A5-3160476D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E34-96B5-42C7-9DFA-F5F4C2AE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98A-343D-4520-AD72-7C52A41B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F41-4274-4079-9A0C-6E3F2994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D9B-760B-4048-A599-3BFF01DF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897-1974-4594-B47C-144C1ABD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F904-A4B1-41E1-A590-4C2714D7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1E1-DC3B-43C8-AD15-68D8A4BB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028-2101-45AE-B532-87BF43C9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534F-CB60-4870-A1C5-79065BBF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1EAA-6DE4-447C-9005-61CC590C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1B2-A3E2-4D34-9923-31A38972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245D-7C1F-428E-80D4-C43C8270D3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Cambria Math"/>
                <a:ea typeface="Cambria Math"/>
              </a:rPr>
              <a:t>Преодоление страх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Урок 8 для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одготовила педагог-психолог МАОУ гимназия  В.А.Латыш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468651_59"/>
          <p:cNvPicPr/>
          <p:nvPr/>
        </p:nvPicPr>
        <p:blipFill>
          <a:blip r:embed="rId1"/>
          <a:stretch/>
        </p:blipFill>
        <p:spPr>
          <a:xfrm>
            <a:off x="395280" y="628668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сртрахх"/>
          <p:cNvPicPr/>
          <p:nvPr/>
        </p:nvPicPr>
        <p:blipFill>
          <a:blip r:embed="rId2"/>
          <a:stretch/>
        </p:blipFill>
        <p:spPr>
          <a:xfrm>
            <a:off x="2771640" y="1555920"/>
            <a:ext cx="228600" cy="21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тама"/>
          <p:cNvPicPr/>
          <p:nvPr/>
        </p:nvPicPr>
        <p:blipFill>
          <a:blip r:embed="rId3"/>
          <a:stretch/>
        </p:blipFill>
        <p:spPr>
          <a:xfrm>
            <a:off x="4788000" y="156060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3192631_icon"/>
          <p:cNvPicPr/>
          <p:nvPr/>
        </p:nvPicPr>
        <p:blipFill>
          <a:blip r:embed="rId4"/>
          <a:stretch/>
        </p:blipFill>
        <p:spPr>
          <a:xfrm>
            <a:off x="324000" y="1981080"/>
            <a:ext cx="24768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дствия невроза стр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веренное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ая само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возможность проявить инициативу и реализовать свой потенц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ности в социал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Пути преодоления страх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1.Ша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пределите какие именно страхи вас беспоко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Врожде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оязнь замкнутого пространства, боязнь смерти, темноты, пожара, высоты, крови, неожиданных звонк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Социаль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приобретенные в процессе жизни)-боязнь одиночества, каких-то людей, наказания, осуждения со стороны сверстников, публичного выступления и д.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2.Ша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равильно определите причины страх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рирода самого человека ( таким родился).  Имеет значение особенность темпера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Прошлые пережитые драматические события и негативные взаимоотношения с другими люд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3. Шаг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Решите, какие предложенные ниже средства вам лучше использов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ть для себя такой реж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знедеятельности, который максим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изит возможность образования ситуац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зывающих ст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няться « лечебной» твор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ятельностью( рисовать собственные страх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чинять страшные истории, разыгр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атральные сценки по специа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нному сценарию, где вы побежда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аняться физическими упражнениями, которые требуют большого волевого ус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для себя интересное твор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нятие (хобби), которое поможет за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 всем, в том числе и о страх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елать умственный э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овести детальный анал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сшествия, вызвавшего страх,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едить себя в том, что эта ситуация 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ая уж страшна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6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вести практический ( игровой) эксперимент- построить на практике искусственную игровую модель страшной ситуации и благополучно пережить 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7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публичных выступлений, на контрольных и экзаменах, сосредоточиться на выполнении задания, не думать о последствиях, результатах выпол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ический матери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хожан « Диагностика тревож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е: напишите в тетрадях по поводу чего у людей возникают страх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временный человек унаследовал основные негативные эмоции от своих дальних предков-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грусть, страх,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гнев,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другие производные от них эмоциональные состояния</a:t>
            </a:r>
            <a:br>
              <a:rPr sz="3600"/>
            </a:br>
            <a:r>
              <a:rPr b="1" lang="ru-RU" sz="4000" spc="-1" strike="noStrike">
                <a:solidFill>
                  <a:srgbClr val="660066"/>
                </a:solidFill>
                <a:latin typeface="Arial"/>
              </a:rPr>
              <a:t>( возмущение, ожесточение, бешенство, скорбь, ужа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соб"/>
          <p:cNvPicPr/>
          <p:nvPr/>
        </p:nvPicPr>
        <p:blipFill>
          <a:blip r:embed="rId1"/>
          <a:stretch/>
        </p:blipFill>
        <p:spPr>
          <a:xfrm>
            <a:off x="7358040" y="1184400"/>
            <a:ext cx="357120" cy="344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ср"/>
          <p:cNvPicPr/>
          <p:nvPr/>
        </p:nvPicPr>
        <p:blipFill>
          <a:blip r:embed="rId2"/>
          <a:stretch/>
        </p:blipFill>
        <p:spPr>
          <a:xfrm>
            <a:off x="7929720" y="5657760"/>
            <a:ext cx="28548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рицательные эмоции могут вызвать у человека 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психические расстройства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оторые оказывают негативное влияние на его характер, поведение и взаимоотношения с другими людь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особствуют возникновению различных </a:t>
            </a: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заболеван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страх, гипертония, болезни пищеварительной и эндокринной систе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Причины возникновения страх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Угроза жиз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страх подвергнуться нападению, погибнуть, заболеть, умере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живание какой-либо реальной или воображаемой 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опас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страх ожидания, наказания, неудачи, страх за свое будуще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3" descr="дв"/>
          <p:cNvPicPr/>
          <p:nvPr/>
        </p:nvPicPr>
        <p:blipFill>
          <a:blip r:embed="rId1"/>
          <a:stretch/>
        </p:blipFill>
        <p:spPr>
          <a:xfrm>
            <a:off x="7715160" y="2468520"/>
            <a:ext cx="214560" cy="24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дюб"/>
          <p:cNvPicPr/>
          <p:nvPr/>
        </p:nvPicPr>
        <p:blipFill>
          <a:blip r:embed="rId2"/>
          <a:stretch/>
        </p:blipFill>
        <p:spPr>
          <a:xfrm>
            <a:off x="7500960" y="6148440"/>
            <a:ext cx="214200" cy="233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ст"/>
          <p:cNvPicPr/>
          <p:nvPr/>
        </p:nvPicPr>
        <p:blipFill>
          <a:blip r:embed="rId3"/>
          <a:stretch/>
        </p:blipFill>
        <p:spPr>
          <a:xfrm>
            <a:off x="3419640" y="6388200"/>
            <a:ext cx="295200" cy="280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сю"/>
          <p:cNvPicPr/>
          <p:nvPr/>
        </p:nvPicPr>
        <p:blipFill>
          <a:blip r:embed="rId4"/>
          <a:stretch/>
        </p:blipFill>
        <p:spPr>
          <a:xfrm>
            <a:off x="214200" y="6429240"/>
            <a:ext cx="287280" cy="30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4" descr="срх"/>
          <p:cNvPicPr/>
          <p:nvPr/>
        </p:nvPicPr>
        <p:blipFill>
          <a:blip r:embed="rId5"/>
          <a:stretch/>
        </p:blipFill>
        <p:spPr>
          <a:xfrm>
            <a:off x="412920" y="1020600"/>
            <a:ext cx="230040" cy="2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Страхи бываю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Остр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ытывают практически все лю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ают в опасной ситуации, и как правило, проходят после того как обстановка нормализу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Хрон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, чувствующие постоянную опасность, как бы заражаются страх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 flipH="1">
            <a:off x="1619280" y="836640"/>
            <a:ext cx="28814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3" name="Line 6"/>
          <p:cNvSpPr/>
          <p:nvPr/>
        </p:nvSpPr>
        <p:spPr>
          <a:xfrm>
            <a:off x="4500720" y="836640"/>
            <a:ext cx="1439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64" name="Line 7"/>
          <p:cNvSpPr/>
          <p:nvPr/>
        </p:nvSpPr>
        <p:spPr>
          <a:xfrm flipV="1">
            <a:off x="5867280" y="1557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Поведение людей в состоянии острых страх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являют агресс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асаются бегст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падают в состояние растерянности и оцепе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сттт"/>
          <p:cNvPicPr/>
          <p:nvPr/>
        </p:nvPicPr>
        <p:blipFill>
          <a:blip r:embed="rId1"/>
          <a:stretch/>
        </p:blipFill>
        <p:spPr>
          <a:xfrm>
            <a:off x="7043760" y="6072120"/>
            <a:ext cx="21420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Arial"/>
              </a:rPr>
              <a:t>Физические действ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движения являются наиболее благоприятной реакцией на страх, так как при этом понижается нагрузка на нервную и гормональную системы, а значит, на сердце, желудок и другие орг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Хронический стра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наиболее опасен для здоровья подрастающего поколения, так как при этом развивается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нев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Причины возникновения невроз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йные бед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енны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угивание детей взрослыми по поводу мнимых опас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живание г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8:21:36Z</dcterms:created>
  <dc:creator>Гость</dc:creator>
  <dc:description/>
  <dc:language>en-US</dc:language>
  <cp:lastModifiedBy>Xaoc</cp:lastModifiedBy>
  <dcterms:modified xsi:type="dcterms:W3CDTF">2012-06-08T18:43:07Z</dcterms:modified>
  <cp:revision>33</cp:revision>
  <dc:subject/>
  <dc:title>Страхи</dc:title>
</cp:coreProperties>
</file>