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BD59-4B6B-45A7-BFD6-AFD4D0ECA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1220-F35B-4848-B6C0-0463ED66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2E9D-1787-4369-B1E2-16ECF4BA2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042C-9717-45C2-A08F-B64877D8B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8EA4-95D5-4372-8EEE-7080E90A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9BC9-6E86-48C0-A61D-02C36CB4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E203-591A-48FC-B10B-581ADD3B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B1C9-4835-4DA5-ACAB-47BC7736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232B-8E00-415C-AFB8-810B6759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867A-7DDF-478E-B3B9-C1D42664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B993-3997-4613-9687-4E6B4BCC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42D0-0B91-4A7F-BE3C-4D5DF9BF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9A75-D2B2-4636-A887-3F267E8016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214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Cambria Math"/>
                <a:ea typeface="Cambria Math"/>
              </a:rPr>
              <a:t>Преодоление страх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Урок 8 для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Подготовила педагог-психолог МАОУ гимназия  В.А.Латыш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468651_59"/>
          <p:cNvPicPr/>
          <p:nvPr/>
        </p:nvPicPr>
        <p:blipFill>
          <a:blip r:embed="rId1"/>
          <a:stretch/>
        </p:blipFill>
        <p:spPr>
          <a:xfrm>
            <a:off x="395280" y="6286680"/>
            <a:ext cx="237960" cy="237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сртрахх"/>
          <p:cNvPicPr/>
          <p:nvPr/>
        </p:nvPicPr>
        <p:blipFill>
          <a:blip r:embed="rId2"/>
          <a:stretch/>
        </p:blipFill>
        <p:spPr>
          <a:xfrm>
            <a:off x="2771640" y="1555920"/>
            <a:ext cx="228600" cy="217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8" descr="тама"/>
          <p:cNvPicPr/>
          <p:nvPr/>
        </p:nvPicPr>
        <p:blipFill>
          <a:blip r:embed="rId3"/>
          <a:stretch/>
        </p:blipFill>
        <p:spPr>
          <a:xfrm>
            <a:off x="4788000" y="156060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3192631_icon"/>
          <p:cNvPicPr/>
          <p:nvPr/>
        </p:nvPicPr>
        <p:blipFill>
          <a:blip r:embed="rId4"/>
          <a:stretch/>
        </p:blipFill>
        <p:spPr>
          <a:xfrm>
            <a:off x="324000" y="1981080"/>
            <a:ext cx="247680" cy="2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ледствия невроза стра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уверенное по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зкая самооц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возможность проявить инициативу и реализовать свой потенци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удности в социал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Пути преодоления страх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1.Шаг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пределите какие именно страхи вас беспоко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Врожден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боязнь замкнутого пространства, боязнь смерти, темноты, пожара, высоты, крови, неожиданных звонков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Социаль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 приобретенные в процессе жизни)-боязнь одиночества, каких-то людей, наказания, осуждения со стороны сверстников, публичного выступления и д.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2.Шаг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Правильно определите причины страх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Природа самого человека ( таким родился).  Имеет значение особенность темперам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Прошлые пережитые драматические события и негативные взаимоотношения с другими людь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3. Шаг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Решите, какие предложенные ниже средства вам лучше использова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ать для себя такой реж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знедеятельности, который максима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низит возможность образования ситуац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зывающих ст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няться « лечебной» творче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ятельностью( рисовать собственные страх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чинять страшные истории, разыгры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атральные сценки по специа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исанному сценарию, где вы побежда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3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Заняться физическими упражнениями, которые требуют большого волевого уси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4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ти для себя интересное творче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нятие (хобби), которое поможет забы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 всем, в том числе и о страх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5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делать умственный экспери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ровести детальный анал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сшествия, вызвавшего страх,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бедить себя в том, что эта ситуация 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ая уж страшна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6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овести практический ( игровой) эксперимент- построить на практике искусственную игровую модель страшной ситуации и благополучно пережить 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7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время публичных выступлений, на контрольных и экзаменах, сосредоточиться на выполнении задания, не думать о последствиях, результатах выпол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ический материа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хожан « Диагностика тревожнос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ажнение: напишите в тетрадях по поводу чего у людей возникают страх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временный человек унаследовал основные негативные эмоции от своих дальних предков- </a:t>
            </a: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грусть, страх,</a:t>
            </a: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гнев,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и другие производные от них эмоциональные состояния</a:t>
            </a:r>
            <a:br>
              <a:rPr sz="3600"/>
            </a:b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( возмущение, ожесточение, бешенство, скорбь, ужас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соб"/>
          <p:cNvPicPr/>
          <p:nvPr/>
        </p:nvPicPr>
        <p:blipFill>
          <a:blip r:embed="rId1"/>
          <a:stretch/>
        </p:blipFill>
        <p:spPr>
          <a:xfrm>
            <a:off x="7358040" y="1184400"/>
            <a:ext cx="357120" cy="344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ср"/>
          <p:cNvPicPr/>
          <p:nvPr/>
        </p:nvPicPr>
        <p:blipFill>
          <a:blip r:embed="rId2"/>
          <a:stretch/>
        </p:blipFill>
        <p:spPr>
          <a:xfrm>
            <a:off x="7929720" y="5657760"/>
            <a:ext cx="285480" cy="2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рицательные эмоции могут вызвать у человека </a:t>
            </a: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психические расстройства,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которые оказывают негативное влияние на его характер, поведение и взаимоотношения с другими людь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пособствуют возникновению различных </a:t>
            </a: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заболевани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страх, гипертония, болезни пищеварительной и эндокринной систем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Причины возникновения страхов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Угроза жизн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 страх подвергнуться нападению, погибнуть, заболеть, умере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живание какой-либо реальной или воображаемой </a:t>
            </a: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опасн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 страх ожидания, наказания, неудачи, страх за свое будуще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3" descr="дв"/>
          <p:cNvPicPr/>
          <p:nvPr/>
        </p:nvPicPr>
        <p:blipFill>
          <a:blip r:embed="rId1"/>
          <a:stretch/>
        </p:blipFill>
        <p:spPr>
          <a:xfrm>
            <a:off x="7715160" y="2468520"/>
            <a:ext cx="214560" cy="247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дюб"/>
          <p:cNvPicPr/>
          <p:nvPr/>
        </p:nvPicPr>
        <p:blipFill>
          <a:blip r:embed="rId2"/>
          <a:stretch/>
        </p:blipFill>
        <p:spPr>
          <a:xfrm>
            <a:off x="7500960" y="6148440"/>
            <a:ext cx="214200" cy="233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9" descr="ст"/>
          <p:cNvPicPr/>
          <p:nvPr/>
        </p:nvPicPr>
        <p:blipFill>
          <a:blip r:embed="rId3"/>
          <a:stretch/>
        </p:blipFill>
        <p:spPr>
          <a:xfrm>
            <a:off x="3419640" y="6388200"/>
            <a:ext cx="295200" cy="280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1" descr="сю"/>
          <p:cNvPicPr/>
          <p:nvPr/>
        </p:nvPicPr>
        <p:blipFill>
          <a:blip r:embed="rId4"/>
          <a:stretch/>
        </p:blipFill>
        <p:spPr>
          <a:xfrm>
            <a:off x="214200" y="6429240"/>
            <a:ext cx="287280" cy="300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4" descr="срх"/>
          <p:cNvPicPr/>
          <p:nvPr/>
        </p:nvPicPr>
        <p:blipFill>
          <a:blip r:embed="rId5"/>
          <a:stretch/>
        </p:blipFill>
        <p:spPr>
          <a:xfrm>
            <a:off x="412920" y="1020600"/>
            <a:ext cx="230040" cy="2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Страхи бывают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Остр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ытывают практически все лю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никают в опасной ситуации, и как правило, проходят после того как обстановка нормализу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Хрон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ди, чувствующие постоянную опасность, как бы заражаются страх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 flipH="1">
            <a:off x="1619280" y="836640"/>
            <a:ext cx="28814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3" name="Line 6"/>
          <p:cNvSpPr/>
          <p:nvPr/>
        </p:nvSpPr>
        <p:spPr>
          <a:xfrm>
            <a:off x="4500720" y="836640"/>
            <a:ext cx="1439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4" name="Line 7"/>
          <p:cNvSpPr/>
          <p:nvPr/>
        </p:nvSpPr>
        <p:spPr>
          <a:xfrm flipV="1">
            <a:off x="5867280" y="155736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Поведение людей в состоянии острых страх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являют агресс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асаются бегств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падают в состояние растерянности и оцепе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сттт"/>
          <p:cNvPicPr/>
          <p:nvPr/>
        </p:nvPicPr>
        <p:blipFill>
          <a:blip r:embed="rId1"/>
          <a:stretch/>
        </p:blipFill>
        <p:spPr>
          <a:xfrm>
            <a:off x="7043760" y="6072120"/>
            <a:ext cx="214200" cy="2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Физические действи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движения являются наиболее благоприятной реакцией на страх, так как при этом понижается нагрузка на нервную и гормональную системы, а значит, на сердце, желудок и другие орга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Хронический страх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наиболее опасен для здоровья подрастающего поколения, так как при этом развивается </a:t>
            </a: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невро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Причины возникновения невроз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ихийные бед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енные 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угивание детей взрослыми по поводу мнимых опас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живание го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08:21:36Z</dcterms:created>
  <dc:creator>Гость</dc:creator>
  <dc:description/>
  <dc:language>en-US</dc:language>
  <cp:lastModifiedBy>Xaoc</cp:lastModifiedBy>
  <dcterms:modified xsi:type="dcterms:W3CDTF">2012-06-08T18:43:07Z</dcterms:modified>
  <cp:revision>33</cp:revision>
  <dc:subject/>
  <dc:title>Страхи</dc:title>
</cp:coreProperties>
</file>