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9470-607C-44FF-BF48-325284E4D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832A-F4EF-4179-813F-4B89F85C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8D13-47E9-496B-88DF-895FD8A5E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4672-D917-4799-B46F-CD5495A02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80422-9932-45F2-A2DF-BAE49770C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46C8E-E9B9-470B-95F2-6F691A2B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623D4-861A-4FE1-9100-4CF60944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DCF38-36A7-4DFD-BEED-E4780DEC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34A3D-6CBB-4928-92D4-A29B8031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3C8FB-3C37-41DC-9825-71C73303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7334A-6D53-492B-B2E3-370491C2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8944-1AF0-44C8-AB95-258723CB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18ED7-8191-4E46-8B01-63301D65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AEB56-7A7C-4BF7-98AD-8F8DA141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D9E91-20E4-40C5-B0FA-EAC96C31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4F2AA-7B94-4440-9D94-23BD3222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46C06-23AD-405B-8AE1-DEF84A89A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3BC3-5685-49C7-917B-76CA6AF1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F27A-5F3E-4AD5-8FEA-268D53BF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AF6A-D81A-4693-8807-41F1FE2B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E23D-264F-41BE-B0A2-C0DF989C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4E9C-EBD1-4C2A-867D-39950654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9193-A6F2-445D-841F-97788D04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6079-78B6-4CE3-B1CB-D16ED4C9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D55C-8B44-433A-A056-4D9EB3357F1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1ACF-A584-4FDC-9314-0B9B541D432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8;&#1085;&#1077;&#1074;&#1080;&#1097;&#1077;" TargetMode="External"/><Relationship Id="rId2" Type="http://schemas.openxmlformats.org/officeDocument/2006/relationships/hyperlink" Target="http://ru.wikipedia.org/wiki/&#1057;&#1090;&#1077;&#1073;&#1077;&#1083;&#1100;" TargetMode="External"/><Relationship Id="rId3" Type="http://schemas.openxmlformats.org/officeDocument/2006/relationships/hyperlink" Target="http://ru.wikipedia.org/wiki/&#1050;&#1086;&#1088;&#1077;&#1085;&#1100;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Наша первая Экологическая тропа</a:t>
            </a:r>
            <a:br>
              <a:rPr sz="5400"/>
            </a:br>
            <a:r>
              <a:rPr b="0" lang="ru-RU" sz="5400" spc="-1" strike="noStrike">
                <a:solidFill>
                  <a:srgbClr val="e3e3ff"/>
                </a:solidFill>
                <a:latin typeface="Arial"/>
              </a:rPr>
              <a:t>лога « Тартушка»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4005360"/>
            <a:ext cx="64008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уководитель: Захарьева Елена Евгенье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Точка №7 «Обзорная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7" name="Picture 4" descr="SAM_0401"/>
          <p:cNvPicPr/>
          <p:nvPr/>
        </p:nvPicPr>
        <p:blipFill>
          <a:blip r:embed="rId1"/>
          <a:stretch/>
        </p:blipFill>
        <p:spPr>
          <a:xfrm>
            <a:off x="1979640" y="1413000"/>
            <a:ext cx="5256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динокая сосн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9" name="Picture 4" descr="SAM_0403"/>
          <p:cNvPicPr/>
          <p:nvPr/>
        </p:nvPicPr>
        <p:blipFill>
          <a:blip r:embed="rId1"/>
          <a:stretch/>
        </p:blipFill>
        <p:spPr>
          <a:xfrm>
            <a:off x="755640" y="1600200"/>
            <a:ext cx="756144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Точка №8 «Геологическая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1" name="Picture 4" descr="SAM_0409"/>
          <p:cNvPicPr/>
          <p:nvPr/>
        </p:nvPicPr>
        <p:blipFill>
          <a:blip r:embed="rId1"/>
          <a:stretch/>
        </p:blipFill>
        <p:spPr>
          <a:xfrm>
            <a:off x="1200240" y="1600200"/>
            <a:ext cx="711684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Точка №9 «Туристическая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3" name="Picture 4" descr="SAM_0430"/>
          <p:cNvPicPr/>
          <p:nvPr/>
        </p:nvPicPr>
        <p:blipFill>
          <a:blip r:embed="rId1"/>
          <a:stretch/>
        </p:blipFill>
        <p:spPr>
          <a:xfrm>
            <a:off x="1558800" y="1600200"/>
            <a:ext cx="6026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Это была последняя точка нашей экологической тропы. Мы теперь часто будем ходить сюда на экскурсию, и наблюдать за нашими пионами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5" name="Picture 4" descr="SAM_0505"/>
          <p:cNvPicPr/>
          <p:nvPr/>
        </p:nvPicPr>
        <p:blipFill>
          <a:blip r:embed="rId1"/>
          <a:stretch/>
        </p:blipFill>
        <p:spPr>
          <a:xfrm>
            <a:off x="1200240" y="1600200"/>
            <a:ext cx="733248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e3e3ff"/>
                </a:solidFill>
                <a:latin typeface="Arial"/>
              </a:rPr>
              <a:t>В целях сохранения природной среды и обеспечения комфортности отдыха других посетителей каждый участник на тропе обязан подчиняться определенным правилам:</a:t>
            </a:r>
            <a:br>
              <a:rPr sz="2400"/>
            </a:b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5" name="Picture 4" descr="SAM_0332"/>
          <p:cNvPicPr/>
          <p:nvPr/>
        </p:nvPicPr>
        <p:blipFill>
          <a:blip r:embed="rId1"/>
          <a:stretch/>
        </p:blipFill>
        <p:spPr>
          <a:xfrm>
            <a:off x="457200" y="2500200"/>
            <a:ext cx="4038480" cy="3232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648320" y="2060280"/>
            <a:ext cx="403848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сли вы будете соблюдать эти правила, то нашей природы хватит надолго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24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Точка № 1</a:t>
            </a: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«Правила поведения в природе»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8" name="Picture 5" descr="SAM_0340"/>
          <p:cNvPicPr/>
          <p:nvPr/>
        </p:nvPicPr>
        <p:blipFill>
          <a:blip r:embed="rId1"/>
          <a:stretch/>
        </p:blipFill>
        <p:spPr>
          <a:xfrm>
            <a:off x="2627280" y="2552760"/>
            <a:ext cx="53164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Точка № 2</a:t>
            </a:r>
            <a:br>
              <a:rPr sz="3200"/>
            </a:br>
            <a:r>
              <a:rPr b="1" lang="ru-RU" sz="3200" spc="-1" strike="noStrike">
                <a:solidFill>
                  <a:srgbClr val="e3e3ff"/>
                </a:solidFill>
                <a:latin typeface="Arial"/>
              </a:rPr>
              <a:t>«Показательное место отдыха с костровищем»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0" name="Рисунок 3" descr="C:\Documents and Settings\Захарьева\Рабочий стол\Поход 1 ноября\SAM_0333.JPG"/>
          <p:cNvPicPr/>
          <p:nvPr/>
        </p:nvPicPr>
        <p:blipFill>
          <a:blip r:embed="rId1"/>
          <a:stretch/>
        </p:blipFill>
        <p:spPr>
          <a:xfrm>
            <a:off x="108000" y="1773360"/>
            <a:ext cx="4357800" cy="3865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SAM_0334"/>
          <p:cNvPicPr/>
          <p:nvPr/>
        </p:nvPicPr>
        <p:blipFill>
          <a:blip r:embed="rId2"/>
          <a:stretch/>
        </p:blipFill>
        <p:spPr>
          <a:xfrm>
            <a:off x="4572000" y="2421000"/>
            <a:ext cx="442764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3e3ff"/>
                </a:solidFill>
                <a:latin typeface="Arial"/>
              </a:rPr>
              <a:t>Точка № 3 </a:t>
            </a: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«Ручей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3" name="Рисунок 4" descr="C:\Documents and Settings\Захарьева\Рабочий стол\Поход 1 ноября\SAM_0336.JPG"/>
          <p:cNvPicPr/>
          <p:nvPr/>
        </p:nvPicPr>
        <p:blipFill>
          <a:blip r:embed="rId1"/>
          <a:stretch/>
        </p:blipFill>
        <p:spPr>
          <a:xfrm>
            <a:off x="1042920" y="1494000"/>
            <a:ext cx="727416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Описание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Корневищно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растение с несколькими бороздчатыми </a:t>
            </a:r>
            <a:r>
              <a:rPr b="0" lang="ru-RU" sz="16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стеблям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высотой около одного метр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Корень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коричневого цвета ветвистый с толстыми веретенообразными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клубням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на разрезе белый, сладковатый на вкус, при разламывании издаёт сильный зап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Листь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крупные перисто-рассечённы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Цветк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пурпурного и розового цветов, одиночные, диаметром около 10 см. Время цветения наступает в мае—июн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Плод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—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листовк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Содержимое 4" descr="Gmelin - Flora Sibirica - Paeonia anomala L.jpg"/>
          <p:cNvPicPr/>
          <p:nvPr/>
        </p:nvPicPr>
        <p:blipFill>
          <a:blip r:embed="rId4"/>
          <a:stretch/>
        </p:blipFill>
        <p:spPr>
          <a:xfrm>
            <a:off x="642960" y="1500120"/>
            <a:ext cx="35002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Точка № 4 «Экспериментальная площадка №1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8" name="Picture 5" descr="SAM_0348"/>
          <p:cNvPicPr/>
          <p:nvPr/>
        </p:nvPicPr>
        <p:blipFill>
          <a:blip r:embed="rId1"/>
          <a:stretch/>
        </p:blipFill>
        <p:spPr>
          <a:xfrm>
            <a:off x="4541760" y="1484280"/>
            <a:ext cx="4602240" cy="3478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SAM_0358"/>
          <p:cNvPicPr/>
          <p:nvPr/>
        </p:nvPicPr>
        <p:blipFill>
          <a:blip r:embed="rId2"/>
          <a:stretch/>
        </p:blipFill>
        <p:spPr>
          <a:xfrm>
            <a:off x="179280" y="2806560"/>
            <a:ext cx="5040360" cy="3364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Точка №5 «Экспериментальная площадка №2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2" name="Picture 4" descr="SAM_0366"/>
          <p:cNvPicPr/>
          <p:nvPr/>
        </p:nvPicPr>
        <p:blipFill>
          <a:blip r:embed="rId1"/>
          <a:stretch/>
        </p:blipFill>
        <p:spPr>
          <a:xfrm>
            <a:off x="2195640" y="1413000"/>
            <a:ext cx="54608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Точка №6 «Экспериментальная площадка №3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4" name="Picture 5" descr="SAM_0389"/>
          <p:cNvPicPr/>
          <p:nvPr/>
        </p:nvPicPr>
        <p:blipFill>
          <a:blip r:embed="rId1"/>
          <a:stretch/>
        </p:blipFill>
        <p:spPr>
          <a:xfrm>
            <a:off x="1979640" y="1557360"/>
            <a:ext cx="4968720" cy="45766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728352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6:33:56Z</dcterms:created>
  <dc:creator>1</dc:creator>
  <dc:description/>
  <dc:language>en-US</dc:language>
  <cp:lastModifiedBy>Елена</cp:lastModifiedBy>
  <dcterms:modified xsi:type="dcterms:W3CDTF">2012-05-13T04:54:28Z</dcterms:modified>
  <cp:revision>12</cp:revision>
  <dc:subject/>
  <dc:title> Экологическая тропа лога « Тартушка»</dc:title>
</cp:coreProperties>
</file>