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A8E-07CA-4FEF-800B-FA95CF81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61C-3F29-46E4-91D7-90E1ECBF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561-4059-4EB6-82AD-3A5E2357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DEE-135D-42EE-9056-7D7D0420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B3B68-78B5-46C0-9D56-91BDFE07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55EB2-93E8-4B7E-97BE-3CE2F5C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D6580-A60D-4BA9-930A-A2C4C26D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A76FB-DAA0-4168-B7D8-E3364CF9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F21D-6AF0-4B85-BE39-46F47CF5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636A8-A425-4767-A50E-99B6DA3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6C69D-B4F4-4044-9472-1F4FAEB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912-99F1-4606-9934-0AB68AC4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5E0FE-9D27-4BEE-BA93-AA4115BF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2978B-687C-4D92-94A5-3432E546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02C2D-F5B3-4305-8BBE-0B179186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C5E13-DA28-4EF8-9AC3-ED4DB315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3726E-B9C3-4E24-8D40-81CCEF7C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0F2-113B-416A-9554-3FF40FF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E87-9D10-4A36-BFB3-CFA779E2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CA0-0A36-4AB8-AE88-A634A2A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EAA-7D1E-4C0C-B824-052EBE5E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C72-8116-49DE-A9DB-74DF802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CB9-49F9-4DFA-9E81-626E7C0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C18-5B95-4702-8567-2322C9C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4A32-55DD-4F81-9688-DD55848641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F44-39C6-4333-92D1-17FA27234A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5;&#1077;&#1074;&#1080;&#1097;&#1077;" TargetMode="External"/><Relationship Id="rId2" Type="http://schemas.openxmlformats.org/officeDocument/2006/relationships/hyperlink" Target="http://ru.wikipedia.org/wiki/&#1057;&#1090;&#1077;&#1073;&#1077;&#1083;&#1100;" TargetMode="External"/><Relationship Id="rId3" Type="http://schemas.openxmlformats.org/officeDocument/2006/relationships/hyperlink" Target="http://ru.wikipedia.org/wiki/&#1050;&#1086;&#1088;&#1077;&#1085;&#1100;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Наша первая Экологическая тропа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лога « Тартушка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 Захарьева Елена Евген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чка №7 «Обзорная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4" descr="SAM_0401"/>
          <p:cNvPicPr/>
          <p:nvPr/>
        </p:nvPicPr>
        <p:blipFill>
          <a:blip r:embed="rId1"/>
          <a:stretch/>
        </p:blipFill>
        <p:spPr>
          <a:xfrm>
            <a:off x="1979640" y="1413000"/>
            <a:ext cx="5256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динокая сос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SAM_0403"/>
          <p:cNvPicPr/>
          <p:nvPr/>
        </p:nvPicPr>
        <p:blipFill>
          <a:blip r:embed="rId1"/>
          <a:stretch/>
        </p:blipFill>
        <p:spPr>
          <a:xfrm>
            <a:off x="755640" y="1600200"/>
            <a:ext cx="7561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чка №8 «Геологическая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4" descr="SAM_0409"/>
          <p:cNvPicPr/>
          <p:nvPr/>
        </p:nvPicPr>
        <p:blipFill>
          <a:blip r:embed="rId1"/>
          <a:stretch/>
        </p:blipFill>
        <p:spPr>
          <a:xfrm>
            <a:off x="1200240" y="1600200"/>
            <a:ext cx="71168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чка №9 «Туристическая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SAM_0430"/>
          <p:cNvPicPr/>
          <p:nvPr/>
        </p:nvPicPr>
        <p:blipFill>
          <a:blip r:embed="rId1"/>
          <a:stretch/>
        </p:blipFill>
        <p:spPr>
          <a:xfrm>
            <a:off x="1558800" y="1600200"/>
            <a:ext cx="602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Это была последняя точка нашей экологической тропы. Мы теперь часто будем ходить сюда на экскурсию, и наблюдать за нашими пионами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4" descr="SAM_0505"/>
          <p:cNvPicPr/>
          <p:nvPr/>
        </p:nvPicPr>
        <p:blipFill>
          <a:blip r:embed="rId1"/>
          <a:stretch/>
        </p:blipFill>
        <p:spPr>
          <a:xfrm>
            <a:off x="1200240" y="1600200"/>
            <a:ext cx="7332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 целях сохранения природной среды и обеспечения комфортности отдыха других посетителей каждый участник на тропе обязан подчиняться определенным правилам: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4" descr="SAM_0332"/>
          <p:cNvPicPr/>
          <p:nvPr/>
        </p:nvPicPr>
        <p:blipFill>
          <a:blip r:embed="rId1"/>
          <a:stretch/>
        </p:blipFill>
        <p:spPr>
          <a:xfrm>
            <a:off x="457200" y="2500200"/>
            <a:ext cx="4038480" cy="3232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648320" y="2060280"/>
            <a:ext cx="4038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вы будете соблюдать эти правила, то нашей природы хватит надолго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 1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Правила поведения в природе»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5" descr="SAM_0340"/>
          <p:cNvPicPr/>
          <p:nvPr/>
        </p:nvPicPr>
        <p:blipFill>
          <a:blip r:embed="rId1"/>
          <a:stretch/>
        </p:blipFill>
        <p:spPr>
          <a:xfrm>
            <a:off x="2627280" y="2552760"/>
            <a:ext cx="5316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Точка № 2</a:t>
            </a:r>
            <a:br>
              <a:rPr sz="3200"/>
            </a:b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«Показательное место отдыха с костровищем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Рисунок 3" descr="C:\Documents and Settings\Захарьева\Рабочий стол\Поход 1 ноября\SAM_0333.JPG"/>
          <p:cNvPicPr/>
          <p:nvPr/>
        </p:nvPicPr>
        <p:blipFill>
          <a:blip r:embed="rId1"/>
          <a:stretch/>
        </p:blipFill>
        <p:spPr>
          <a:xfrm>
            <a:off x="108000" y="1773360"/>
            <a:ext cx="4357800" cy="386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SAM_0334"/>
          <p:cNvPicPr/>
          <p:nvPr/>
        </p:nvPicPr>
        <p:blipFill>
          <a:blip r:embed="rId2"/>
          <a:stretch/>
        </p:blipFill>
        <p:spPr>
          <a:xfrm>
            <a:off x="4572000" y="2421000"/>
            <a:ext cx="4427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3e3ff"/>
                </a:solidFill>
                <a:latin typeface="Arial"/>
              </a:rPr>
              <a:t>Точка № 3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учей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Рисунок 4" descr="C:\Documents and Settings\Захарьева\Рабочий стол\Поход 1 ноября\SAM_0336.JPG"/>
          <p:cNvPicPr/>
          <p:nvPr/>
        </p:nvPicPr>
        <p:blipFill>
          <a:blip r:embed="rId1"/>
          <a:stretch/>
        </p:blipFill>
        <p:spPr>
          <a:xfrm>
            <a:off x="1042920" y="1494000"/>
            <a:ext cx="72741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Описани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орневищно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растение с несколькими бороздчатыми </a:t>
            </a: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стебля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ысотой около одного мет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орен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ричневого цвета ветвистый с толстыми веретенообразными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лубня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 разрезе белый, сладковатый на вкус, при разламывании издаёт сильный зап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Лис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рупные перисто-рассечён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ветк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урпурного и розового цветов, одиночные, диаметром около 10 см. Время цветения наступает в мае—ию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ло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листов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Содержимое 4" descr="Gmelin - Flora Sibirica - Paeonia anomala L.jpg"/>
          <p:cNvPicPr/>
          <p:nvPr/>
        </p:nvPicPr>
        <p:blipFill>
          <a:blip r:embed="rId4"/>
          <a:stretch/>
        </p:blipFill>
        <p:spPr>
          <a:xfrm>
            <a:off x="642960" y="1500120"/>
            <a:ext cx="3500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 4 «Экспериментальная площадка №1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5" descr="SAM_0348"/>
          <p:cNvPicPr/>
          <p:nvPr/>
        </p:nvPicPr>
        <p:blipFill>
          <a:blip r:embed="rId1"/>
          <a:stretch/>
        </p:blipFill>
        <p:spPr>
          <a:xfrm>
            <a:off x="4541760" y="1484280"/>
            <a:ext cx="4602240" cy="3478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SAM_0358"/>
          <p:cNvPicPr/>
          <p:nvPr/>
        </p:nvPicPr>
        <p:blipFill>
          <a:blip r:embed="rId2"/>
          <a:stretch/>
        </p:blipFill>
        <p:spPr>
          <a:xfrm>
            <a:off x="179280" y="2806560"/>
            <a:ext cx="5040360" cy="336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5 «Экспериментальная площадка №2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SAM_0366"/>
          <p:cNvPicPr/>
          <p:nvPr/>
        </p:nvPicPr>
        <p:blipFill>
          <a:blip r:embed="rId1"/>
          <a:stretch/>
        </p:blipFill>
        <p:spPr>
          <a:xfrm>
            <a:off x="2195640" y="1413000"/>
            <a:ext cx="54608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6 «Экспериментальная площадка №3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Picture 5" descr="SAM_0389"/>
          <p:cNvPicPr/>
          <p:nvPr/>
        </p:nvPicPr>
        <p:blipFill>
          <a:blip r:embed="rId1"/>
          <a:stretch/>
        </p:blipFill>
        <p:spPr>
          <a:xfrm>
            <a:off x="1979640" y="1557360"/>
            <a:ext cx="4968720" cy="4576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2835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3:56Z</dcterms:created>
  <dc:creator>1</dc:creator>
  <dc:description/>
  <dc:language>en-US</dc:language>
  <cp:lastModifiedBy>Елена</cp:lastModifiedBy>
  <dcterms:modified xsi:type="dcterms:W3CDTF">2012-05-13T04:54:28Z</dcterms:modified>
  <cp:revision>12</cp:revision>
  <dc:subject/>
  <dc:title> Экологическая тропа лога « Тартушка»</dc:title>
</cp:coreProperties>
</file>